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DC2F5-C937-4512-B607-DC1DBDA31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7FE3B-DD07-4159-A8F1-71E40D245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8AC3A-0BF8-4E4A-BDE4-C15C6422E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9AB8A-43C6-4B96-9D24-F79D62B23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E3ED7-B079-4E78-9F93-7D56D7104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26A03-D08A-41E8-9358-F93EE78CE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293D8-A056-48C2-B760-1E5882921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61E5A-3501-4451-AD5E-2710EFCA0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84250-4384-49D8-B0B7-A43BEFDAF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B570D-638B-4E43-8FA4-2895944F8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0BD48-4747-4BFF-9EAD-86D335301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E7AEB-0B70-44B9-8188-BD6E297D9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1DA67-DAAE-4BCE-8FE4-7BA21DC1D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67099-83B4-456E-A336-5A04F41D3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4C25A-352D-43B1-AD2A-A53493F7F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D1A17-8DE8-4E92-BB6C-E1D9DCE9F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4326F-B712-40A6-81FB-8A6B57390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29765-FB42-4E5F-BA4A-C6D43DD86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4014A-0D82-45DD-A3E7-1960AE227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B173E-F56B-4E08-BF70-D626AF022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63999-0E75-4FA0-BBE4-EC900E3DF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A6828-22AD-4429-9B05-F085F5E47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EBF16-7A11-4866-8B6C-95E0305C1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D9858-CBBA-443A-BC79-CD541CBE0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6D236-BC8D-4387-8445-19126D0F93C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AF248-060F-485A-B711-DEC4CBA6A65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Box 6"/>
          <p:cNvSpPr/>
          <p:nvPr/>
        </p:nvSpPr>
        <p:spPr>
          <a:xfrm>
            <a:off x="0" y="392040"/>
            <a:ext cx="9144000" cy="13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Alleluia, Alleluia! Hearts To Heav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ODE TO JO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8.7.8.7.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11"/>
          <p:cNvSpPr/>
          <p:nvPr/>
        </p:nvSpPr>
        <p:spPr>
          <a:xfrm>
            <a:off x="40320" y="4902120"/>
            <a:ext cx="1249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G/B - 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3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Christopher Wordsworth (186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Beethoven (1824), Adapt. by Edward Hodges (186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5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1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Alleluia Alleluia Hearts To Heaven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5"/>
          <p:cNvSpPr/>
          <p:nvPr/>
        </p:nvSpPr>
        <p:spPr>
          <a:xfrm>
            <a:off x="153720" y="6488280"/>
            <a:ext cx="462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Alleluia, Alleluia! Hearts To Heav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Alleluia Alleluia Hearts To Heaven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2" descr="Alleluia Alleluia Hearts To Heaven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Alleluia Alleluia Hearts To Heaven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51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TextBox 3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Alleluia Alleluia Hearts To Heaven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5"/>
          <p:cNvSpPr/>
          <p:nvPr/>
        </p:nvSpPr>
        <p:spPr>
          <a:xfrm>
            <a:off x="153720" y="6488280"/>
            <a:ext cx="462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Alleluia, Alleluia! Hearts To Heav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Alleluia Alleluia Hearts To Heaven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Alleluia Alleluia Hearts To Heaven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Alleluia Alleluia Hearts To Heaven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Alleluia Alleluia Hearts To Heaven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5"/>
          <p:cNvSpPr/>
          <p:nvPr/>
        </p:nvSpPr>
        <p:spPr>
          <a:xfrm>
            <a:off x="153720" y="6488280"/>
            <a:ext cx="462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Alleluia, Alleluia! Hearts To Heav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Alleluia Alleluia Hearts To Heaven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Alleluia Alleluia Hearts To Heaven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Alleluia Alleluia Hearts To Heaven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09T18:11:57Z</dcterms:modified>
  <cp:revision>36</cp:revision>
  <dc:subject/>
  <dc:title>Slide 1</dc:title>
</cp:coreProperties>
</file>