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B26-A17C-4E07-B30B-8376CE5D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196-10C3-4688-8758-362DA201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544-1CE9-43E9-8F05-057B210C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593-F3C3-4C66-87E1-027423D4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FEF9-7D8A-4685-BF88-17DBA060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19E-0ABF-4F2B-8D8B-6C65C40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33F7-9AA9-4CEE-B1D9-A7864DD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3C40-0C82-46B8-BABB-B333ECCE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41F-A154-432A-B608-E24E8A2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6C06-FCFB-4357-A630-E60AF6B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D10D-8A50-438C-B3F0-A9D7ADD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C2E-E305-445E-BC4B-83D4905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84AD-09BD-4159-A889-D1A4591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2D7-3C34-4844-814B-AB968D7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5B9E-8BC1-4D95-9FB9-6B9DC2B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15E2-D389-4802-AFB5-1128B8DA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FF12-AD93-446C-A914-420B5117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071-C09B-4C24-A4B7-F1CDECB9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7ACD-E794-4506-AAAC-043C83F7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02E8-E829-48FC-9EA6-B3E2654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0E14-0139-447E-8790-B38EF5DD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2CC-4078-406B-A1E8-37B3A6A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594D-9086-4589-9446-E3B98250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92A1-B8F0-4DA8-BD9F-EF53D17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086A-7D00-4A55-A935-AEDC6F45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89C5-9FEC-4EF5-BBD0-F2C92FC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76E8-7EE2-4793-BE24-63B85218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4D73-3749-4326-8955-E37E6D8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63FE-8E1B-4F5D-8C81-0E2EBA65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8CA3-A30D-4F11-9733-C7192AA9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659A-5243-4151-A124-CDC38306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F8E-C1DC-4BB6-B254-E0CBE346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92D-ED10-4725-9EC5-B06DFB87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BF7-D8F1-4A4A-A65E-5F46EDE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6FB-2AAE-4F8E-B642-E004818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B6F-979C-4130-93A1-D591FC1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C9E5-8682-4AB7-9C9E-BEEB55475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E8E-D6F5-4170-A18F-E16712AA2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59E9-2EAA-43E3-A323-7710A6BAA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Coming To Jesus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37160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F. Brown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Hawes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re You Coming To Jesus Ton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re You Coming To Jesus Ton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re You Coming To Jesus Ton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re You Coming To Jesus Ton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re You Coming To Jesus To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re You Coming To Jesus To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re You Coming To Jesus To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re You Coming To Jesus To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re You Coming To Jesus To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re You Coming To Jesus To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re You Coming To Jesus To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re You Coming To Jesus To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22Z</dcterms:modified>
  <cp:revision>29</cp:revision>
  <dc:subject/>
  <dc:title>Slide 1</dc:title>
</cp:coreProperties>
</file>