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E79-1146-4259-BE83-50004083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C6F-1DBD-47FF-B833-73C1E41C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FE1-8534-4ACE-983B-3E6E500D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BF9-344A-476E-9F90-EE0A3297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DDAA-0052-41F2-9D42-A68C6819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28C-CE82-4627-A407-1518529B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F0CC-4A1A-4431-9EC6-2FA3FA8E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40FF-4CB4-4291-BF4E-80D2C7EE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BE3D-BEFA-44C5-8B89-B3F2393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99D3-E3AD-4F97-85D0-4AE6559E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1FC2-BD81-404F-A238-143A21B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C1C-6D8B-4579-8599-44A94C60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27F-69E7-4858-A2F3-5F51D0E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933C-1E77-4268-845D-2C3D9E2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7D4-0AEC-4F96-A6D6-38AEFF8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50CD-2B21-4DA8-9AE9-66D2107C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602-8805-469A-85A4-BBE9822A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799-0E4B-4380-AA3A-09CC512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DB9-1F61-4330-8AA3-A6E03E1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48F-049E-4DF0-A95F-CE904908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3D5-B9B1-4E21-86AA-02646FB4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6E2-3B39-47B7-9559-0D32881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87B-914D-46BB-8613-FA5F5C09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B8F-4BBD-47CB-948F-FCC752B5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C372-C11C-4ED0-9085-E7470E6FC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DA9F-C451-4540-927B-6BF7DBFB9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Blessing In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Rest, Sweet 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Blessing In Pray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Blessing In Pray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Blessing In Pray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Blessing In Pray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Blessing In Pray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Blessing In Pray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Blessing In Prayer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 Blessing In Prayer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Blessing In Pray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Blessing In Pray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Blessing In Pray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Blessing In Pray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Blessing In Pray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Blessing In Pray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Blessing In Pray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Blessing In Pray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6:49Z</dcterms:modified>
  <cp:revision>42</cp:revision>
  <dc:subject/>
  <dc:title>Slide 1</dc:title>
</cp:coreProperties>
</file>