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0101-BA08-472B-BB66-37B9DEBE3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A2E6-ADC3-45AB-89E6-E7F3BE8F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3429-B8DD-4F85-86ED-74DD9902C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9E94-C72C-4CC0-9940-DC88BD89D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00012-5F5C-4FA4-92A4-08A1B348A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E22FB-03E6-46EE-95B0-776F8F5D8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54AE8-163A-4AB6-8D51-BCAA2E18E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EF247-CC97-4F58-A118-81219EA26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BB08C-755D-4052-AC33-695180DB8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BF8A7-3273-4E60-8F34-0828A3414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FAE19-A819-4362-8482-2B5E7BD2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6992-4FDF-443F-8A95-D89240545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DB702-5332-4C64-89E1-8062BC82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686C7-C68C-4793-BCAB-AA1C28C4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44B42-72EE-4AF1-9385-6DE9D1F3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78291-8A40-454A-8E42-E8607F23C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2E99F-89E5-4354-BDB2-321EB1F0F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45B0-E0FA-45C9-A8E0-799F99B92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E0A7-1455-4FAF-8CAD-FBDA488FB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B100-4463-4E64-BF7C-C976B74E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1D97-71CD-4742-8638-6BCCF81AD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3E6D-82C7-4DED-BDB5-0AAD63FF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735E-F770-480B-8CB6-7ADDEC72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15D7-B282-421B-A05E-682A14A2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BA611-3A87-4325-9A9C-8AC3BD1354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F1E1D-2E71-4896-AC0A-67B1A56758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A Beautiful 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C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5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99240" y="4902120"/>
          <a:ext cx="1544760" cy="10987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9320" y="3371760"/>
          <a:ext cx="9192960" cy="1484280"/>
        </p:xfrm>
        <a:graphic>
          <a:graphicData uri="http://schemas.openxmlformats.org/drawingml/2006/table">
            <a:tbl>
              <a:tblPr/>
              <a:tblGrid>
                <a:gridCol w="914400"/>
                <a:gridCol w="82785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M. Golden (191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M. Golden (191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1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83880" y="6488280"/>
            <a:ext cx="25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vs. 3 ~ A Beautiful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Diagram&#10;&#10;Description automatically generated with low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83880" y="6488280"/>
            <a:ext cx="25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vs. 4 ~ A Beautiful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83880" y="6488280"/>
            <a:ext cx="25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vs. 1 ~ A Beautiful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5"/>
          <p:cNvSpPr/>
          <p:nvPr/>
        </p:nvSpPr>
        <p:spPr>
          <a:xfrm>
            <a:off x="83880" y="6488280"/>
            <a:ext cx="25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vs. 5 ~ A Beautiful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Diagram, schemat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vs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vs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vs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7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Box 3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vs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Diagram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83880" y="6488280"/>
            <a:ext cx="25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vs. 2 ~ A Beautiful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Diagram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09T18:06:09Z</dcterms:modified>
  <cp:revision>44</cp:revision>
  <dc:subject/>
  <dc:title>Slide 1</dc:title>
</cp:coreProperties>
</file>