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8911-5A07-4639-9D72-E27356A33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459D-018A-474D-BA3E-73081CBB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7D3A-680F-4B9E-97C4-30931AE58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20CF-EADD-419C-9129-7A278CE1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EF5E-D758-490D-AFF0-0B18FEB8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DE76-CAAA-423A-ADC9-FCCDA487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B817-DDF1-4354-85BF-472B66F3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2E02-D29D-4981-9578-7C5E9620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292E-C9C8-4328-B373-94F561DB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C4D2-D898-4EAC-B9C5-9004F90F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0EBE-EB1A-4B17-BD58-C171868F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86E4-57EE-41EB-B8CF-3F8824BA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F220-8A71-4F49-9CC5-59AB56EE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D6FC-457A-4D86-80C1-1A4322A8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8D6A-BE8A-43E9-8F03-A220DEF5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25D2-8EB9-4273-B520-905AD191E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9304-81EA-47D8-B6D8-AD3A59A7D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0FC8-CD5E-4DE2-8A66-6DBE9D89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0B23-C96A-4173-B79A-8C2956A5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8473-EA35-49C4-B5D6-D81BF7F1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8D10-00E5-4EEF-9B76-78605BB0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4DD9-2A69-4D35-B890-EAECAB2D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BE3C-1146-4CDA-B69E-61722A52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1BCE-95B9-413A-BF73-CABE9DDF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92AE-E5AB-4481-B9FB-089FE97720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11EF-A7ED-4D11-A88B-B6D05A38B2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re You Washed In The Bloo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C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7080"/>
          <a:ext cx="9234360" cy="14828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A. Hoffman (18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A. Hoffman (18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re You Washed In The Bloo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103320" y="6488280"/>
            <a:ext cx="41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re You Washed In The Bloo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re You Washed In The Bloo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Are You Washed In The Bloo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Are You Washed In The Bloo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Are You Washed In The Blood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103320" y="6488280"/>
            <a:ext cx="41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Are You Washed In The Bloo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Are You Washed In The Blood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Are You Washed In The Blood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Are You Washed In The Blood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59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re You Washed In The Bloo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03320" y="6488280"/>
            <a:ext cx="41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re You Washed In The Bloo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re You Washed In The Bloo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re You Washed In The Bloo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re You Washed In The Bloo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re You Washed In The Bloo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103320" y="6488280"/>
            <a:ext cx="41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re You Washed In The Bloo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re You Washed In The Bloo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re You Washed In The Bloo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re You Washed In The Bloo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3:44Z</dcterms:modified>
  <cp:revision>32</cp:revision>
  <dc:subject/>
  <dc:title>Slide 1</dc:title>
</cp:coreProperties>
</file>