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8EB-9744-4486-BFFC-0649CE61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058-8231-4369-A6E4-89506552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D0B8-20A8-4597-9099-D478933E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2A0-F837-4DDA-AA3B-74C3DB79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DF0A-9EA6-44F6-B311-F9A95343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8AB7-ED23-4F36-8157-DA9B820C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1F85-10D4-4515-8D49-8758DCB2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F81C-3377-4F83-B9D4-88C78578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119D-D689-4E27-971B-B2067B15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ED7A-ABED-4989-A861-4EFE4CF4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5E53-7DC1-409A-B524-638475C2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D752-FEC2-4F9B-9938-BE0BF505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799C-1678-403A-AEC1-B1C540BA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65C1-7A4E-4970-82D8-49AC9C91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2DD7-EFF9-4B40-B664-F1BC77F6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E62D-304D-439D-927F-12970D38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409A-291B-4713-85E5-71B6AEF9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2202D-4ADB-4946-8AFE-29E93038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18EC1-E04D-44BC-B452-756A62D1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47FEB-4F34-45EA-A725-F6D2FFE6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1FDAA-4932-40D4-B9B3-CE963D4E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C9ECB-2C36-405C-8044-E44DF3DE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0177-A981-4FAD-A45B-EC982F85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2AFE7-6F46-4596-8DE2-5FA0ED80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9EC1B-6706-43E8-BAF6-E0023FCD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81048-693B-4B47-B155-5222AB36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4854B-4BB8-4479-BE04-C9ADA493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B7AEC-4752-4F92-95D4-95B6BC9D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2BEC7-BB55-41B9-9C0C-2BEA3B8F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31982-AE78-4406-9697-2F9FD284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9729-B08B-4A4F-A25D-B8CC21A3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80A-1152-422E-9970-60E5C03F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8D15-EA04-475F-9A4A-B8BFD713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210D-EE01-47A5-A273-EA03E09D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9A62-E9EE-4204-AFD9-AA857DFC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707-E392-4217-AFE0-A1B0D104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9EC3-73AD-48EF-A217-775936E8E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55D4-F2D2-424F-B872-954282A51B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047E-0172-43A9-9337-615D122277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bide With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EVENTIDE</a:t>
            </a: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0.10.10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79680"/>
          <a:ext cx="9234360" cy="14828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F. Lyte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. Monk (186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bide With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3440" y="648828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bide Wi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bide With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bide With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73440" y="648828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bide Wi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bide With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3440" y="648828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bide Wi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Abide With Me_v5o7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9:11Z</dcterms:modified>
  <cp:revision>40</cp:revision>
  <dc:subject/>
  <dc:title>Slide 1</dc:title>
</cp:coreProperties>
</file>