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FB0-428B-4E6F-97F0-1E52F65E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52D-23BE-42E7-A480-FAA59FDD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1DA-E715-4DAC-82E9-34CB6FF6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17C-737D-4D21-B7ED-781E78DA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E17E-C57F-461A-8A05-DEEDDBF9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49EC-CE29-4746-8453-237F963B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E3CC-B100-499E-9422-1B3EFBA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720B-2548-44ED-B0CA-83E36E4C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B37E-8303-46F4-8369-30E5DCE5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CE7F-4C47-47BF-9CF0-ED32A10E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94E6-764F-4399-93C8-CD56956E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A3A-7106-4D55-97AE-161EEFFD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2430-FA19-4818-BFD6-476C675E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9156-6987-485F-B13C-B7B1C852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9B4C-0F23-46C3-9647-D03F9258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CAA8-E9B7-4C7C-ADA2-FFA151EC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A61B-442A-458F-B956-EF21E009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5CA-37A9-4057-92D0-C7ECC813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505-3F72-4B81-9D05-8CBB9FA3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2A9-7F90-4306-B7A2-75301B35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FC0-25F3-434A-85F8-51B6E100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741-BC89-4848-BBAE-26DC5339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022-5C3E-4C8A-A337-394C2B7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631-5B9E-4F54-A94D-836630B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3AE3-52E4-4197-A8E3-8834B9FBB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9BED-D977-4854-BBCA-DB4E4618A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bide With Me; ‘Tis Even 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Lowrie Hofford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Millard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bide With Me Tis Even Tid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bide With Me Tis Even Tid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2560" y="648828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bide With Me; ‘Tis Even 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bide With Me Tis Even Tid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bide With Me Tis Even Tid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bide With Me Tis Even Tid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42560" y="648828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bide With Me; ‘Tis Even 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bide With Me Tis Even Tid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bide With Me Tis Even Tid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bide With Me Tis Even Tid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42560" y="648828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bide With Me; ‘Tis Even 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bide With Me Tis Even Tid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8:57Z</dcterms:modified>
  <cp:revision>38</cp:revision>
  <dc:subject/>
  <dc:title>Slide 1</dc:title>
</cp:coreProperties>
</file>