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13C-3470-40E3-9272-4BF9B224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709-E5FE-413C-807D-E16FE3DA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2DA-F467-4890-B0CF-12F14849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8A9-5127-4742-B90F-8C73974F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48B-2A78-465C-8016-81B0B505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244-246A-4131-83AB-B0836F8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489-EFBB-4A40-B3C0-E8606ABA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7909-6377-4296-92FE-D6EDD70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666-0895-4921-9025-87B2E84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25A3-FF96-4D0D-B7B3-9BF7AC5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0AE-54B2-41AB-ADC1-E7E9A49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A7E-4C61-45C1-BDCD-90FCDDEE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9442-9FC2-48D3-8EE8-4F274F3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E10D-54F9-499E-AD09-C1D3529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19A-341C-4FFC-A3A3-0F2ACF30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76E-D914-4AAF-A150-2035C7CB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0D67-894E-4CD4-B578-388C04AE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F9C4-F0A2-4428-A3BB-14F82D1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F6D7-D7C7-45F5-A058-16E268EE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9B01-E837-4531-9945-3739A3E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69ED-87A8-44C2-80C8-A223CF5E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A359-D611-4383-86F3-30DCA200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44C-D40E-4705-8E3E-5548111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4BB1-0A68-4A66-8893-D4381955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AD24-F0E7-4BC0-B42D-DBCA47A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C80F-195C-4917-A8CD-66AA6B8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D11B-B1D5-4197-9805-2EA964F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5909-B66C-40FE-B32C-DEC98C8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4C21-B68F-412C-AC88-3BB70134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6510-B0E8-4F1D-B7B6-6C9F1AD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1C0-4ECF-4CE7-A2E5-74D189D2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991-5A6A-451D-9DCA-3B5962AE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730-47E3-4AB0-A88F-606902E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ECB-F8DA-447C-9159-79A3C46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BDE-6C38-4636-B093-5AD43EF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4AA-B649-47E5-A3C0-8F2AE87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719-19C9-49F3-B509-702B53E1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E2F-1E6B-4E56-9964-8C7EB27D2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22BD-6FC8-4CB1-8BA8-5EAF56CFB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gain The Lord Of Light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72), Arr. Ralph Harrison (17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ain The Lord Of Light And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gain The Lord Of Light And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gain The Lord Of Light And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gain The Lord Of Light And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ain The Lord Of Light And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gain The Lord Of Light And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gain The Lord Of Light And Lif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gain The Lord Of Light And Lif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37Z</dcterms:modified>
  <cp:revision>38</cp:revision>
  <dc:subject/>
  <dc:title>Slide 1</dc:title>
</cp:coreProperties>
</file>