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1BF4-396C-4186-BE2D-6086DD14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3CB2-D39B-4F07-81E1-A3A31C1B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4DD5-F10A-416A-96B0-48CF4AF3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A611-4F0F-4232-AAB4-9850EAE4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FA21-9F0A-409D-B0CA-D241B5D8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243A-3764-41A3-8DB0-05A05119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BE7D-D773-42C7-9333-AB34C595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8F65-83B1-4472-BCF1-E3100098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E23F-5E73-49F2-8C51-07B3634F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BAB5-A5F3-4D74-BF02-6039E191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A56B-0186-465F-AB62-9C270E9D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E243-58AD-48EC-95BA-5C68E2F0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2971-9EC3-4EE4-A8B7-319EA87F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6DAD-5DBD-4DC8-B927-CB80D477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5463-A35B-48E8-89DA-A7EDF489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0127-8992-4A6A-A9D1-C1D5A847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D91C-4ECB-4ED4-89BF-16D90FB5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EC6B-4110-434D-A736-DCDB241F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952C-D8E1-4FD5-AAA2-DA6B0AD4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86F-5EB4-48A1-84C5-2AC4EABB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8A1A-B615-490E-B1F5-BAC796E4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208-71C2-4B7E-931F-669FD431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8C7B-3A5C-468B-AB15-4B746D67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6B11-B2B4-4412-8A50-59C10F89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2C80-72F9-4D8A-9AB6-0148C7CDC2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3DCC-86F1-4036-BB75-3226BE1676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most Persua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78840" y="648828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most Persu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A picture containing antenna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78840" y="648828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most Persu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A picture containing antenna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78840" y="648828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most Persu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3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2:09Z</dcterms:modified>
  <cp:revision>36</cp:revision>
  <dc:subject/>
  <dc:title>Slide 1</dc:title>
</cp:coreProperties>
</file>