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B485-637E-4630-AE68-C4C71589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1962-721A-49E1-9077-CBFD42BF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6889-95C6-4E41-ACE5-379A44EE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C06-354D-4B76-9D74-D6A1CF01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3BF0-365D-4D90-9071-4EF96F6F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22C9-8CAA-4E88-AD41-399C404C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170A-3EE5-4704-8821-E8D30310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1D70-7562-4A6C-BB48-4EFE0BF3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8681-D50C-4751-AA89-2676CF0C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1C2F-BAE5-497E-B507-94289E36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FB8E-1840-40A3-BC7A-7812B1A6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63F-BA37-4E27-9342-DFFDE6EA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A4C5-3570-4EEA-8694-AE459598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62B0-CAE9-4C6D-A2BB-F76EA3A0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FCDD-F32A-46B9-BF3E-2C95318D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B901-6EE6-4192-B023-B12A052D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82CB-6CFD-41BB-A56F-E858919D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80C8-7D18-487C-9460-87577264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4BD-B4FD-4A1F-8D9E-1A9FD06C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0292-498E-4946-9429-D7FAB49C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87D-44EC-4F81-9270-63B4DA37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716-5013-4781-9BD8-5D5338B5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C56-219C-41F8-AB18-6E4CBA14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3B8-1971-4E85-97B9-533BC564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F2D8-5046-4C91-A8FA-4F9DB59F8A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1390-1A87-4FE8-8279-61EFD446E7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s The Life Of A 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aura E. Newell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. H. Ramsey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s The Life Of A Flow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28520" y="6488280"/>
            <a:ext cx="33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s The Life Of A 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s The Life Of A Flow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s The Life Of A Flow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s The Life Of A Flowe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s The Life Of A Flow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28520" y="6488280"/>
            <a:ext cx="33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s The Life Of A 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s The Life Of A Flow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s The Life Of A Flow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s The Life Of A Flow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s The Life Of A Flow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28520" y="6488280"/>
            <a:ext cx="33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s The Life Of A 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s The Life Of A Flow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s The Life Of A Flow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s The Life Of A Flow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3:56Z</dcterms:modified>
  <cp:revision>32</cp:revision>
  <dc:subject/>
  <dc:title>Slide 1</dc:title>
</cp:coreProperties>
</file>