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042-1EC0-433D-A3B3-1A343B20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490-70D1-4993-88C1-37EAD645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894-C618-4504-80DA-2E4E7AD8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D56-D4A8-429A-A23B-24A7F7AE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39A8-D362-4DF7-8EEB-443BE79E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A884-F940-4B6A-AC8F-8337870B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AB6F-8AEC-4255-A17C-9A685270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ED69-E85F-40F3-A721-B71A3EF9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C6C9-D683-433C-80A5-877F70F4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19F6-C0A3-4B47-8DDA-8B836F16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201B-CA92-4DE3-B027-1940642A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806-D8EC-4822-9398-2AC860DB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4482-C637-4227-87BB-A41FBCC4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9A56-84F3-447C-ABF1-A69B9D8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848E-784D-4547-BF34-AA0451FB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8FED-CECC-4714-A481-15913431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C360-3E57-4570-BBED-51FAC5AD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AA4-2AB3-4CFA-B676-17F6EDC7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FF52-744C-4C50-A504-5471327B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D776-B0D6-4762-B26A-7132D34E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9BF1-94DC-4B93-BCDD-F9BAFFD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A58-15EA-4119-BA21-162A1F2B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70C7-74BB-485A-99FF-7828CE8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3C70-A3EC-4C1A-BB03-2C517EF3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1179-5A24-4707-BBF4-91A127C2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7744-3A2C-4FCB-8A9D-C5618ED3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4F4F-6CD6-43E5-B674-0A5C7D0E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0E9A-3EC3-46A8-8A93-8EBB447D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7D00-2AEE-4DC7-8D9B-17960F82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78EA-88EB-4936-8B1F-CF49D646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9B48-B0E6-4665-88F0-DFD0CF07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002-09E2-40C6-B57F-22CAD39A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923-7296-40E9-A73C-5A53B836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75B-E967-48CB-A412-B7F6E6B9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FF2-A4F7-4A85-8AB4-B0821A7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1C1-7691-4425-B2D8-5977AEF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AA04-99A5-44CF-B90E-4DBB7DE90D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7B09-03E1-4DAE-86F6-2AB447F59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2B06-74B3-45FC-8F59-FD40AF354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gels From The Realms Of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REGENT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ontgomery (18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Smart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ngels From The Realms Of Gl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ngels From The Realms Of Gl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gels From The Realms Of Gl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ngels From The Realms Of Gl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ngels From The Realms Of Glo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ngels From The Realms Of Glo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ngels From The Realms Of Glor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ngels From The Realms Of Glor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9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46Z</dcterms:modified>
  <cp:revision>39</cp:revision>
  <dc:subject/>
  <dc:title>Slide 1</dc:title>
</cp:coreProperties>
</file>