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396-626E-4E2F-81D6-AD5E7293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964-CC34-4E4F-AF9B-DA70B07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3B8-0CB4-4932-BDD4-2ED4E5A3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719-3616-45E9-A3B0-B5A4B3D9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40B-BF8E-4E08-9323-A5D0C0AE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15F0-D867-4610-9F60-3CACEA67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713-E7D1-4FEA-915B-69DC441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18F-BD9A-485C-AE9A-6BCC885B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53E4-4F6D-4A7E-8792-F776ADA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8D20-05C3-4834-9849-4B96021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13A1-7DED-433A-91F7-942CC08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B38-C9EA-4655-B728-11FDD31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291-2C84-480D-A822-E1FA193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2BF3-1D9C-4C44-A96F-4B410EE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E12F-DCD5-4F75-95B9-2460791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733-BDC4-4B69-905E-AC7E7993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23D-57FF-486F-B807-ED123D5D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C72-5BB7-47EF-B72D-26F3DC7F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899-07F0-4088-937E-57F1355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967-4E01-427E-A933-752EF30D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EF0-3645-416F-9D4B-C04BB6AC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A16-C1A9-45A5-ADDA-1E68691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C4B-BD10-4A66-B3D1-A93B5D9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8D0-28DE-4D2F-B51B-55A551E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2D8B-C05F-4058-AD61-6B1F204CF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C351-5FCD-4A3A-9E2C-365C45142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t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as! And Did My Savior Bl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, Ref. Ralph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t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t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t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t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t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t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t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t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t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t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t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t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t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t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08Z</dcterms:modified>
  <cp:revision>29</cp:revision>
  <dc:subject/>
  <dc:title>Slide 1</dc:title>
</cp:coreProperties>
</file>