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044-4B9E-4149-9978-F70055C5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760-79B4-4BBB-BEA7-01AB8420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702-15E0-406F-8DBF-A94E6FB7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9D5-8328-4B41-A05C-99FCCA2D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3903-B6D2-4236-8396-BF7E3D63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A1E6-79FC-4350-92A1-7712A4BE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A19A-2FCC-4595-9BD0-D0A25BD3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8C6B-C994-4363-B315-396BD5FC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94F9-F0D5-4A41-8CC8-14B40EEB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988C-B1EE-43B6-BED9-7963C645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A594-5AB2-47F8-8C88-CE2AD0BC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D88-E806-4624-B717-2F454552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79F8-8BBD-4097-A75B-2AE1EFCF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1708-F4EF-4A40-B0BD-E1ED25E4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4BCE-6914-4FE8-B0CB-18156438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84B7-9BB0-4BF6-B7AB-68CF0FAD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A1C4-F7EC-4032-B894-87E8065B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23B-9D99-42AA-A93B-49F7D5EA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5A2-42F0-4500-8A7B-6588801F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C5F-EC66-4A75-93A4-925E9FF1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E5B-FD16-428D-8543-0D9157F3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E34-737A-4D6B-897D-DC6226FD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926-2F04-4DF9-BB53-01979242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BF86-6B02-4719-A912-49BE5F09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06A8-FA09-4D17-AABA-D383A50C54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D894-8E97-4B98-B794-5E4AE35417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Shelter In Time Of 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87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ernon J. Charlesworth (1880), Arr. by Ira D. Sankey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ra D. Sankey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 Shelter In Time Of Storm_arr1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13760" y="648828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 Shelter In Time Of 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 Shelter In Time Of Storm_arr1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 Shelter In Time Of Storm_arr1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 Shelter In Time Of Storm_arr1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4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Shelter In Time Of Storm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3760" y="648828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 Shelter In Time Of 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Shelter In Time Of Storm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Shelter In Time Of Storm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 Shelter In Time Of Storm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 Shelter In Time Of Storm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13760" y="648828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 Shelter In Time Of 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Shelter In Time Of Storm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 Shelter In Time Of Storm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 Shelter In Time Of Storm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0T01:47:39Z</dcterms:modified>
  <cp:revision>49</cp:revision>
  <dc:subject/>
  <dc:title>Slide 1</dc:title>
</cp:coreProperties>
</file>