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651-C234-4AAB-A98A-C3E7BCEC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875-FA37-4F91-80AB-C1B6F155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4D7-4205-465E-AEE6-B6B2C493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EF9-AA26-4DE2-9A82-D1201300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74EF-7020-4B43-92AA-10820968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D83B-98DF-4A11-8C2A-E2EE1F6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CDB7-A5C7-4D9B-850B-C2569F9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1B0-67AD-4317-B924-6D76A2C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EA60-0396-4793-BDBB-8E9498E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93A9-CB50-466F-A4CC-188F3BE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290-87C0-435C-8A79-8F94F17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A03-80A7-4028-8EE1-FA98630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CE5D-2F24-4E61-8DB8-81D7433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C02-0932-4E25-ACFD-A58D991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A2ED-2104-4B86-B5DB-C9402A4F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647A-27F0-44DE-9498-0F62BC85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155A-87BB-44A9-9FA7-5F9922C9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6B4-4BB0-4C39-AEE6-F96A4D3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D634-3F85-4E68-8602-982A742E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B4F3-DA11-4D49-9E81-CE52D2E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303E-0167-43DC-9535-1812E8C9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AE3-B0EF-4E13-BECD-1212204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93BC-F924-4DF8-BCB5-9B6B69A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B1BC-D559-46A4-8E51-04BCF67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292E-A498-4BC6-B559-325E52BD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05D0-8DB4-4A9A-9E4D-EEC1E01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0323-CF46-445E-B634-42B173D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D0C3-43D5-4877-92C6-278D586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1C5D-7018-42EF-BA35-51807EF3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BC01-75C5-4E20-8D2B-B81B4154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ADBE-0CF5-4220-8A1A-1B8D4CC7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AC0-D43B-4514-AE60-5F40A31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68-5C72-45E1-B59C-BC350FA2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5AF-4017-4F6C-B274-2DAFBA2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5F6-5380-47F6-8B45-38597B3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F0A-7B4D-4EF4-AC1F-FA60408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704-A82E-42BA-A3CF-DE512E14F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194-C37B-412F-BC18-3585C2F4B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F6A-EE60-4FB9-92AB-D923BB65D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We Have Heard On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ource unkown (alt. 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. Arr. M. Ang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ngels We Have Heard on Hig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ngels We Have Heard on Hig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ngels We Have Heard on Hig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ngels We Have Heard on Hig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We Have Heard on Hig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We Have Heard on Hig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We Have Heard on Hig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We Have Heard on Hig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3:20:11Z</dcterms:modified>
  <cp:revision>31</cp:revision>
  <dc:subject/>
  <dc:title>Slide 1</dc:title>
</cp:coreProperties>
</file>