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6C3-1959-4E6D-B97D-51218C5F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EA8-4AF3-4B91-9034-E360A1ED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84D-7BDF-428A-8CE7-C5E20D27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364-AAC6-4E1A-BAFA-DB9A5B85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8158-C326-4C59-B78E-3A401993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90E6-A032-4DDF-AC9D-1F26F5D4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9C65-9DE8-474C-812D-A8C09E5B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B4E8-A92E-411F-B5E8-F67E10AF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7377-9AF0-409F-AA40-6DC1642D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06F3-557A-419E-BA59-2ED5721C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F375-2D7A-4599-8E3C-1DD8A1A0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3F2-9A10-4FB6-8D8F-F4915603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A2A5-F6FD-49B6-9CCF-452349BD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6D7C-6E48-4DF0-9736-755AB59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2E64-B51D-48ED-94FC-494A85F2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7C40-EC23-4669-B25A-B2C73DF6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252E-6F2D-4929-AE2E-8AEB6487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FB8-81CF-442B-85D6-5680509C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C09-C1C6-4E4E-9D96-1BF4ACF4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EE2-742D-4A3A-B8C0-8B79E5F0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94E-5D1F-40D1-84C9-0AA1AD80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614-2748-4699-9004-29D9547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C2E-BBF6-4F2A-9A26-0308DD1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03A-768E-47C5-A585-9D62F265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D7EF-1E0B-42A1-A122-F6EB0C897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52F8-4776-4870-83A3-F95A8EE0A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Charge To Keep I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OYL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71760"/>
          <a:ext cx="923436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Charge I Have To Keep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4840" y="64882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Charge To Keep I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Charge I Have To Keep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14840" y="64882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Charge To Keep I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Charge I Have To Keep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5"/>
          <p:cNvSpPr/>
          <p:nvPr/>
        </p:nvSpPr>
        <p:spPr>
          <a:xfrm>
            <a:off x="114840" y="64882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Charge To Keep I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7:19Z</dcterms:modified>
  <cp:revision>45</cp:revision>
  <dc:subject/>
  <dc:title>Slide 1</dc:title>
</cp:coreProperties>
</file>