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A78-194E-42A2-9AD2-69C6FA3A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2ED-FDBA-4AFC-A98A-26A21660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4F7-D80E-4237-BDAD-DC68BADF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F58-7B2D-4F96-A4B2-861C644D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F29-30BA-47D8-B526-CC249F47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3CFE-4262-4E1D-B358-281CA115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FF9F-A1AC-4DF0-89F6-93098909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23D8-3E2B-4B77-BE6E-2F5DE159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A44B-F9E8-4B45-947F-730A3714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3646-F438-4165-9623-504EE4E0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417D-998E-41AC-A967-6AA6A351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994-DBE0-4D0E-9BF3-2E88AAEF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6D78-7DFE-49F8-827E-B9BA1B62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C851-006F-4BB4-A65C-9BDDFB77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92A0-14E6-455D-A3FF-110CF189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99F1-6ED3-4ABD-913E-F8CE4F12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56DC-EF19-430C-8E31-1E3F0D93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D6F-B549-4FD8-A23E-7269AC38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685-1E3E-404F-8AE5-8B765BE1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9FD-3235-4DCA-B1A8-B6790543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6F1-A88A-457B-9D62-053D25F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1A2-FC82-43E8-BB17-FCDCCA38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FF0-B1E1-49D5-87DE-A30B4D0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D3B-1BE3-4170-BA65-75872F12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C763-017E-4937-8F35-E3212F1DE5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8775-58BD-4B08-AE70-5A3BC609CF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mazing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NEW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Newton (17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arly American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mazing Grace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mazing Grace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mazing Gr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mazing Gra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mazing Gr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mazing Gra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mazing Gra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mazing Gra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mazing Grac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mazing Grac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33Z</dcterms:modified>
  <cp:revision>27</cp:revision>
  <dc:subject/>
  <dc:title>Slide 1</dc:title>
</cp:coreProperties>
</file>