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54E-B4C1-4C69-A633-1F35284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7B4-FACF-4D2C-836C-A0DFD089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56F-FB0C-47A9-A455-075439B1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F35-D6F3-4848-8E26-5B500172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B68F-A39B-4BBE-9376-A082AFF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1482-5013-4E0C-98D5-7EE6BA26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9D9-39E5-4785-B348-858F3D5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3687-305B-4BBF-BE05-09D52F53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B7C8-2AEB-4261-B10A-A4BEEB13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66DB-D6EE-4ADB-813F-B40CCE9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6A9-6AF2-47B3-AFDD-E8280A2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F02-9CB2-432C-8F11-B71B253F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B18-37AE-412D-BEB5-D9037EA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2675-AF46-4ACF-9136-658C9E3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771D-3A37-44A3-A193-6CB7A7A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006-7D05-420C-A40C-B5ACCAAF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F5F2-197A-4E27-9594-C53FB5D1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FEF-670F-4A44-B413-983BFD4E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65D-7B9A-44C5-99F9-ADC26CC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A0A-935E-4DA8-AEAA-87FBFD7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F55-5BF9-4109-8A6F-37CEB84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70F-3E03-4D8A-BC95-A3AD7C4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1F1-F15D-48A4-B5F3-0EB2F16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C78-385F-4B43-A70C-4771E11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4E7-6C2A-475D-B18E-D0A5992D8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E802-EB00-4FC3-B610-DEC029E39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Are 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 To The F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ings Are Read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ings Are Read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ings Are Read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Are Read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Are Read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Are Read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Are Read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Are Read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Are Read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Are Read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Are Read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59Z</dcterms:modified>
  <cp:revision>33</cp:revision>
  <dc:subject/>
  <dc:title>Slide 1</dc:title>
</cp:coreProperties>
</file>