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EF7B-E518-4CDD-B7EB-9B05B45B3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95F6-FFAE-405B-BC7A-CCF2C7EF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A4A3-85E0-4E41-A81B-E1E71F351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A787-F662-4553-BFD2-85845D02D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8DF6-AD60-433D-ADAC-A1E778299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5BAEF-81ED-4D07-8130-3F117857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4B81-BAD8-4614-8452-8F20ED14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4852-F6DF-475F-8E5A-EFED940C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15AE-E3E6-47EA-9C28-ECAA029C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917C-F7BF-410B-A46D-210F1946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6293-AB8A-446C-A23F-0E855BBE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84DA-19A3-4346-8A13-1B4BCA01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579C-7228-44EB-A665-764300E5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383D5-CA48-4EFE-94AE-3290B3BC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CF995-2D93-42AE-B9B1-B5113A4C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F7A0-A438-4460-A583-7370FC6DF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D25B-04A7-43F4-9F32-F63D9DDCE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7136-9C54-4901-8F8E-20B1BD25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094A-4674-45B8-A06E-423B92A6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2940-A102-4D36-A234-EBC465CE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5B0C-3E87-45D4-8DA8-2BD75888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09E4-4B31-434F-8880-3AD0F455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EED0-908E-46ED-A845-7BDC349E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F767-65E2-494B-8778-3FCD58F6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CF78-B697-4BD4-ACC9-8CE15E9E06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3B6C-5D64-4FCD-BC7C-A0B9A9713A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ll Through The 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G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3840"/>
          <a:ext cx="9234360" cy="148428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elsh Folk Song, Transl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Old Welsh Air (c. 179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ll Through The Night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17000" y="6488280"/>
            <a:ext cx="32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ll Through The N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ll Through The Night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ll Through The Night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ll Through The Night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117000" y="6488280"/>
            <a:ext cx="32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ll Through The N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ll Through The Night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ll Through The Night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39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Box 5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11:31Z</dcterms:modified>
  <cp:revision>34</cp:revision>
  <dc:subject/>
  <dc:title>Slide 1</dc:title>
</cp:coreProperties>
</file>