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5F7-571C-44A7-8CCD-F30A3FDF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296-7CD8-4D86-8588-8B7CCBD2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AF6-1E92-4514-A5BC-0B11807B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609-83C7-462F-91AD-FA219F6F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0970-5F47-47C5-8E54-FDDEF7E8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68D4-C26E-4D1D-A120-7594D948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0C0E-80B2-4C34-97B9-FF4A6651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FC4C-A787-4E5A-9FB7-DB350EAB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3402-4402-4AD7-B1A8-CBBAD7FB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0F35-6BF1-439E-ADAB-FE2AC046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FEE1-4755-49AA-8ABC-4B89F21B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576-A660-4084-8783-C3C8ECB4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ABA8-2427-47A4-B364-16537F4B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98A2-6070-4EC3-A076-00EC7F22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F978-145D-4F46-B28A-AF320983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E276-3146-44B6-B851-19F032AB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3440-18F9-48B5-981F-9FA167C7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2C76-3624-4D2E-AAE0-1902BDC8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3B5-B7DC-4A1F-B67F-6529A07C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EFA-1D9B-4A09-845B-ACC7172D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7E5-F956-41B3-B167-9873133F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653-2FA2-456E-9EB2-79DB3126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6F1-CD8E-4945-BC95-18F04A73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32A-148D-46D7-98BE-1E271C74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1137-ED21-4696-BFB8-FD69415F63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14BA-06DF-4C03-B6AE-6F1B782E7B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nywhere With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Brown Pounds (1887), vs. 3 by Mrs. C. M. A.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. B. Towner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nywhere With Jesus_v4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5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nywhere With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1000" y="648828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nywhere With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nywhere With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nywhere With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81000" y="648828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nywhere With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nywhere With Jesus_v3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nywhere With Jesus_v3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81000" y="648828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nywhere With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nywhere With Jesus_v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3:10Z</dcterms:modified>
  <cp:revision>36</cp:revision>
  <dc:subject/>
  <dc:title>Slide 1</dc:title>
</cp:coreProperties>
</file>