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FCC-B335-41A4-9EBC-F405E24F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4DC-CA52-46C4-BFA4-BE0AAD5C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9EE-ADE1-420F-BBB0-E39EB069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CB6-95A1-4639-9F03-9466CE5B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6993-1B75-45F4-A234-CC0E1095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08FF-4939-4709-B429-E7261640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EB8C-E75F-4D58-819C-B57482CA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8DD5-1678-41C2-90AA-989B9192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C0C4-4911-44DA-BC9D-A67B3E06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E71C-4D7C-4D03-89B9-734E7409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22AC-E45D-43AE-8CA6-2A79D9E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0E6-1C73-4627-954C-52328511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7949-A564-423F-A2F1-5FE21B53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C591-2A7F-4515-9299-F23C528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0FC1-0092-40ED-B8CC-C933EA3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5BEC-9763-401E-A490-2CBE7DB0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FC42-D9B0-4F4D-A7A9-13C1EF66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3B1-BC64-4137-8CE7-91B3F959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329-15D7-455D-BA26-45B54BAF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CE8-9831-4600-A13A-683D90E1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5C9-361C-4BF8-99BD-6B703A93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A72-ED4B-4079-87B7-4C581406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72A-EA3B-4853-BFA8-D221E5C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516-54E3-46F6-AD6A-1AC720A4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5D5D-ACC4-4042-AD01-4B26A5455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C855-E738-4964-8B8B-37E7378FE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Hail The Power Of Jesus’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A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Perronet, 1779, St. 4, John Rippon, 1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Ellor, 18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Hail The Power Of Jesus Name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Hail The Power Of Jesus Name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ll Hail The Power Of Jesus Name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ll Hail The Power Of Jesus Name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Hail The Power Of Jesus Name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Hail The Power Of Jesus Name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Hail The Power Of Jesus Name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Hail The Power Of Jesus Name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01Z</dcterms:modified>
  <cp:revision>36</cp:revision>
  <dc:subject/>
  <dc:title>Slide 1</dc:title>
</cp:coreProperties>
</file>