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470-5738-49ED-A80D-CD24F93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F8F-9521-452F-8E4E-5EDF6E79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9CD-05FD-4672-BCA7-31A2D2E7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4E0-27E4-4E45-9894-90A6863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43F-F088-44A6-A6F0-E0B5F358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84B-DAC7-43F9-890F-88AFB6D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CD21-2774-4865-A769-4E4C2E98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E40-996B-480C-AAAB-8D0D3FC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1E3-7CBC-4725-843C-8025460D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3AF8-75A5-4E32-8835-1820883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147-646E-4E4E-B2A9-4BD09E4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1F2-D461-47C6-9267-E781818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67E-4A94-4268-B66F-20B3D72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C611-2279-4572-AAA4-1F07F04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7B20-398D-4E41-9E43-F563B5C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C24E-5377-4C94-83AE-A753944F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4C1-E4A6-4569-AE58-2D4BBC8E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25FD-C3CA-44EA-B29A-A2668A16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1F0B-833F-4C7B-BB20-68A299B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2168-DD3D-4639-B810-D4A08ED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F36F-6A75-4520-8A1A-F12AC1E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CC3F-ED11-44DC-AA9C-F0CA60E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43C-D7D2-4E90-8276-FC3AE26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6851-F384-4404-94D9-915FBA9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5F55-6BA6-48B6-915B-E005521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703C-EBC1-4C2B-B3A9-D60D833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B619-321E-4408-AD60-D7F263E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F43D-61EB-4629-99C1-EE6C4BF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14F7-ABD4-48C9-B78F-44C7AD5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9D55-5EEE-4930-BB74-AD8BAFE8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9D9-D1F1-46A8-8BF4-4730BE9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68A-052E-4EA4-A84D-7C49DB33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468-4A88-4E31-A376-FEE4935E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807-D398-4603-B2D4-52E2A52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BDD-F303-4381-88DC-5DFAA21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4A0-4ECB-4E92-A64F-4A26736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B40-C77C-447D-8310-E52B5D0E9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4C6D-46F6-4C09-BF92-4EDD7229B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395-18D7-45FC-903B-D98C542A0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OR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 (1780), Adapt. John Rippon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iver Holden (17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ll Hail The Power Of Jesus Name_arr1_v6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ll Hail The Power Of Jesus Name_arr1_v7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ll Hail The Power Of Jesus Name_arr1_v7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ll Hail The Power Of Jesus Na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ll Hail The Power Of Jesus Na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ll Hail The Power Of Jesus Na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ll Hail The Power Of Jesus Name_arr1_v3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ll Hail The Power Of Jesus Name_arr1_v3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ll Hail The Power Of Jesus Name_arr1_v6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23Z</dcterms:modified>
  <cp:revision>37</cp:revision>
  <dc:subject/>
  <dc:title>Slide 1</dc:title>
</cp:coreProperties>
</file>