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A22-3600-4203-B263-9DDE55ED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76B-347B-48B7-A5B8-5BB2F7BE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6BF-3AFD-4B78-B4D3-E176A099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C70-C461-4E95-B9A4-56F9CEE0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01EB-07D3-49E3-A026-287CE89E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CDEC-6E25-4811-8ADF-0840A6D2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4926-E575-4C89-B894-77E4CD82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C980-30F5-41A1-81C9-C8A50742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93B1-09BB-43AE-A041-89041A2D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0C4B-57F9-455D-91DC-1956471A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AB72-4246-4BF8-9FC9-96625E9E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2F0-71EC-46C4-851D-62F92A7B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BDF1-1545-4B49-B827-54D8C035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E9A1-AAE2-40A9-9E2D-19A126AA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F61A-E2B9-4BCB-9959-B84D6226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2DE9-8845-40E7-847A-38FD6E96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ED24-0E88-4EF9-8F47-6DA025A1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61B-54E7-4E81-99E0-3BA882C3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D82F-9AEC-4154-B4B4-E541DBC0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43F-7722-4850-9626-3397E42E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9806-9B6E-4C10-9A3F-50AB3D85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63A-8A01-4E7D-BA82-AF854429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A8E-AAD3-4657-8479-BA41FDA8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72C-80AE-4DC6-8B78-0A54A24C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AA8B-D909-4B1B-9E96-62583B61FC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BE8B-10AE-4919-B1AE-5BBD8FBD20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Soul Winner For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Ferrill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Ferrill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 Soul Winner For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0" y="649116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 Soul Winner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 Soul Winner For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iagram, schemat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Soul Winner For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0" y="649116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 Soul Winner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Soul Winner For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iagram, schemat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Soul Winner For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0" y="649116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 Soul Winner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 Soul Winner For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7:38Z</dcterms:modified>
  <cp:revision>36</cp:revision>
  <dc:subject/>
  <dc:title>Slide 1</dc:title>
</cp:coreProperties>
</file>