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A07D-EF39-485C-9DEF-996DDA5B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E4F-C1FD-4079-AEE5-EE279435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645-D409-4D54-8283-C6E61AAA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5BF-921B-400A-AEA1-85B06CB7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442B-DE6E-4255-87FC-102B001A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342E-6746-4C98-BCDA-9A0D0428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E1DC-77C3-45A7-AF3C-CCE7D3A9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A5C6-B012-4B3B-B927-80F945AF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F9A6-A5BC-4C93-910F-EDC76984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47C6-ADD6-4E73-81C1-A15BB3B4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DC4C-8392-41E1-80FF-2B9F93F9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046-2529-44D4-99B9-6202024C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297B-60BF-4907-8E43-8A117542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87C5-8A65-4EB3-8885-4EFE6113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F03B-6186-49AF-AEC4-466C64E3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E69D-1897-4B4E-986A-5771700A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216F-D6FE-46A2-B05E-F1D4A520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212-8F0F-4DD5-A81E-E34B1401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461-3419-46C1-B3CE-228E99E3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495-1225-4F6D-9A2E-3246B5DB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71A-5625-40FE-B417-AB90161E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321-C0A2-4B54-83BE-0BC759DD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562-437C-48E6-B344-5068C367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E66-C33D-45DF-AA12-73DB5DA1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DC19-ECE9-4F95-9737-6D03D98B93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D0FE-36C0-417B-94DA-6D451E4419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wake, And Sing The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TH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ammond (17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aron Williams (17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wake And Sing The Song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26000" y="648828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wake, And Sing The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wake And Sing The Song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wake And Sing The Song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26000" y="648828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wake, And Sing The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wake And Sing The Song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wake And Sing The Song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26000" y="648828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wake, And Sing The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wake And Sing The Song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wake And Sing The Song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26000" y="648828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wake, And Sing The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wake And Sing The Song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3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4:23Z</dcterms:modified>
  <cp:revision>36</cp:revision>
  <dc:subject/>
  <dc:title>Slide 1</dc:title>
</cp:coreProperties>
</file>