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57A-3F0B-4DF1-BE10-5486871A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00B-A1E2-4BE5-B833-BB380D9E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B93-83D5-441C-8E86-F37EF641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BC9-8FC5-4DB6-BB8F-26D97877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4776-2913-4077-BECB-D45657BA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5607-4C3A-4D40-8DF3-62B61147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AF91-73DD-41D4-B0AC-97EEC865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86CB-6101-4D05-86C9-E9E0C97B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6C9B-1043-4F48-8E57-2ABB79CB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CD4E-606C-47E9-8F70-EDA63E72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CC93-B008-4BDE-BC64-84F612D8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2ED-3127-4B3E-81BE-B4B6CE71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2874-92B4-4CE3-B406-6A8E153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B87F-007F-482F-BCA7-32455444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32DE-6D0A-4FE3-9820-B8C5908C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4D4F-C94E-4A66-BCDF-D8CE979F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6FE9-9DBB-4A00-806E-7065DAAA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25B-A536-49A0-B278-774295D4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714-1074-48D1-8A34-2614CB01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E22-2405-415E-8F8A-CC2A4A6A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5BA-8EE7-44D4-BA08-F384A5A3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B34-D78C-459A-8A5F-E4593004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E62-2493-45F1-9644-553A5061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9D7-1C8C-4109-836B-69B4196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E4EB-3E9D-4489-B7F3-2DA6EB5BD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9A7D-2037-439B-8C55-55C877A97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bove The Bright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dward Pollock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dward Pollock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bove The Bright Blu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8920" y="648828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bove The Bright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bove The Bright Blu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bove The Bright Blu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bove The Bright Blu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bove The Bright Blu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8920" y="648828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bove The Bright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bove The Bright Blu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bove The Bright Blu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bove The Bright Blu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bove The Bright Blu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88920" y="648828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bove The Bright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bove The Bright Blu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bove The Bright Blu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bove The Bright Blu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23Z</dcterms:modified>
  <cp:revision>37</cp:revision>
  <dc:subject/>
  <dc:title>Slide 1</dc:title>
</cp:coreProperties>
</file>