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812-1603-4C91-98D2-2A036A9C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694-A301-45F5-81EC-974586F6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41A-CC37-4DBE-99B1-B0C00CB1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06F-BE15-43A9-9985-B1CCA214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634A-226C-4887-A3D0-BD72B5E4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33E1-097D-44ED-8028-8DE70DE1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3B76-F69A-46CE-B568-C1D2B947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21FC-58D6-44B9-A694-A03793F4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4A62-2311-4B56-896A-60294AC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D0F-2D9D-4FBB-BFBD-246EA4F0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117-1399-4E46-8D9E-3588CAC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8EA-2DFA-4B1F-97D4-67C17D3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C54E-9C5D-4D13-9BCA-C231B80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2C59-DD3F-4DAC-ACC6-62365D1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5BD-B9B0-4EB5-82A7-B000F202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596-7881-4CD2-8867-C7907F9F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CF5-7ADA-41F1-AC4F-686ABE1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C14-3674-4D1D-B0F0-7DF2D85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14F-2A59-4C41-BA6A-A23BFBCF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4E9-DB22-46F0-8F0F-9FC6435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AAE-C20C-4C93-8BC6-1C3FF43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3A2-99B2-4675-A7B4-A4BECD2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862-1FE0-4A1B-B4D9-917A50B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AEB-1E97-4B3E-BB67-96AE79F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55CF-A1E5-4A58-88B5-C67F79770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27B5-8A32-4E6E-9490-293F6F715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ings Prais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W. Conder (18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nrad Kocher 1838), Arr. by 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Things Praise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ings Prais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ings Prais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ings Prais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ings Prais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ings Prais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ings Prais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ings Praise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ings Praise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18Z</dcterms:modified>
  <cp:revision>23</cp:revision>
  <dc:subject/>
  <dc:title>Slide 1</dc:title>
</cp:coreProperties>
</file>