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0F4-B2DC-429E-86E3-CE3BE049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719-CCBE-44F6-B118-31291EFC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953-EFA4-4A84-83CA-18362B43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56B-C7A1-48D8-B71C-A4897B87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F771-0941-495E-8EC3-25AC1E84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2002-A8B7-4ED6-882A-C5E569D6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F177-FF00-4997-9082-16A94CE1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1A22-3DE5-45C1-B8B9-5C2E4214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87A5-E939-495A-9082-F147A85A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1FAC-1024-4FA0-AC07-69026D9F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5CA1-8B23-4BBF-9E5B-688F0A3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F09-AFAB-4855-B69A-82C5A53C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CB45-ACA2-439B-A465-EC108263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C37B-A603-47F6-8F02-CBF9FA52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359A-8B24-4952-8689-DB8F96B7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DF3D-79B5-41EC-BEA7-DF44343C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5AF3-1028-425E-AA33-37A9DD24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CF0-0CDC-4C54-9B60-37A0D046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904-4C59-47C3-A752-CCCD4E86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CF0-4A8C-46FE-B840-78FA90F4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A69-9BAD-4E96-B75D-E2FC6C20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9DA-6DF4-4CCA-998F-C6EF3A67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F7C-A4D2-4F04-BDB6-060EB8D1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673-E114-4B62-AB36-B5F6C87B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0B0E-5892-4FF2-A89B-02D1F1AFA6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2157-CE4F-436C-8948-291F535B4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Mighty For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IN’ FESTE 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6.6.6.6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d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Alto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Tenor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S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Bass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tin Luther (1529)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by F. H. Hedge (15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tin Luther (15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 Mighty Fortre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Mighty Fortres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 Mighty Fortress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8856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Mighty For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 Mighty Fortress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 Mighty Fortress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 Mighty Fortress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 Mighty Fortress_v3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7" name="TextBox 3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Mighty Fortre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856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Mighty For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Mighty Fortre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Mighty Fortre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Mighty Fortre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Mighty Fortres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Mighty Fortre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8856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Mighty For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Mighty Fortre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Mighty Fortre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0T01:46:13Z</dcterms:modified>
  <cp:revision>47</cp:revision>
  <dc:subject/>
  <dc:title>Slide 1</dc:title>
</cp:coreProperties>
</file>