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9A8D-36B7-4AB5-BC0D-3E2B2AD9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7844-FF01-4885-B3AB-E33ED8EC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DE44-16FC-48F8-817C-FE826E70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4D7F-25CA-4F8E-B57D-E0C7514D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B715-881D-480A-8744-B4B05BCB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154F-7C4E-4FC9-98AD-E61B3DFC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C749-FB88-444F-A7AB-2824754C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B574-469D-4F0F-B238-FF4C9B01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72CA-AEC9-4749-8B13-D36C1AE7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58A5-953D-4431-80E0-3AD5DB8F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F0D8-BE49-4EDF-BB36-05C511AC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19DD-B1FB-4992-BF67-43074165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73BC-CB96-487B-9886-AA9D7D6A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C7DB-1D1A-4B09-B471-6CB012AA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640E-98BB-4DAE-9B99-43EB81B4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7BEF-5608-4240-889E-60A73B6E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963A-C616-4A21-8C7F-2DCBD747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5F19-0348-459F-B1C3-918AD5B3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11BD-A5F3-4077-AA5C-6FF4E910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0E86-8BEB-46CA-ACAA-4B35554D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F67A-59E2-430D-B6D6-ECDAF917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B8CE-4D21-411D-AE51-115D9D71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8409-8AFC-472C-ABB7-A839D8B1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30A7-2F07-4289-89D6-88A86E77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0F7D-6D90-4F6D-B09B-FE08CBDC4F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3395-919E-49A8-A798-769CA86AB8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m I A Soldier Of The Cro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ARL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saac Watts (17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A. Arne (17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40400" y="648828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m I A Soldier Of The Cro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40400" y="648828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m I A Soldier Of The Cro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40400" y="648828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m I A Soldier Of The Cro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3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2:22Z</dcterms:modified>
  <cp:revision>43</cp:revision>
  <dc:subject/>
  <dc:title>Slide 1</dc:title>
</cp:coreProperties>
</file>