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7F2-8338-4AFF-B657-2AAF1A79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B69-A096-4E7C-80D3-318BF1D6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BED-B2F1-47AF-8A1D-F6D5BE40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CBB-EC53-4AC1-B222-C7CC6EA8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6A28-08BD-4108-A02E-A6F2253D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5A52-AD82-4518-A724-D4FD3474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C536-E9CA-486D-961E-692D6F7B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E787-BFBB-4EF6-BC77-C4134F4B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FDE2-B097-482A-BCD6-6F657CC2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4362-C670-4381-BC67-1663FBB1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7D7C-7F8E-4889-AC67-938EF934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693-6525-4ACA-A1C3-A9FAF900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C2A1-2ABF-4408-A2A7-984C6D6B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CEB1-150A-4ADE-A438-6DCD6BEF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5457-B7E2-4102-84D8-17470E78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EFE3-9533-44C7-825E-8C12B845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4C36-A833-4569-A819-AB2707B3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E6A-4EDB-448A-BB08-E8A4902A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9DA-B92D-4D6B-902F-797B3F5C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56C-66E2-4466-A753-24302063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30C-F84B-4838-AE7C-CC1F86F2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A63-09A6-44D3-97F0-C67EC3E6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1A3-7AE7-48A6-B77D-89E182A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576-0249-48D1-B908-4B6440B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6E7D-7022-4BD1-B52E-D562413D5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BEC0-B33A-4FE4-8DC8-75388022C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Wonderful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e Hideth My So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71760"/>
          <a:ext cx="9144000" cy="1484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Wonderful Savio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Wonderful Savio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A picture containing rectang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Wonderful Savio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Wonderful Savio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Wonderful Savior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Wonderful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Wonderful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Wonderful Savio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Wonderful Savio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Wonderful Savio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Wonderful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Wonderful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Wonderful Savio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8:41Z</dcterms:modified>
  <cp:revision>32</cp:revision>
  <dc:subject/>
  <dc:title>Slide 1</dc:title>
</cp:coreProperties>
</file>