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11C6-1622-4663-8A9B-541BDFB55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5AF0-50A4-45F9-82B9-D82BE412A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F496-E8FC-4CB4-A824-109428FFE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81BD-7EAF-4AC2-A684-356182807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BB60C-C035-43E2-BE25-D28F60B8D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D1BBE-5515-4359-A6D3-0529BF0F6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9B3DB-DB82-4371-92CD-84B5E7EB9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E45A0-7BA0-44D9-801A-60CCB19E7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298E4-2884-4A05-9CA0-3F78EDBB0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2D7B3-110D-4F8F-B62C-9BFEF50E4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572FC-1D67-406B-9514-0CD13CE0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ABD5-3148-446C-A050-A15858C87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9E221-32BD-4351-B5AE-429BE112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73A41-E997-4BE9-B9EC-8DDBD355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C9523-26AC-41A8-A1FE-5176A5179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91DA2-FE4E-4054-9789-16E6C2BCF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EFC59-8F45-4AAD-B513-5BDB7D12F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DF9B-EFF5-40ED-88F3-1630C241B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E98D-7B16-4172-880D-1B8D88F72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76E7-9720-4910-9856-CF106412B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4A17-0CA6-4172-A68D-74260DF23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01CE-21B6-45B5-85CB-57F83E7D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5DD8-D339-4094-86EA-A9DB7137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6825-EF66-4615-85FA-3EC7E59A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BFB1F-D1D5-46DF-9625-955D823217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A6AA1-33CA-4856-A909-A74DBE7AFA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All People That On Earth Do Dw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OLD HUNDRE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L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/A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3368520"/>
          <a:ext cx="9234360" cy="1484640"/>
        </p:xfrm>
        <a:graphic>
          <a:graphicData uri="http://schemas.openxmlformats.org/drawingml/2006/table">
            <a:tbl>
              <a:tblPr/>
              <a:tblGrid>
                <a:gridCol w="914400"/>
                <a:gridCol w="8319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Psalm 100, Arr. by William Hethe (156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ouis Bourgeois’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eneva Psalter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(155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All People That On Earth Do Dwell_v5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137880" y="6488280"/>
            <a:ext cx="45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 ~ All People That On Earth Do D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All People That On Earth Do Dwell_v5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47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Box 5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All People That On Earth Do Dwell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137880" y="6488280"/>
            <a:ext cx="45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All People That On Earth Do D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All People That On Earth Do Dwell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All People That On Earth Do Dwell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137880" y="6488280"/>
            <a:ext cx="45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All People That On Earth Do D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All People That On Earth Do Dwell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All People That On Earth Do Dwell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137880" y="6488280"/>
            <a:ext cx="45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All People That On Earth Do D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All People That On Earth Do Dwell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All People That On Earth Do Dwell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137880" y="6488280"/>
            <a:ext cx="45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All People That On Earth Do D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All People That On Earth Do Dwell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0T02:04:06Z</dcterms:modified>
  <cp:revision>32</cp:revision>
  <dc:subject/>
  <dc:title>Slide 1</dc:title>
</cp:coreProperties>
</file>