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03B0-52AE-4B13-A64B-2F4395EB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FB6-A4F0-438A-A07E-24F5C0FF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81D0-50A3-4511-9D9F-ACB044D0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3C3B-0A0F-434D-AF34-FEA4EF0C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C296-B65D-46D8-8DDB-B0E065E2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93A0-A617-462F-A479-F34C426F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AFAF-8765-4244-91E8-40868D74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AD62-3F21-4BBA-A651-E3AAA894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76E1-A1B1-44A2-89D0-F31D7B74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000D-138E-41E7-8718-9F0DE55A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ED74-3512-403A-B9CB-E26AD40D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D105-5DBC-4C1A-A206-E9538926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5C0A-85DC-43A1-8B2A-CDB672B0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5C09-FA25-4BE2-9783-2D73065E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D9A6-5752-4EB5-BC84-031265BB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BB60-06E4-4433-8357-E5863BAB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DB07-2C37-4420-AFBB-79BF5644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8C7-EA0F-4865-9CF0-28281D70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4380-9037-4A81-AC8B-01AC88A0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2DC6-6536-46D2-BE9E-E8053597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4224-79A2-42F9-ABB4-23CC6525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BC2-433D-4724-8153-18B5C323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2C9-9F28-494B-AE5C-92C1387A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E53-A966-424A-A86B-CB946050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4469-552D-410F-8327-70185BA539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F9E3-6FD3-43D9-82E4-AE2FEEE5CB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The Way My Savior Leads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ll The Way My Savior Leads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l The Way My Savior Leads M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ll The Way My Savior Leads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117720" y="648828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The Way My Savior Lead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ll The Way My Savior Leads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ll The Way My Savior Leads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ll The Way My Savior Leads 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ll The Way My Savior Leads M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7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 The Way My Savior Leads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7720" y="648828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The Way My Savior Lead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 The Way My Savior Leads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ll The Way My Savior Leads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ll The Way My Savior Leads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 The Way My Savior Leads M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 The Way My Savior Leads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17720" y="648828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The Way My Savior Lead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ll The Way My Savior Leads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ll The Way My Savior Leads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0:46Z</dcterms:modified>
  <cp:revision>33</cp:revision>
  <dc:subject/>
  <dc:title>Slide 1</dc:title>
</cp:coreProperties>
</file>