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DA9-66E7-427C-8C56-E7F1FFC8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1AE-8286-4012-8783-16C3E43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1EE-825D-4891-AA61-6BB079F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7B3-1D66-4A32-9620-F5108BE0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403-3E60-4167-B3AF-7B5BD07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BE0-AB82-49DD-8135-55A70D6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A47-6434-4BCF-BE29-5F2A9A3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42A-04C0-47A9-8491-176ED7A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871-CA90-400C-B879-E4F41916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7B9-6BE5-4EF0-910A-D4E4E7C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61B-2EA1-40E4-926B-705FC56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316-1065-4FF2-B971-24C477B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F792-4746-4CA7-A1C2-A5967DC4F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o Jesus I 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Surrender 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an De Venter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. Weede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All To Jesus I Surrender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ll To Jesus I Surrender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All To Jesus I Surrender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ll To Jesus I Surrender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ll To Jesus I Surrender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ll To Jesus I Surrender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All To Jesus I Surrender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ll To Jesus I Surrender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1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ll To Jesus I Surrend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ll To Jesus I Surrend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ll To Jesus I Surrender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ll To Jesus I Surrender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ll To Jesus I Surrend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ll To Jesus I Surrend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ll To Jesus I Surrender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ll To Jesus I Surrender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43Z</dcterms:modified>
  <cp:revision>43</cp:revision>
  <dc:subject/>
  <dc:title>Slide 1</dc:title>
</cp:coreProperties>
</file>