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B8E-4A3E-430E-A572-59A4458E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BC2-4904-4217-90C6-D3D4E451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64A-FA0A-461F-95B0-9742D7B5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B18-55B1-437F-BBAE-CE4D3268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AD5F-77DD-4FDD-85C6-B6DFC46B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843A-A88F-4A77-AEDF-8786B750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3101-80AB-4D48-A9A7-D77C3348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3A89-A433-411A-A8C5-1DC570E3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9931-BBB3-403F-8180-07C9843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BD98-AD37-4808-B26B-A8A182C2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45C6-72F4-46F8-BF88-99496482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929-E733-4BAA-8AFC-70A4590C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3C6D-7ABE-4462-BE29-1BB8E3D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F005-185E-4067-9686-53ACA47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692F-B008-47F6-A100-68336F3D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0C05-7137-4DA5-8EE2-F6C526A1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672D-DDD0-472B-820A-6187744C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55D-BE80-43BD-A7F3-5873DFAF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00E-0B4A-4C01-BFED-ED1673DD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AC7-6F9B-4A20-B165-81578FD3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17B-586B-4379-8EC1-DE9B9922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C2A-A042-4B1E-A13F-4A46029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875-CF1D-4CA6-8D43-0CD1D940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C5E-DB75-432B-A4BF-61BB25A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411F-087D-4A41-97CB-CA4C53732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CDAB-E541-4BAC-BEF0-5D61A5854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Walking in His Foot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Lowrie Hofford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e You Walking In His Footstep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re You Walking In His Footstep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re You Walking In His Footstep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re You Walking In His Footstep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re You Walking In His Footstep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re You Walking In His Footstep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re You Walking In His Footstep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re You Walking In His Footstep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Are You Walking In His Footstep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Are You Walking In His Footstep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6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re You Walking In His Footstep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re You Walking In His Footstep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re You Walking In His Footstep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re You Walking In His Footstep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re You Walking In His Footstep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re You Walking In His Footstep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re You Walking In His Footstep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re You Walking In His Footstep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33Z</dcterms:modified>
  <cp:revision>34</cp:revision>
  <dc:subject/>
  <dc:title>Slide 1</dc:title>
</cp:coreProperties>
</file>