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6187-DB81-4D55-9067-119615F0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C0BD-00F9-4639-AB92-BD55B975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061-4433-4153-B721-0CFA4F3E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B9E-8D60-45F2-8B87-E95A552B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56CB-F453-4247-AD6D-4FE2BFDB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6132-2CC7-41E3-BD94-90FBA355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9B13-6B6B-4FB1-8802-AFAF664D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E779-3B84-4399-BE15-9F7D73A9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B751-C576-4237-A469-D58EB60B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0A91-F127-4346-AEE0-C521333A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64E3-9242-45D5-AFF0-6F650A8E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A17D-FFE9-4EFB-A310-CEE037BB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63F6-74EC-4AA0-8488-06A57CC8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5929-7B7D-447E-8EC1-5BFFB449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3080-C0EC-4AA0-BB07-A56F18EB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70E4-5ADD-4F7C-B597-067775B4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85D6-F4A7-4A68-A97C-23B5B21E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7BB-E42B-4031-9D9E-17BF9CEC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BEC-850C-44BE-8AFB-D04A1B22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A9EA-F381-4C5D-84DF-5BE170F2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3A4-B13E-4CDD-8964-120B9A51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8254-9FCF-4F16-A27A-7116C10C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6B7-FEAF-4838-81B1-DC8744C1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3C32-1C8A-400C-8C92-77ECBA7E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875B-1A1E-45EA-B43D-B808CF5A52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01E7-C991-43DF-BD22-95548F7B34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ngry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Love One An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unday School Teacher (1867), vs. 3 by Betty B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R. Palmer (1867), Arr. by Will W. Slater (19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ngry Words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67320" y="6488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ngr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ngry Words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ngry Words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ngry Words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ngry Word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67320" y="6488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ngr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ngry Words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ngry Words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ngry Words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ngry Word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67320" y="6488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ngr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ngry Words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ngry Words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ngry Words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2:57Z</dcterms:modified>
  <cp:revision>36</cp:revision>
  <dc:subject/>
  <dc:title>Slide 1</dc:title>
</cp:coreProperties>
</file>