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E5C-2D2E-418B-98E3-A40368F7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BEE-865D-4641-B8C1-0D7E8439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678-86D8-4ABC-9AA8-A36C790F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D06-4F50-4F41-AC15-58BB8623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8344-9D99-4704-A2B9-E283C065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E87C-B5B2-4447-8B6F-045007FC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EB60-8B7F-4744-BC38-2A825D2E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266F-E4EA-42D7-8951-CE02DFC0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E5C7-3CD1-4A9B-B62E-0BC9604E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B4D4-6AB1-431E-BD03-F6240C8A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21FF-03E3-4708-BAD8-CCACAAB4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C3C-F54E-486F-BFEB-3CB471CC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5B92-53B2-487C-A0D9-7C6A7A12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FDFE-4DEC-4C82-ADF9-5A532BB7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9AC2-5297-4731-BC20-A5DF9289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D904-D457-4734-BBA1-8D07730A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9D1D-0001-44DB-8F12-E404F934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56E-2451-4300-82E2-AEFD421F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9F6-87B5-4644-B70A-EB633CA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2E7-0ADD-4CA0-96F0-C88198DC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6D2-1198-4B22-AA45-F0E3768C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6A1-38DD-4F91-9416-D21F5E4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97D-DDEA-46CD-B61E-315B089B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A89-7849-4AD3-AA6C-1FBD449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8214-65F3-4313-A405-6EE3AA547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F88E-E330-4D4A-A6E7-BA644CD23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Creatures Of Our God And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ASST UNS ERFRE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67328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is of Assisi (1225), Tr. by William H. Draper (19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rachel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istliche Kirchengesang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623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Ralph V. Williams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Creatures Of Our God And King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Creatures Of Our God And King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 Creatures Of Our God And King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 Creatures Of Our God And King_arr2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ll Creatures Of Our God And King_arr2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ll Creatures Of Our God And King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ll Creatures Of Our God And King_arr2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ll Creatures Of Our God And King_arr2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Creatures Of Our God And King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Creatures Of Our God And King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Creatures Of Our God And King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Creatures Of Our God And King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Creatures Of Our God And King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Creatures Of Our God And King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Creatures Of Our God And King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Creatures Of Our God And King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49Z</dcterms:modified>
  <cp:revision>38</cp:revision>
  <dc:subject/>
  <dc:title>Slide 1</dc:title>
</cp:coreProperties>
</file>