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4A9-D38D-401A-A46F-16A76705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BB2-87C2-4690-8BD8-6A345DC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FC9-A192-47DB-8F8E-3C199B99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E82-F193-494C-9B56-9AC10ECE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00E-44AF-4871-95C6-D0C2784B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4D5E-6A92-41D8-A8F6-3A9B3BFC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F10-29A8-4914-8DA9-B2920668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2DF7-A90C-48B4-B7D4-29C2E559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439E-B250-4607-A0DA-4A7C5820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A7F2-E0F9-48A1-8B2B-457C68A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E54-793A-4C2A-905A-A6231190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1020-0A45-4468-B7F8-1A8D19EB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8147-24B3-4EB0-8AED-6EAF52F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01F1-04D8-4941-BDDC-5C2F3B8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4413-906B-44BC-A099-83F6DA15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F65E-E168-4FD8-B9D3-F7130362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58F-2EC6-4456-B8CD-6EE9B8B4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7C8-C001-454B-9F04-A554034A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9E4B-08EA-4B6F-AFE7-F8030F85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6D31-FE35-4BCD-B7E9-7EB1F92A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269A6-75D8-4F2F-B2BC-DBCD3493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BA8-0342-466B-A876-461C4B81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2DAE-03E1-46C8-B6BE-F7B192B1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04D97-9B94-4DE3-ADC5-1F5ADC59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AB027-6323-40E9-B437-1135238B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0A51-018F-4F74-B296-9E9CE58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847EC-CF03-440B-9442-626DE1B0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14009-B6BC-4193-9FA8-B26B4779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7200F-F89C-4A76-9A22-8E7A387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2966-AE8C-4753-BFA5-A0569784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C4D4-E5C7-450D-9BE8-CBF609868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C666-899C-463F-8092-EC7BA13A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2B0-A063-4AF7-874B-796248FA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41A-8300-4FC2-80FD-EB8E9CF5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337-A304-40D1-8737-E1AB418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901-2517-4A7D-9BF2-29697CB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07B0-4750-4748-BD55-2D558B4DC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403A-5289-4237-A189-2565B76B3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5059-17D8-48B7-AFBA-D91C6A54A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yond This Land Of P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rs. M. B.C. Slade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r. A. B. Everett (187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yond This Land Of Part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5840" y="64882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yond This Land Of 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yond This Land Of Part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yond This Land Of Part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yond This Land Of Part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yond This Land Of Part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5840" y="64882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yond This Land Of 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yond This Land Of Part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yond This Land Of Part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yond This Land Of Part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yond This Land Of Part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5840" y="6488280"/>
            <a:ext cx="39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yond This Land Of 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yond This Land Of Part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yond This Land Of Part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yond This Land Of Part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7:08Z</dcterms:modified>
  <cp:revision>28</cp:revision>
  <dc:subject/>
  <dc:title>Slide 1</dc:title>
</cp:coreProperties>
</file>