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A199-3BC4-4524-B16B-475937FE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0A89-0183-4C4E-963D-F7920462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DD60-5652-48A3-89A1-AE6AD7DA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6B33-3DF0-4366-A3C3-71AB7A3B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64D2-67DD-4D42-9063-D655528F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FDFD-019D-4196-A364-4693359F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1526-FA83-430E-942D-905733AB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D307-500C-432B-9B2E-7ECA98B5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4D04-4CDE-424F-AF44-914C94FC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13C4-2808-44A1-B404-86C59766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5011-FC31-4B7F-8541-C9B37811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B852-7F66-4C5B-8C62-FA12F9DF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6B8A-F9AC-4FE9-AB37-691F9338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81E9-2381-4F25-85F0-31039012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69A4-426F-49E2-A9E5-760D44F7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02C4-B15E-41C2-9A42-C1935CCB2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EC98-BBE3-444B-A66A-79F7A2C3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D002-5CAA-480E-84AC-C89C10EE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0C74A-D562-45B8-A4E8-3462876F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3ACB9-7330-4A08-8D0C-B2CE6329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41B26-CAE4-43B4-8705-A27C73F6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C42D-1EE8-4D9E-8237-CDC7D026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694D1-695C-4801-8DE6-E023E424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C7E68-B0E7-4BC0-BA2D-318721FD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098DE-70C7-464B-A10C-AA40B6FF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565AB-E18A-4FBD-873D-AEC56C39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5426E-8BC1-4820-B1A3-1BBD48C9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4D874-DC52-4615-868B-2B71CFED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35DE8-BF23-4C6E-BC07-9AEF68C3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9339A-A545-4B82-8047-CE794990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4F247-3EDE-4378-A510-95D50477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0B82-F1A2-4822-A793-3E99EF63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D3EE-8DAA-405B-B745-1163DDA5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BF08-D148-4D70-B6BE-190EC81C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1657-4F29-4B39-B223-F6F80806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3D17-F2C5-478E-9B73-F67DB020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FD73-3380-46E1-B4F8-CCB41F1A7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BC2B-2AFB-40E6-BC6B-099EE2DBE3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D21B-395B-4643-BAE5-10DE04825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eyond The Sunset’s Radiant G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Beyond The Sun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sephine Pollard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O. Perkins (18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Beyond The Sunsets Radiant Glow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8880" y="6488280"/>
            <a:ext cx="46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eyond The Sunset’s Radiant G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Beyond The Sunsets Radiant Glow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Beyond The Sunsets Radiant Glow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Beyond The Sunsets Radiant Glow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eyond The Sunsets Radiant Glow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8880" y="6488280"/>
            <a:ext cx="46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eyond The Sunset’s Radiant G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eyond The Sunsets Radiant Glow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eyond The Sunsets Radiant Glow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eyond The Sunsets Radiant Glow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eyond The Sunsets Radiant Glow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8880" y="6488280"/>
            <a:ext cx="46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eyond The Sunset’s Radiant G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eyond The Sunsets Radiant Glow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eyond The Sunsets Radiant Glow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Beyond The Sunsets Radiant Glow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8:21Z</dcterms:modified>
  <cp:revision>36</cp:revision>
  <dc:subject/>
  <dc:title>Slide 1</dc:title>
</cp:coreProperties>
</file>