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7FB6-4473-4216-AC45-60C4EE4A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C28-A103-41DE-85DC-EC202DA1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441-B577-49E1-8B16-9FC1AF89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C3C3-0030-4B62-8FC2-8D1FC8BF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B6D7-282B-4D94-A607-9B9F33BA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7E0C-8FDD-492E-A35A-A4EE84A5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B2BB-060B-4EE2-A5AE-988B873B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9CC9-FAEC-4485-B26F-E0B54A8A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98AD-4B4D-47C0-B5F2-E6135F44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2607-B8B4-4EE7-919C-273A70B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1512-845A-455A-A876-CF2B737E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89CC-B136-41AC-838C-5228DA42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775A-ED40-4F2A-87F9-B0B47CF7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C769-82E9-45B8-A6AF-90EFFD1D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62D0-6812-410B-8E4D-963A6220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544F-442A-4CEE-8154-48F9ACB3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7CC3-8E49-4DEC-BD9F-24DB834F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0C6F-E948-4E43-895B-0B2868A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E2181-8536-466D-9C40-48EF0A4F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FFA9-C02B-4260-A3DC-D08EFFA9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29F9-BB94-4450-A8DF-9DCF0593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0C1-CCAF-4925-BDA7-D06F18E0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D861-59C4-44C6-8716-02C4E635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7605-0131-44B8-B3BB-D31CA6BA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5CCF-FFDD-4ADC-8CA8-72B17FD4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58E8-859C-450C-B0DE-2A19FF3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EABEA-0742-4C8A-9350-028EF4F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AE533-961E-4453-AD13-BC31564F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7C12-89F6-4AED-B5D1-F80B2899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CB9D-3590-4E6A-A86E-C678BE8B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6C96-D038-42B9-B5E9-9084194A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ED7-C716-43B6-A38F-D34CC01A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313-643C-4F61-9CBA-1877F1C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BC1-CE0C-4BDF-AD3A-C7F93C4A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E16-CAFF-4EDC-992A-0A9AC1FC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7EA3-21A3-41E8-81CE-266C7013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FE05-33ED-44BD-94DE-4ED0B9311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64EF-9B73-4BF0-8801-AC0321C4A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E46E-529C-4F27-872A-AB773EC8F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ringing In The Sh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Knowles Shaw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A. Minor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ringing In The Sheave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6040" y="648828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ringing In The Sh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ringing In The Sheave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ringing In The Sheave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ringing In The Sheave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ringing In The Sheave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ringing In The Sh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ringing In The Sheave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ringing In The Sheave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ringing In The Sheave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ringing In The Sheave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040" y="648828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ringing In The She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ringing In The Sheave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ringing In The Sheave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ringing In The Sheave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6:04Z</dcterms:modified>
  <cp:revision>32</cp:revision>
  <dc:subject/>
  <dc:title>Slide 1</dc:title>
</cp:coreProperties>
</file>