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976-74D6-464C-B250-BB3FD4FC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DD3-F9C0-48B8-B835-8BBE57B7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5C9-49CC-47A6-9EFB-8B2E1EE2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E54-98B7-4C60-9DAB-F09AA88C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CC9B-D417-4A92-9F2C-A1837F65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34C0-BBAC-4A74-9B95-439623E1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2BF4-F0FD-4B68-AF90-F0856E4D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158B-970B-4F1C-B6E4-0260A821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76AA-44AE-4857-AC0A-F507C44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3B31-D78A-4E8E-882D-13821CA3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74BE-FF5A-4F72-84D2-1B24BCA2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D31-6327-48A0-BC11-174778B9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BC18-24A2-48DC-9E8A-EB22EB1F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6CBF-E76B-48D6-8CAE-D7E3E7DD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1322-4B4A-4D18-AB5B-BCF67D21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BB8B-D91D-4B51-9F47-7D43B93E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1A2B-0E6A-45E2-89A0-279F8487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966AA-5F1B-4CAA-B05F-4AFB65DF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181C-5E23-4F00-B362-DF3E33F3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E32B-DB81-4098-890A-AFA8719C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ECB22-095B-412F-850F-8E421870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8AE0-7AEA-4AB9-97C4-BE8A3C02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8EC-CB3B-482B-871A-7F7B275E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49AC-CD4A-48B5-AC74-6564B524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7AF0-77DD-48A9-94A0-CAE93BB2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BF041-A467-4F17-85EF-688100E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36C34-DE05-42F2-9EB5-0F864375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8B8A4-9FCB-4833-B941-2A7B6BF5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E0E7-48ED-4A3F-BB4A-C5EF4BEC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51197-049F-405E-81E9-E46B6796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D52-11EA-4F9D-B5B5-E064BFAF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5F78-50A9-4263-9097-6962ED98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235-BFC3-4542-BE0C-2E0ADC5A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D2B-727F-46F8-A1A8-022E3FB4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A52A-E564-414F-9CF0-AB1C5C5D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A34-1384-42A5-839B-1BDEE3A2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089E-1AD2-45D8-BD0F-7EAF1FBC5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BFDF-3D83-4AA3-BC99-8A064BA5C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0C6E-A976-410C-B040-F3EDA8409F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e A Light For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E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F. Sims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. F. Sims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Be A Light For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880" y="648828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e A Light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e A Light For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Be A Light For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Be A Light For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Be A Light For Jesus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1880" y="648828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e A Light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e A Light For Jesus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Be A Light For Jesus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Be A Light For Jesus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9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Be A Light For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880" y="648828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e A Light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Be A Light For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Be A Light For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Be A Light For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Be A Light For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880" y="648828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e A Light For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Be A Light For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Be A Light For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Be A Light For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4:28Z</dcterms:modified>
  <cp:revision>34</cp:revision>
  <dc:subject/>
  <dc:title>Slide 1</dc:title>
</cp:coreProperties>
</file>