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A55-089A-4EA2-BABA-72E345C1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12F-34EA-4764-ADD5-D0E6AF0A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D52-69A7-43EB-BD4E-A92647DB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71A-35A6-4128-801E-240F7303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5964-24A7-4589-8DC3-3DA0C502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7DEA-E551-4E3D-8DCD-D5E52797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09CA-412C-48AF-ABCE-A704A81E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052-91BE-49B0-A31E-C19CAD25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EF8E-C4A3-482C-8A2B-12B0975F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B82B-6D47-4055-A04D-2F70CD81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D983-3BD5-49AB-9CFD-5A9A3C76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7A2-6570-43D9-87E8-8A7C89A2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583D-7851-48B3-8227-BB8EEC9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030D-020C-440D-9F0D-79401A23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CF34-E5E2-45E9-A323-66D20095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F594-DE18-47FB-8AD8-11B19E21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06BE-9AA0-469F-916C-E9DFA97A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3F6-C2C2-4A4F-A8EA-97D5B6F9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F38-F740-42F7-8309-31DC277D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485-7B3E-495E-B4E3-D789C7A6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580-3F5B-4B10-BDD7-3A2D9512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DAA-7BD1-4158-912D-A29C919E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0F0D-BEF4-47D6-AEDD-B9F222A2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D5E-4734-43FA-9244-A0F9CF51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7C47-DA20-4DBC-9BA8-644923797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890-96DD-42AE-AC94-CBE5B628F0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Not Dismayed Whate’er Be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God Will Take Care Of 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ivilla D. Mari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Stillman Martin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e Not Dismayed Whateer Betid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96480" y="6488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Not Dismayed Whate’er Be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e Not Dismayed Whateer Betid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Be Not Dismayed Whateer Betid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e Not Dismayed Whateer Betid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hart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96480" y="6488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e Not Dismayed Whate’er Be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e Not Dismayed Whateer Betide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e Not Dismayed Whateer Betide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Be Not Dismayed Whateer Betide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e Not Dismayed Whateer Betid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96480" y="6488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Not Dismayed Whate’er Be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e Not Dismayed Whateer Betid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e Not Dismayed Whateer Betid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e Not Dismayed Whateer Betid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e Not Dismayed Whateer Betid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96480" y="6488280"/>
            <a:ext cx="45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Not Dismayed Whate’er Be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e Not Dismayed Whateer Betid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e Not Dismayed Whateer Betid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e Not Dismayed Whateer Betid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4:11Z</dcterms:modified>
  <cp:revision>38</cp:revision>
  <dc:subject/>
  <dc:title>Slide 1</dc:title>
</cp:coreProperties>
</file>