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41BE-5129-49D3-A2AB-75419721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B65-F750-48B7-B94D-E3CA0535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6A7-E312-4438-A153-82B43FDF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C6C-7F99-4AA0-9E13-4D610860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88F2-69E8-4729-B93C-76259680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C684-9800-4EB4-B3F5-890AABBE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838B-E883-4E95-A1AB-52550F66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7CC1-0633-4768-A806-DF1CEFF0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E1B4-1F77-4F93-8822-C05D850D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5403-98DA-4A0F-9605-321D8044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2B71-D0A1-44C5-95F7-FF1D3913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A7C-9A7E-47C7-AD57-187DFDAC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80B3-C914-403E-91C5-91A9E922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BB96-F0ED-459A-929D-A1C93C30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3D4C-E309-426B-95E5-125D0BBC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87D4-86E3-4985-A3BF-25BEF03B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73BD-197A-4741-B7AD-305A0D83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CF8-CE7E-4328-AF37-AB16333E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E4E-E9C3-49A6-A0CD-D82C4CBF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0A13-157E-439A-ABD1-39C17873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EDF-FB18-4171-B15A-22CECBDB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9420-ABBF-4C80-9A2A-36788020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21C-9349-402F-99F3-96895B2D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687-D856-461F-A6DB-9F073085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437E-9133-4106-B28D-6D170DFCC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095A-C3E8-4D02-B276-D671EA302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aptized Into Our Savior’s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EVAN C.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ip Doddridge (1702-17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owel Mason (1846), Arr. by William H. Havergal (18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aptized Into Our Saviors Death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26720" y="6488280"/>
            <a:ext cx="43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aptized Into Our Savior’s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aptized Into Our Saviors Death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aptized Into Our Saviors Death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26720" y="6488280"/>
            <a:ext cx="43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aptized Into Our Savior’s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aptized Into Our Saviors Death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Baptized Into Our Saviors Death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126720" y="6488280"/>
            <a:ext cx="43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aptized Into Our Savior’s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aptized Into Our Saviors Death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ptized Into Our Saviors Death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26720" y="6488280"/>
            <a:ext cx="43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Baptized Into Our Savior’s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aptized Into Our Saviors Death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4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4:46Z</dcterms:modified>
  <cp:revision>33</cp:revision>
  <dc:subject/>
  <dc:title>Slide 1</dc:title>
</cp:coreProperties>
</file>