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E65-E397-4800-92D6-FC2FB429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FEB8-87DF-423F-99D5-B455BD04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AAA-855C-4707-B826-491EB98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1BF-C220-41AA-B71B-E46C2CA96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BFE-4541-447A-8A58-C3510AF9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CA39-FCB8-4115-9B7A-2A75C57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FAE-E926-4377-973C-D1FEA1C3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66FE-315E-4D79-A9BC-5E65F3E0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CEE8-C2F2-4B76-B420-597680FD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7769-EC42-42E7-BC8E-48AF3064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A6A8-8A88-4181-8B07-26F6D3CE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549-9574-47B4-8AC0-FD8B565E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0998-2460-488F-9E7F-D518AF50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EB31-3D67-4E9E-A915-8642ACF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D258-4632-4A52-B762-61AD0BB0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8B98-D74E-4AFF-AF60-F38D3E85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3BB5-9D98-4C45-8821-C3DDFC57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021-5398-42FC-863F-F9E0D49A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508CD-2F0D-4650-9C66-6795B261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0913E-F1D3-4C34-A8A8-BFC60EF9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8670-55C9-472D-8B29-F747CD4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9D-F259-43CE-9093-9A6545CE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5CF9E-1CEC-4E90-986F-52AAA6A3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A6C1A-31B1-4C1C-B6F7-A81D6080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0F64-49F7-4D61-94BA-DE6F1F78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97823-55E1-4E44-B2E4-B587D81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DE941-7981-471E-B3E5-18B898A5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E3707-7A41-42D0-A7A7-166F64B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55BAF-DFA2-45A7-B8B6-FDAD0531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80C69-396B-4E9A-ADDB-15999D4C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6E4C-D6D2-4671-BFE2-99873001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52D-B4A2-4D82-ADCA-E742895B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6A9-AD8C-4205-8376-52693DB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C00-B2E4-4572-B5E0-7F1C8723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8A28-526D-473B-9E2A-7F56AB2E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AC3-2440-4030-AF4E-687EA318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C9E8-E16D-450E-AC91-BC0C2413A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C03C-8F53-483A-A351-DEA61CC252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CAE-B408-4492-BFE1-A8FB48A3C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sed As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Joseph F. Knapp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Assuranc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Assuranc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Assuranc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1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Assuranc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Assuranc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Assuranc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Assuranc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Assuranc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0640" y="648828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Assuranc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Assuranc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Assuranc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53Z</dcterms:modified>
  <cp:revision>23</cp:revision>
  <dc:subject/>
  <dc:title>Slide 1</dc:title>
</cp:coreProperties>
</file>