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17EB-3628-45D9-9996-E55F665C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2538-2FF4-43AA-8ED9-66C2EC86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27C-EB02-496A-8AAA-B2B165C1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83E-6136-4BEA-A6B5-3770F94F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9B5B-F1B1-4956-B0DF-47CD6F05F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41A8-9374-46BA-807F-0B1AE66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12E-2C11-4552-B5AC-89FF03D9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221D-ACA0-437A-8A9B-142E61EF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F813-9815-4986-8B7C-77AC348D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B5DA-229A-46E5-94C1-C38A3E24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8CF6-6F74-49ED-BEFA-0546464C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222-655A-421C-A0E5-5BAF044A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0092-92DA-4106-9375-AE97846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F2D4-15C8-4416-973C-C12FBD4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5AA-D19B-4A39-B125-C9096C18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0878-3136-49DE-9AE9-AAF82AEE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9B29-105A-4F1C-91DD-A0FC65A2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155-C09E-4C47-A7C7-A7A8C31C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164D4-E7CF-4FA0-BAD3-51ABCF32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2020-1DB7-4F17-9A5F-3E783568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768C-76CB-40CA-8F87-98FEE94E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8C31-C761-4998-AB9D-21D4952DB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F0BC-CD61-49FA-9CA2-080ED1BD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B4D0-46CA-4286-81CE-FCE77263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46FE-9225-4B85-B8C0-50A3C846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4BEB-533E-4787-A81A-E80D9C2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5D2C-E273-44DB-97DC-D9EB17D5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06BFD-93CD-45D5-8F40-027DA4F5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F1319-43EC-48A3-AB0A-F63E1605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5FD5-CC20-4C2C-8483-CB80A84C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771C1-EF74-436C-8F8D-DDDCAA20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68A-13E8-4F38-9F6F-8BA0807C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021-E46A-4E77-945D-9941062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5C83-C3D2-42B4-8099-BCAD5F77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AD8-15BF-4F66-947B-876FFDA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189-E682-4578-BAD8-8718F378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EB89-1B68-4CE5-AE2B-A316E5BC7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C581-AA6D-42EA-AF10-599F8A1A8D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475F-1368-464B-83E0-FFD1E8635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ighten The Corner Where You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a Duley Ogdon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righten The Corner Where You A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0880" y="648828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ighten The Corn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righten The Corner Where You A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righten The Corner Where You A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righten The Corner Where You A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ighten The Corner Where You A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880" y="648828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ighten The Corn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ighten The Corner Where You A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ighten The Corner Where You A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ighten The Corner Where You A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ighten The Corner Where You A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880" y="6488280"/>
            <a:ext cx="477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ighten The Corner Where You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ighten The Corner Where You A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righten The Corner Where You A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righten The Corner Where You A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32Z</dcterms:modified>
  <cp:revision>31</cp:revision>
  <dc:subject/>
  <dc:title>Slide 1</dc:title>
</cp:coreProperties>
</file>