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1F4-B64F-4EBB-9967-74AC945B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03D-62FE-405B-8AC4-EB65BB06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DEC4-7FC1-4677-B3DD-A6E7B8AB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CD2-B905-494B-A5CB-C43382F3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A4A5-2463-4CF2-ADED-C0910065E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02D9-02D5-4075-B99D-43DEE560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4DC5-AEEC-4BBC-B8B9-0444DA2F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7867-DFB3-4F9E-B602-3DFAA47E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1052-4985-4978-8ECE-6CCC04B2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1DBD-7990-4822-B781-99D71984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4AD7-C733-4618-9B62-1FE63B7D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440-4BB4-4981-BEFF-9BC54E5C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5B1D-B171-4BDC-B807-CFB1DB93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272F-25E8-404B-8A9D-9DCE3452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AC33-D266-4DCD-8602-E38A6082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0BCE-0D78-450E-A866-165B141E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ADC9-FCFC-4962-902F-17362B29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6F27-9D0F-45F0-933F-EC8B6F96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0A724-C980-4829-B933-47323A39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1E497-6C01-40E0-8D3A-3BD7F9A7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1D0FC-2A23-4B0C-A1A4-8204F95A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344B-6DC3-40C9-8759-11D2D5EE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E369B-8F85-43DC-9F25-255E1343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03407-9C30-4000-87C0-E2C9746B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4D53B-91C5-444F-89D5-A051A488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2517D-BE46-49CD-9625-4599F62D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6C57D-C018-43D1-B74E-D19FF84C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4AA4C-7E59-45CE-A291-987D22B4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48D17-5240-4F7B-A53D-45C2241D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7FB20-73D3-4B62-BF46-21CF9B92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27B16-F022-4B1D-A482-7A7C660A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6A7-ED3D-4170-A058-BB3BFB8F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3BA-7298-4FB4-99CA-A99D37BF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1A13-515F-476A-91DF-57A10C62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0316-1AC8-4DCB-9718-C4F14E8F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AB01-EC10-43A2-B832-943B06D3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F2D5-F63C-44C8-B4A1-99FF8E4D4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F793-FC0F-46AE-BAAE-90144A94DB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7432-0830-4545-AD34-7659A24F5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lest Be The Tie That B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D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Fawcett (17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ans G. Naegeli (1832), Arr. by Lowell Mason (18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lest Be The Tie That Bind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5920" y="6488280"/>
            <a:ext cx="38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lest Be The Tie That B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lest Be The Tie That Bind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lest Be The Tie That Bind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15920" y="6488280"/>
            <a:ext cx="38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lest Be The Tie That B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lest Be The Tie That Bind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lest Be The Tie That Bind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5920" y="6488280"/>
            <a:ext cx="38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lest Be The Tie That B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lest Be The Tie That Bind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lest Be The Tie That Binds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5920" y="6488280"/>
            <a:ext cx="38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Blest Be The Tie That B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lest Be The Tie That Binds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2:31Z</dcterms:modified>
  <cp:revision>30</cp:revision>
  <dc:subject/>
  <dc:title>Slide 1</dc:title>
</cp:coreProperties>
</file>