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448-BE13-4664-9ACE-935D6F6F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629-F05D-4F53-B83E-90FE30E2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589-91DA-49C0-A551-F19B8397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6E80-069F-4AFC-B119-1E66BD434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731C-46F1-4139-8BBE-C0D8CBB2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427-4712-49FB-BFB6-428879E5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50A-FFC0-4B0D-8292-8D86800B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DC97-2B80-4676-80A5-25AF5F7C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104-8089-459A-A8C4-37A5FD1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A61-6A1D-4D6F-AD02-3F3D5C6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2886-917A-4591-8D67-3CB349D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3AD-2502-4E2F-9644-FC6BCE5E8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14CA-0D33-4540-BD07-22A4182D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7A1F-AE4C-41B5-9DA7-7C1121B2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0FDF-3663-483A-9FA1-8B1A1D87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EFD3-5446-438C-A4E0-C016A173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ED1F-B4F6-4D21-B329-8BA3F3EA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B3F-E0C3-48E6-8E21-C609BB60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5DDE-3C07-4098-BBE3-E4CB93E1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A540-DF93-4B74-A683-D6C2C58F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1D23-25CD-49E5-87F5-58D5B08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954-1C35-4AEE-9982-4943498E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01D1-582D-4217-BB68-4B175A6A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0071-A7FE-4A20-999E-896E3DC9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19DE-DCBA-4B33-8F61-81C8F1CC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88F8-3EFF-433B-904F-E7312C2A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AA4B-62BF-497C-8F32-5CA76038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B8E8-9D58-40CA-8A90-C2A480D8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C4411-9360-4BD2-9412-2DA15118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D9C0-46D2-48E0-ABBB-814C0A9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791F-449D-447E-AC2D-12CEC899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6159-9D6A-49C1-BBF6-10C0BBB5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873-8DDB-488E-9701-5188E9C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5E93-61E0-484B-88CE-226C04AE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E79-DC65-41AB-8897-C07BAD0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2EF-F49E-4DD6-B0DC-5D978FF4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EDEC8-3812-4663-9BD4-C8F45C0E7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8D789-EE5A-4FA2-997C-DF0CCB94B4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66FF3-93C6-450B-AD65-C61F4A2F9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Still, My So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FINLA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0.10.10.10.10.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  <a:ea typeface="Arial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89400"/>
          <a:ext cx="9234360" cy="148248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Lucida Sans"/>
                          <a:ea typeface="Arial"/>
                        </a:rPr>
                        <a:t>Katharina von Schlegel (1752), Tr. by Jane L. Borthwick (18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an Sibelius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 Still My So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5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Still My So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Still My So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Still My So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Still My So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 Still My So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 Still My So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 Still My So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Still, My S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 Still My So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05T16:38:24Z</dcterms:created>
  <dc:creator>Noel Chumbley</dc:creator>
  <dc:description/>
  <dc:language>en-US</dc:language>
  <cp:lastModifiedBy>Noel Chumbley</cp:lastModifiedBy>
  <dcterms:modified xsi:type="dcterms:W3CDTF">2023-06-23T18:53:02Z</dcterms:modified>
  <cp:revision>5</cp:revision>
  <dc:subject/>
  <dc:title>PowerPoint Presentation</dc:title>
</cp:coreProperties>
</file>