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54181-91A3-4A79-8065-C69E0BBF7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F55AF-4FA7-47EB-B769-B14C3F8B3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83E3B-386C-46EC-97E1-6BDBA6993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DF585-9BB5-48B6-85C7-9115A2172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C5D3A-AA40-4BE3-AFFC-BCB91C70C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E36A8-BA74-49CC-84AB-3086FD71E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B3511-E6A6-48F3-92CE-94798259C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46C29-1FBD-4D7D-A225-277506896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F53C3-5ACA-4BEB-83A3-DC87F5A40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00E1C-0666-4D80-B501-AA2826B23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57617-303E-4255-81E3-9124F1315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167E0-DC29-4DFF-B0D1-9F21241AA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698A5-9B3F-41AA-821C-44E9FBD29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5021E-A049-409A-A27F-F71527778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C2207-2B76-46EA-A5C9-AF5D0F71B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A29D4-FADC-4E12-8E91-4F5A65108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24F66-682D-44C3-98DD-DB5A7C6D2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25BAB-C080-4ACE-8BA6-A62BD53A5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B78530-F825-4561-948F-F0E6F3181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66BD3D-B405-471C-8808-0BE81D018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D8A804-D9F2-41C2-9E09-1A2FBB835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692A7-4A7B-4A48-903E-987840FEE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46B96C-5FF5-4EDC-BA34-97EB93F10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E61B96-0A8C-4AA9-8007-1803AB843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2DD20D-2063-4CE6-A22E-457B5EFE2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14F122-6BAD-443F-A303-82F834E47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B6636C-3E41-410F-B53F-A1796E121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309CE2-2FEA-413C-A35B-DE184C274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375D2B-8254-4DF2-A427-97BF9710E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CBF10E-DC49-4013-96F9-6638597A6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2D4EB2-1097-44E9-AF41-6D9FAD8D4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854EB-A954-479B-95A8-C42881888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B0547-3709-41F0-9EE4-4797EB5C9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EA07D-81C2-4CC1-A142-19529F26E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ED805-C3CC-4F96-8D19-65186B343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B63DE-7CAB-4A1F-AF8F-D2C4ED3EC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9CD79-FC77-45F0-BD06-02BD606A7D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DCF27-5090-402B-B8C6-2B90BDD2A04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9E094-77A7-473F-B7FB-FF11B62DAF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Beautifu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12/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D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D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 -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B. E. Warren (191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B. E. Warren (191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4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Beautiful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Beautiful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Beautiful_v2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Beautiful_v20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Beautiful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5"/>
          <p:cNvSpPr/>
          <p:nvPr/>
        </p:nvSpPr>
        <p:spPr>
          <a:xfrm>
            <a:off x="55080" y="6488280"/>
            <a:ext cx="187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Beautif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Beautiful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Beautiful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Beautiful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2" descr="Beautiful_v3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2" descr="Beautiful_v30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3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204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Beautiful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55080" y="6488280"/>
            <a:ext cx="187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Beautif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Beautiful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Beautiful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Beautiful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Beautiful_v1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Beautiful_v10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Beautiful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55080" y="6488280"/>
            <a:ext cx="187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Beautif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Beautiful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3T18:51:49Z</dcterms:modified>
  <cp:revision>33</cp:revision>
  <dc:subject/>
  <dc:title>Slide 1</dc:title>
</cp:coreProperties>
</file>