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C848-036D-40EB-AB85-39D602821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295B-B36C-4C57-B94B-09E419FD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16CC-5214-4EA3-9C07-B2897E544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DFBD-A96A-4331-B5D1-9C6901DF3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A125-8846-4054-825B-8AE6996BD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3F18-9FCA-4059-878B-45E41C69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D070-489E-4DAD-B78A-55D0AEA0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22B0-E18A-49F5-8EC9-90B1CFAA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6A713-5BE8-40B8-8E48-B077AFB8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60A2-BCE8-43AC-8914-D9341129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49C67-1497-4CC0-8EC1-FC2380AD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622A-BAC4-4B60-916E-6F8DB6CC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83BB-BC2B-4881-BBB1-F1C746F0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1113-201B-4285-9E44-156F6E45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7F9E-47F1-4EBB-A5EC-8279C127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1D72-9F33-4BCE-815B-D5DB2EDC7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2C67-F94A-489C-9A37-94924EB46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9143-675A-4D38-AEF6-B3A300B3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BB8A2-8602-4C6F-B0BA-4BB4CC420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4B606-694C-4B3D-BBA9-90EF8415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CA5F4-4CA0-4174-8221-897BC734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448E-0489-44F4-9E9E-298ADBAF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B9873-5480-41D1-BF6A-AFD01743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C2ED5-3958-46F4-A3EC-A4E74F6E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C8A6C-E0C9-4FDF-9C72-430C80BE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9D79D-30F2-4214-92A2-6CDF7C84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D0EEA-73CA-4796-A7B0-905BBE53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BC853-A227-4A59-BD09-B52C0735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D97FB-E14B-426A-ACA4-89946C67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331B6-AFBF-454C-A2AC-D243ACEAD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267E7-0815-4FB7-949A-A542B136E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97F3-B29B-4765-A19F-EE2273C4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4543-2F7D-435F-82B9-48A59E8F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99E2-EB9E-4FA0-B7A0-E7AD60C8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9BB0-6EAC-4A71-93E6-F75B7F62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5653-79AF-4018-B3D3-E538BA75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DF52-14C9-4BD8-A2BB-CA6491597A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FA60-FB42-43C0-9FFB-617B6E75EB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A6E1-9F76-4971-AF14-6EDB136BED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Be Thou My V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S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10.10.10.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F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66212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8th cent. hymn (750); tr. by Mary Elizabeth Byrne (1905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lt. Eleanor Hull (19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Irish Folk Melo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92160" y="648828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 ~ Be Thou My 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92160" y="648828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Be Thou My 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92160" y="648828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Be Thou My 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92160" y="648828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Be Thou My 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92160" y="648828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Be Thou My 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8:53:38Z</dcterms:modified>
  <cp:revision>35</cp:revision>
  <dc:subject/>
  <dc:title>Slide 1</dc:title>
</cp:coreProperties>
</file>