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7F59-70F1-4E03-9524-E47A07ED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46D6-9E59-43A4-A788-7161D1AA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1FC4-6BAC-4025-B039-2EB4EFFD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29E3-090B-489E-ADDA-5C127035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9166-7DA2-4125-9087-459AFEB7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2814-5C1F-4AC9-8649-49EA4AD8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874D-E283-47DC-9421-DBA3D630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C104-44EF-464A-B7E5-8B2C6D4C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8FA2-7CAF-47F6-8B4A-2ABE03B5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4F00-BB3B-4FD4-A829-47E364A9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3A34-1BC7-48EC-A9C0-A8F59C1C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6764-C4F2-49D0-8D60-D0F186FA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DD96-23D2-4038-83DE-CB3CA447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ABEA-68D7-4FD8-8A83-C93D1FF1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4AF2-765F-4914-8CC4-B2F3211B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6CE0-774D-43E6-871C-170F828B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0B17-B4A4-420C-A53F-C5E1B66B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9E51-7508-4B8D-AD07-919519C1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AD37D-A354-4EEC-AE01-1C2450DF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1A2C7-DA17-4E22-93EB-3D98F365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1D8AA-0F0E-4AC9-8510-0A223303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0B5B-156C-48A4-8EA8-19219FEF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19536-F265-4A7F-83F6-64FD8FDA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5C292-6F1D-420D-AF57-B99C8219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ECB2C-EA6E-4467-9712-E68C573B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3608C-1578-4EEB-B37F-5DFF1AF4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3CD8C-9932-4117-AE84-A6DD19E3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ED86E-BAE1-4451-8907-B8AA33E7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87112-C1B3-4403-BD57-606242A5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5A91F-5D3A-42A0-B0AB-D74F35DA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810B8-B7CA-486C-B15A-93222D73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F1FD-70D1-45C5-87E4-4DC211A4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429A-29DC-4773-858F-89383C57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3306-A1A6-438E-BF6B-8352CC3E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55DB-4277-48AE-BE5D-C5054D65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BED-2610-40F0-93F8-3F87CC54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F891-5183-4CF1-B9FE-4BB54A0DC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3DF9-A246-4585-B2DB-151D4D5606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E98F-E397-4744-823C-D0A4BCB45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eulah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: Edgar Page Stites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R. Sweney (187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Beulah Lan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eulah Land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59040" y="648828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eulah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eulah Land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Beulah Land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Beulah Land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Beulah Land_v4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eulah Lan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59040" y="648828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eulah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eulah Lan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eulah Lan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eulah Lan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eulah Land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eulah Lan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59040" y="6488280"/>
            <a:ext cx="224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eulah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eulah Lan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eulah Lan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8:08Z</dcterms:modified>
  <cp:revision>38</cp:revision>
  <dc:subject/>
  <dc:title>Slide 1</dc:title>
</cp:coreProperties>
</file>