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51F-D65D-447D-8372-B69401D5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01B-69BD-4C82-9E28-2A686098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7F6-0EC0-4824-B8BC-16709CA9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9CF-1C94-40B0-9ABE-A79DDCC8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62C5-0A52-4DCB-B51B-58DD73F1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A46-8ADF-43AE-BEDE-AECB1AD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8772-7584-44F2-919A-F8BA8B6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4BC0-155B-478E-8915-8ADB1C5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CAFB-3CD9-4A53-9B87-92AC6661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1258-2C35-4AFC-98A7-AB64A1F3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96B68-00E0-468D-9839-BB7C3F06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114C-F3BE-4E63-9654-07E83BA6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92CE-31EF-4AAA-81E1-AF99B095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D7D8-3776-4EA5-8B6C-998432C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DE04-D206-4F65-BD9B-46000145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27FC-1633-4A98-A966-B44AE01D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A92B-4A1C-4DA2-8F1A-820C0F10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73E0A-5695-4BF2-9E94-FF77069D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E0501-164A-4A0E-85E8-DE5E9E4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2ED8-B6E2-4A82-80B2-59D2F411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4818-9D21-49BA-9457-BCE1040B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B9E2E-3E2A-4DC7-95F4-12975D0A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42D-05A5-4BAA-B637-0D8D6144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6433B-12E8-43C6-9B67-11214C36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C996-1C2E-4460-876E-2A0B961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3E8C-17B0-4D63-9616-09F07183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5906-7836-454C-808A-96364831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87F60-1707-40E8-BFA0-0F2EE453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8B5C-1503-4AA0-AF87-BD5F73A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E2F6E-2D2B-4D04-9891-0523DBD2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630-8FEA-416F-8995-F3C36FB0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BD8-4687-4B97-AF72-7D5C172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E88-2131-4E5D-A6C7-644479E3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7101-CDDA-4EC2-9FAA-E691DD6B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F65-0E62-4D8D-A4C9-3ED7D02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668-CB90-49BA-88AC-5D5FAD13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BED7-FCAB-4A7B-8E75-01B971BFF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EECA-700E-42F6-AB91-B002B9E65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3F93-95D6-4A6F-A180-6202BB64F6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Still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5000" y="4902120"/>
            <a:ext cx="131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A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, Based On Psalm 46:10, Exodus 15: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Still and Kno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440" y="648828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Still and Kno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Still and Kno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1440" y="651024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Still and Kno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Be Still and Kno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91440" y="651024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Still And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Be Still and Kno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3:55Z</dcterms:modified>
  <cp:revision>19</cp:revision>
  <dc:subject/>
  <dc:title>Slide 1</dc:title>
</cp:coreProperties>
</file>