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89F3-436E-4F4C-93A4-3D8B8A31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47A-A0AB-4309-B2B1-6855AB74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242-F05E-4911-AA0F-F472208C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074-573A-4301-992E-56B1A664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2A77-0B02-4303-B62F-591F912F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CB4E-FCA3-4962-81C2-082D474E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F8E6-795E-4D81-B76F-9124E1C0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5EFF-5508-4BAD-81DD-7D04C344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D050-1B78-420B-9BAA-55C0B0D5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7CF1-C171-4C73-9BD1-27191BF5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03E8-5B36-4E08-A577-EEBF7B4E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380-FB07-4474-B27B-5909EE78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CF6B-6623-4841-8E85-16037B19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328D-5EB2-4019-A287-1EBC349E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7AA7-B941-4630-A69E-0A7CD759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4126-A97F-4D82-95A6-61582057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D618-0D4D-4C14-BB8F-C97F9D3E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02D-0996-41B7-9F40-B61AB5DC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019A3-50A8-4BCA-8BEC-09E089BB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E7E0F-4E77-4311-A494-FC48CCD3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6CC63-866F-4389-977A-E6FC9B5A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C10D-FB72-4676-B43E-2FEA7E37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7901E-8DD3-4568-B44A-DDB4CD92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EB550-C0BE-4B2B-8539-E038C7CC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19FBE-C898-49BA-9E8D-4967CC13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CB5C-8C60-4523-9BB3-84B26A57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580FE-FDAC-4F93-AD27-59494C12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C086-7A61-46CD-8E69-2C743266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EAA8E-B710-460C-BABB-71B75E6D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8F023-3C30-42BD-B29C-A301D186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05EA0-E0D9-40A8-81BE-B0DDD561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E75-D0F7-4BE7-AC0E-AC46EA12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2081-DC57-4ECA-AD4E-1BB89D49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DAD-7DF1-47D5-9365-8EB0A26C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FC8-CF42-4341-845E-4992F656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04D-3AFA-4792-9901-84040E9B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7033-DE9D-4359-920A-4DBE1EA41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12D7-DDE0-4C07-9126-C62C519036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CB63-D26D-4F4E-9AED-EB2203F97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reak Thou The Bread Of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READ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4.6.4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Annie S. Hawks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Lowry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reak Thou The Bread Of Lif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160" y="6488280"/>
            <a:ext cx="40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reak Thou The Bread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reak Thou The Bread Of Lif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reak Thou The Bread Of Lif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0160" y="6488280"/>
            <a:ext cx="40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reak Thou The Bread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reak Thou The Bread Of Lif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reak Thou The Bread Of Lif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0160" y="6488280"/>
            <a:ext cx="40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reak Thou The Bread Of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reak Thou The Bread Of Lif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6:49Z</dcterms:modified>
  <cp:revision>35</cp:revision>
  <dc:subject/>
  <dc:title>Slide 1</dc:title>
</cp:coreProperties>
</file>