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03E-DE1A-4909-9497-1AF2018CB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263-AB60-4952-9E0C-0540707E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039-E8B3-4083-AB22-DC452AFF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84D2-2D29-40AA-8A04-AA5F44B6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6A39-65B8-4940-B2DF-B9EC7D61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5226-C1B3-41CD-83F6-0F0FE130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A79E-3922-40A7-88E7-052813FF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3C73-74E1-4BC4-8929-6790C8EB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6E9A-ACA1-4C83-BCEF-4986489A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A992-034F-4646-A260-0CDE03D7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C922-261B-4F16-ADD7-F29DA596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D810-9BEF-4394-AE1A-97166C99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D785-F11B-467C-BE20-4FBB5F85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F6D1-57AF-4B00-9133-E49A5598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3F70-BCA8-4F12-B88E-E63EBF85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9A70-A307-4851-84C0-52576650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7418-36C3-4806-BF4E-A2261789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9537-DBE7-42CB-AC9C-499EC876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ACA-F994-4E0E-8D0E-D4678DD2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ED2A-6676-4482-962A-4F0DDA51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64D-E93A-4A54-A21D-8D17CD24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696-A2A0-432A-BC68-1BC10B83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987-808E-44A2-AD01-511363D4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44F-CEBA-4FBC-9042-2C4FA888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331F-B80F-42CC-A237-8D0670ABB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2195-A984-4A16-A9E6-1A9692DE6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Battle Hymn Of The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ine Eyes Have Seen The Gl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3368520"/>
          <a:ext cx="9234360" cy="1484640"/>
        </p:xfrm>
        <a:graphic>
          <a:graphicData uri="http://schemas.openxmlformats.org/drawingml/2006/table">
            <a:tbl>
              <a:tblPr/>
              <a:tblGrid>
                <a:gridCol w="914400"/>
                <a:gridCol w="8319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ulia Ward Howe (186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merican Folk Melody (c.18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Battle Hymn Of The Republic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attle Hymn Of The Republic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Battle Hymn Of The Republic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114480" y="6488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Battle Hymn Of The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attle Hymn Of The Republic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Battle Hymn Of The Republic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attle Hymn Of The Republic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Battle Hymn Of The Republic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57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Battle Hymn Of The Republic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4480" y="6488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Battle Hymn Of The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attle Hymn Of The Republic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Battle Hymn Of The Republic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ttle Hymn Of The Republic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Battle Hymn Of The Republic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attle Hymn Of The Republic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14480" y="6488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Battle Hymn Of The Re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Battle Hymn Of The Republic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Battle Hymn Of The Republic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3T18:55:04Z</dcterms:modified>
  <cp:revision>32</cp:revision>
  <dc:subject/>
  <dc:title>Slide 1</dc:title>
</cp:coreProperties>
</file>