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C4A2-CF04-49CC-975E-5197C5D2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EB01-F0A0-4092-A4D9-10C1B807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74FD-CB0F-46AD-AC56-C3862EFC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54A-1B81-40D2-9A2B-793104EE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1D2F-C001-4C3E-BFBC-013A6FD5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ED5A-8700-4858-972A-D1CEED6B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AC0E-D1C6-45DC-8BA6-21707701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1A9B-6A78-4F52-BC08-D768E215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E016-E4DF-406C-BA9A-52753BFD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E2FE-F2FD-4056-B3D9-C0FE74C2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2C37-EF82-4FA7-9EFF-C87B90E1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C0D-B633-4427-A0E4-B980FBA9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11F2-984F-4C3B-985E-370A62B2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146E-A844-4FC4-B7EF-B9E767CF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21DB-115C-4A8C-ABCE-B5A294A8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7C88-3ABC-487C-AB4B-855DBB89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6372-CBAE-4320-B0A5-5E453691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CF3D-7AD2-4598-811A-6B15A95B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D0105-76E1-429A-B9D8-95D92B88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AC8C8-E723-427F-A37D-244F873F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AB22B-0D5F-497F-B980-E1ACB629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3DBA-1EB9-4900-8948-1013EF3D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977E4-4568-4F5B-AE42-DC470B67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6BC7A-3DC0-4130-92D9-255D50EC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4A3D9-FD2E-445D-9664-06CFB808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06BC2-2E73-4BBF-8481-667CB825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EA066-8350-4908-9AAE-D5DBB4C5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8C52F-DFDB-47F2-B6C0-91B95D8E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C3FDA-0ED5-4738-B4DF-AACCDAC1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CF091-D020-46F3-A2E5-F84509F5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CE1EF-1DDD-410F-8D8B-C97A0A22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626B-FACA-46F3-AF8D-F6210A19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2B45-0F52-45C2-840B-F2A84D8F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F1D-4185-4289-9861-B32DEB78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969-DF1A-49EB-82DE-BC9012DC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728-428B-405F-8CCD-B0D11B74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24C6-249B-4D4C-8D94-F49956690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E4B8-E65C-485C-9D3D-1EFC8BEC6F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29F4-233B-4B3B-A1CB-B8C2B065F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lessed Be The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BLESSED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8 w/ 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Wesley (17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onymous, Arr. by Ralph E. Hudson (188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lessed Be The Name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5600" y="6488280"/>
            <a:ext cx="32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lessed Be Th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lessed Be The Name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lessed Be The Name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lessed Be The Name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Blessed Be The Name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5600" y="6488280"/>
            <a:ext cx="32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Blessed Be Th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Blessed Be The Name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Blessed Be The Name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Blessed Be The Name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lessed Be The Na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5600" y="6488280"/>
            <a:ext cx="32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lessed Be Th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lessed Be The Na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lessed Be The Na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lessed Be The Na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lessed Be The Na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5600" y="6488280"/>
            <a:ext cx="32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lessed Be Th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lessed Be The Na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lessed Be The Na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lessed Be The Na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7:22Z</dcterms:modified>
  <cp:revision>23</cp:revision>
  <dc:subject/>
  <dc:title>Slide 1</dc:title>
</cp:coreProperties>
</file>