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A7EC-913B-44FC-97EE-5E121911F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C5A9-32C5-4FC0-A5D2-9DDEE1F0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87AF-4992-4DB6-B8C5-05A30A150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E0B1-88AA-40FC-935E-B24B48173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05FD-8983-4109-9C7C-9C849DFF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6813-7A22-495B-90EE-94125701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09DA-5226-499B-A4C8-8F984838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0A02-187A-439C-BC21-9BF3ECF2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2353-F7AA-4417-87D4-AD361F22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08B1-68C4-425D-9DD0-54156DA2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EE7A-D4BE-4881-A213-B6B3BC86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4A8E-875E-4B75-91A5-3904E2CF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8615-01BE-411C-80A9-03AD85C0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0646-4BC1-443A-AED6-026E6C5A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8B39-A3C6-4B3A-88E9-F4018BF3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464F-2A96-4D09-AA3C-8AFD7E58A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1517-D8A2-44FD-9891-F5E218A03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5DDE-72F9-4828-89C2-38C9A377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3C56D-E777-44E8-B389-B9446B6C5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A2CA0-5478-4E78-95EE-C516A52A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B0FD0-B1A2-4B86-8147-55D9C5D2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45DF-D594-4688-B93D-403F5A0C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37275-D1FF-4927-B3AE-1E42632A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42EF1-9914-42B6-A848-5380D7D0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2F901-5AF0-4DD9-9805-46E438B5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F7225-6CAE-40D6-8C3C-D635BB5D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C1D23-773B-4A5D-AAC4-2987648D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847A4-E5F2-4006-AEE8-A243804B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39BBB-F1FD-4979-B66B-F9BA41B5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5774D-5C3D-4FFB-A9AD-F8E674381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972A7-60E2-42E2-B930-C488D1C4B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9A1B-85A3-427F-90EE-10D9467A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81AD-F59F-42FB-BF37-A49A58DC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6DD0-041D-41CE-A029-AD70D8D4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0918-A7A9-45A9-9FD7-332C55A8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A4F8-F1B1-48B2-9A62-31239CB6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7926-B36F-47E1-9345-02C570DE23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276C-33E3-4DA7-9BEF-40C92AD534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CE78-94DC-48F5-93D7-DC1CE36E3C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Bring Them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Hark! ‘Tis The Shepherd’s Vo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lexcenah Thomas (188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A. Ogden (188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Bring Them In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67680" y="648828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Bring Them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Bring Them In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Bring Them In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Bring Them In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0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1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Bring Them In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7680" y="648828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Bring Them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ring Them In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Bring Them In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Bring Them In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Bring Them In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67680" y="648828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Bring Them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Bring Them In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Bring Them In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Bring Them In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8:56:18Z</dcterms:modified>
  <cp:revision>31</cp:revision>
  <dc:subject/>
  <dc:title>Slide 1</dc:title>
</cp:coreProperties>
</file>