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0E22-6746-481A-A4A5-8277BAE7F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F145-6BD9-413F-B5B9-2716FE623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5CDD-6D8A-4918-8C8D-EDB5A433B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3FDE-C633-4F5E-B474-1F33B520D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0B5BF-5E9F-4B51-A419-D40DAB131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34D9D-B05B-41DF-9E5D-5F2513FBB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0CA50-E766-41CD-A784-AAC6892F5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ECBD5-41C8-4F4C-B923-83E2A20D0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65E0C-29A4-473F-9656-E44A242B8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EB6B2-02BB-4F0E-884F-28F62B45C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E5C87-5834-45B8-BB54-FF7D6C88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52AC-0482-43CD-BE59-A9A5DCE63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1FE5E-1A9A-4363-9975-A9D87020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980B8-E045-4134-B886-DB3F2F78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01A5D-B206-43B3-9C41-18779ECC8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DCAFC-6EEE-4CBE-9917-2B584397C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4F0CE-5B4D-4B4B-83C6-40C0231CA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C546-F38B-42AE-96A2-43623A50F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577E2-58E4-48A9-BFA4-F1B5C1B80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17F21-552D-45A7-895F-608F9B523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0DF4B-9DDF-4E8C-94B5-D4832128D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FF46-0750-4550-9E1B-AA56FBDCF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065DB-B376-438D-A5C3-C66999C48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B6699-DBE4-431B-B03A-C8416B7E4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0A6B4-0930-4053-AF6E-3F7FBD1BA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27160-15ED-4251-A2EE-EFBDB869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61B3C-0089-4DAD-AC3A-E9602E49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33D65-38A6-46C1-8F53-28EE7316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2AEC2-A8A6-4B25-897E-23B771295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E1138-75C5-43BF-8D31-3C549B85F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CB4FB-261A-463C-9092-0A06B0E81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B64E-3300-4D1A-BB96-5CF028C96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8E1F-0895-4325-AE7B-62A10ACA8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C6EC-3933-40EC-8090-8D7F363F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AF0A-EE4F-46BC-89E6-7F94AEC5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B4EF-11E0-4AC7-AABA-A0CF5A0F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61AEB-4555-4F20-B613-C5A802FA2C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C7DD3-136A-45B7-B433-766AE1EE13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A60A2-A2C7-4EAE-B996-678E96CBF1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By Christ Redeem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TROYTE’S CH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8.8.8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G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eorge Rawson (185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. H. Troyte’s (186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5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By Christ Redeeme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1720" y="6488280"/>
            <a:ext cx="30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By Christ Redee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By Christ Redeeme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By Christ Redeeme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81720" y="6488280"/>
            <a:ext cx="30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By Christ Redee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By Christ Redeeme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By Christ Redeemed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81720" y="6488280"/>
            <a:ext cx="30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By Christ Redee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By Christ Redeemed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8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79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3T18:58:44Z</dcterms:modified>
  <cp:revision>21</cp:revision>
  <dc:subject/>
  <dc:title>Slide 1</dc:title>
</cp:coreProperties>
</file>