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4BE5-90CE-4708-9270-657FEE0D8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528-0FBE-4CF0-8CD5-255E9FF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841-EAB8-4AF6-8761-BC62E92C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59E-1710-4F79-863B-967A543F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6275-BABC-4F13-9DDD-3BE8E028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4D81-B8F6-4915-BEFA-5CF1B407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C62-03B6-4927-AB80-752C707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DD72-070F-4599-ABF4-D618B783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D03E-0DC2-4549-A6BE-3CA2DC8F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B08D-9C85-48C8-9EA0-E0D15C9C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1638-70EF-4D3E-BC14-D4498720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98D3-C6BE-4E50-AFDC-066C89C7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02C0-0FE2-4804-B4B7-AD3A2373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F488-28AA-4BC8-A5E7-8008EF02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17A3-A917-4E93-A704-E8AB2DED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7C69-FC91-48FB-9FF0-0AE3E692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8F0B-1E4F-4C9F-AEF1-98FFCA94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EA4-7AAD-426D-A44E-F5BE348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998A-7E6C-4EBE-A67C-F1F4002B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B282-1568-4F17-8310-D11AE5E4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E6BA-DD36-46E7-BDF1-39F36C7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593-A431-4960-9119-BF711EBF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DE9AF-72E1-4DCB-A731-10350D9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1550-45E6-4B6E-A5A4-70927E84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AC88F-080C-44FE-A6CF-C9E9FFBE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AA43-B18F-45ED-A005-27CCCC0E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7BCD-B685-4D81-AE37-4A013FD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898E-A55F-4415-BDB9-070C0907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42919-CC73-4BF6-83CF-6425BE31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D438F-7622-45D7-A764-61084295C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B736-5F88-4868-96EC-54AECEC5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859-CFFB-450D-90A6-BFB8F42B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35E-EF9C-422F-AD34-477BE67C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9CB-AA34-4B15-B241-5159028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F48-44AD-4B99-A10D-D0F6BFC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CFA-7F2D-4037-99AF-3B269FE7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8BDE-1FDB-4BDA-A9E8-2A3BEF4A5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C654-3BBE-4122-BF2D-3A2D75D9F4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1554-ACDE-4E5B-9284-0ACEED312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autiful Isle of Some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C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7080"/>
          <a:ext cx="9234360" cy="14828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ssie B. Pound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S. Fearis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Beautiful Isle Of Somewher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Beautiful Isle Of Somewher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Beautiful Isle Of Somewher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Beautiful Isle Of Somewher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autiful Isle Of Somew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autiful Isle Of Somew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autiful Isle Of Somew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autiful Isle Of Somew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autiful Isle Of Somew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autiful Isle of Som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autiful Isle Of Somew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584520" y="648828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erdon = re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eautiful Isle Of Somew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eautiful Isle Of Somew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2:11Z</dcterms:modified>
  <cp:revision>33</cp:revision>
  <dc:subject/>
  <dc:title>Slide 1</dc:title>
</cp:coreProperties>
</file>