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1427-22D0-4668-B2CE-3A6F82EB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BBC-9EC1-4475-820B-F375B48E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5B0-5A6E-418C-AFC6-4327C6B6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315-DA96-4039-9449-7E255E0C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FD7-1F47-42D7-8500-264A415B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60A0-67FA-4344-87CA-3C0CE751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6878-CD6F-4F03-B644-25D9025A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B4D8-F5C4-48D4-8217-43078ECA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1493-F73B-40A4-BDB6-AAA75128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5149-D534-4A96-A36B-D9DE9063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3CE7-A518-4D62-AFD5-9E2CB10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BE8-D7D0-4AD0-B875-A0AB5047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2EDB-168C-4B54-A4D5-6522614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20FA-6806-414C-980E-5141F91B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41DF-5EAC-418F-9CC7-D521259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C76E-2509-4F12-91E2-3A608E69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1A02-359D-4CAE-9001-01CBFC0E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E3B-AD92-4D8A-AD99-0996A3A7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19DA-866C-464B-A436-082C4587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39539-8BF5-4C0D-9F43-FD087468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2A41-428A-4865-9942-79BA71EC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EEB-11A0-4214-BD0C-379AD750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5E9C-B5AF-4FDA-83E1-98D0D72B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105D-5CEA-420C-8642-698E3660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5526B-0250-4A20-887B-39355115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7FA7-5879-43C0-B4B9-CA8B296B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58B5-88C6-40BC-B9B6-350EF605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A0413-F88E-469A-9BE1-C105667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97C6E-3ECB-4EC7-890A-C2DC8E7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1578-C03A-4995-ADEB-E749163C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3A6D-9B1D-4221-9079-CBF9EB5F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3A7-A5B5-4F51-9AE6-70AF4F2A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839-027A-4648-AF59-14737810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5AA-2719-41EC-A4D2-F7AFED9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7E2-6381-40B6-9DE0-0FD77C12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991-93E8-46BC-BE7E-570B8957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958C-79FB-44AF-94AE-670BE79E0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794-DD97-4C00-B3A7-B8FB60A0D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6B86-0033-4C4D-A1BA-737956DD4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neath The Cross Of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CHRISTOPHER</a:t>
            </a:r>
            <a:br>
              <a:rPr sz="2400"/>
            </a:b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8.6.8.6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C. Clephane (c. 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rick C. Maker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neath The Cross Of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3760" y="64882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neath The Cros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neath The Cross Of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neath The Cross Of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neath The Cross Of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neath The Cross Of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3760" y="64882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neath The Cros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neath The Cross Of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neath The Cross Of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neath The Cross Of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neath The Cross Of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3760" y="648828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neath The Cross Of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neath The Cross Of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neath The Cross Of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neath The Cross Of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9:06Z</dcterms:modified>
  <cp:revision>29</cp:revision>
  <dc:subject/>
  <dc:title>Slide 1</dc:title>
</cp:coreProperties>
</file>