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557-3C8F-42DB-B4CD-C39D0A57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A8D-16CC-47A7-9A38-0E9F30CF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18A-87D5-4B89-83DF-36ED7910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2EF-1664-4010-9478-C51C7FEE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6EAE-226D-4575-9474-A14AEF81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5273-364C-435B-9537-EF6C510A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D6FD-55EE-488F-A1B2-BA859395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ED73-41BE-438C-A4BE-F69EE598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F7AB-A20E-40B6-B3A3-CE6C9AF8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47B9-ED96-4CFB-9A39-0A5C2827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7BC1-C577-487F-AB5A-B3878BD8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995-431B-4F7B-86C1-15CD66B0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814B-1BCB-487A-B867-955C4511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1DF0-155C-4E0E-AB72-FFB95004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373F-6447-411A-8717-86E03887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92C6-692E-499F-9C34-E5D151ED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1DAA-E4ED-4D22-87E7-040AF836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36DA-44C0-46F1-AA67-FB78C3C0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0B93-087A-4C61-A794-5D51AED5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E2FB-7B22-49C1-B573-C9B44AE4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79809-A58E-4A87-B830-78FD9185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24A5-5514-4E27-A500-2B39F711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3164-CF61-48D1-980C-4657EAB8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6A6C-0794-478E-8B0B-806BA6FC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D879-C4B6-41DC-8819-9ED1A49B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7944-6EE2-4A55-95BA-404960CB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3D67-5F5D-4C7A-A9BD-4C98C2F2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1D6FE-5F19-47A6-90A6-89FF08F7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C693-C265-443C-B3A1-CF45918B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C4C8A-13FD-4098-88EF-9463075B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8886-E025-4AD3-BEDA-BF898B26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519-9D9E-4D9B-857E-10422285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A61-E708-4AE4-8722-50551527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312-5BF2-4E15-BE8C-E82176D3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23A-EB7E-433F-9F5D-2B389462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2069-1019-439F-B1B4-6FD06CE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D18C-F473-4E0E-8890-EF7612BAD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A12A-EC2F-48AF-BD71-85E7649745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64AD-00F4-4050-A1AB-AF0D96042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  <a:ea typeface="Arial"/>
              </a:rPr>
              <a:t>Blessed Are They That Do His Command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C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Trickett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Fillmore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lessed Are They That Do His Commandment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58760" y="648828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lessed Are They That Do His Command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lessed Are They That Do His Commandment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lessed Are They That Do His Commandment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lessed Are They That Do His Commandment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lessed Are They That Do His Commandment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8760" y="648828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lessed Are They That Do His Command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lessed Are They That Do His Commandment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lessed Are They That Do His Commandment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lessed Are They That Do His Commandment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lessed Are They That Do His Commandment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8760" y="6488280"/>
            <a:ext cx="58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lessed Are They That Do His Command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lessed Are They That Do His Commandment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lessed Are They That Do His Commandment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lessed Are They That Do His Commandment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7:39Z</dcterms:modified>
  <cp:revision>33</cp:revision>
  <dc:subject/>
  <dc:title>Slide 1</dc:title>
</cp:coreProperties>
</file>