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7A5-9D57-4002-BA88-6B82C304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440-38C3-4DAA-9D83-A61127E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954-48EF-486E-BC6E-C1E8BF16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D63-31D8-463F-B01A-3BA2122A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DF43-CBF4-4326-81EF-66C45496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2069-6169-4E4C-AB35-C68F000B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B068-855A-4BF5-8F16-42285BD4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8C3B-A26B-4ACF-BEE5-EDB0922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C2BF-9F17-421A-AC45-1B712D13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7AE-E597-4A41-BE8C-0BA65D87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4F85-8D97-437C-A239-9695ECF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644-7A93-4D5A-8C47-7E75F770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7111-989F-4A7A-88BB-2C3AEE2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8D0A-36FC-4C0D-B4BB-D7500D2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0B10-C5F8-4ACE-A6A2-5BC53F65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C5C8-04D7-4A39-8414-AB72BA0F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C996-23F6-4D65-85B9-D95D1471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32F-0479-4927-938A-E2751EE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17F8-72B9-4780-BB4B-1F3288E8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AE91-5181-4E93-A412-38E8B914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E2FD-8B4A-45E7-A19F-954E0F1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114-1435-4522-9191-C73D04F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62B4-3176-4CB0-AE71-D2ADCA5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9E1B-3D7B-4578-8BCC-A3CDD794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CE02-BAD3-4581-9362-9018384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530F-3A88-4AED-9B2E-1CC6924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65C6-B16F-4A6C-A0B1-D07D86B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367F-F193-4CB4-A2E7-A0EC264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03A5-6F71-4725-9F33-695555B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3E60-CD0D-443B-839B-B1E25020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2F33-49C6-417D-8C65-6F28B843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E36-167D-44C7-813E-4DFE83A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76A-4547-4D3B-B3F2-7CBCC5CC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CDD-6F5C-404A-8427-3A9B0E54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68E-CE6A-4DCD-B524-49CE7B0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246-BCE0-4D8E-8AE6-34A0D81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C9EB-214D-4132-8867-019CA8A82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B93B-4E1F-4915-9C0F-D5EC58CFD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E12-FB6C-4D68-AC92-5706A748B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To Jesu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R. Latta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Ten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To Jesus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To Jesus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To Jesus To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To Jesus To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To Jesus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To Jesus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To Jesus To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To Jesus To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To Jesus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To Jesus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To Jesus To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To Jesus To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56Z</dcterms:modified>
  <cp:revision>30</cp:revision>
  <dc:subject/>
  <dc:title>Slide 1</dc:title>
</cp:coreProperties>
</file>