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952-D79C-4840-98BA-04998F62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F87-D18F-4C88-B1EA-8703BAB3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41C-6092-4025-922D-7F3E4446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338-5272-4BC6-8F75-89C60751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9AD-9B2E-41D6-9FB5-01C16913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22D-61A3-427D-B665-80871492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E29C-1334-443B-B3B9-D8B6F981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0F2A-364F-4533-A019-538BC2BE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1338-D662-49A9-8EA6-5907B45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01A3-57D8-4A45-895E-C770BA6D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E23D-EB8C-42E1-A096-B2C430E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BC1-3494-47DC-AFAC-D38905E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5191-D929-42A2-9156-0204844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E18C-5426-4CAF-A419-7B84899D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52C-54BD-4BF0-81EF-3B9EE0DE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81F9-B1BE-4895-890F-B1A71E8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E486-EBE6-4CF4-8D80-D77BF782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2AF-AA47-4F7A-9E69-933514B1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15DE-C8CF-4DEB-80BC-8B720603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AE27-90AC-4ABD-9345-DFDEECF5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2618-67BA-4135-AF54-86B8E5D9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E37-6E93-4494-ACB9-86824706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F92E-CEE3-4068-9831-4DC6C0E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2671-E095-41E1-A5B4-0E80473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1FF4-5D58-439F-BA1A-C9884D5F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86F4-E075-4BF4-9CCE-EA5397FF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9D9B-B045-48FE-AF95-EEF467F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073F-3394-4F24-AAB1-6B5E4D8A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1D51-F1A5-4277-A8A0-F20048EC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78DD-F2E0-4D18-92B7-5CEFA817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59FB9-C15D-46AA-813E-99854A5B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3D4-5413-4D57-9235-937578B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AEF-42B6-455B-A35F-6A3CB76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6AC-A9F1-47A5-B462-8F63E14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3BD-1E11-43BD-9A37-D44997FD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E18-6E3F-4AAD-8F74-234A004F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85D-52BE-492A-870B-8BF82C0AD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AAA-A517-435C-AEB0-D58A5C9CB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E6DD-33EE-4296-AFDD-7E15B1270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Christian, Join To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D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ian Henry Bateman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 Spanish Hymn”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Christians Join To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Christians Join To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Christians Join To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Christians Join To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Christians Join To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Christians Join To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15Z</dcterms:modified>
  <cp:revision>29</cp:revision>
  <dc:subject/>
  <dc:title>Slide 1</dc:title>
</cp:coreProperties>
</file>