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146-AC8A-4EE0-9170-B89830FA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883-6B54-43B5-90E7-B0DACD00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DD8-8F2A-4218-A0FE-060CA8B6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11A-5339-46B0-8C55-0DE0C1BA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7E86-675B-479C-B876-71EDEECB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1ACF-AC24-41DF-AE1C-A890A3F1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D8FA-562B-459F-AC83-5F97B870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288A-D718-4FF2-9DC9-CF6FB287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040A-683B-4B87-A3A5-06C4B298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E304-9511-4697-86ED-F82ABB11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70D0-892F-4C98-A72C-42EED6D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510-EE41-4459-9664-7C488B28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7804-25A3-419A-9D53-844F3131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5F0E-1221-45B0-BE95-FB06B9DF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F4E9-C267-4D31-9BD5-B63FD03E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3B13-FE64-4CAD-A5CE-13AFF512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9F20-4433-4A9D-9434-7837DC7B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941-23B0-4D7E-A0BC-B19DF9CB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6E9A-F10E-4A0D-B0B5-E82D6901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2D9A-2465-49EE-97CD-2D24A428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9D4E-0B08-41B9-93EA-7E7BF42B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294-CAB7-4E65-BA0C-2E7D8171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E3C27-C53D-40E2-8B19-0C6BF89B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D8DC-BABC-450E-A5DE-4FE8E7C4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ECFF-7C20-4109-ABE5-5848DAF6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C584F-5E91-4A16-A263-329DC4AF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366A-7E46-41C9-A983-229871E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2645-2EF0-437D-874F-86AB0C97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F2D0-0CC4-4F25-9D68-6C8D981B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ACA1-FC9D-4EE8-9D31-69F9F85F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85A2-9E5F-4289-8F5B-ABE2AAB5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05A-1B58-4A30-9DF6-1FBE14DC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F20-B3D4-41CB-BA11-3E09992D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C17-350B-40B4-ACCD-95E88898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043-F100-4089-B663-BB8BD2DD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666-D072-4ED2-A8D5-5CDF7DCA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6D6B-9FC1-4673-94A7-C8B913875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8D87-9916-420E-8C09-0DA9714343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88BA-0922-4015-9378-251F3D6C4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 Un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P. Jone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P. Jone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Unto 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76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 Un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Unto 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Unto 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Unto M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Unto Me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Unto Me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876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 Un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21Z</dcterms:modified>
  <cp:revision>34</cp:revision>
  <dc:subject/>
  <dc:title>Slide 1</dc:title>
</cp:coreProperties>
</file>