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F38-BE29-4ABC-AC6F-5B11D2AD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530-2085-4FF1-8CA4-411C9D7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365-B2B8-422D-B2EF-BA03E4D0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E12-20AB-434B-A410-0D1DF3D5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B07F-F231-412D-B003-3930DC88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C58E-9165-4F7A-B4D2-627D84F2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7773-1F17-4F6E-B0EA-3DB4AD79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90D6-2F30-4EE1-BD56-01884FC6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F336-0D22-41E0-A8CC-CBA54195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814F-D7BA-4DE8-86E7-30F68BFE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1D16-19FD-4BBE-8440-23D607F2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E5F-77E7-49E6-A875-4B4ED86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B78-5882-461E-829F-7B37401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D14-2314-4727-9043-4E42D7F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788A-5E93-450C-AEB5-9BB0447C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EF6-DD68-4A4C-900F-7A0FB8F9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4313-96B8-4FB5-A3DA-E250AEAF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07B-FB9B-4A93-A155-36FFBC8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22AF-43E5-42E1-A831-0688BD32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E075-DF35-4248-B014-BDEC2752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FAA3-A37E-46D3-8620-56A6E0E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B2E-3B49-4086-9B6B-EA6B69F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F369-2D30-4AE1-B215-B5E45C06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51C0-FA37-4277-9DAD-B1E489A6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9A14-C56D-4CEA-B044-D1B448F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117A-9AEC-4A69-826B-4598C7D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5A3E-666C-495C-BBD1-5524F96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2688-6395-4891-882E-63C9AAB5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8BEF-C792-49E0-8108-AC635C3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5770-993F-4765-93AF-3A2AF4C3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5F1C-7A71-4EEB-A159-5D460EFD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C4F-7177-4A26-AB46-2E0B78A5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369-676A-4B82-B5D3-0A23F03F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53F-EB0A-4B92-B20E-3E8BFBD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5EB-7B23-42C8-8934-A75812A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41F-0F8F-4DE7-89F5-F9CB398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8BA9-BE9E-4BBA-B396-1709AA47B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CA67-445D-45D5-AA79-C05C07AF8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DC52-4B92-46F3-89E1-97A5B8409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rown Him With Many C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tthew Bridges (1851), vs. 2 Godfrey Trhing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rown Him With Many Crowns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rown Him With Many Crown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rown Him With Many Crown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rown Him With Many Crown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rown Him With Many Crowns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rown Him With Many Crown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rown Him With Many Crown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rown Him With Many Crown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rown Him With Many Crown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rown Him With Many Crown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rown Him With Many Crown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rown Him With Many Crown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rown Him With Many Crown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rown Him With Many Crown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rown Him With Many Crown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rown Him With Many Crown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50Z</dcterms:modified>
  <cp:revision>21</cp:revision>
  <dc:subject/>
  <dc:title>Slide 1</dc:title>
</cp:coreProperties>
</file>