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E81-4020-4D02-BB32-4FDA8B47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BCC-53B8-43C8-9FCA-9DBFBD65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9E4-29B6-4311-A873-A4362DBF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D42-FAF5-4B9A-A119-E10232E6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F7FB-EFB2-4CD0-BFFC-2109AEFF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7812-8CE4-4D00-ACFA-C94A9B1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05E3-C313-4DC5-B47F-599FF8CD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425-BCB7-4343-877F-2386BAAB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CD84-55A1-4261-9C59-3CAAE972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FC74-AE87-4FF8-8D40-ADD9DA1B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2E77-611F-4F0A-9E13-AA0CC1D5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38D-719C-45E9-93E0-A216C1B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C9FA-0D66-426C-A84C-70D0921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E206-8BFB-47B6-86D9-1298437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4375-96ED-4A18-A939-6849049D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398-0CB8-49FF-A423-B52A2691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DD69-F916-4FBE-B0A9-1F20C696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C6E-9A1E-4853-AD50-A46D5D2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8FE7-42E1-4B84-9661-84D79D01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71AA-133A-41D1-A85D-EA035BE0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DA89-2166-46A6-AFF2-A98FCC6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125-1633-419D-B4E6-D5CDAFBE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33D5-F5EA-4AD3-A789-7D2B2FF3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EFDF-6175-4256-88C1-447AC153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0A88-37DD-4ECA-8E87-173B5B04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C615-61D6-4730-9BE5-CE62577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E329-6ABD-4258-8F2C-74299AB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F74E-7AEF-4B0D-B86C-C6F4689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98A1-A4DE-4F55-9156-47F05619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5469-288F-4EB1-B89F-989A2AB9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DEE1-9261-4BFA-9BD6-B8C6CDA4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FD2-7B64-46DE-BE0B-F89FC74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5EF-999C-4D4A-BE6D-1542C078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6EE-2622-412A-948B-C0627172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119-96FF-4505-97D2-631B3A9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BDE-AD75-43DB-BC15-F6942AD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5B26-6DE6-4558-AD4A-6D9D60B6B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412A-714F-4422-A6CD-8FF391DDD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4A6-9C84-4461-8133-2AA93A8B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ild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ttie E. Buell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Sumn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ild Of The K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ild Of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ild Of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ild Of The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ild Of The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ild Of The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ild Of The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ild Of The K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01Z</dcterms:modified>
  <cp:revision>32</cp:revision>
  <dc:subject/>
  <dc:title>Slide 1</dc:title>
</cp:coreProperties>
</file>