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324-618A-4F0E-A3A6-230EE7E1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3D0-C989-412A-850F-DCFADAFA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B41-12E0-47D6-8097-D4C6EAE3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E77-FC45-45D5-92CA-BE04A00A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7855-169D-4495-A128-0B771A25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9807-EF74-4D46-BEEC-4B3EA568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6936-9BAF-4388-A03B-AFD2542E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3575-1069-42BD-AFF2-BFA88B9C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204-1732-462E-A96C-D963ED05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AB1C-E690-490A-BBAA-9EF4F10A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6B5A-353E-444B-A3CE-4229FD6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85B-631C-49C0-8480-3CE65597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F742-1690-42C2-8DBC-31D6C1A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4CC3-0A2D-49A3-BB19-001A7F4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C63E-CC7E-42B2-9451-608158B0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1C8-474D-44DC-80F6-57DC6D87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8A41-35D9-47A1-9025-F6570030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6F6-4649-4120-8299-24FA91E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7C1D-C224-4FC7-8867-EF83132F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69AD-51FE-496E-8D14-A8DF3014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36E6-C25B-41CF-BFA1-49713FE1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1BD-F6EF-43FE-82A1-8CF93048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AC1E-8CBC-496B-8712-679E29AE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872D-BFDA-4A91-8A70-220F8251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C7EE-D119-42A1-A51B-FE2C248B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5306-0FCE-4F72-8224-235FA1EE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4F68-8E73-452D-9714-9E83DBC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652E-6EF6-4D75-B7FE-62EF02B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CC21-E324-45CA-9D04-C774C51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17CE-D371-46A2-831A-93C2FE63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63A9-5820-4FE3-B8D9-ADE5B7C0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974-35AB-4470-A312-998D8E5D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499-1EED-4FEA-B451-3B455688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051-CEEA-4848-8C42-621786E6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50E-B45D-429D-97B3-793FB2A8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A76-49FD-4AC3-9C9D-5EA223E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6CD2-D205-4C57-A74E-56F57ADE6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3F63-9561-46C2-8E00-5822D1072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F71A-0695-424E-813B-5485F0874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lose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ilas J. Vai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lose To Thee.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lose To Thee.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lose To Thee.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lose To Thee.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lose To Thee.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lose To Thee.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lose To Thee.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lose To Thee.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lose To Thee.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lose To Thee.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lose To Thee.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lose To Thee.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42Z</dcterms:modified>
  <cp:revision>27</cp:revision>
  <dc:subject/>
  <dc:title>Slide 1</dc:title>
</cp:coreProperties>
</file>