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279-5ADB-42B9-962A-91311E16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2E1-AA25-439E-B72A-6B4CB901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2BB-67A9-4F0B-96EE-5A8FA8E0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AC3-284F-4CA9-A8FA-15ACA89C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CD5D-63A6-4C36-8A6C-2F59BC7D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C4B5-CDE8-4AD5-985B-39F47BCA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65D8-8B20-4937-8F5A-4DAAD697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74E-DD3A-4E63-A99A-6950C97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60B0-411A-4662-9034-1802E06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A666-4459-4957-AE99-2632C88B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082-DC09-4183-AE4B-564F6B5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9BC-B964-44F5-A6A7-F82C627B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0DAF-ED7F-412C-8DC5-0E42EB70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A0D0-DF36-4873-9CB6-803E040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DEEE-41D1-416D-BA02-85FB21E1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E9BC-D36B-4828-83CE-036D89F7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F870-B49A-48EB-AEA1-06556C9B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CEE-2740-4485-B31C-8239A878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5507-4FD2-4369-850C-3CFE20D4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8D72-28CA-42D4-9C82-D9190C34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9315-1CB4-4227-9C8E-F307DC1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9EC-4ACE-4B1F-8B41-DD71D792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64A1-89F8-411E-B69C-CF40DD45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56E4-2C1C-4608-912A-442579AB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09BD-5BF4-47C3-9D6A-07AAB662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E0C8-D5C8-4A34-BCF1-DE1055C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C38C-5BE0-4AAA-B5A8-222F90D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3E91-EE65-460C-BA08-67A79A53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4155-3A34-439C-B67E-99BFA641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3108-E0B2-4036-8D58-0D235FF8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408D-A1B2-4F57-ABA1-E97DDE00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935-D097-4B1C-A6A9-8E37CBC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F3D-2528-460B-9163-BD881F4D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24A-558F-4F8D-BDF3-AC332CE6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0CA-9482-4CFC-9B8C-B536B539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739-1762-4B92-99CF-C1535EA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E48B-18D3-4116-AFC4-D30EEF961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F71-9D8D-4103-AC49-2619A30B7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47B9-E442-4113-88DD-D666FFB96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an You Count The St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ERNENZ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8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ann Hey (1837), Tr. by Elmer L. Jorgeneon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rman Folk Tune (c. 15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an You Count The Star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an You Count The Star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an You Count The Star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an You Count The Star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an You Count The Sta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an You Count The Sta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an You Count The Sta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n You Count The Star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an You Count The Sta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an You Count The Sta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an You Count The Sta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an You Count The Star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13Z</dcterms:modified>
  <cp:revision>32</cp:revision>
  <dc:subject/>
  <dc:title>Slide 1</dc:title>
</cp:coreProperties>
</file>