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E5D-9E0C-4D6F-B972-91A9C169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AE5-236F-4495-A7AF-7875FBB0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494-E22B-44C0-8169-0EA7D817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934-2416-480D-9355-5A158D64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971C-6EC7-45AD-A890-90605124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5F2F-52F8-4027-98BB-1A726E83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5B93-7C73-491B-B94A-73A93CE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64E0-9D86-414D-84FF-91C559B4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6921-C733-4D42-858C-8F86F301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01E3-35E3-484C-B7CA-975565CC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BA0B-6A16-4D28-A3AD-61E5F415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38A-1BA7-450F-A1F8-632FD308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C2D6-544E-4E0E-967F-887D018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674E-5BC2-4166-9CAA-9A37FF91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A796-51E6-4950-A7AD-AE6AB8D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B4AD-4EB8-4C3A-97A1-0D88C069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E11D-E82A-4290-AC9A-3139DF5B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90A-0E33-4FDB-A623-4233EB31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3921-5505-4540-ACF7-5060FD12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7612-F4E6-455E-A9EA-08397D71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4817-D6ED-41AA-A5B6-48FCE3C4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B00-53B3-4928-9D29-2E2E336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7112-0D6D-4936-B3ED-054910C2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6954-C326-44BB-A343-EF8DF1D0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4093-D107-4BFC-9EDA-ABF2B9E9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273F-03F3-44E3-9190-6AA23F2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58E0-C709-4982-970C-6FDCFBF3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594C-D017-4E0F-8BCF-81E1D5E1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0925-6C00-4CA1-9E52-78B0DF86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A3B9-60C9-4F65-B23D-0D126679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7472-A772-4991-A71F-B11C9494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2CF-2C86-4B17-A11B-97BCFA88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3EE-B2EE-48C9-87FB-F87CDA97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DC0-FA7F-4A9F-9FAD-0DEFE2B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D63-2187-4D41-86B4-B917522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461-E162-416C-BBD8-C2E689F5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97C0-9FA7-4A13-8DC3-C7C6AEF9A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C321-E079-4D91-9D5C-7FF018C42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1438-9F81-4558-B98A-7CE933D66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Receiveth Sinful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Sinners Jesus Will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from Neumaster (1718), Tr. Emma F. Bevan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Receiveth Sinful Me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Receiveth Sinful Men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Receiveth Sinful Men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rist Receiveth Sinful Men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hrist Receiveth Sinful Men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rist Receiveth Sinful Men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Receiveth Sinful M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Receiveth Sinful M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Receiveth Sinful Me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Receiveth Sinful Me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Receiveth Sinful Men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Receiveth Sinful M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Receiveth Sinful M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Receiveth Sinful Me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39Z</dcterms:modified>
  <cp:revision>34</cp:revision>
  <dc:subject/>
  <dc:title>Slide 1</dc:title>
</cp:coreProperties>
</file>