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6FB-D4A2-420D-BEBE-9610A5EE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51D-8677-4121-8827-B6B3E33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570-7332-46EE-8D47-E598CA87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D0-D3FA-4079-AC20-56AF20A2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FC0-759C-4B1F-B261-1DCF9DBC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FB18-3ABC-4F6F-9A49-75FB5F0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5551-E4AB-4729-9BDE-CC17126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733-D7EB-4021-BD87-F517A2A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8014-154B-4360-A93C-EFA7F14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F164-A078-4796-953D-89531DB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7663-8495-4931-9EFD-0E69E9D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8B1-7A77-4811-B0BD-24F8C90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75A-65BC-44FE-9337-35EB67A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61FE-3009-4E01-949F-07F3041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2EFE-8034-46FD-BD62-55AC332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A4A5-466D-4917-8435-B01F0CB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CD4-5BD9-42F7-A634-53999457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555-5CAD-4CC0-85CD-D6BD13A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A965-CECA-4822-A7E7-5DD35FDD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09C5-B263-4047-B4E2-2EDA2B3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D2A3-96CE-4DD6-ABFF-F7927DB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601-020F-4DE5-A858-76DC2BFC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9287-CDB0-4365-A65F-EF1D8584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1D3C-11F1-4539-8A5B-A75F469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EF9A-4EFA-489F-BA03-B656641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226D-1E28-41DB-AB50-1C51907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94BE-243B-41A2-90D6-09E80DA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571D-3D5C-427D-A41C-806D3B8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52B8-D9B9-4DE4-BEFF-08B0F6A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0480-C652-4407-88C3-A3749512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EEC5-6E74-4616-AA0A-DD0A41E8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A4F-285B-434C-93F6-433728B4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EFE-0905-4835-959D-894604EE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BFC-80EE-4648-8EBC-7A890F3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806-0A64-49BF-A8DB-EE5B6F34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12F-C188-4AB4-8FED-C8A6FB2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AA00-5717-47F2-A4AA-BC0565F70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E2CC-89EF-4A52-A7FD-6E8831DC0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350-49E2-43AA-800F-A4989C8F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, We Do All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Bake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Dubois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We Do All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2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, We Do All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We Do All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We Do All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We Do All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30Z</dcterms:modified>
  <cp:revision>21</cp:revision>
  <dc:subject/>
  <dc:title>Slide 1</dc:title>
</cp:coreProperties>
</file>