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0C79-71CD-4B0D-93C7-14C8D39EA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CC30-4B7A-4507-9C2F-2809EFB0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D534-E7B4-4305-B15A-68D22E620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2F1F-1D91-41A3-A00F-BA50CA2A1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1F3C-22C6-45AA-839F-9105A29D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77E2-10B2-4018-8CE4-70D515C8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DBED-5748-4CFA-ADD1-6441E9C1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5AC5-D846-4879-B0E7-0128A73A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94DF-35D6-45E3-935E-84911610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3B29-A5BB-401D-B0AD-2F7849FA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2F7D-8844-438E-A627-9ABED625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AC8A-70F9-4F56-90E8-B15A1C6C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F02F-C175-42FD-BD80-01A8AB32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8A44-2528-44E4-930D-C608ACDF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73EF-E3F3-4896-8744-609EAB81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5294-41B8-4FF7-8836-55309DA81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7FE3-9B74-45ED-9D02-4CC84FEF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9282-AB49-48E4-BE61-0172536B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EC54A-1750-4439-92AE-CE3926AFD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534F4-0B03-4338-9A26-0EFAC148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871C4-3E9C-4296-8184-B55257D9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3CD7-A108-4DF9-A7F4-A975D65B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642D3-1945-4752-B3B8-B04DE9AA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93942-7708-4105-AB35-3C8BA9EF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58A5A-2527-42FA-9341-3810A62E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57941-9376-43EC-8D85-CCA484CF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51CE3-6A9B-4381-B658-A372EE0C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3BDBC-6EF7-4815-BF74-E40AE703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4FD10-6859-4513-9D2D-0F7893FC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BEE62-237E-47E9-AAF3-6F54A2B57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C7523-E5B9-49A6-AD1B-0A46C6B1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D26E-8A5D-47E1-9DDD-8B2D6A77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ECE7-8796-4053-AD3A-63E03FDC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7026-F6F0-4420-8CD4-CC8C3736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4599-86F3-41E0-BD70-593149CE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7052-DD9D-4C82-BD33-DB028392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CC1D-705A-4E32-9D49-71D605B1C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640C-62AD-4B57-8A7F-81D0185C67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6F7B-07C7-4846-8016-8E4C74E49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hrist Returne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D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. L. Turner (18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McGranahan (18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hrist Returneth_arr2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2440" y="6488280"/>
            <a:ext cx="26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hrist Return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hrist Returneth_arr2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hrist Returneth_arr2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hrist Returneth_arr2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Christ Returneth_arr2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82440" y="6488280"/>
            <a:ext cx="26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Christ Return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Christ Returneth_arr2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hrist Returneth_arr2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hrist Returneth_arr2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hrist Returneth_arr2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2440" y="6488280"/>
            <a:ext cx="26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hrist Return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hrist Returneth_arr2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hrist Returneth_arr2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hrist Returneth_arr2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hrist Returneth_arr2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2440" y="6488280"/>
            <a:ext cx="26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hrist Return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hrist Returneth_arr2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hrist Returneth_arr2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hrist Returneth_arr2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4:57Z</dcterms:modified>
  <cp:revision>30</cp:revision>
  <dc:subject/>
  <dc:title>Slide 1</dc:title>
</cp:coreProperties>
</file>