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77FB-4D97-4787-B203-94E4E942E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FCCA-34EE-42A8-8741-362174F6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EDD8-62D6-458F-8EDA-210F1412F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0201-CEB0-403D-9852-A17D6FA0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EDD8-F830-470B-AC77-8F6EA8756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88D7-56EF-43D0-8FAA-4EC68D94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2390-8885-469A-BA84-5F68CD2A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8059-35CF-47EF-BE53-E3555A30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E374-C2DF-43E1-9F7C-324A43A9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04B3-012D-49A7-B5DA-16D36D84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4796-9502-48AF-BEE1-57983375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FFF4-6C0C-4B31-829A-8590763B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2A77-59ED-4615-A381-3C46C2F5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7040-0581-4502-AFB6-C561EF8E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9001-B84C-4F06-9B91-76E852CA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6460-315E-4EE3-B2E3-0CE11162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C4AB-BA70-4427-949C-896E4F6C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89E1-45B8-460B-BE59-CC5556C2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78515-AD00-46B3-91A2-F4C500C2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E5332-692C-4A41-BE1D-0ADDCC2C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A113F-D5DB-4B1B-B5D5-9F2E3249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DAF7-F1E2-44CF-8155-19B6703A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275FE-007F-4B92-BB20-C1D27F94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EC148-9258-4515-8347-9CB41AB9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3EFAB-FA5D-4FA4-97BC-7A8C0ED1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52F9C-CDF8-48FC-9168-E697EB47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F3713-769D-4C8A-ABF5-2606ABEC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20591-DAC9-4EAF-812C-698A0705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0A534-8713-458C-A45F-D535A358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02916-6705-4AB6-831F-5E6D6C6D5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D51E9-8630-4AAC-B07E-5B3C285B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B649-83F9-4102-9BED-00D46E9E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7669-B2E0-4FE9-B17D-869AEB86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A414-9DB5-4C27-82D1-78F9905D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EF4A-25C1-4F96-A1C7-16DE5E6C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F0CD-807E-4219-9150-EC3C81BC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808F-CCD9-42B2-9356-73CD9C1FF2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5ADE-4E7E-43CF-97CB-D99E54D0FE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61D1-4273-4509-8440-26FE70210C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loser To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TAY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8.6.6.6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6160" y="4902120"/>
            <a:ext cx="1344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ustin Taylor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ustin Taylor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loser To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0800" y="6488280"/>
            <a:ext cx="24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loser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loser To Th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loser To Th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00800" y="6488280"/>
            <a:ext cx="24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loser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loser To Th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loser To The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0800" y="6488280"/>
            <a:ext cx="24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loser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loser To The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2:41Z</dcterms:modified>
  <cp:revision>28</cp:revision>
  <dc:subject/>
  <dc:title>Slide 1</dc:title>
</cp:coreProperties>
</file>