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A044-4EF3-4FC1-BCFB-213BF776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E91E-913A-4BCE-BAD7-DBB8A125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6FFC-661D-48CA-AA1D-4FD56253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0BD3-9185-46CF-A9B5-3F1F9209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B9AA-56F4-42D7-ACD1-7B5BF901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FBDF-C873-42D0-BB39-19DA1482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D943-37E7-482E-AFE2-50D36782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B539-665D-45FE-A364-80B620EC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9AE2-9DBE-421C-9B55-8C5C77DB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A57B-B06E-40E8-8696-40919608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AFBC-4C0E-4D10-9D80-E8523B41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102C-DF3E-4693-941F-466E97DE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340B-074D-4EE9-9595-979222D9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FBAD-FA42-47CA-A451-60353307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8ADE-DED4-4500-8262-6D4B64D3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C123-940D-432E-A2DE-7BA20B73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788B-D2BE-4292-87D2-BD659B5F8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4C6A-58ED-4ADC-BE5B-1C00D4E8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71AE4-A740-44C1-B45A-75B3B0EC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A6A54-499E-4DCB-B003-C7D5A9E7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FC2E0-220B-461E-9117-714E7FB5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CBFC-F5CE-4AC3-9946-E790BBCD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DCD85-A0A5-4CDC-979C-74D9E6C1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96E31-DA37-4491-AD5F-3B1C2969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8362B-2DB3-44C5-9331-D01D0D87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E381F-0DE6-4A02-A3F4-9374AD69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4FC5A-30D1-48C8-8E64-0AEFB562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9386B-71AA-426A-8892-6A0AF96A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B85D3-394E-4B37-B387-ED57E6EC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6DB54-601C-4495-838C-D902CD6B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BC7D7-4A45-4638-B1BE-9AC56062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79A8-7EAA-4D16-B96C-217D3F5B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EEC0-8EBA-43CA-9196-9887B058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C0B8-58CC-4BBB-BE9E-BC92746C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4B08-A486-41AF-B875-F31AD15A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1264-C9D0-4364-8763-47260B2F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E81D-1C70-483A-9CC0-CAD8F0ACF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A53D-E935-4534-BCFF-098B78BEC0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E6CF-AC2A-4EF9-A30B-036545D0D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ome, Sinner, 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While Jesus Whispers To Yo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E. Witter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. R. Palmer (18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9720" y="64882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ome, Sinner,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ome Sinner Come_v5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ome Sinner Come_v5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ome Sinner Come_v5o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9720" y="64882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ome, Sinner,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ome Sinner Co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ome Sinner Co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ome Sinner Co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ome Sinner Co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9720" y="64882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ome, Sinner,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ome Sinner Co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ome Sinner Co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ome Sinner Co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5:57Z</dcterms:modified>
  <cp:revision>35</cp:revision>
  <dc:subject/>
  <dc:title>Slide 1</dc:title>
</cp:coreProperties>
</file>