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2B60-CEA5-4A99-8E4A-83DD45D8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BF4C-038E-4354-9C53-E1456178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819E-2496-4AFE-8655-ED9B91E7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2028-A3D7-49E8-8BBF-006864E02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601C-6D24-41D6-B7AA-208E9DA5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D16F-5F7D-493B-A914-7F2F855B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5E59-14C1-4DDB-AE52-22ACC0F9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91B9-F4A4-41D4-8018-81A94CA8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4614-FE3F-4366-A7A6-9CCB5EAD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0272-2BAD-4C00-A9FB-8F2965F2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E851-646F-46E5-ABE0-627EE9F8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9AEB-BF00-43CA-9AB8-7C91B55D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70AC-A9B4-4C20-86FC-3E9CC1BC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2A35-DEBC-4D41-BB5C-C842DB05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3B72-AA8A-463F-A8F3-326EFE1B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923A-B16A-4DB2-897A-641151CA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22EA-F518-44A3-A974-E0CBD5A81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94F6-1A67-4385-93C5-00C897FB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9E1F2-1C82-4F07-A2A9-E0EAFFEA1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32D2F-865E-40E6-8641-CDE831F8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F2180-90B1-4E49-8223-DD799060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9D1E-03BF-454C-B8C1-6177AEE3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09094-D46A-4C95-951F-006A0294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DC9AF-FF84-4B37-B2EE-25DD0339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B2E79-517E-44D4-AD52-EDB950BE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59C80-BAF7-4FD8-B6AD-F2FECC06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E5357-9F34-49C0-9629-2AB15771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F60B5-475D-4956-BAD1-79E3D786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DF80E-E500-4BDB-9454-EF18DB3C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CAC17-5004-4F8E-843F-06D7CD1EA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A1986-FEBC-49C0-BA14-9B273A1A7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904E-5CEC-472D-B7A9-FE1EDBD0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4953-BECD-4E8B-BFC9-F8698CEB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D606-6D33-4C14-8C4C-773C53DE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C94F-EAC1-40B8-B978-B9681804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111D-CAB1-46F8-A6AE-382B990A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2B53-2A51-414D-8A8F-1C0FC4AD09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4E8B-7F4D-4C16-98F4-83416EF9ED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AAA0-B917-4729-8A43-5B8BF84A2E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hrist Liveth In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aniel W. White (18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McGranahan (191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6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8920" y="6488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hrist Liveth In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hrist Liveth In Me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hrist Liveth In Me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hrist Liveth In Me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hrist Liveth In 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8920" y="6488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hrist Liveth In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hrist Liveth In 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hrist Liveth In 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hrist Liveth In 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hrist Liveth In 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8920" y="6488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hrist Liveth In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hrist Liveth In 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hrist Liveth In 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hrist Liveth In 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4:20Z</dcterms:modified>
  <cp:revision>31</cp:revision>
  <dc:subject/>
  <dc:title>Slide 1</dc:title>
</cp:coreProperties>
</file>