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452-E02E-4153-8966-771BE41B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DE3-5722-490D-844B-FC33D8BD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F78-FAD2-47FF-8E71-EB5930AB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54F-7DE7-4B29-B047-FD63B2B3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B130-DB13-4104-9193-27C5BE3C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6DB8-FCA1-4610-843E-427E873A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680-4138-4156-B68F-14F9AD6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83EF-3A8C-4250-9408-A9A3040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13CA-AFF4-4784-8D47-FA8681AB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D24-B7FC-4D9D-804B-90EC5EE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960-5E73-447C-91B6-02A868A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608-A71A-4460-ADAB-5B8EF80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74B4-63CA-4C99-9248-527E87A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182-C155-4D00-8B10-32E04963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0AC9-6402-4EE9-8EE1-08A2004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11F-8212-4AF4-AA92-B1121622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6E9-2D8B-4AA2-9E7E-37A16051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ECA-3885-4FE3-9FCA-8B731E57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EA3A-03A2-4C13-85E7-50623685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D5BC-BEFB-4938-A2F7-AD4060E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90C2-7A6F-4475-8A33-08AF222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2CD-E958-44FE-9BF5-A02A5425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823A-915B-4864-8478-C89B023C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23D1-354B-40D2-9313-87C7D2AC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EDAC-0B60-42D2-B2CB-5DC65427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A3DF-8C4E-4049-BD01-B6641AA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5076-C128-4FB2-A568-60BE269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E774-BFE9-4CB4-AB63-70D95A2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CBEE-2989-4DF4-82D5-84F3C89F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7723-8E9C-4B83-AE4F-36452AF6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ADCA-FF91-4523-9659-6A3F78A1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541-F0A3-4F89-A69E-7638545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C2C-4212-46E1-81D7-95B94FD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6F0-3BFC-4BB9-834A-B1A6610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012-704A-4B4D-AA54-D6AEF58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DCF-01FC-43A9-84DE-E1D41115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C8E9-40D6-4161-B472-C60C01D89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AB95-531F-400E-840F-517B32FF4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B2DA-2B46-479A-8875-E405B7B3B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Ye Thankful People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GEORGE’S WIND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Alford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Ye Thankful People C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Ye Thankful People C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Ye Thankful People C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Ye Thankful People C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me Ye Thankful People Co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me Ye Thankful People Co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ome Ye Thankful People Co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me Ye Thankful People Co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Ye Thankful People C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Ye Thankful People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Ye Thankful People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Ye Thankful People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Ye Thankful People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Ye Thankful People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Ye Thankful People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Ye Thankful People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34Z</dcterms:modified>
  <cp:revision>33</cp:revision>
  <dc:subject/>
  <dc:title>Slide 1</dc:title>
</cp:coreProperties>
</file>