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3D12-0B1F-4BF0-9EEE-44813A5F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43FF-43D1-4854-9EC9-E4645E38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598B-4E04-40AD-B6FB-A96E63CB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1FDC-F0BF-4ECB-85E6-AA08774E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DC95-0AE7-4C86-88A8-B3F27D6B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61E4-663D-4E1B-9025-7B6E20CB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0711-E67B-407E-BF70-AD692A81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F42B-DBB7-4BC4-AF51-BF25D9D0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5AE9-F33C-4728-AD91-F02929FA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6525-A56F-4A8C-86C5-4B48A071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36E7-9552-47C0-B5A5-75D6D0BC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8EE1-16DC-4DCB-9724-7900ED21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B4B1-05B4-4CC5-B6C5-6F0D0BB0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04B5-B755-4470-B681-975265C0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319F-E4EA-44D7-B8A9-D2E027BB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2E73-81EB-460E-9660-6E0038D8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9CEA-713E-44F8-96AB-602A6E38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14A1-E839-4ADE-8362-ED440A26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68BAF-4EFE-47E6-A267-3E96FF72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E6906-7C31-4BC3-BE56-421352A5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9EAD8-7C78-4839-82B1-AA50E81E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0543-2E96-4897-8FA6-69D98873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C1F1E-A40E-409E-8D30-3A45184B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E9136-44CE-47F5-93A5-A7DDB580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C5650-5442-423C-8130-B4D2D2D3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72A3D-4DDE-45BF-B3BC-D6AEDCCE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7FE51-3B81-4068-AA7E-D9F18F7B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18FBD-7675-4861-ACAF-5D9B9FAB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C8F13-61CE-4733-B8D4-1E821D96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C5B9A-FA23-458A-A7C0-EE418DB0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18016-3AD9-48FB-B372-63C11122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8AE6-0E10-4F31-955B-3751BB57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0CB8-83E1-499F-BED2-08EE4B10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4C64-826C-48AD-B03D-9A0C6B61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6E11-C6F5-4B6B-A362-770D9F97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ECF1-B678-40B3-8CFF-79A3ADF0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88F3-5F56-4C64-A183-5D577B242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F922-9CE5-4B3C-B5CE-6177DE6ACD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2A2C-BC24-4065-849C-D316133A61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ount Your Bless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son Oatman, Jr. (18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dwin O. Excell (18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ount Your Blessing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ount Your Blessing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ount Your Blessing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ount Your Blessings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ount Your Blessings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ount Your Blessings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98280" y="648828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ount Your Bless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ount Your Blessings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ount Your Blessings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Count Your Blessings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ount Your Blessing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8280" y="648828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ount Your Bless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ount Your Blessings_v4o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ount Your Blessings_v4o4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ount Your Blessings_v4o4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ount Your Blessing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ount Your Blessing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ount Your Blessing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ount Your Blessings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ount Your Blessings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ount Your Blessings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ount Your Blessing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98280" y="648828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ount Your Bless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8:08Z</dcterms:modified>
  <cp:revision>29</cp:revision>
  <dc:subject/>
  <dc:title>Slide 1</dc:title>
</cp:coreProperties>
</file>