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090D-13C5-4095-8A5A-EB80B01A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B6B5-FF0F-4AF6-8E5B-23CB6B58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9A82-F467-4A38-BB2E-ADAD5F3A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E899-60C2-4658-ADA4-CA541CE2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583F-40CA-486C-84C7-F582EC0C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AE14-C703-4D5E-A079-97955566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86C3-E407-4747-B626-DB4B4A26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1E8C-BDC0-424C-B975-1EB7EE86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4A00-997E-4973-888B-FDFB0477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C6A2-285F-4584-B1EC-899E6DFC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6B7F-6EF9-45B9-B2A2-68D1FCEC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1B7A-0682-431E-85E7-42185808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C935-1E50-47CB-B9A6-63969CA1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5070-19B6-49E7-8886-B6313D5E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F12E-BA50-4C5D-A9FD-86157371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3C8A-DC51-47F7-AFA1-6C57A9A2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F0EE-9AD1-4C99-A44F-15FA42F7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6BAA-A9BD-4FCE-85A4-6A798CF1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EDB41-FC0D-4848-92B1-C1C29474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B24CD-BE34-42F6-9AF0-B96E1BA8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05483-7665-4917-B214-52F21A1F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9038-DE34-43BE-A92D-F0E3970B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CD307-55B6-47F0-BD7A-E28B30CE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35E42-794B-4709-BFD0-7E608868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65C14-4C74-4158-85FD-C683AE8B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01535-A932-4CCA-8E4D-947E6FD7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1D931-85ED-426C-8887-0C815501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43C78-752D-4C2A-A19F-121BBC0D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49AC5-C0F1-44DF-8757-DCE58BC4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A7DDB-0FF5-4720-824A-6999B363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A5FE0-C239-4187-83F3-4CCFA12F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102D-ADD7-4E82-9826-47217653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D149-38D9-4C95-ADD4-9E3DC750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6FB4-E1EC-4547-9C91-03DAC691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B24A-5CC1-45BF-A28B-6A073FF8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1D87-55B6-4F1C-B9E6-EAA0E129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4FF8-F4F8-4014-88B9-4E1E90A6A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10C1-7FC0-4F6B-9C0F-9FA4E4D835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7026-D864-4486-8F5A-D29CF0A32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hrist For The World We 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ITALIAN HY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6.4.6.6.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2280" y="490212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Wolcott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elice De Giardini (17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hrist For The World We S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hrist For The World We S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4840" y="6488280"/>
            <a:ext cx="40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hrist For The World We 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hrist For The World We S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hrist For The World We S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hrist For The World We S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14840" y="6488280"/>
            <a:ext cx="40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hrist For The World We 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hrist For The World We S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hrist For The World We S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hrist For The World We S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4840" y="6488280"/>
            <a:ext cx="40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hrist For The World We 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hrist For The World We S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3:19Z</dcterms:modified>
  <cp:revision>30</cp:revision>
  <dc:subject/>
  <dc:title>Slide 1</dc:title>
</cp:coreProperties>
</file>