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3D0-ACAF-4A03-BAC4-73AAF7A8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B86-E1AC-4AB7-BFAE-6E2E7CBF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C9F-CF55-4808-9E51-08BE1385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32B-FD60-42C7-8842-8CC237F3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5E04-196E-4EDB-BA1D-ABB0B13F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BB63-5D2F-4681-B7D2-07F41ADC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16B5-8B60-4677-BD74-7B3A923A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4414-5923-482E-85FF-9385775A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33A0-D688-41D5-AB9B-6874D6C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391C-49AC-4595-99B4-8E2879B4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43D-9C4A-42C8-B43C-7C7709BE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08F-AED7-49CC-9950-C9AAC75B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D513-A815-4C5E-9480-3B5EF233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ACDF-3A3D-4931-90F7-5D4BA9CA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F9FE-05F5-4FDB-9DEB-0E36A982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6C23-D6E5-4382-8EEA-F2814622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E06F-D9EC-494B-805F-482C6EC5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36E-CEA2-453F-88E5-9CDBAB6B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4AF8-8447-47DD-9C2A-C1D46EA9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8D7D-F87C-4B3F-8CC2-BDA726E6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B0C7-3D8C-479D-B765-8529870A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567-5EBD-4535-8940-B1AB8492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EE0F4-8042-4AB6-9698-CC233121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A9C1-91D9-4CB1-92FE-50025317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4018-5182-4588-BEA4-A9C09548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5F8F-9317-4FB0-A536-6CADD3C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6930-4F18-481E-86FB-428D073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A0F8-EF66-46B0-95FD-14FE54FB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E7BB-2014-4E4F-BB18-E8672DC3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09E1-5B3A-4AEF-9EE8-73DCF4F4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04E7-EE43-4158-B6E9-0F66786F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43F-EE79-4FB1-A9F1-2AAC9FB9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C90-C604-4F98-B9BB-052F75D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C73-5E26-4A48-830F-525D6D1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897-D804-4ECB-96CB-D338D9EF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341-85BE-46F6-8B61-3FFC583C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6AD-3C1D-4B1C-AD01-3C9AEDC7D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898B-9925-443B-A40D-003C09808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25CA-9F47-4770-8928-A40382C4A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The Lord Has Risen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4080" y="4902120"/>
            <a:ext cx="14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lsey (17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lsh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yra Davidica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7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Arnold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mplete Psalmodis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7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12Z</dcterms:modified>
  <cp:revision>32</cp:revision>
  <dc:subject/>
  <dc:title>Slide 1</dc:title>
</cp:coreProperties>
</file>