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2FC-02D5-48AE-B666-6D00A426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D23-69C7-45F6-95B6-7E703530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E16-4B4A-4CA4-A4E6-D10C6C32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536-BE16-4FC1-A1BB-FF0DAE9A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27C6-2C6E-49C9-B769-EC5D5292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10D2-51EC-4F57-A25F-2D030CDD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02FF-EA57-455A-A4FA-8FE91E67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8178-B876-4BAE-A9A9-465B5C99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2E40-AD2F-4D6F-A6F0-D5E8635D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D618-551F-4D06-9761-336EDA32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46F9-2FE6-4F48-B961-370F9FC6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D01-DC9C-40EC-A786-433AF27D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B61E-E502-439C-8D8F-DBF2B536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3368-9927-4A9A-992F-3EA57E34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FF4C-CC8B-4007-975C-88D34C39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9D97-BE94-4AF6-A7A3-7ECC2F19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8D9F-D58A-4B77-ABB6-0BD673CB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C78-49D5-4701-9EE5-D0041C03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16EE4-3A91-4D57-8A69-9BCB6C58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E931A-A5A2-4207-A074-45142036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626B2-5CA3-4FBC-8D04-464E1D4B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DCF-1B31-4500-A6A0-FEA8F504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E5CF-BC6A-4B39-BBF6-755E2B88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4B9B-A36A-45E9-96E3-B1E29286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43B87-91B0-40AC-BE71-864C20E2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0B98-CC61-4F86-B443-5B4B16BB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A4F77-A554-44FE-A454-D96C1614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1BBF3-BF1B-4899-8A2E-877E7917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64A19-803E-4412-ABFD-D4D419B0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0936F-0E81-4163-A862-DC023F6E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3394F-20B0-485D-95D6-09624B2E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D3B-2DDD-4436-8380-885D58F3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BE1-768D-4ED6-B176-CA8BE45D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5F4-23A1-4CE7-A549-3D2A45F3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468-9CB9-4762-99C9-0FBF4B85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E62-E5B0-49FA-814F-C1F53765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9CFD-EB7D-48A0-8733-F021FA589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AF5C-791A-41F8-9995-83FFBC0CD8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150B-FC6C-4433-B99A-D09F46577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o All In The Name Of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ustin Taylor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ustin Taylor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o All In the Name of the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8960" y="6488280"/>
            <a:ext cx="43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o All In The Name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o All In the Name of the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o All In the Name of the Lor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o All In the Name of the Lor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o All In the Name of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8960" y="6488280"/>
            <a:ext cx="43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o All In The Name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o All In the Name of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o All In the Name of the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o All In the Name of the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o All In the Name of the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8960" y="6488280"/>
            <a:ext cx="43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o All In The Name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o All In the Name of the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o All In the Name of the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o All In the Name of the Lo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8:40Z</dcterms:modified>
  <cp:revision>27</cp:revision>
  <dc:subject/>
  <dc:title>Slide 1</dc:title>
</cp:coreProperties>
</file>