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BD5-573A-4CAF-BB60-36E6D659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AEB-8403-411D-A62B-C633A2DE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DCD-1F4D-4945-BF89-E78D2DEE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2BB-8366-45AA-9C1F-DA24BF02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DBCC-5F49-4751-9A49-A2DFC63E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D416-142A-461B-8BDB-60A5EF7E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D471-508E-4C09-917F-4A3D55C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5230-9F2A-49EA-AFF9-FCECCA1C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7BC0-4A20-4334-AB4B-1D1ADD9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23A2-AEC2-4B26-9D5B-926D982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DE41-9BB1-4708-9432-330A4FA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A22-064A-4271-A23F-BDBBDC20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FE79-E8B1-48B6-A9AA-321C997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D550-1AC3-4042-A2A8-5367B55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EA9-0368-4646-AB61-D19D477F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5DCE-6F8D-42C7-B5BC-AFAB360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8BB-551C-4DA7-B415-2487671B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728-BBB1-42BA-B435-D1419E29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D14F-44C1-4567-A915-757B6F37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F32B-0C87-42F0-AF94-E1002CF2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1DC0-3FA0-48B5-A130-90AAA824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295-3F06-4760-A33E-7C21FB75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8CBA-ADD3-44C5-9B53-5A1DE635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4E83-4A26-46A1-AB6D-2C9D21FE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4F0C-1D1F-4B92-A930-A1E2E19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C403-C11D-4FA8-85B4-54036ED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B08A-6C6B-4057-8EC1-A170FB2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15BD-6D4D-441C-8C42-D77DBFB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EF69-911B-4AA6-883C-6BE4E1BC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0F8B-265D-4EE5-AD61-E63D9D68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96DD-0E08-41B2-BDD7-B0D3C73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990-FF9C-40F6-AA46-31CFEED0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FC0-3DBC-404F-842C-8A9712E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858-E3BF-42AA-8B50-708757D4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0DB-5660-4903-8AC8-AE2B228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802-0095-4B1E-82FA-98E403B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E26-32D2-47A6-AC10-2C8C066C2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DDC-33E2-427A-95B1-1F4C6E2CD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5FB-96CF-44A0-95FF-F126CAEC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x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D HUNDR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Ken (1673 &amp; 17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ourgeois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evan Psalte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5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 ~ Dox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8385120" y="0"/>
            <a:ext cx="75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21:13Z</dcterms:modified>
  <cp:revision>18</cp:revision>
  <dc:subject/>
  <dc:title>Slide 1</dc:title>
</cp:coreProperties>
</file>