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DC4-FD88-4AF0-A58D-44A6F311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984-C975-4665-8A26-340C4B6C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072-AEF5-4D5D-81B9-2CCA9998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CFA-CAD5-45E4-BF51-58D82C53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371A-17DD-4667-9002-45E00473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8630-2108-4FAD-A532-2237AED8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1078-AD20-4DCD-ACC0-B0818F86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92D4-9A24-4A06-B46A-47CA0A12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1665-7713-42B0-8956-4C76965D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3918-3ADA-47F8-AAE5-65E21F44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495-D202-4B3B-8CDC-6FB33750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56F-DEFE-4796-A9F0-7122AE83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7BF0-D732-4EC0-9B7A-626F35A7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61A3-F8AE-4401-BBDE-3AD9C787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5295-409B-4BE4-A380-6CC267A7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BFEE-759D-4658-8D5C-93C8FB92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497B-FE1B-4F92-B196-A01A1476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C4B-AACA-4A53-B191-7BC1B5DE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1D5F2-A375-410C-8707-722307E0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7C4C-07FF-47C2-8F6E-4AD8C7E8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E3E3A-BA8D-4F63-8AB1-78D18A6A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15A-A456-48B4-99D1-388A38C2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0B3D-9C30-4202-B89F-A2140254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32810-1B91-4605-9A3B-89FECC84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6F6A-DF91-4331-A57C-5C9D61C1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ACD4-D9B9-49FF-878C-35CB457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2DBFD-452F-45E5-8902-921090F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1591-93FC-464B-8CE3-901EA2E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2654-D891-428C-B2CB-5F47CEDB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84E5-2623-40BD-9157-B21E7A1B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E278-2A36-46C3-B12C-D04C72A1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C35-8B48-4944-8976-93DACE3E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1E3-C419-4F51-B31A-FE047FA5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868-8508-4D50-BF9A-B3527AFC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A55-7AB6-4539-93F5-7F809EED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85B-B1B0-4B01-ADBF-6843E48B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5A11-5D8A-4497-8779-C2C3829F9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4CFB-68B9-4E80-8A8B-5A001601B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E3EA-25C4-4A71-B92A-91B28FD64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es Jesus C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E. Graeff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Lincoln Hall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oes Jesus Care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oes Jesus Care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oes Jesus Care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oes Jesus Care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oes Jesus Care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oes Jesus Care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oes Jesus Care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oes Jesus Care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oes Jesus Ca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oes Jesus Ca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es Jesus Ca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oes Jesus Ca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oes Jesus Ca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0360" y="64882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oes Jesus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oes Jesus Ca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oes Jesus Ca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oes Jesus Ca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9:34Z</dcterms:modified>
  <cp:revision>26</cp:revision>
  <dc:subject/>
  <dc:title>Slide 1</dc:title>
</cp:coreProperties>
</file>