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77BD-7688-43E7-BB3D-C09FBDE70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2309-8891-4E27-8A51-EF594B9A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3FA6-21EC-4218-AC74-44D42D1A6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8330-2A4D-4B4E-8730-76A1ADAB1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0062-EADC-42C0-B795-DF5E04284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5830-C799-4814-BADA-D5C56810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2CC6-212B-4EB6-B7FF-2B586CBB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8DD8-F331-40FA-A8D4-05BD5E8B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1297-5D9E-4BF6-B014-5CA6D30B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41ED-5F32-4E47-A929-67A556C2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42D1-D3C9-4C60-ABBE-0D851912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1327-924A-492E-9E4F-E1AA5157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4EDD-2CE7-422C-B6C0-9F3E7E6F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9DD7-BC05-4B21-B754-2DE396DA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86A8-A9AF-49F2-939C-E94EECF8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0534-C3C3-4EF1-A788-1B473693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662F-A667-41A7-8374-157F1E32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8F54-73F8-4BEE-A370-EB7729BB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DB388-2DC2-4939-B5C5-7A478ED57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64594-E9F5-4C64-86D0-20F5DDE9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C6106-8C91-4344-AD38-E2B95265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6C5F-5860-4F52-B4E2-E1ED25DA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ABC61-7CF0-4183-93D0-7285D874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11366-A5DC-4339-99B3-BE758C43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596C5-5F40-4865-BE4A-CD68E7D2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A8754-AB7B-45CB-BBE9-AD6861BA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17924-3077-4DB4-A0D9-C963BD40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26BCA-0516-408D-A7F6-A79B47E0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BEC62-7759-4DCE-A59A-6AB798C6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264EB-B591-402E-AF64-99AFEC482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8DE14-8439-4420-B538-8879B717D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D4B3-5867-445A-900E-8D905313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0718-9A7B-4403-8171-6BAD5792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BE2C-B22A-48AE-B42F-5912BFD2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C38E-259B-4317-B2D7-F12484FB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E9C7-30AE-48ED-8A84-598EEEB0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5965-3629-43E3-A59C-CD3DDCF86C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3F0E-F580-42AA-BE39-1487C111A8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4DA2-7682-4AF2-8F0D-28E1EA3AF4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Dear Lord And Father Of Mank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EL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6.8.8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F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G. Whittier (18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ederick C. Maker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7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Dear Lord And Father Of Mankin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0960" y="6488280"/>
            <a:ext cx="45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Dear Lord And Father Of Mank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Dear Lord And Father Of Mankin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Dear Lord And Father Of Mankin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20960" y="6488280"/>
            <a:ext cx="45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Dear Lord And Father Of Mank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Dear Lord And Father Of Mankin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Dear Lord And Father Of Mankin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0960" y="6488280"/>
            <a:ext cx="45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Dear Lord And Father Of Mank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ear Lord And Father Of Mankin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20960" y="6488280"/>
            <a:ext cx="45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Dear Lord And Father Of Mank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Dear Lord And Father Of Mankind_v5o6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4T21:16:51Z</dcterms:modified>
  <cp:revision>37</cp:revision>
  <dc:subject/>
  <dc:title>Slide 1</dc:title>
</cp:coreProperties>
</file>