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2CD-4BA8-412F-BC69-3EECFB31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0C3-D776-41DB-A41C-F8262BF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E45-7241-4C7E-B455-6BDC9535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879-E0B3-4188-BAC2-2AFD059E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0CB3-2632-434E-A4F7-7BCDFF7E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7F9A-00D1-4DF0-8DB3-21AECC86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DA4C-72E6-4623-B839-E8C0EF31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1618-3115-404D-ADC1-F7154D3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D0A-A3A6-4523-A162-311F3A6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5FA7-5008-431A-A7F1-AE9D423A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E264-5507-4F02-807C-B31356A7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4BC-DC87-42D8-8089-1812FBD3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39B3-D048-4FA9-ABEF-C36D093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F1A8-A16C-406D-8B89-58029CE3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3AC-99C3-4F73-B972-82FB2D6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B963-2D8B-412B-9540-022BB47C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163C-8A4D-4333-B5A2-80DD4D24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1A5-62D7-4C8E-8766-5BDE2520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907D-FA01-4B08-8A02-CF15C359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7DE7-8A22-4C69-BBBF-0EEB66B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637E-0228-46E3-9CD6-8999153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7CA-51FF-4C44-A69F-8973839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1FE0-0023-4631-9997-E091D0E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ADFA-CC76-4454-9BEE-1D2AFC3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A96A-D6A3-4669-B196-F5F389F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7DE5-42CE-4D64-BAA1-5723AB1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03F1-F109-46F1-A5A9-4A3CF34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9741-9370-441E-85C6-FADAC10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932B-4552-407E-9E00-A7712574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CD02-DE36-4497-A12F-72D4BACF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DB81-0391-41EF-831F-43B96219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054-86A6-465D-8DF8-2A5366A0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796-1C1B-48E0-9642-59AE2DBA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BA9-33B9-4AF6-8577-C8541EA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35E-514A-458A-8017-19E661C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0B4-C8DA-456D-AF7A-2382093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091-8370-494F-A5F7-BF358E054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6C5-FD22-440F-8815-A8C377CC3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530F-5F58-491F-B089-C372E7E5D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ay Is Dying In The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Lathbury (1877 &amp; 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F. Sherwin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ay Is Dying In The W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ay Is Dying In The Wes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ay Is Dying In The Wes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ay Is Dying In The Wes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ay Is Dying In The Wes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ay Is Dying In The Wes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ay Is Dying In The Wes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ay Is Dying In The Wes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Day Is Dying In The Wes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ay Is Dying In The Wes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ay Is Dying In The W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ay Is Dying In The Wes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ay Is Dying In The West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ay Is Dying In The W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ay Is Dying In The W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ay Is Dying In The W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ay Is Dying In The Wes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ay Is Dying In The W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9360" y="64882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ay Is Dying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ay Is Dying In The W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ay Is Dying In The W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5:48Z</dcterms:modified>
  <cp:revision>31</cp:revision>
  <dc:subject/>
  <dc:title>Slide 1</dc:title>
</cp:coreProperties>
</file>