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64D-1340-4EDC-918B-CFDC020D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1F2-B06C-48A6-8389-79FBB11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ECA-1641-41A4-9CFF-DF119DC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0D1-2128-42AF-837C-94A3F04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C62C-E1FE-4714-9EC7-68D6A7E9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05C-F251-450F-8C51-599B80A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BFC-72E1-48AE-8040-832338D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CF1-5FBC-40ED-A57B-647BDDE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6A56-5CDD-48CF-916F-DE48E084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227-FB62-4EE8-9D56-1B39DDEA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7DE7-A5B7-462B-AA50-F2B2BA5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E46-5B33-4C01-9583-97AD7D5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75BE-7AA2-40B2-B9E7-D8AA8CCF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5EED-9477-45E6-A33A-354C757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DEF-E58A-46E3-BBB2-AF4783D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E690-AB3A-43FA-A402-93262210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B781-E42D-4169-A903-F5677797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8B5-59FB-46F0-A8E7-E1E4892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389C-06EA-4F1C-A92D-6569256E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C1E3-A1CD-4971-80A8-CDE4184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B502-8DEA-47F2-A28F-3C496768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E89-BE28-4B93-B27E-B5834CD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D4D5-6705-4ECE-B6E2-A5318E6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B897-0BCB-442D-BC26-8F42C08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8390-75E8-4515-B70C-5C49376D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3F1F-FD64-4C0C-A6C8-CA17082F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33D2-8876-43B1-A5D5-57B59CD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9665-8C7A-4A03-A72A-002E32E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3F93-888A-4CCD-B7A8-E0FCE26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520D-11BA-42CE-B138-35ECBB67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050D-4E60-4C26-B04A-23B1D8E6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349-091C-49DD-9BE1-3A759A5B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D77-6CD2-4416-9FCD-59DF92E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784-B5E2-48B3-B7CB-3588FFE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8C8-9F23-462B-AADF-D49DB90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994-F623-4196-BF39-1C1AAA6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F79-383A-4E6A-9B30-2B7681039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518E-E9F1-4E46-A2CF-3B94D7B0B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D98-D780-490B-B93C-6E1AEE79C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Day B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OTT EN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9.10.9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olina Sandell Berg, 1865, Tr. Andrew Skoog, 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scar Ahnfelt, 1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ay By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ay By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ay By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ay By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ay By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ay By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ay By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Day By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ay By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6600" y="64882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Day B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ay By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Day By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ay By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4T21:14:30Z</dcterms:modified>
  <cp:revision>30</cp:revision>
  <dc:subject/>
  <dc:title>Slide 1</dc:title>
</cp:coreProperties>
</file>