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F04-16CD-47B8-A7BC-E6A216D6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4C0-521D-429D-AA1D-108B299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586-4E11-4954-9028-67295C44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8C9-ADD7-48EE-BC32-DA95D096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BDF2-CE71-451D-82CA-775044A6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537-E840-47BE-B31B-6F899A8D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5A6A-007D-41BB-9E03-E270621F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D87E-9508-4109-A44A-265CCA82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EA1B-24D5-4BF9-B0B5-D5365892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75E-0F6E-4571-BF6F-7AA38AC4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8931-F027-45DF-A8BE-52038DE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F8B-5079-4F97-91A7-D8145737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9C09-FC26-4F6D-ABDF-0B652AEB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23DB-B95F-4EC6-A2F1-B655DA7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707A-A772-49E7-9D82-C3AA7D80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9C56-EE26-44E9-8B54-9B5F2DB5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C8F6-CED1-4E7A-B3EC-4592A40B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3CD-EF66-4B75-8C89-4C6E4251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2A5F-9236-42F6-A89D-B16D4425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AEAA-D461-4EF1-A8DB-D5FBE0F6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3F16-DF94-4436-BC23-CDF3D984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D14-070E-4A00-BC82-0EBFD8B8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5124-91DC-4BB4-8222-7344C31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975D-9B37-41B2-A0D3-8BD461D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C4BD-2509-4315-BAE0-74CDC744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90DE-E1D8-4A32-B00B-EB0A324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B675-A2EF-4C7B-93C2-0348214C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59B2-FF7D-43C6-9C51-BA3D2B4B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658E-EB1A-459E-9D12-16E92ED9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A3BE-51B7-4777-8E7D-BAE55F07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75F7-E20D-47FA-8992-89EFD399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646-41FD-48BF-BDB7-9E906432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627-083B-4CB9-8A9D-5A5E9CB6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9F4-FFD1-49AC-90E4-5D92B10F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2B2-0F73-4481-AC82-0D56056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040-1371-4CDD-878A-066B64C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C1B-7189-4C08-82E8-06330519C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32B-FCB1-4A64-A9C5-9B17B85AF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817A-7992-4DD7-8FC0-DC4A38B7A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wn In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wn In My Hea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wn In My Hea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wn In My Hea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wn In My Hea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wn In My Hea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8760" y="64882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wn In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wn In My Hea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20:34Z</dcterms:modified>
  <cp:revision>32</cp:revision>
  <dc:subject/>
  <dc:title>Slide 1</dc:title>
</cp:coreProperties>
</file>