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E41E-A3F6-4D9E-AF76-CB48E8F11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D957-6C42-4758-957A-AF77B0E55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86E6-65D7-43A3-8DED-359A7093F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D02D-425D-41BE-AB47-650272CC4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54E9B-8991-4A7F-A950-34D58E085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1F079-9CC4-4818-98F3-907C7B720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C772F-1592-4828-881C-7D2AADEF4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15AA3-631B-4708-9069-73DDEFC7A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F6AD2-F3F7-46AD-803E-3759C768E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19110-5683-4641-836F-51FBC20C2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B0607-3566-477D-A243-5B7FA25B7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DF76-F897-4BA1-9F78-AB19826BA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8A9BE-62FF-4D2D-82F0-434DC7FE4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F7192-C699-4A07-8C3D-6F54B0DDF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C4ABC-7117-475E-9ABA-79F20835F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0B521-3F6F-49C1-8FE1-31EAA66B4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28BBA-B2CE-4F41-A160-531D946DB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9A54-D65A-4B75-B277-1BA4909FD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D777B3-ED3B-45E6-B5DD-88E444478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40479A-9C87-42EE-BCE6-D2C3E0401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2783F1-AEAD-41F3-A525-A4D10392D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EAB2-F83B-46C5-A625-C650F8892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FC93F7-0927-4D5C-863C-46E8AEFED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F64072-A002-4148-80D5-554D32430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9026F6-5C5E-4183-825D-9127203A6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B7BA79-A777-4F11-B1BA-8D570624C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BBC224-6294-4D8B-8149-53BC357B7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24A714-0FDE-48B8-9412-DE4CD5809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358B5C-339E-4473-9ABD-FF7AB70A4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9A2712-E5A0-483E-B0AA-A2F2097C9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3A52D1-C916-47A7-967A-34D1A6685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3F27-C0A4-4B89-948F-E49CAA2A0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3D01-EDC9-4D44-A126-3527B6544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86E3-3BCF-4531-9D94-C2034A922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1D92-D8BD-4119-9DC9-87F62E2CF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7A10-696B-4099-B26E-50E4181AF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768B0-5BC5-445D-A0D0-BCA3DDD8D4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975B7-0CA8-4449-9756-659F8D08385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153C7-C3C5-4CD7-A54B-354AA5C5F2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Did You Think To Pra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F/A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rs. M. A. Kidder (187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. O. Perkins (187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7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Did You Think To Pray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Did You Think To Pray_v2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Did You Think To Pray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124920" y="6488280"/>
            <a:ext cx="335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Did You Think To Pra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Did You Think To Pray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Did You Think To Pray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Did You Think To Pray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Did You Think To Pray_v3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8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Did You Think To Pray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24920" y="6488280"/>
            <a:ext cx="335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Did You Think To Pra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Did You Think To Pray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Did You Think To Pray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Did You Think To Pray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Did You Think To Pray_v1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Did You Think To Pray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124920" y="6488280"/>
            <a:ext cx="335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Did You Think To Pra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Did You Think To Pray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Did You Think To Pray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14T21:17:59Z</dcterms:modified>
  <cp:revision>29</cp:revision>
  <dc:subject/>
  <dc:title>Slide 1</dc:title>
</cp:coreProperties>
</file>