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208-9F52-4FFE-A380-E33B6DF1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C15-E318-4281-9C04-65FC7D52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2D5-00B5-404C-9DED-8D21A575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AC0-E7A7-49A3-95AB-1D6FF09A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9724-5A11-4687-BA7B-5AE8B573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01EF-7721-47E3-822C-7303F4F0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F119-A316-4A30-90AE-322EF1D6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2960-5DAB-493B-A6CC-B5FD72DF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5040-6880-4425-8368-132197F7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764E-A7BA-4318-8CA8-8C906134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2BE5-04CB-4311-8029-F6788F5A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C57-DCC9-42D1-B473-D56221CD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B9D8-BD16-4ECD-A807-10A4F571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5D97-B5F0-4860-8EF4-7D3A523E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64F3-B48F-4094-B2E8-4D73C839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63B1-7954-4540-9C2C-9C559966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9796-191E-478E-AB85-FBE7DD11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4F0-8B5B-4003-8B0C-FDAA176B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1757E-F320-44E9-8CD7-38204BF4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4881-903D-4D91-B3FF-79FB13B9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80A45-765C-4514-9EAC-FA7C59C1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5ED-AF5F-407A-B015-1F85CE58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F275-3CC6-4EFD-90DF-E4368B45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DF790-01AE-4D03-A7C4-324EF52B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5DD8-BCA2-4033-9C07-6DE6BCEE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B441-7A28-4F62-A2FD-120346E9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E0DD-DED2-4AB8-A73D-3F7E3569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30CF6-24C1-4140-96BF-89B64F87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7C903-F8AF-44D1-9AEC-556D4699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2EF54-BCD7-4AC4-BD01-C265752B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E8B25-1AC5-443F-BAB1-866F3E72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54B-585A-4403-B358-4EB7B8F7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7B3-8271-444F-A91F-3F992B30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A0C-A670-417D-83BD-7DCFD85C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442-66CD-40D8-B044-DDA3D92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009-0CDA-4457-92E9-6FEFEFEA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280B-AEE5-4C25-9C8F-4F90ABC43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5665-1C9C-4A92-BD8A-F9F84E839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25B6-7D87-42D3-82E3-4EFC4B97A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rom Every Stormy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RET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ugh Stowell (18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Hastings *18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rom Every Stormy Win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3160" y="648828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rom Every Stormy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rom Every Stormy Win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rom Every Stormy Win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3160" y="648828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rom Every Stormy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rom Every Stormy Win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rom Every Stormy Win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3160" y="648828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rom Every Stormy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rom Every Stormy Win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rom Every Stormy Wind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3160" y="648828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From Every Stormy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rom Every Stormy Wind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19:36Z</dcterms:modified>
  <cp:revision>33</cp:revision>
  <dc:subject/>
  <dc:title>Slide 1</dc:title>
</cp:coreProperties>
</file>