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466-C6F8-4387-BF73-E29FA6F8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938-3D51-4ED5-9F2D-EC981A08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0C0-F42E-468A-A41D-7844D6B1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5E1-9C45-4FE6-8CA5-68708A92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041D-3006-48A5-9288-7B12A418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DCAD-4FAB-4DCC-9FB1-6F7333D1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1DA6-DCB6-49E2-BBCA-6CAE2709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C6F0-B53B-46B6-9999-879721C8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00F4-5729-4D87-B59D-ACB81490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9345-766C-4F6C-9898-91D91C2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90C4-5126-4ABE-91DF-C20B76D6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195-B505-45A9-BA86-30BDCFF2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7423-9DF9-498E-9160-2D5715DF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063A-1C6F-498A-B72B-B54F4581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4517-4311-4735-973E-DC4D981C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3C7B-B028-493B-9B33-F1329895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0E37-84F5-4B00-B2B9-D224DE80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2BD-2B2D-44BC-8841-D3D84720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7A94-71BE-4840-ACAD-C59AD11F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F1DA-2BDB-4671-8A2B-10930F04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007A-F6B3-446C-B739-F86387C1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188-C8A1-4669-A548-B4C9BBFA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E239-10D4-4DD7-BC7F-D3121117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0B59-8891-418F-BF29-CAB4F1EB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D9D2-FE74-469D-8CD4-649FDF93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4588-8C8C-4AE3-AB57-1F791D24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D01B-7DD6-47C5-ADB4-270669B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C86E9-0FFB-428D-A9C9-6A2A6A8F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5B99-494B-4244-8711-FE063DAF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5ABD-FC70-40E9-BA5B-E673DE1C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40F8-7399-4CC7-98E3-0791FDBE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726-B4C6-44DE-8F33-5CDB46F2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1E1-F760-49DC-BB4A-E2B77163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931-7BBE-46A1-B76E-81DC87C1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89B-AD37-49BA-8260-7C13506A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F2F-ACA8-4A49-B712-A2B713A9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FEAE-641C-4A1E-BF64-FFA6E8111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7A42-4494-4C13-847F-D558248122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C644-884F-4E5D-BD9E-D4FFA3ABB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lee As A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IN DOMINO CONF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4160" y="4902120"/>
            <a:ext cx="164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m(G)/E -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S. Dana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panish 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lee as a Bi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lee as a Bir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lee as a Bi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800" y="648828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lee As A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lee as a Bi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lee as a Bi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lee as a Bi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lee as a Bir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lee as a Bi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1800" y="648828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lee As A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lee as a Bi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lee as a Bi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0:08Z</dcterms:modified>
  <cp:revision>24</cp:revision>
  <dc:subject/>
  <dc:title>Slide 1</dc:title>
</cp:coreProperties>
</file>