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800-D3E8-432E-B71A-8E5863C1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F8AF-F19D-4FB3-825F-D512EE0E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A737-5FCD-48E0-916D-395E23FF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30A-C328-434E-B4ED-F555BBDF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01BE-C47E-4F50-9D90-EF13A0A8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5E61-2562-4012-B15B-BBA4FCA9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B8C9-8BF9-4920-B8BF-42B6B7F6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DB64-1619-4471-9959-12AD3D8E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AD14-5F3A-4ABD-AF82-18982765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288C-5826-4E06-A331-D8BF95F4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C831-17A7-408C-BC5D-7A925A19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101-4A7F-4807-A68F-41C26EC6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4749-29FF-4A7E-BC0A-7E542C12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9B90-F2C2-40CA-B9CD-B1A3F464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4F0B-01AC-4D55-8433-D5995331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E383-302C-492A-873F-9658A6D4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226A-1820-49DD-957A-B050516C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53C2-E75B-48F3-8750-9631CC6F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F31A-EC2B-47D7-8B63-1FAA02EF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04A01-7D25-4B20-9D03-1DB482A2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6BD63-8452-46BF-A1F4-F8774A1C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8DA-7EF6-4A14-8FEE-9C3EC7DB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2118A-2136-4EE8-B2C2-8256B93F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27266-E60A-4A3D-9279-8D8399B8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439DE-1466-4E48-A2A2-9DC7E4EA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595DF-2070-4B2C-9A12-0178F3B5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01CC2-2E68-4C1F-BDAD-11F88E24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FB7B8-08C9-4A21-85C5-7D58A15C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60248-B4AB-4F76-B5AA-D76494C7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CBCDA-7180-44EF-BD39-07A16E12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A96D6-E09D-4D8C-B6BE-1F007916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CB0-72C9-4039-844E-197CF285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F2D-B360-4F3C-8AB2-C4C581D4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70C-FD58-4C45-B426-EAA1FB1F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D065-D10E-4141-8AB2-9B88B394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2B8-DEDE-49AC-8DB3-AEF98E7D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CFF6-0670-43BC-980C-36A73F1C1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FB31-20BA-4ADF-9AAD-09511BEA27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58EB-25F6-4A4B-8E0A-94DAA2EB5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arther A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B. Stevens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B. Stevens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arther Alo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5960" y="64882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Farther A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arther Alo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Farther Alo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Farther Alo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arther Alo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5960" y="64882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arther A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arther Alo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arther Alo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arther Alo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arther Alo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5960" y="64882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arther A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arther Alo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arther Alo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arther Alo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21:00Z</dcterms:modified>
  <cp:revision>26</cp:revision>
  <dc:subject/>
  <dc:title>Slide 1</dc:title>
</cp:coreProperties>
</file>