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7B8-807D-4B57-B6F9-FC0EE2AB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F1B-53D0-4735-8979-A671AD14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BDF-F6DE-4595-9912-4D6A2F69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F31-BA54-4903-97F3-86047420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004E-14A9-4D08-BF91-27DB4ACD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AE7C-39A8-419A-ABC6-E7C9F88E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4358-D43D-4F2D-8EEB-5488E39D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5AF-4725-4165-9710-7CF3EFEC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C173-B844-46A9-A9C3-0671F9B4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18F5-6FDD-441E-A7F1-67E064AA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62F6-918B-4A4E-A407-77357C3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DF0-344A-41D3-A90F-EB6E6644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967-34C1-4094-AFBC-3E34AA5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8CA6-6631-443A-A05B-FE89775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8958-C819-432D-B9A1-2D9C999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5B2F-ADA6-4D01-BB61-FB4EB861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EF8A-6E23-4682-B279-486B61A2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447-BC2F-46D1-8A9D-40E8145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75DB-4751-4564-92B8-EB5D369C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3256-F7E4-4F59-B254-0C63AE6F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DFF3-C74A-48B9-B5E9-01BAEBCF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1CD-4F37-4643-B004-FF2BF7B4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0FA1-8637-4BB3-9D85-2613DC92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4CAF-20AF-432E-BADF-EE8B5029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3045-6E0B-4143-B8B9-1450D6ED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CC8D-9E68-4DAE-9DBF-D31E72BD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EE1C-0A77-4C43-9B5B-85A8E7E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B1B5-69A8-433E-90DE-F54E5C3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8E39-3598-4D72-90FC-813A4AC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B2E2-8967-4218-BEAF-D94D4D88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2A8B-97D4-4AE5-A31C-1FA0D862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EA0-7819-4ABA-8EB3-4DF42551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95C-369B-4282-899F-27FB3483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B50-60B0-468A-871A-98D8C98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41A-4C75-42AE-AE0E-DA85B67D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751-6198-454D-B22C-3BD8192A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DF75-7B87-45B9-A3FE-D380441B3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996-1FC7-49A6-B7E9-BD04CB79D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D37-907D-4AF4-8904-8A48C23F5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irest Lord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USADER’S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5.6.8.5.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17th Century German Hymn (1677), Tr. by Richard S. Willis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German Hymn, Arr. by Richard S. Wills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irest Lord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600" y="6488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irest Lord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irest Lord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irest Lord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3600" y="6488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irest Lord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irest Lord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irest Lord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600" y="6488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irest Lord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irest Lord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2:09Z</dcterms:modified>
  <cp:revision>23</cp:revision>
  <dc:subject/>
  <dc:title>Slide 1</dc:title>
</cp:coreProperties>
</file>