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65D-AAE6-4181-9CE7-AD31DA32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D38-E95C-4CCB-9C9F-88593E9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FDD-BA21-427B-AE57-0230CD2D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4DD-E447-4843-B398-8445B058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4724-F41C-44E4-83E7-C2CC5B2A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073B-2891-4B61-8597-92DD7162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3DF3-ADB6-4081-AD02-9D6AB74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09D7-FD55-4500-A185-E5E8FB2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422A-ED14-476B-8A10-88D7714A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32F7-758A-4CC9-A900-A5015249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836D-3086-4B54-8BFD-3C78403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F7F-B8A6-4A7B-A58F-9DD7129E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406-CFDA-4FEA-B658-1917EAF5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031-B5A5-49B1-8B8A-AADA36E6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6F08-CB53-4EF3-9B17-1DF6C336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C370-DCD7-4FBB-8C6D-5FD8AD9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4C43-F529-48B6-A166-0EB7C72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51E-6080-4BC8-B957-C4A8290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E346-D874-4AF9-8CD5-13FEF310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E19D-8B18-4A0D-8E23-5CD79B91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3C6D-EBC0-4EBA-A955-67C0C3C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71E-53B7-420B-BE70-EF28E923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619A-34D1-4CB6-9A86-E34BD77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6EC6-B406-4D40-9C2A-7902E5B3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6A1D-0660-4CF2-B1F2-AF480FA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3045-EA34-4ADE-A7DF-A609A747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9BCE-1604-441C-9B18-103FCC0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4469-B126-4BE6-A205-E580D06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CB2A-BDBD-4629-B3D3-2E960592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DC48-3C4D-4D38-A959-7F5A1C4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89EE-97BE-48CD-AAB4-7F547C46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8B3-9C9A-4C0F-BE1D-B6EDCEC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7C4-A734-4B17-8333-73ACF49F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1A2-5984-4471-8D05-E806099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A96-0C3C-4053-AB22-EF4AB88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0D5-93AE-4924-839B-2613FCE6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5CAA-9276-4BDB-B8E4-E2D445FF7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3E2-3E07-4E09-AAA6-E686E00C5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0AA-6704-4B56-8FC0-846419A13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rie E. Breck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ant Colfax Tullar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ce to Fa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840" y="64882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ce to Fa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ce to Fac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ce to Fac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ce to F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840" y="64882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ce to F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ce to Fa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ce to Fa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ce to F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840" y="64882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ce to F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ce to Fa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ce to Fa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2:27Z</dcterms:modified>
  <cp:revision>31</cp:revision>
  <dc:subject/>
  <dc:title>Slide 1</dc:title>
</cp:coreProperties>
</file>