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D00-C16A-4E09-8514-ACEE4369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B1A-FC82-4978-9C29-682A8CA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6AE-E682-49C7-8964-5BD72462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1D6-C450-46E0-938B-DCA4762B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7B57-ECE7-4827-9264-7424B98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51DE-B321-4245-A30C-C919E413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7AE6-1496-4E34-AF6C-BB9A4DE9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A00B-4E51-46A8-AF59-F842546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351C-4788-4FA8-BDEC-213D66E1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940-8F85-45B7-889C-F3BCBEA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E661-83B2-41D4-9A91-D71F9CC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22C-DF21-4FEE-903C-F7DCE8A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7174-2786-41B8-B32B-A8F1953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BB2-5B15-435F-AB95-00A322C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8A5E-EEC6-4300-A748-812428B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3D9F-D748-4151-B999-D78360C3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F49B-6382-40FD-8E2F-B37BA740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E37-755C-4591-9A6A-32BAEEF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7704-859D-4FA9-A38F-E58CE8E0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9B35-08E6-4D1D-9FE5-AB7BE52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6B71-4AF9-4888-B654-A8D08B0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B02-4DE2-4893-82D3-19ECFB3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7FAB-30C4-4497-AA4C-07176016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0D9D-EF18-4911-939A-11C3F72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1061-574C-4CB9-8B5B-EA59CE2F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5E53-57C4-433D-A9D9-2A4649F8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9AF2-2478-4255-B352-8D571C7F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2A11-18E0-4BA2-8065-D6894B3A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1184-363F-413E-820F-E400F919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A942-BE6C-4524-B214-264CC6BD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4FCE-E0EA-4D79-843A-9F53266D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DCC-F682-4426-8C21-3BD37F7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D36-C43B-4C89-B7D9-64C0F512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3D3-387A-410E-9DEA-A494D6E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7C5-6C77-4CF4-8F9B-3A7C265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B29-2C99-4E3B-A760-30A5BBA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568-25D6-433D-9D58-D8884752F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364-CB8C-4C14-B27B-E1B350659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8AC8-2BF0-43DB-A967-EAB5DD57A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ootprints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D. C. Slad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ootprints Of Jesus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ootprints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ootprint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ootprints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ootprints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972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ootprint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ootprints Of Jes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ootprints Of Jesus_v3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72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ootprint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ootprints Of Jesus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0:27Z</dcterms:modified>
  <cp:revision>32</cp:revision>
  <dc:subject/>
  <dc:title>Slide 1</dc:title>
</cp:coreProperties>
</file>