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D4DE-48E2-4134-B1C5-F4AD966F2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38AF-D8E4-4BA6-B719-518046E3F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5C8D-FF41-463F-BCBE-FC2D3B05D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E6BC-C0CA-463F-ABD7-4A3A16986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CCC24-B482-406F-9CBD-382038AB4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758F2-9B58-4164-A457-CFCAE3F94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5E17B-3DAC-488D-849D-1C68011DD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26207-760A-4116-86D0-05E64B572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A0D6E-D315-4BAC-B5F3-A4A940734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0744F-BAAE-465A-9AE8-D927447C9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17101-65E3-4016-B878-83CF446B2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7EED-8785-484A-B3EE-D5B987CE8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F3CC0-32F2-44A2-ABC6-699499009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D0EC5-1A2D-436B-AE54-D752DC684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0F368-D4DD-4A57-87C1-BDE45688D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9D6D8-5C92-4FB9-830A-EE3193367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E2E0F-C757-4BD1-8CBA-B750571D4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EC1E-4227-48ED-BA4B-4078D99EC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1EFF5-7951-4A02-A507-AE721892D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4D402-2C9D-42D1-BE1D-EED548CE0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54637-2BF7-4CE4-9AB5-34736D7E8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92CF-90C0-465F-A576-0B0EF87C2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CDA7E-52B5-4CEE-95FE-C4373E019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1B97A-383F-44D5-8E32-14606CAFF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93CC6-641D-48E0-8739-64A5C14C5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E554D-2807-4719-9349-3F396105E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A8EF4-CC54-4CCD-A1D2-478707F2D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96A05-E52C-4EC6-9835-8EC9DA38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22B57-ABA1-4363-BCC4-92ABFAB39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BCD9C-081F-4661-809E-C424F34FB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8527C-C5A7-4A41-BA69-23F5EB659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2875-3FDA-4B04-B86C-C7F006E8A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2835-6665-4969-AC43-1E2B3A922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3165-915E-4452-B4AD-C1CB8451C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C786-E59F-4D8C-B6E4-632ABD11E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3BDB-810F-44DD-9B5D-8B6AD004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58E5C-6BF4-48E9-B43D-A2466E2DA1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A74F4-1722-47A2-BC4A-5F6045EAF8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C8EAB-E370-4AFF-833A-7F8ADE449A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Fear Not, Little Fl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2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ary A. Kidder (188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ames G. Dailey (188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8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A picture containing text, sheet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12320" y="6488280"/>
            <a:ext cx="30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Fear Not, Little F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Fear Not Little Flock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Fear Not Little Flock_v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Fear Not Little Flock_v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Fear Not Little Flock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2320" y="6488280"/>
            <a:ext cx="30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Fear Not, Little F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Fear Not Little Flock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Fear Not Little Flock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Fear Not Little Flock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Fear Not Little Flock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12320" y="6488280"/>
            <a:ext cx="30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Fear Not, Little F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Fear Not Little Flock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Fear Not Little Flock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Fear Not Little Flock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5T11:20:43Z</dcterms:modified>
  <cp:revision>31</cp:revision>
  <dc:subject/>
  <dc:title>Slide 1</dc:title>
</cp:coreProperties>
</file>