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AC6-B214-4A42-B6F5-6FBF4EE7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B32-BFB6-4B48-8E2D-DCFFC42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15F-2261-4396-96FE-3245075F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3F6-72E9-4763-9B42-5A0D3E81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448-0089-4F25-8ABF-08647CFC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7EE-1041-4F8E-88D1-BDC7789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D59-5E67-4F0E-806A-C76868D5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619-F834-4CF4-9AE7-C6B08DC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ABBE-624B-4A8D-8C19-2783A60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443-1B72-4C04-A303-89525C0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91EE-9041-4865-9431-AA2410C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746-C9E3-48F4-A30C-91264D4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C9E-7D53-427C-953F-3782C9AF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217F-CAB0-4DF9-A9F4-56CEA07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796-90CB-4128-B35B-31E0900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9B8-29D7-49F3-93D1-E74B09E3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5FD-2604-4B42-8A41-AB36F42E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848-E67A-464C-B4E6-916E564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1B53-B7D4-4B24-8CE2-3405C2E4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CBCD-AADD-4942-BE28-646DF81F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63C9-3286-4DF0-B575-11AA96C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8FA-FF95-4F51-BE65-E7F6D064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9015-E107-4218-8473-320A5C9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6280-5225-4A5A-9C33-B3267D1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0034-A6B4-4645-AAC1-B354478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A76D-293A-40E8-A29A-924A00E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5075-E177-4008-A3B8-1388B99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6873-08CE-49FA-9FD4-6893194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BBC8-A103-4BED-88EF-D22818D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4F58-145B-4E10-BC0E-E8185C5A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4322-1646-4CFF-B909-0CDF8713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EF3-8989-4615-A141-507C143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4D7-7B4F-484C-902C-DBF692F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B4E-48A5-4D57-B064-4248582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06-CEDA-4555-9DC7-940EDF2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875-B3D2-4D10-95B4-BE59A0C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C88-C2D3-46A2-8FC9-0D62FDEBE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2B3-2E3B-489F-BB0D-5E36257DB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DFF-6EE0-48E9-AE2D-CC61BA23D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r And 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Call For Re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O. Thomp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O. Clemm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r And Ne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r And Ne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r And Nea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r And Nea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r And Ne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r And Ne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r And Nea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r And Nea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r And Ne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r And Ne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r And Nea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r And Nea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33Z</dcterms:modified>
  <cp:revision>27</cp:revision>
  <dc:subject/>
  <dc:title>Slide 1</dc:title>
</cp:coreProperties>
</file>