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7C0-2A94-42A2-B7CA-788B26C9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068-73F2-4072-B454-18D0EC85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1A1-433C-4873-A39C-9865CFF9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C78-E9C0-465E-ABA9-E1867CDB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ECE5-86BA-452C-9475-0B19C1F9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C32-AAAF-4121-8ADA-0FBC58A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52E-E663-4211-BF1A-6C6A7B8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E43B-5FED-4111-8147-232C9E9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8DED-EBBC-484D-A36F-560F1CF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138A-C5DC-4C0E-ABA8-4BD4DC3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658-31FD-4C87-A20E-C267C37A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C5C-62B8-4B47-9263-7B654667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1DC-5453-4746-AE19-48E65EE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80EF-40E4-4044-B6EE-1BAC6B0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BE48-0818-43DF-BE55-3B3A7CF3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6BC5-D927-4B7D-9ECF-94BA9224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078-0D2F-4EB9-B632-DEDCC66F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0A1-34F6-4DDC-A801-04DF4E86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78FF-2E3E-44A5-A968-A0999F69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0DFF-FF8B-45AC-9136-FCCB7003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5777-9CF4-450A-A045-2EBA9E4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052-53B5-4730-BB2C-1E26ACA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72ED-9A63-4F19-9863-E61B50D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2CD9-D29E-4EAC-9E4E-8B9CD6C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7E0B-4A63-48CF-8770-B0A35D8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D1A6-9C9C-45AB-AD4F-C177AD0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0FD8-0B15-45D2-B0A8-750B954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0506-A55F-4C13-91E1-E3AC966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65AB-04C0-4DF6-99A7-D4F495F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10B5-7CEC-462B-8966-E0449E16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45CA-388C-4FFB-A0BB-5792DA32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12C-B7EC-48C6-916D-2561097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1FA-D266-4D81-B7B4-8F81C59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FEC-5FF7-4479-B353-6093D6F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169-1E17-44AC-8BAC-FED80A4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9F1-312B-43E0-89EE-018EF930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917-C435-4AB9-BA6C-16FB6F4C9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4BD-B2AC-48DF-9D04-2B67D2B93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157-E3CD-48F5-BD9F-2C5C829C1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or The Beauty Of The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liott S. Pierpoint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rad Kocher (1838), Adpt.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or The Beauty Of The Earth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or The Beauty Of The Earth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or The Beauty Of The Earth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or The Beauty Of The Earth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or The Beauty Of The Earth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or The Beauty Of The Earth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or The Beauty Of The Earth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or The Beauty Of The Earth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19:52Z</dcterms:modified>
  <cp:revision>23</cp:revision>
  <dc:subject/>
  <dc:title>Slide 1</dc:title>
</cp:coreProperties>
</file>