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98E-D6F7-45AF-83FB-553753AC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8D4-2DC6-45F4-8E37-7CABF7E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27B-83FE-47B1-8086-E25B389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2EE-840E-4E15-9877-BE8A2776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BFD-5664-453B-9420-D92ED16B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AA8-7708-4B64-8827-516E4F1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0B52-BDCC-4B4D-AD9B-C1DB7BB0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F9FE-4BC7-498A-92F8-BA0C870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B81-FBE2-49A0-8551-3C54663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8CAC-FD70-4941-839E-0649DD8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CA3B-FC10-41F8-A779-96CAB7B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6C0-6BDA-4032-A182-5F622D48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27D8-7EEC-4C22-8527-90F9DC37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8564-7C57-4B05-8F9B-2E37512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DD95-E42B-433D-8B5D-A343368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0F7-CFE8-4C60-B77F-D824BAA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F01-EBA3-4B1E-92CB-B459A344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A16-0B6C-461E-9DB5-E103952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C5B2-A69E-4E0B-B7A5-A7658D72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5942-8BA8-47D9-9F58-767059DF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EFB8-06C0-4744-901C-6B634AA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F03-347E-4C4B-BF84-7ACCDC8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8928-B23E-4B75-BC4A-9B81E2C8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20D5-CD64-421D-9D22-F00B1CC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89FE-D970-484C-A571-A74981F0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BA35-BC5D-459F-9117-BFE0712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E312-DE26-4C11-9E59-2B33FD5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D39E-64CF-482D-88B8-79FA1F3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D70F-5215-473C-AE89-4B94DF6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CDC5-C782-4DEA-A29E-83B1098A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0AAC-9273-4C99-9F74-2A038DF8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DC5-6669-4E04-BA21-7E30048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F02-23C5-488B-A7F7-097BEAB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863-64B4-4D20-B861-233BD7D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87D-A5B5-4921-8DE4-455A8C5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E51-124E-4E86-BDF3-6B88D84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AAE-ED8A-403E-BD71-8DE7FC54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6AB3-E9F9-4DD5-9B72-F23CCC871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D1B-53FC-45CA-B812-2A580B1A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th Is The Vi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. Yates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ith Is The Vic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ith Is The Vic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ith Is The Victo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ith Is The Victo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aith Is The Victory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aith Is The Victory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aith Is The Victory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aith Is The Victory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aith Is The Victory_v3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aith Is The Victory_v3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th Is The Vic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Faith Is The Victory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aith Is The Victor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aith Is The Victor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aith Is The Victor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aith Is The Victory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Faith Is The Victory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th Is The Vic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th Is The Vic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th Is The Vic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th Is The Vic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th Is The Vic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ith Is The Vic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ith Is The Vic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53Z</dcterms:modified>
  <cp:revision>30</cp:revision>
  <dc:subject/>
  <dc:title>Slide 1</dc:title>
</cp:coreProperties>
</file>