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AA9-BE20-45DC-8033-414AFB76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E5C-C7AF-407A-BAB3-E126DCAC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B00E-8FA8-4D17-9835-241884E5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123-196B-4B3A-ACE3-647E761C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58E5-4A3A-42AA-9BAA-E327973C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20F3-72EA-47AE-B03A-3A6A8719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05E3-A80D-4F81-B17E-8DF5258D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A82A-458B-4885-B65E-F93FE07C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2928-0F1B-48E6-B367-F7F227A0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55F3-0095-4C13-A2CA-E8D7BE08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A808-A0B3-4475-BC39-B29CE0FB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590-E3C7-4E0C-A8EF-38B30D90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939D-9225-46D6-BDD3-E7A09013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0BEF-9552-4625-90BA-6BFBD79D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91B1-7A4E-4849-A0BB-18336A8F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3FB9-6E65-4D79-95F7-AE8A1462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7A0C-2FF7-480C-8E36-0940CC9A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1D8-A92E-4CE0-8AB6-00959DC5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3D53-2001-4794-92C1-F3FAAA05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43F05-5B04-4B7B-A81F-ABF2FB90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A2A1D-59DE-441B-BB46-61F988C3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20E-62AD-4128-9F15-02CEA86D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06F80-3F8D-4004-BA2C-D0310AFC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48EFE-A233-49AE-8129-FE889C89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8D571-5335-402C-9A7E-8A6621A2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384DF-AC07-46C8-987F-6CBCAFF5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5C784-E72D-4162-B2CD-88C555F9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BF862-EBED-4AF6-82AB-096ACC5A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ECDDF-9CDB-451C-9B28-9B1D050A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4162D-837A-4857-BEE5-1B35312B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FF2E9-D05E-4D3E-97D4-E85182E5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B3AA-C073-4AC1-B134-F6D95AF8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CFAC-A62C-4C89-8444-81B3AE73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E34-3E1F-4E81-B7B3-1653F64A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DE5-5922-4FF0-A179-59F5A4C3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707-DCCD-466E-9AD8-F6537875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7793-45F0-4A1F-83E5-E6C7C8048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9C6C-C0E9-4712-BD9F-966ED78F3E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4F12-2810-4409-A994-8511FADA6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aith Of Our Fa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CATHE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erick W. Faber (18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i F. Hemy (1864), Arr. James G. Wa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aith of Our Father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aith of Our Father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324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aith Of Our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aith of Our Father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aith of Our Father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aith of Our Father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324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aith Of Our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aith of Our Father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aith of Our Father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aith of Our Father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324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aith Of Our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aith of Our Father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1:19Z</dcterms:modified>
  <cp:revision>26</cp:revision>
  <dc:subject/>
  <dc:title>Slide 1</dc:title>
</cp:coreProperties>
</file>