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182A-5456-49AB-906A-A57F07529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31D9-DE7E-4972-AC9A-FCC69A2DB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3A2F-A35A-4BEF-9FE4-E1503F896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28A2-8440-4C13-8ABA-DEE9B23E2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EA93E-D670-4B59-B029-868DAC98B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9371A-C1C2-4403-86C8-5ED59F01D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CFFBF-388B-49D5-8FD8-246803107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D02F2-6F20-49E8-85FE-F6D3B763D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FC051-5A03-4203-87B9-B6190B2A0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A72DA-9057-4F40-8283-8BCB558FB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4F291-23BF-4D12-8A89-588A1CE81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6762-443F-423E-A35D-299C1C6F2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E22FF-7ED0-4E4A-AC3C-A188ED8D6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A51AE-7FA4-4162-84DF-B7385A693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A26B5-589C-427A-89BF-AA965EDA9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6F72B-8E83-4A64-93B3-C1A9FF759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FEDB9-9F4E-410B-B5C8-6F9C224FE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2262-1249-4E11-A583-2398F4EBF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AD3B48-39DB-405A-9144-25111518A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882677-CD07-4020-B5DE-38B1032FD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322CA5-1FF1-47E4-9914-F28D03D0A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9A72-7D77-4ACC-91E0-A084EE784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6522F6-8039-42A7-81A6-B1CFD8D4B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E48498-CBB9-4682-81A5-BD21E36D6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EC671E-18CA-47D5-93C6-623952DB8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01466E-84A7-4A4D-8EA8-FBBE6BC78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A3D9FF-07DE-463A-A8B2-0EFFD6A99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775990-3EFB-4354-8A82-18D3CF388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B99B7E-9F56-4AE5-B82A-EF2C19F8B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03F23C-BE4E-430E-9136-8405E57BB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88D14C-A664-4EEE-906D-41B457791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9F70-2A81-4332-8BAA-2498AA6E7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79A3-97B6-4112-A014-BB5BF0283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EB68-0634-440C-BF4B-4665C7A35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670F-1F44-4938-BCAD-8ADCAC315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886F-0333-4E59-A96E-E91D54072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79B5A-5B31-4642-83E3-2FFF87A799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FE413-FBF9-401C-BAB6-D76FB7E2F91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4B7DA-C0A8-4162-A4D3-B934CB7260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Glory To His Na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A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C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E. A. Hoffman (187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. H. Stockton (187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Glory To His Name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95760" y="6488280"/>
            <a:ext cx="29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Glory To His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Glory To His Name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Glory To His Name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Glory To His Name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Glory To His Name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95760" y="6488280"/>
            <a:ext cx="29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Glory To His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Glory To His Name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Glory To His Name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Glory To His Name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Glory To His Name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95760" y="6488280"/>
            <a:ext cx="29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Glory To His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Glory To His Name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Glory To His Name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Glory To His Name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1-25T17:46:18Z</dcterms:modified>
  <cp:revision>23</cp:revision>
  <dc:subject/>
  <dc:title>Slide 1</dc:title>
</cp:coreProperties>
</file>