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3B7-23E3-4A33-89F8-EEB08D11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104-3005-4740-9399-5AFC0886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DD4-6608-4D9B-A9D2-C1102D82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751-E5FB-457D-ABF3-5C8680EF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474-E88F-4B7B-B6DC-4E1799B4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0A38-028B-472B-B17A-1B64FE9E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B407-986A-4281-9B90-702C8CF5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D02E-CA19-4A1B-8F4E-E7D8AA66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BA5-E757-42A4-8518-0B6F47D3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E4BB-BF55-4582-A50B-A6BDA0E2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CBE2-08CC-46C8-9FED-944E82D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C9C-9E76-453D-9FF5-B562D93C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C7EF-01D5-4BD1-B232-93F4907E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E963-12A5-4A65-B6E4-F95DBC9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D9BA-A86F-4CC3-AD31-6E603256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F58A-A73A-4F68-BC91-30F2C67E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6A8F-5B83-4111-A805-B3F3C3CA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F6B-9C0D-44BF-8559-D6210FB0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0453-F2D8-4B1B-B888-5A5E8FD5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CBA9-0299-4687-AB98-01326BCB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E193-2333-4502-9972-F498EB83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A72-5E40-4E64-8F90-E9C7E77E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A337-D4D8-40D9-A2C1-9D961A9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CBF4-817F-4338-89D5-12C533ED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4F5A-ED2F-4CF2-861E-349FBE8B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65FC-11AD-4303-9279-451A89BD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3435-0C60-4E45-B529-A7743374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684C-1BD6-4ABD-B455-B6DBDF31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CBE9-90D4-44C4-9ADE-16CA3531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DE6B1-7BF0-4AA3-9C02-E94424FA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F518-FCF1-469B-9066-BED21BA9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6AA-AC6D-48E4-87A1-BA985C5F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B5D-28F0-45E9-90BF-138DC2DD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3E9-9897-4CB5-924A-10885DC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C1D-6936-432C-80E9-4B7DC64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667-841F-41D9-B5A5-80AA0F2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6867-2B6F-456A-9BD6-EA3069498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77D-14E6-4600-B11D-12341A17C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575E-E8AA-4EBF-8072-AA632BCF5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llard’s &amp; Badg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ymns &amp; Spirital Song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E. S. Lorenz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od Is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0560" y="6488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I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d Is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d Is Lov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d Is Lov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Is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0560" y="6488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I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Is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Is Lo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Is Lo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Is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0560" y="6488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I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Is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Is Lo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Is Lov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7:42Z</dcterms:modified>
  <cp:revision>21</cp:revision>
  <dc:subject/>
  <dc:title>Slide 1</dc:title>
</cp:coreProperties>
</file>