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5E37-36EE-40EB-8C2D-D00056DA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5053-36C8-4FDC-9442-AD5861E4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D6E7-12A4-495D-8AA3-A8EFF02BB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D9BA-CA76-4BCA-B0F6-F35A56053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C8FA-ABA5-48B3-A8F7-FF9953E77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98A5-F950-491F-A0C6-53E3402E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755C-EC1C-4AC1-8433-9C6ACE96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8EEE-1A3B-4182-B2CE-DAFAB44B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8749-B153-4C2B-8993-370FEA22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A248-09BA-4261-85FA-40B1F1C8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2BCD-2A3C-44AF-BDED-98ABB715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3656-9799-4660-BADA-4767CBB9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7FE4-A4A0-4624-A16E-666C6187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2144-89D5-4E5A-93E1-82B001E6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048D-4839-4137-97EF-9B667320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C44C-7F05-4355-9569-01B0FA05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FBBB-A11B-41B3-B055-911672005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C110-4F2E-4DDD-9C6D-E46C0F61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890C1-F9F1-46E8-B619-D6BCF3747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F8BC0-2A9E-490F-984C-279F3CAB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2A19C-9CF3-4682-8A2E-502DE296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2A87-72B9-4753-BBB8-13295508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02BED-7A96-4C07-A5A6-EE09A5A7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11C47-2A6F-4499-8849-45C48C5D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3D9DE-C2D7-4164-AE04-B741A6BF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FB649-46E2-4128-9F49-FF789B87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6C0B0-2B00-4A29-95B8-45297567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9BC1A-0F14-4E9B-A7E4-6713E09F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02364-A41D-48CE-8BDA-20BE405C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19884-454A-4302-91B7-385122CB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785BC-E757-42E0-9450-F364952B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22D3-4CBB-4F62-ACD7-1C19A697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1425-56EC-4973-B77A-3259F37E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1F41-BF8D-407A-9A92-D77C64C1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CCB8-D6CF-4F93-A772-6EE3F024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3395-0D9A-47EE-B626-4CA8C9A1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20D2-70A4-404E-9F55-A96C5EE344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2FAC-46AA-4AC4-B401-B2824883AD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8CF3-4ECD-4BF3-A024-6B407C10D7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Glory Be To God The Fa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CWM RHOND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.4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2280" y="4902120"/>
            <a:ext cx="13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oratius Bonar (186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Hughes (190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Glory Be To God The Fathe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3040" y="6488280"/>
            <a:ext cx="38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Glory Be To God The F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Glory Be To God The Fathe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Glory Be To God The Father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Glory Be To God The Father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Glory Be To God The Fathe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3040" y="6488280"/>
            <a:ext cx="38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Glory Be To God The F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Glory Be To God The Fathe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Glory Be To God The Fathe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Glory Be To God The Father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Glory Be To God The Fathe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3040" y="6488280"/>
            <a:ext cx="38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Glory Be To God The F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Glory Be To God The Fathe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Glory Be To God The Father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Glory Be To God The Father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7T21:23:15Z</dcterms:modified>
  <cp:revision>32</cp:revision>
  <dc:subject/>
  <dc:title>Slide 1</dc:title>
</cp:coreProperties>
</file>