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523-120A-4739-B5F7-8161060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F30-2E00-4275-B5AC-D0B5E577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41E-9242-44C0-BC2A-BBC8BD6B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B9B-2902-4DF7-970C-251805D3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369C-19DC-4462-9331-9CBC6F20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E5F1-E627-4DDE-8ECD-3A2D9953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2E9-3338-4796-9B08-9A475877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C5E-16EE-4B67-ADDC-8BF94C4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093D-22FB-4ED7-8BEE-F9B4065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6A9-FB61-4093-89C0-D45511F8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5FA-80C1-4ABE-BAB7-7E0135B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B43-9DA1-4D23-88D8-4A109CE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D6E1-6414-481A-BD1D-F498004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7E1-A9AC-42D5-910A-0468990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C2F8-ED93-4678-AB1C-454E76BB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8CA2-A01F-41AE-8EBF-0C6E16A4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285-DEF9-43A7-906D-E5A474F6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FC8-255F-4FC3-BF91-D88E9F93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F9EA-F1B9-47A7-9666-6F61A89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25E2-486E-44C1-8C94-2A3F27B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45D3-0FB0-40F1-9910-934167E1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B55-A9C6-47FC-99B0-46C0686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59FE-1DCC-4F38-AEE2-BE866672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3C52-AD1D-489B-A175-F795DCF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90CA-5833-4FBC-961D-4874F313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1C68-4660-4C19-B473-6A1E257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F8A4-F177-4E8A-B739-624FA81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A601-4C5C-4CFB-83FA-B65CC67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311F-4C9C-4B40-9C58-9E27182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8E43-12F6-434A-AAAC-C0EC0E3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1C5E-30E7-4D10-BCEF-0999F0C1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7A2-10D3-4A8F-91DC-5B313D8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AF0-452D-4249-BB40-1DB6B177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000-297D-4860-B96D-FA523DF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96B-3DA8-4FCF-9778-3A0A44D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337-C593-448D-A050-68CB8A8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2F53-DE86-46E5-A0C5-191DD93DE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D391-0C7F-48EE-8253-733922E10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748-9EBB-46FD-9897-48C130044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Be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Rankin (1880 &amp; 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G. Tomer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Be With You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Be With You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Be With You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Be With You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d Be With You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d Be With You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d Be With You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d Be With You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Be With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Be With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Be With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Be With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Be With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Be With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Be With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Be With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56Z</dcterms:modified>
  <cp:revision>29</cp:revision>
  <dc:subject/>
  <dc:title>Slide 1</dc:title>
</cp:coreProperties>
</file>