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58E-17C0-4954-97D7-8B102678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34A-4F7A-450B-A21F-59DB0919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CE1-6F1F-4FDE-8DF6-7B825C4C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0B7-92BE-4C7C-BDD2-405CB714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F26-33D1-4155-A8C0-D864F893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7FE-ADF8-42CF-89C8-E136BE02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4202-F1F2-4B38-AFEF-61E4FBA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148-0731-4ED5-B4FB-67CE4F7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214-E5BB-4DB3-9360-980A197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A3E-E410-4234-95F9-3BB697B0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07F-C0EC-40B8-A029-E96FA704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644-345A-4DF7-80D0-D74BCCE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0C4D-EE7B-4A10-B08A-9F6FE80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07FC-63D1-475E-93E2-B75261A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8EE-117F-40AF-AB94-EBF8823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D3E-B64A-4FFA-9546-E107912E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4F9-4C0C-44A2-8CAF-5B85E261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73F-E7CC-4AAA-9F80-9C03E263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98B9-1FCF-42BD-8721-F758F15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A345-3621-4BF9-982E-A6C09EF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AB2D-B57C-4335-BF20-16C943D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3F9-0614-46E0-930F-D4D2258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C65A-7540-4C6B-B8AA-AC155682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2A86-B5DB-4CA5-9708-5DDC51A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E02F-0956-44FB-B475-D6C182B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CDC9-3339-4803-B8DF-FAFA91F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42AB-DDF5-4B68-BC69-0829FC6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E218-F329-47A6-A44A-E0F872C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8385-BF86-40BB-B0BF-C84C670B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D8A4-3952-4EFA-81EA-66221406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A227-73CC-49AE-8D22-5AE9F0F3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555-4E7D-4662-A644-0B23F86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3F0-D77B-428B-8517-21F7A30C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7AA-475D-4ADB-A82F-3537A7A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1B4-BFBD-45BC-8F9B-6E4AB89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456-EB6A-423F-9BD2-A3FF7D2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2BBA-5FB6-4342-A161-64E99B82C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16F-EBA8-4494-86DC-D0DB159A8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281-07E2-4A4A-96C4-BE3495149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Me Th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 E. Hewitt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ive Me Thy Hear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ive Me Thy Hear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ive Me Thy Hear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ive Me Thy Hear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ive Me Thy Hear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ive Me Thy Hear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ive Me Thy Hear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ive Me Thy Hear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ive Me Thy Hear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ive Me Thy Hear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ive Me Thy Hear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ive Me Thy Hear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2:27Z</dcterms:modified>
  <cp:revision>27</cp:revision>
  <dc:subject/>
  <dc:title>Slide 1</dc:title>
</cp:coreProperties>
</file>