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8F3-F3C4-41CE-8E26-D46C9A23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D7D-15A0-441B-ABE6-8A5D1969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E95-94BC-4AA9-A8D7-574CBC08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A17-C15C-475B-8928-18CAB111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4E3E-62FA-4746-9ECB-42C2CEC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F41E-F0EA-46F1-8BB9-1595CE6C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CDAC-D022-4076-BE46-B1ABFE1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5B3-C570-4AC8-B0CA-A7164B6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051F-6B7D-4442-BE41-AA31175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8D53-1CDC-4597-BEBF-A8C032C5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9C91-C0AB-44C0-983E-BE0BE280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A57-0828-445D-A30A-C414E7E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194E-2909-49F6-8628-72DB6843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625-9EC2-4E3E-A7C6-CECE2D3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3B8C-EF5C-435C-8315-93330D5F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0DFE-BBF9-48D3-B698-4D4DF721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49FA-A1C1-4AAF-9495-66CF3F77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8AC-E67F-4CAE-9269-00B048E1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313-46D0-4EDC-A986-3E9105A5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700-DB80-49EB-A591-C9760863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1B1-B89D-4667-9175-7650ED6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602-EABA-458C-A863-872DEFF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C76-2D47-4A3F-84EF-872A7875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338-41C7-4A45-982B-790D5B2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6D7-AD43-410B-9667-C03C1A890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A4AE-0E76-40B1-98B2-B3202FFC07F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ive To The Winds You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ul Gerhardt (1653),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ra. of Psalms 37, Tr. by John Wesl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ive To The Winds Your Fea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996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ive To The Winds Your F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ive To The Winds Your Fea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ive To The Winds Your Fea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ive To The Winds Your Fea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2996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ive To The Winds Your F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ive To The Winds Your Fea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ive To The Winds Your Fea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0:55:22Z</dcterms:modified>
  <cp:revision>30</cp:revision>
  <dc:subject/>
  <dc:title>Slide 1</dc:title>
</cp:coreProperties>
</file>