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E82-E6C1-4A11-936F-7A9B3271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260-F158-4DB0-A1C3-EB11B0B8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9BD-45A2-498E-B963-4CDC44E1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2D0-4723-4F97-B01A-CE9B784F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2402-47B0-4914-BD18-F629B021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8637-F163-4EDC-9FF3-040187C6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1C89-7F1C-408C-829B-477EFD8D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8E9B-9680-4985-9FAA-870D86AD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04C1-F4F7-4EE8-B7D5-13A977EC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7C35-0D23-411D-AF61-1AB7B88C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A891-2200-4CFA-B0BE-A31C9D1E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3B7F-BAE7-4F5E-928F-463BC9C1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0C2F-E8D9-4582-973A-6480AE63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F7AC-3CC9-492C-89FC-F05451FF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0926-A388-4A5E-8E4A-8667610C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3B2A-B7D4-4F45-9E32-9B67870B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0B4B-D97E-41FE-A7CD-2474383F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8F8-9AC2-4E83-A356-44110915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A2BA3-CC06-4984-87C8-B16094E1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7B08F-A013-4C29-A1CF-5CE79AEB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EFD03-AC17-4F50-BCDD-BB4BA952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CCE-F045-418C-A2F2-134FF59B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C5B56-56C0-4273-B102-6F065F5A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E9E44-5438-4A64-8783-967D9D8E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25BF-91B9-421E-A1D7-8DD848DE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ED3EF-3D9A-44EE-836A-970CD503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35A26-634A-438E-B9DD-390293F9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E9264-D33A-4F59-AA0A-47F174F8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37FA4-BB9B-4876-9C82-63861E99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E59F9-EAC5-416A-B0EC-17DDB276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57683-A895-40D3-92CE-7A6C38FA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73B9-DDF7-4708-9D0F-1A96F1E4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B4C-BAED-443E-9C05-785CF72E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4D39-9EB1-4E33-8AB4-295A9E8C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BB46-1416-4578-B9A2-E74FD9D1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724-1155-492F-986C-DC6E7A1B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B232-4424-44B6-A066-06AADEC72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A19F-B7E4-4491-B1DB-E2364320A6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371F-32E4-4290-AD04-26C7BD9FD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d Calling Y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113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rhard Tersteegen (1735), Tr. by Jane Borthwick (185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G. Foote (18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1419120" y="6289560"/>
            <a:ext cx="630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Lucida Sans"/>
                <a:ea typeface="Arial"/>
              </a:rPr>
              <a:t>This hymn is FREE to be used for the glory of G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God Calling Yet_arr1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100080" y="648828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od Calling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God Calling Yet_arr1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God Calling Yet_arr1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God Calling Yet_arr1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God Calling Yet_arr1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100080" y="648828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God Calling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God Calling Yet_arr1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God Calling Yet_arr1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God Calling Yet_arr1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God Calling Yet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100080" y="648828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d Calling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God Calling Yet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God Calling Yet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God Calling Yet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God Calling Yet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100080" y="648828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od Calling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God Calling Yet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God Calling Yet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God Calling Yet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5:16Z</dcterms:modified>
  <cp:revision>31</cp:revision>
  <dc:subject/>
  <dc:title>Slide 1</dc:title>
</cp:coreProperties>
</file>