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C1E-BBD4-43F2-8F4D-909D4963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9B2-899A-40BD-9AF6-93204E99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418-3D11-4616-82BA-5B8F83B6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997-D3F0-49A9-95CA-0BA22D96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6622-7621-41FD-B4C9-24C02028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5819-F040-4BFC-871A-0B808715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6025-69A3-4FD8-97CB-402393C2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BE9F-5F3B-44F3-B6A2-A5CC33C9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68AF-9B64-4ABA-8F04-B7B3B3F8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03E8-10B6-4F08-8006-E2E9B1B9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9CC7-2087-4026-88EF-FA7D1BAE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817-C531-4B0D-B1B6-8899EDFA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D843-4086-46FA-AF92-720BF22A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863B-86BA-4C10-B672-248F2393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5D62-BB69-468F-A7B8-A8ED7DC4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D43B-CA15-4E22-913B-053B924D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F6CD-9B26-46BE-81CC-AFF21CD6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7FE-FD27-4381-948B-A8888C88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BA4-ABE3-49F0-904C-172E7C70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DC6-8795-406E-8CAA-181E4C50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CA7-A1A0-4E29-9A28-5593F702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6E9-A5A6-45C1-8B93-73AC61F7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F9D-ACA9-43EF-9232-AD6F813D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C2C-6D49-4B89-B392-CEDD34C9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21B8-1D71-4E15-8841-F0841F57B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BFD1-9FA3-4A8F-AA93-1153315B8E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uide Me, O Thou Great Jehov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Z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5000" y="4902120"/>
            <a:ext cx="13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Williams (1745); Tr. vs. 1, Peter Williams (177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vss. 2-3, William Williams (17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Hastings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uide Me O Thou Great Jehovah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5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Guide Me O Thou Great Jehovah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7720" y="648828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uide Me, O Thou Great Jehov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Guide Me O Thou Great Jehovah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Guide Me O Thou Great Jehovah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Guide Me O Thou Great Jehovah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17720" y="648828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uide Me, O Thou Great Jehov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uide Me O Thou Great Jehovah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uide Me O Thou Great Jehovah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Guide Me O Thou Great Jehovah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17720" y="648828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uide Me, O Thou Great Jehov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Guide Me O Thou Great Jehovah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9:01Z</dcterms:modified>
  <cp:revision>24</cp:revision>
  <dc:subject/>
  <dc:title>Slide 1</dc:title>
</cp:coreProperties>
</file>