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068-1E19-41F3-9B94-4C01A7C1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0D2-B2A5-4B2F-AA73-54910489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566-7CF1-416D-B882-1993D02D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59E-C1F7-4809-A930-128D99B3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6CCF-7211-4501-A2A7-42665A34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87F3-973A-4B8D-9EB6-D81C324D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3B0D-F25E-44A7-BA33-47D19C8B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20BD-7F9E-4818-B8F3-081B19DE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91CA-7615-4A33-9AF8-5C6515C5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9C76-2D44-4293-8FF0-858EE9FA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F1CC-0767-4C6A-9016-4F4CC34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667-3A12-400F-89B2-E544EB2A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F54F-5371-4A58-8639-C970517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708B-D51E-4871-98E0-DEA423E7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D128-5235-45D8-8DDF-EE374FA9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B7D5-8F1B-4734-B8E6-6DE7A92D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661F-2C2F-4164-ABF3-AC34A165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793-6112-4ED5-8117-13D24109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2D77-63FF-434B-85CD-EA207FEC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4CA1-7D7D-43E5-BBF9-C0663E4D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0FA4-4B59-4647-9469-251EB6AA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B37-8CFD-4ADA-B8D4-8803C91B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19DA-DC74-4AB4-8238-208F93A2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0D57B-74DA-4583-94DF-6168E5AF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4CEE-9998-4320-9BE9-E16469E5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44DC-8881-487C-9C07-BC9479E9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FD7A-4121-4BC3-A90A-7BF992CD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949A-F36F-4212-BB45-886537CF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C8B7-8A3A-4F8D-BA47-AC1F16B2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3DC2-1525-449A-8CBB-18F37E07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966B-04FE-451C-9948-5ABB89BD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740-102F-4B10-91DD-A889A8C4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B16-E28A-43A0-919A-6C2DA903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755-37F9-43F4-A869-10690FD2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A02-7D65-4B25-BBBB-FE8AC02A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A67-1317-4FF9-AB44-416227EB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6A8E-D404-4E44-9471-583DE6E77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1821-4B37-450C-9F6A-20291E9EB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F9F1-6AC6-4B63-A9BA-B61BD5F87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Holds The Future In His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D. Vaughan (19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3560" y="648828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Holds The Future In His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od Holds The Future In His Hand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od Holds The Future In His Hand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od Holds The Future In His Hand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God Holds The Future In His Hand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560" y="648828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od Holds The Future In His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God Holds The Future In His Hand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od Holds The Future In His Hand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od Holds The Future In His Hand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Holds The Future In His Hand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3560" y="648828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Holds The Future In His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Holds The Future In His Hand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Holds The Future In His Hand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Holds The Future In His Hand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Holds The Future In His Hand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3560" y="648828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Holds The Future In His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Holds The Future In His Hand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d Holds The Future In His Hand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d Holds The Future In His Hand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5:45Z</dcterms:modified>
  <cp:revision>32</cp:revision>
  <dc:subject/>
  <dc:title>Slide 1</dc:title>
</cp:coreProperties>
</file>