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92C-458D-44EC-BD13-26E579B0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C9E-67E8-4459-AA35-2717579B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832-AE16-4110-84B9-CFEB3C18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1B2-475C-4790-BCB5-B0EFD65C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2C08-A655-4369-8822-917A3FD4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2E5C-088B-4857-8609-1507FC96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9856-D35D-45D7-A767-F8E5EA9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D519-1BC5-4EA1-ABE9-56E3D5E7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490E-7C9F-4F0A-841B-94D6B944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586C-4B53-4208-A18C-B671D494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350C-D55E-4DD7-AB8F-6A145A2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036-6AC3-4D5C-A372-FDC34261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4422-22EB-4AC3-9295-5D99EBF2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4F33-BEE0-451F-A0E2-A47F26D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98E9-EFC9-460D-838A-F51E9E0B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A055-35EE-4890-8D18-AF99B0AC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C701-4F68-4935-A0DB-475EAE64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CAE-81F1-4C9A-AC90-E8CB66A1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451B-1779-4F57-B3BF-DC30F1EF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A834-FC5F-49FD-A385-6C687C68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D8326-CFB0-461A-BCAE-EB94A6A8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5AD-1A69-40D1-9293-625BCC3C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EE4D-8637-4290-B629-8BDB5BDC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B398-3981-4C50-835F-B94DD571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EEDB-805E-4FC8-915F-2C6C0DE8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025C-6DA7-4DD6-AD01-A0FAA3B6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B0907-6A55-4582-B8F6-6B38F02E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05B58-8E94-4AB6-B3B3-8BE446A1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0158-CA84-4292-B536-B6C280E2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47EA-D576-47E9-A598-4886F5B4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BA9B-BB0F-4232-9C02-BA11BDC1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935-D7F9-44F6-8DA0-D38EA564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E14-375E-44CD-AB3A-BCB3F6CA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099-584B-40EC-AA53-C6630A3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FE8-E964-41B5-9845-9D0F7612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4A1-3B2C-4C84-AE70-8005D26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1E56-CF9A-4C22-9768-9C4AA85A4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A624-4C0A-4AA1-B342-AB79833D1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54FD-3C8E-4541-8E78-3785B3901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 Tell It On The M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GO TELL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IR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piritual, vss. John W. Work, Jr.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 Tell It on the Mounta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920" y="648828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 Tell It On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 Tell It on the Mounta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 Tell It on the Mounta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 Tell It on the Mounta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5920" y="648828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 Tell It On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 Tell It on the Mounta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 Tell It on the Mounta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5920" y="648828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 Tell It On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 Tell It on the Mountain_vFIN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4:35Z</dcterms:modified>
  <cp:revision>34</cp:revision>
  <dc:subject/>
  <dc:title>Slide 1</dc:title>
</cp:coreProperties>
</file>