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488-61D1-4F0A-AEA2-685E539D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CB0-455A-4AD9-AE61-60AE23DB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E00-A429-4083-A90F-50EB05FF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6CD-4690-45D2-A88E-56801234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4BD7-54F9-4C15-BB9C-77A53ECF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A0FA-D3F7-440A-8294-D4144636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3F7F-835F-4103-8A9B-D1C0FAC8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36B2-1388-42B1-8EE1-950ADAD0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7139-7536-439D-B12D-B36AC2AF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D1D9-036B-4B0A-92D9-A678460C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4826-5DFD-4ACA-8329-BBAFDF28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F6A-D65F-427F-B462-99959331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BA82-FD14-4FCC-BABE-24A22BD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D750-10BE-45AB-9573-BD75A34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6ED4-3849-40AF-8C00-3C86B721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9977-13C8-4393-A6EF-861C2783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C773-BC1B-46DA-8EDE-53876E65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FB1-6876-41FF-A211-8A71C9C5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1B5A-643A-482C-A478-F0FD7B71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90640-96BF-4D0C-98B4-75CF16CC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126F1-859D-45AF-AE00-50F7CB6D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12C-EA73-4ED5-8F1A-DAF85167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A7B7-578B-4824-A1B1-6F71A207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AD487-6DB7-448C-BABE-3283F906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92AC-329F-47A3-8E82-2EAE0D4F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89F0A-AD1E-44EF-80E5-427014B6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3E4C-2778-4AE9-A8BA-AAABF09E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16137-0EF7-4EFB-A3F8-F95ABEF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AE34-3D3E-41E2-B010-F0C989EF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AFFF-82EF-4537-8BD5-B99038BC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1601-77EC-445B-BC91-29636D08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178-0C0B-4BDC-823C-A2B18F56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A63-A7DD-4B44-BE39-5D314160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7BA-480F-49DC-B264-365A181B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C1F-6900-4EC8-8000-FDEB58C3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285-92B0-4F94-9F1E-A2B827A4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25BF-9B35-49EF-8E13-C48412F4C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6893-CB2B-4AA2-9FB7-2F2B4F5DE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23A5-29CF-4B9F-976F-7C11E3C74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Of Our Fa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NATIONAL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10.1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C. Roberts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W. Warre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Of Our Father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920" y="648828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Of Our Father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Of Our Father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8920" y="648828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Of Our Father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d Of Our Father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8920" y="648828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d Of Our Father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d Of Our Fathers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8920" y="648828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God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od Of Our Fathers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8:08Z</dcterms:modified>
  <cp:revision>30</cp:revision>
  <dc:subject/>
  <dc:title>Slide 1</dc:title>
</cp:coreProperties>
</file>