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D88-2517-433B-B5FF-2C0A6F9D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00F-B900-4650-8712-CBA96A9D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9F1-64B6-42B9-AE3D-9039E92F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E28-1953-4640-94B1-57C9D351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AB9C-FE99-48FD-A9E9-D6F9D027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3E86-171E-4A3D-9429-82693CE9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353E-500C-4005-9353-539772F6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3DA6-2C8C-4913-B520-B786A3E4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1A02-961C-473E-955C-F6D3D82A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8E35-8599-43B5-8A7C-D560A3A1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2AA6-3EF6-42E4-9065-222129D1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B38-79F8-4079-AD0C-BBA26034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F0DA-59EF-4587-A707-37865BB4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FD83-A3A0-455C-9055-CEC5F743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BDAC-603A-409E-96E7-C3458CCE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5780-A3F9-44B4-88E6-66860745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452D-D1A1-405B-9EDA-659DB684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8C4F-5CAA-4838-8550-9DC6F239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057BB-CF12-4E95-9668-B2A07D8F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78D60-87B9-40DA-BD00-8FEBC79D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56710-C8C7-417B-A8ED-4F85F470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9FC-C5E2-4E02-AEB5-3525BC68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0755A-3CA9-47C9-8AD3-0472B839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CD533-9F14-4228-B60E-3998548C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7437-36D5-45F3-9463-609CC4B1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E1B7-EB5F-4CF0-B965-EE1BB7B2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D4CFF-4022-40AB-8A52-C2513763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FB08-D882-4DB0-8442-B9764687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00B1-825B-4FF1-AD92-0F1A718B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11050-ABD6-44B0-B6A9-DB8CD171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BC7D-97A9-42CB-9C11-E041B899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317-FAFD-4FF7-9343-5ACE01E9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7AE-1DDB-457B-AC9E-6192DB3E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7E7D-E87A-4F23-A09C-F5B9EC7C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E3D-58B0-4A66-A552-6478E159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7AB-E95F-4F3C-8069-9E9DC4E3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DD14-A5D6-4183-A256-521119ECB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3DEF-7D84-4117-ADDD-65D25BEFD2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124C-AA67-4B7F-AF54-220A298C9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 Into Th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rown Roland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zley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o Into The Fiel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o Into The Fiel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o Into The Fiel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o Into The Fiel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Go Into The Fiel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2880" y="648828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 Into The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Go Into The Fiel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Go Into The Fiel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o Into The Fiel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Go Into The Fiel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Go Into The Fiel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 Into The Fiel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880" y="648828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 Into The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 Into The Fiel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 Into The Fiel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 Into The Fiel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o Into The Fiel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o Into The Fiel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o Into The Fiel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2880" y="648828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 Into The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o Into The Fiel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4:15Z</dcterms:modified>
  <cp:revision>33</cp:revision>
  <dc:subject/>
  <dc:title>Slide 1</dc:title>
</cp:coreProperties>
</file>