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7F1-9D61-4AF9-8E6C-F17D929B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407-38CA-4FB3-91CF-D86B2717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21A-91BA-4E8D-A3EE-D84664FF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B06-80A0-466B-A115-05F59A3A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FB5-6DF1-42EA-A4CF-CB78F44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452-7197-4008-8576-0B4706C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501-B4FF-472E-A07A-91B0A7E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5B2-C6C1-489D-B7C7-B4438857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980-5DD1-4C87-A552-7B50CCB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749F-1CFA-4F4A-982F-C6700B4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FAAB-5E61-448C-AD32-F40305F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999-1708-42A6-A2C6-BC5E29E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698-C1A7-45A7-A7FF-DC7FB24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8E4-8792-4EEB-A046-711CA941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779B-B0A7-4DB2-9CB2-1FAB57AF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A28-EDB2-4088-8CC6-16C30198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0901-29C8-446C-9C9B-8BA62731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F19-8431-4791-9772-073F2EF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0281-5A7F-4A3C-919B-FFB5C3FE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4B92-216E-47D8-B62F-70465F83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7156-EADD-4835-B1C6-7736D6CA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889-9007-4564-A3A5-1F359AC2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AF52-0322-4D72-A5DA-C70F24C0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229F-088A-4803-9C0B-A2BC48DA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0308-16B6-4F6A-BD8A-F0201BF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8592-24BF-40BD-886F-FEAFEFA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0F2D-A45D-44AA-B60B-28CDAA4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ABCC-BF2B-4503-BE30-2B61D0D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B92B-EED7-4CDC-95E9-8E41DFA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7780-0D3C-4E9F-8CBB-DB9B0B7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3D5F-D1FE-472F-9AC9-FF07054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F30-BC3E-4BF3-8BF0-ECFB6D68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425-D9BC-4A0C-AEE9-B88646F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539-5B9E-4A58-B9CA-A80989B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C10-66D8-406E-B042-F0611DC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4F4-AA1C-40CF-B326-68A02DA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B8FC-1608-4DFF-B66A-2D4F38A83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1295-A2A0-476D-956D-E5BBC645F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4833-0F2A-467B-ADC8-5006E43E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Calling The Prodi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Is Calling the Prodiga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Is Calling the Prodiga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Is Calling the Prodiga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Is Calling the Prodiga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Calling the Prodiga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Calling the Prodiga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Calling the Prodiga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Calling the Prodiga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Calling the Prodiga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Calling the Prodiga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Is Calling the Prodiga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Is Calling the Prodiga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6:43Z</dcterms:modified>
  <cp:revision>35</cp:revision>
  <dc:subject/>
  <dc:title>Slide 1</dc:title>
</cp:coreProperties>
</file>