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927-ED2D-46A8-958D-6D210A08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95D-3BDB-43FA-9C96-DA5ED1C4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D11-0450-4DBC-BB1B-8E528FF7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830-097F-42A1-9F25-B909100A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E0AE-9746-4FAD-964C-AA73DECB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3139-69F8-4AAB-9F15-1944AE39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9C79-F386-4427-9ACC-52353EF2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AF2E-EDA4-4266-ADC5-4471C588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BFC6-C528-4B04-BCB5-A157F523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F01D-7C6E-48D0-9C8F-6855C29C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4BBA-3B06-4A91-A6CF-7290F3F3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CA6-D417-4394-8892-EDFBA6C7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29B9-CF79-4CB3-8570-EF85A623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0A5F-3A9A-4AE4-8A66-AC29005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CD67-8489-4529-8113-526E5961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9D80-6CF2-43FD-8D7B-5823BF5E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00D6-CB0A-490C-A284-C347E13C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3EA-3370-420C-93E5-E38275A2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5054-A4B3-417E-85C3-F4EFFD55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D4B6E-5798-4D64-9841-34DDA1BC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7D7E-72AB-4BB9-8B63-D96137A5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AA8-6D9F-41B1-B4FC-E7E2241C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EA69-5738-4843-ABB7-ECE37DA5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69E5-E918-4E4D-B3F3-238F2392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03C12-08F6-4E52-8852-ED104759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CF88-8127-4A61-A2ED-DD99F1A6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4383-010C-40F3-A3B1-89798657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6FA4-B172-479F-890F-29718CF0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2818-D984-4643-BE53-0459EEE1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D5A9-911D-4240-99AA-C66C0A30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3DB8-2196-4868-AF1C-9BFAE1D0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142-2967-4A66-9F1A-6BAD1650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206-152B-4C8E-AEEB-C3887FC2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A6C-61DB-46CD-85D1-7340B7C9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730-C6A2-4F5B-B70D-8295EEA3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EEA-6CE1-4FB4-9891-F8E66D38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466A-3522-4478-BA82-36975833E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7573-AE17-4D14-A1D2-431B9A362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B6C8-374D-4908-A4D1-85C0F8330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Is So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508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is So Go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0640" y="64882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Is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is So Go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80640" y="64882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Is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is So Go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0640" y="64882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Is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is So Goo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0640" y="64882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God Is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7:17Z</dcterms:modified>
  <cp:revision>21</cp:revision>
  <dc:subject/>
  <dc:title>Slide 1</dc:title>
</cp:coreProperties>
</file>