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B98-6E10-4703-8C37-A030E222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D3A-1026-4818-B76D-71B40A3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DC1-EE49-43F0-BF45-7DCC17A5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595-87DA-4125-81B7-D73F7FDF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5014-16A6-48A0-8548-39EB5971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89C1-7BA2-43DF-B416-C91F2DA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DFDB-7A54-4275-B7C8-4A7E2F9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871B-0E96-4FEC-ABF5-2DE82465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D37-6062-4836-8A48-38C1B2D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F389-90FE-4512-B5DB-A504F3A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48E2-3942-46F7-BD93-A7A8A07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C5A-2E70-4D66-8EFD-8B376D48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B4FF-875F-41D5-BE74-0E2C775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172C-3229-46D3-836F-40D8F34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28F4-211C-4A26-B2AE-40AB407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53DF-9F09-4663-8FC8-398640CF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869-A19A-463B-A377-95E840C0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F35-BDCE-4E64-A59C-ADED196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92E7-49B2-432E-A8FD-1A0BCC77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0BF7-AFF7-40A8-9A71-4E88495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C62A-BE4D-49D0-AA96-1D05976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87E-6E69-4564-89D1-644008C0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A749-7096-4BBA-8584-3689E9B3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7BBA-82E9-486E-9175-2A511871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2D7F-6EB2-4A14-B22D-708CD2EF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3875-70E8-4624-8B0B-6A5F999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71A6-8260-4185-9FF3-848B143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D3BB-F161-4DEF-BB9B-222EC8E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4702-E39B-469A-B6FA-1D90135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8445-BFA9-419C-A88B-52FD9CF0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9F73-3416-410B-8043-D640E6ED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2D0-BDC7-4265-AAB6-399DD44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1DC-CADB-4CDF-91B2-C9507FB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AB7-61A8-4ED2-8488-E148560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A81-4040-4551-AA77-7C559F8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2F6-9BDA-4129-8B95-4B32FAB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CDB-CB10-493C-BB1E-49ED665E0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5D2-420F-4E36-9F75-426BFE088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8D71-69F1-4163-88A0-0B928E2A6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Me The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ive Me The Bibl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ive Me The Bibl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ive Me The Bibl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ive Me The Bibl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ive Me The Bibl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ive Me The Bibl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ive Me The Bibl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ive Me The Bibl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ive Me The Bib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ive Me The Bib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ive Me The Bibl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ive Me The Bibl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ive Me The Bib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ive Me The Bib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ive Me The Bibl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ive Me The Bibl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1:23Z</dcterms:modified>
  <cp:revision>29</cp:revision>
  <dc:subject/>
  <dc:title>Slide 1</dc:title>
</cp:coreProperties>
</file>