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AD53-8189-4B71-967F-6AA633F2B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D39D-7058-4C22-9AC8-C60D830DD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5694-AF86-44FD-B6FE-11A63C975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241E-4DF3-4C47-B800-D377AEE71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92673-711B-418F-B8D0-8D544F200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7550E-D7A9-4158-951D-BB2056BBC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F63C1-FB24-4A60-AB35-32E7FEC90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DE69D-6B52-42EE-AC4E-B656E7348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50266-AADB-4CEB-ACAA-AA65C7928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037A3-95F0-4E15-98E3-B2ABDABD2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E1D5E-801F-459D-B3CC-F8C55943E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B8A5-2F01-4972-A236-86619AE2C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910C4-FAC4-4AF7-882F-3BA195342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CE939-37C6-4062-BD2D-CA24E9A5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0748F-1E6B-41B9-A8E2-6EF8D87BF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76257-C5E6-4375-B600-929C746E6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7D93E-935B-40F8-825A-5BE2099B6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5433-E957-4F5F-9C33-94C89512D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49B9-63AF-4C61-A19E-12DBB7533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426B-9047-4B2A-B3A2-13BD255D2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CB48-2CD7-42B2-AE71-F14E056A4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A7CD-AE5D-4763-A6E3-C3730AABA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1E4B-74C7-43AB-BC9A-22D96AE26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B85B-A3EC-411E-B180-231E53835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A45C7-C9C3-4E37-96F8-D71D233211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8C20C-F125-4FEE-B395-D5B6DB4D3C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God Has Smiled On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B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Unknow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Unknow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God Has Smiled On Me_arr1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94320" y="6488280"/>
            <a:ext cx="33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God Has Smiled On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God Has Smiled On Me_arr1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God Has Smiled On Me_arr1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God Has Smiled On Me_arr1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God Has Smiled On Me_arr1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God Has Smiled On Me_arr1_v1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39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7T21:07:39Z</dcterms:modified>
  <cp:revision>25</cp:revision>
  <dc:subject/>
  <dc:title>Slide 1</dc:title>
</cp:coreProperties>
</file>