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355E-6A04-45C4-8E3A-A9CFBE03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F694-5D2B-4CA5-8AFC-D2F3B192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5B6E-AEE0-46D0-8216-218BE4ED4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D58B-0854-4EF1-AD0C-38B9A826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9E55-6C81-49BC-8513-4D53752E0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AECE-957D-4A5F-889C-2232DD87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CCE6-BB36-4CEE-A53E-E1894E2A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96DB-BBB4-494C-8AFE-23D7E8B6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DACA-3DE3-46ED-B0EC-6FC2B275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7B45-03DB-45B5-8540-2EC9C246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0026-2F31-467B-9A62-A63AEDDF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E4A8-DD90-4934-803A-FCDC9547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FDA2-3439-4B32-8D91-8FC948A8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BAE8-99A7-4327-8760-0FC2CC7A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863D-424C-4ACA-850A-162CC080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AF5E-CF90-4B6C-9C90-D86F0B69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9A66-8EB7-4EF5-8476-ED9870FB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FA40-C907-40C7-9BA5-1D225235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E7B6E-A8CD-4D87-B75E-CF810212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A6605-D87D-4167-9F7E-6830E77B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0505D-1FC5-4AD7-8EB2-0154DF9C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75C5-598B-46FF-ACD3-D2A406D9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6FFDA-E2A4-4669-B4C8-55628837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49AD1-AAA0-4879-BF85-6CD1F664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F6CFB-5B31-46A2-9008-F5BBF7E0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C296F-BD41-4D7A-A504-284995DC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CAFEC-07CD-4D18-B707-A1C791B8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956C5-E3C9-4FA6-B548-5828569F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77219-8234-41C2-911B-AE1237B5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FBEE3-B8CA-4158-A7C9-82D8044FE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1FD3A-02E5-4165-BD48-55C1C650A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DE76-8EBE-407F-BF6D-1626F610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B9DB-5884-4AC4-BA1E-77BAFCFB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373F-1425-420C-A840-FA2367F1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991C-4971-4A88-9D68-597CBE56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770E-250A-440E-A67C-7C1708BC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5D60-4B43-490A-9FCC-01D2F07240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4853-A6DA-494B-8ECD-5E223C9F0C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1563-3E7F-48DB-B26D-716499A9F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Guide Me, O Thou Great Jehov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CWM RHOND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.4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2280" y="4902120"/>
            <a:ext cx="13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Williams (1745); Tr. vs. 1, Peter Williams (1771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. vss. 2-3, William Williams (17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Hughes (190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Guide Me O Thou Great Jehovah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7720" y="6488280"/>
            <a:ext cx="442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Guide Me, O Thou Great Jehov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Guide Me O Thou Great Jehovah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Guide Me O Thou Great Jehovah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Guide Me O Thou Great Jehovah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Guide Me O Thou Great Jehovah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7720" y="6488280"/>
            <a:ext cx="442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Guide Me, O Thou Great Jehov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Guide Me O Thou Great Jehovah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Guide Me O Thou Great Jehovah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Guide Me O Thou Great Jehovah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Guide Me O Thou Great Jehovah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7720" y="6488280"/>
            <a:ext cx="442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Guide Me, O Thou Great Jehov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Guide Me O Thou Great Jehovah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Guide Me O Thou Great Jehovah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Guide Me O Thou Great Jehovah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7T21:29:25Z</dcterms:modified>
  <cp:revision>29</cp:revision>
  <dc:subject/>
  <dc:title>Slide 1</dc:title>
</cp:coreProperties>
</file>