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D67-CCD5-4C6D-92C0-F1EC7629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BA7-C21C-4FEB-82ED-DEC38A4D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6FD-F49C-4359-BD9C-63E45C0F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35C-31F2-4D94-9901-54419FA4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BDB6-1843-4DE8-8348-9E80223A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9CC5-F70B-44D0-8AD9-CF81466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CE0D-3833-4383-A15C-D8A835D4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40FE-1100-497B-BD87-F9BED19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8763-1282-4A53-8217-94F76AA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3731-33F1-46BB-B3AB-BACD3B6A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9394-78D2-49B6-98C9-5ED26D8B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90C-608F-424A-B530-5486E91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660-EEBC-4B1A-BA93-3FB321C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A0F9-92E3-426B-8450-D2C17B2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9CAA-C1B0-4BA1-A62F-19C9822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6F5-A273-40AA-8785-01C1D1A1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6A54-E39C-4B62-990C-BF258F86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56F-9B40-4A67-A962-9328E75D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E181-2970-461B-B211-1C704975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7B27-7C9B-41A8-903F-AE17B95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17BC-93EA-45AE-BF38-D51602A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930-669D-48AC-B6C4-2736448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F7D7-EFA8-4C1E-B013-01D8937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3E2E-B9DA-4A42-80D4-9F9834E3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FF92-DFDD-4F09-BB35-0D04D1C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ECD3-2717-4CDA-8F3F-58B36F7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54D4-3C25-4A98-90AB-82A3372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4293-89ED-4B9D-BCF8-43EB810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FB37-12D6-4681-B528-2A60F237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81B6-E292-44E5-A0B0-333412C8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1260-9E81-4CDB-AB0A-C2144D00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E67-BE07-406C-94B7-7101018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1D1-AA34-4BE0-984D-97CC6FC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047-1E08-4B8F-BED8-8ACFEE1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29D-0FAD-476C-A6C3-031BD1A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45A-DFA5-4606-AE27-0A7E6AFB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133-EBA8-493F-A0F6-D0BA5F2F5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07E-3FA1-432E-90CC-68D4D92A7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E2D-CD90-4251-998C-A6CA6F8A7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The Fountain Wh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jamin Beddome (18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The Fountain When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The Fountain Wh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The Fountain When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The Fountain When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7560" y="648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The Fountain Wh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The Fountain When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Is The Fountain When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The Fountain Wh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Is The Fountain When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6:17Z</dcterms:modified>
  <cp:revision>22</cp:revision>
  <dc:subject/>
  <dc:title>Slide 1</dc:title>
</cp:coreProperties>
</file>