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3E8-54FB-46CE-946C-B6234A95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5F9-8273-41EB-8D2D-B84411DE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D59-C0A5-497F-9670-A95660D9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56A-7463-452A-9423-198FA186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30F4-65A5-4B21-B3B1-389EA372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24D0-97BB-41A6-ACC8-C859FFAE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028B-263D-44A1-A9F7-4B2DBA9B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03D9-F7D0-489E-8788-BE8341CC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785F-2223-4C77-B3CB-3684974C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834B-170D-4877-9A7C-01C1C8E9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FFF7-05B3-4F93-9CC1-6E58EB68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8CF-3FC7-42A7-8DB8-0DAAC05B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818B-4487-420D-8FDB-F058C2EA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23C1-1468-4244-85AA-8D256176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D223-A07E-4202-875C-2CE4DB77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8AF3-1062-4819-8AEB-22147B35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01F3-0B85-4750-898C-B39D44A9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4CF-F80B-424B-BE02-7A90F241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99A0B-7089-490C-8D53-AB11CEAE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8A7A5-B7CD-49CB-A2E8-0D027454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58B4E-EA4E-488D-ABBE-59B7F419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701B-5E6D-4EDF-BA1E-F7AB6481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98F31-EA1C-4144-9532-64D082FE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37054-F232-4BC2-80A5-73FB022A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8A574-331E-458C-9E9F-5D55ABBA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E623A-40E6-4542-831B-1EA7796F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EF2AC-1112-4217-857E-91E97C6E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0F3A0-4492-4647-8932-17F47A37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94958-0319-464A-AA2E-8BEBFBC2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F0B01-C275-4F3E-A39C-8C01978E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A24BA-FB38-4270-9753-CBD0F03B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E43-A32E-4272-BF7E-897EAE2C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7AB1-9809-4B8B-8AA4-600344DA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3FA3-390E-498E-979D-515C6DDB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40C-0F6B-4FBC-A261-50BDBBEF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32F-83E9-47A0-B985-9431BE50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1EFD-196E-4252-89DE-0966243F4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AA6B-6323-41E5-B610-2E4F677407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1630-02CD-497E-A3EA-C75EA6D84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race Greater Than Our 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ulia H. Johnston (19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aniel B. Tower (19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race Greater Than Our Si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0800" y="648828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race Greater Than Our 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race Greater Than Our Si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race Greater Than Our Si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race Greater Than Our Sin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race Greater Than Our Si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800" y="648828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race Greater Than Our 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race Greater Than Our Si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race Greater Than Our Si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race Greater Than Our Si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race Greater Than Our Si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800" y="648828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race Greater Than Our 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race Greater Than Our Si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race Greater Than Our Si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race Greater Than Our Si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8:30Z</dcterms:modified>
  <cp:revision>18</cp:revision>
  <dc:subject/>
  <dc:title>Slide 1</dc:title>
</cp:coreProperties>
</file>