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3E28-2CE6-42F7-8FB4-BE39A8B4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DC9D-5C33-4B76-BF95-E3770254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1F67-DC3A-4531-87C7-00A23ACF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0B08-148D-4192-B5F7-E79283EE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632D-AEBA-44D2-A715-93EE1B61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39BD-2C51-4850-ACB3-AD603111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E18F-F879-46C7-8106-F0FD27EC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8C9D-5DA7-4630-8CA6-68D5080B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4EC5-F510-417C-9A4D-AB75DEDC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5788-6474-41DF-A65D-E2916918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C6C2-80F8-42ED-A1DB-77B40ACB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819-F307-4330-9DB1-D504D648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9DBD-5750-476E-B4B2-BD6C383B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96E8-F302-40F6-84A5-249A147C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0D0E-2314-4EA2-9954-A8C3307C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265D-6356-474A-B921-9336F39D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F048-8166-464D-B0BC-A5B7F941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164C-E7C9-4971-9570-11856278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5747B-47A0-455A-BAD3-855BFB6F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5AB3A-544A-45F2-8F36-FF0C26C3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AFF8C-D47C-4C0F-9514-58BDF7C3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E24B-E64E-45D1-9E5B-A2B391C0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9E9FD-7F17-4818-A467-A45EFDDC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2FD2B-AB73-49B0-ACA5-9BA58B44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0B171-88EF-4FB3-9FF7-245D045A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C199C-15DA-41B9-BACB-244611AC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DECBF-8365-4296-B0AB-6D4D0788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5CFCF-4257-41EA-89B7-9644C16B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ED369-9BA7-4ED1-9683-23593F22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50D36-FCCB-4A87-9D2D-D54A71D5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CB5A9-5B6D-41C6-ADE1-406E920C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183-3B5E-4587-8A0F-22933ECC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0377-3BEF-40EC-B6D9-43AE7B22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8615-1279-432D-BC5D-97427C6E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C4EA-E704-4F36-9D43-2B371AC1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6D9B-8AF5-4488-B648-4ACA7C07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DBC6-DEBD-4169-AF22-137908BE3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6F45-13EB-47C0-8D66-32028C76BE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D1D9-97B5-44BC-915A-9672E8A04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oly Is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, based On Isaiah 6: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z Schubert (c. 12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oly Is The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1080" y="648828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oly Is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oly Is The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oly Is The Lo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1080" y="648828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oly Is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oly Is The Lo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20:03:07Z</dcterms:modified>
  <cp:revision>19</cp:revision>
  <dc:subject/>
  <dc:title>Slide 1</dc:title>
</cp:coreProperties>
</file>