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67E-C6E0-440D-838B-66939C48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A31-4DC9-43CE-86E5-7FA3C40C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D22-6170-45B8-AB69-6AA1E556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BD0-46C7-46FF-AE73-6EF5E2A1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AE05-DA38-4452-B401-1B920E1C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1252-3AFC-469D-BC8B-8FC5043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018-5067-4E4A-A01F-F7463625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4ED-F9A3-432F-9604-96DEC05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1C9-2253-4859-B530-08FE1EB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9B73-ECB5-43FC-B402-983654F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B5FB-58E9-4B59-82B4-432E126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713-AE78-4F09-9C41-8330BF8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F323-60ED-40A8-B134-83FFF38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1655-BB74-4ED8-9A07-ABBAABA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9993-270D-40B3-A258-EB60A867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D08-6A48-41B5-A398-919C500E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E23C-AB1C-4C36-BA7D-F86969E9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709-EDE8-45E8-BC53-CBCBA51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2118-1B34-43CA-B3D9-CFE7B4BD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B3FC-1EED-421A-AB76-FC63972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3827-65AF-4D8A-B282-BEEEB6BC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BA0-B7CA-434B-9B78-F699229B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2249-5A12-4828-B69B-339552FD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6EF7-B393-46E8-BDFD-BE5DDD2E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DAE2-3553-4BF6-BF9D-0EE6B29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B5FC-5666-46FD-9598-AA78BA3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4058-818F-4656-ACBA-93F1A46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C1980-6D72-4746-AF57-8427C1B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1E25-D3F1-49B8-9523-88914B9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7BD0-26EE-4A84-A8D9-DE872B5F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92EF-A4EF-48A3-A140-073E0825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6BA-B2FB-42A7-9015-F3C89D3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C28-52AB-476A-B216-8351E889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DEE-00CC-4109-BC54-96A1684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CA5-9035-4B7C-B3A6-142B519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D63-F200-4A2A-8001-7E51B33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5EA7-4433-47D9-B1C0-FEF06904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F4F8-D127-454B-980A-AFDFC7B13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D0E-08BE-48D6-A51D-AD148E8E1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's My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D. Vaugha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s My K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s My K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s My K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s My K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s My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s My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s My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s My K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s My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6680" y="6488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's My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s My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s My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s My K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9:33Z</dcterms:modified>
  <cp:revision>18</cp:revision>
  <dc:subject/>
  <dc:title>Slide 1</dc:title>
</cp:coreProperties>
</file>