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AFF-1A94-4DA8-8853-35839425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D25-B508-41E8-A3C0-F90C990B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8EF-3218-4F8B-AA43-BBF44F34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DFB-B6BF-4AB1-849B-1A368E96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C28B-D8B0-4E06-A663-6F762E1B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F8C8-F670-4760-86DC-AB83E9D2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FA6F-D7A6-470A-A484-1B3BBA38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BD3A-CB34-4653-8AD6-41C8459B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5E5D-CF01-446B-AF33-DABC5DB4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5B39-D9B7-4C99-81B1-34773609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101C-1F41-417E-8CC0-5F42633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C55-7345-420C-AA98-12CE42C1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A5B8-BC53-4C64-BCBB-69F255D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C481-7EE8-45C7-A807-644B61B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E4AA-C9D9-48C0-8200-94065050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CA5F-65AC-4F9C-A1C7-0A994555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9FF5-DF7B-4A7B-BC90-5115F628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457-2C83-4A53-8D70-CAEA7479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2CACA-1780-4DB3-991F-3D56BBB7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BF82-6F8D-4BBE-AF36-E7B4394A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BE8B-93D3-4C0B-9BF6-F78CFCB9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D84-A2E1-4971-B184-69F8F70E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F6E59-070C-47A2-9ACF-8B29805A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5875-C522-4357-8F66-0EAC8E0E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CCBBF-529C-4B84-8192-ABB6EB8F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A0F3-539C-457A-A8BA-2D93F11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F65C1-ED82-408A-AC12-B5A48859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0E58-B345-4E9F-AF21-3439F661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DAAB-ACAD-4C3F-93AF-30604154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676C-D7D3-4C04-831F-C847F169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692E-5E65-479C-94A1-4D02021A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9A5-10A0-48D2-BA2C-1C02FF99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A51-CEA6-40CE-8210-0C416F95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B93-ACD1-487C-A07C-9A83B924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D1E-ADD1-4C57-BE45-77DB517F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813-54E6-4A5B-8F0B-A4860BA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068-2269-4EB3-BFB2-7AF50E5AB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9C9B-F119-4E3E-B25F-A2C4B32DC1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BAE9-918B-457C-9252-F9E8C8EFB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re We Are But Straying Pilgri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. N. Carmen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O. Perkins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re We Are But Straying Pilgrim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re We Are But Straying Pilgrims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re We Are But Straying Pilgrim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9720" y="6488280"/>
            <a:ext cx="45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re We Are But Straying Pilgr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re We Are But Straying Pilgrim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ere We Are But Straying Pilgrims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ere We Are But Straying Pilgrims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ere We Are But Straying Pilgrims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re We Are But Straying Pilgrim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45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re We Are But Straying Pilgr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re We Are But Straying Pilgrim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re We Are But Straying Pilgrim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re We Are But Straying Pilgrim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re We Are But Straying Pilgrims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re We Are But Straying Pilgrim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9720" y="6488280"/>
            <a:ext cx="45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re We Are But Straying Pilgr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re We Are But Straying Pilgrim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re We Are But Straying Pilgrims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6:31Z</dcterms:modified>
  <cp:revision>28</cp:revision>
  <dc:subject/>
  <dc:title>Slide 1</dc:title>
</cp:coreProperties>
</file>