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E80-423B-443C-ADE8-B4485C28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AAF-6973-4B21-B0AE-F2B9E8D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BE9-CD1F-408B-BEE0-997A415D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073-358D-4AD8-A01E-34FB79E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DDC-20F0-4EA4-AB1E-0FDF54C0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AE91-6F58-4EB8-A30D-B470C654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3236-B4D2-4AB0-9E05-D0F20B57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E1D-812A-40B2-9039-A97D501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BCB-3029-4523-836B-C06F678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319-11EB-47A6-A6B1-3CA40065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2219-DD2A-41BC-8AAD-4D65AB4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758-184D-4684-8A5B-506CBC6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AFFB-B57E-4348-96B8-AAAE3FA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0E5-1413-4137-9C67-02A186C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8346-F706-4860-846D-29734B5C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8B8-A56B-45D2-B7BB-CBB16D25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CFC0-3379-4019-9273-B416DBCA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48E-C613-4FE9-A86A-1F1FDD6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6333-3F40-4001-A25E-B94C9994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6FF8-35D2-45A3-A751-7F461A24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6F14-5E75-4735-BE60-821B30A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EAC-77FD-49EC-BF95-1CEF34C7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F5EB-3C5B-4E81-9DD8-80E1C5C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6811-3A08-4BAE-B359-DBC7943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0873-4CCF-43B5-9BE0-6ED8F5F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CF6F-4AE7-4313-B3FF-845DD02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0E75-8561-43D5-8A30-8090AC4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D9DC-7D41-417A-BBBF-E1F21AC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5717-3814-424D-899D-D4DC765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7119-BD38-4B73-BF1C-98553BB9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D26D-CE42-473E-AA3D-143598AB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6BC-A1F4-4A9D-AA29-A985BB4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41A-773D-4E3C-AEAC-4BC1E19E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5CE-1462-4681-931C-13EE9F1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454-13AD-4090-9405-AC6681E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13E-C3F8-4B1D-BF13-3C6FFAF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EABB-4F14-4377-BEBD-ECCC4D64F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7494-024C-4193-87CB-AA276FF1C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AC8D-53DD-4D16-92A2-24ADB18D2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hall The Young Secure Their Hea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OY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0600" y="4902120"/>
            <a:ext cx="126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to Ludwig van Beetho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Shall The Young Secure Their Heart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hall The Young Secure Their Heart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hall The Young Secure Their Heart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hall The Young Secure Their Heart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hall The Young Secure Their Heart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hall The Young Secure Their Heart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hall The Young Secure Their Heart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Shall The Young Secure Their Heart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5440" y="6488280"/>
            <a:ext cx="54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hall The Young Secure Their Hear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Shall The Young Secure Their Heart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6:11Z</dcterms:modified>
  <cp:revision>26</cp:revision>
  <dc:subject/>
  <dc:title>Slide 1</dc:title>
</cp:coreProperties>
</file>