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54B-9D77-4D90-95E2-CF1D54C6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25C-F1DC-49CC-9A4F-19E7323E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9CE-D6CE-4FA9-995A-1C28E9D5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D3E-1F79-41CE-987E-FC1C5F90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7BB1-C5E7-4B90-86ED-BCD8860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1A32-65D8-43FE-8F7D-9BB9172A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6ADA-C848-4457-9BE1-79EFB7F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142-CCB4-4745-843E-9347C36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A12-C3AB-4C3F-B797-9A4025E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67CA-BA82-4894-B5C8-E2E8A311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30AA-2CBF-44A8-B518-CB97E58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E36-C840-4C08-8D6F-1E48D8E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432-02FA-4857-A49B-DEE9DD8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C500-3F7B-4D78-8C33-3650E96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738-0448-48FC-90BE-4DEC244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BB6D-6852-464B-B35E-AEF5428A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50F-54C8-4B85-A742-71818906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62A-C6DD-418A-9359-562411D5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ACB5-98E8-4CC3-A92E-E5C43922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A2E1-4EE0-4B61-98B2-854DE0A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45EF-DFEC-48FD-AC7D-500ECD8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9DF-C863-4408-AE71-FB82488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C6AC-95CA-4BFC-8D39-6280653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EB59-2AF9-4F12-A21C-51DF637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1D75-311E-4E0A-A01E-3974FF5D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F780-C90A-4F77-9CAB-3004F63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E8AE-3096-4D1A-AF51-DBAC316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D1B0-0724-4C13-976F-42B9A08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8C14-7532-4C7E-B294-1A631D6A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70E5-9FD3-4F1C-8D2F-0E91C718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3D73-E83F-4173-8E95-456607FB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F3A-0660-40A4-8A1E-93AAC80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922-1994-4823-AD34-9BEAA7C9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2AA-9B48-4726-BFBE-9D091D7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899-1E46-4721-87EE-D5C3656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42C-44B9-4060-9FCC-AA520DA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C2E-EE79-42B9-B3BC-8D7B575E2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9DB5-AC02-47B1-AB7E-109ED13BC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1320-8F12-45CA-9AA4-0AD5038F7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! What A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What a Savior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What a Savior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What a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What a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What a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What a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What a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What a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What a Savio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4400" y="648828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Hallelujah! What A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What a Savio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33Z</dcterms:modified>
  <cp:revision>19</cp:revision>
  <dc:subject/>
  <dc:title>Slide 1</dc:title>
</cp:coreProperties>
</file>