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7D5AC-2DFD-4CC5-A627-0E6A3908B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1B25B-5386-4B14-AE57-406F4E6E4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5B464-2559-4D46-ADFC-B85292CD2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C7892-0A6B-41E4-B9AB-ED1971820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092B0-5CCD-467C-BA56-4FB37B6F4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9DBB1-41BE-4205-B3D3-79C35F51D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97A05-9FA0-444F-9617-E393B9473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74EBC-FA06-4226-BAD7-DDE4D4295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B8EDB-494B-4710-944B-16288231D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D50A0-CED7-4FF0-A2ED-51D607641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79284-F0AF-4E88-AD69-C03DC0378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CE346-D934-490C-A4D9-6AA97F113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CF5DB-9D3F-49B2-8B86-666C662A1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DB1F7-B10D-4EAA-97B1-75F18C45D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9D7CB-C44F-4363-9FD4-72439DAE1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0AAC2-CA1E-44A6-9C2F-00623A152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33EAC-6D2D-42BF-BF63-D0E56473C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075A2-FEF9-4C40-AEA7-BD9323C6B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AAC5BA-144E-462A-B414-3B1DD0C36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5DB076-3027-4AC9-B19B-BF34A41FF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F0BB31-FFCD-48FA-888F-BF4361943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71D5A-D0D6-4288-A6C2-5A28E003E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8E6B9F-062A-46B4-A5B7-783652883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5D1D20-E52B-4753-9C4D-CC822987F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9E5D07-F813-4DB6-A5A1-1AA4289BF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08D733-51FA-4ADC-970E-52E95D62A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B6F7C9-478E-4AD2-873A-1DF3A194C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52D727-5B53-44A5-A165-11A0AAB52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CFCA03-8C10-4807-BEB2-9A00270FF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B22F5A-0EEA-45FC-AF3A-86C2F5366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0CEDF6-82B4-4918-BBF5-CE9652C0C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77610-9DCC-4DB4-86B2-0A0485704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270BF-5EAD-485F-AC1A-E41ACE5AE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A97D9-8F4F-47C3-B028-EA04F7998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F9C8A-0E02-4BD3-BA0B-7D8A47DA4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E5F31-641D-48F5-AE79-D4AAB0C85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022FF-05AD-4E18-BA41-017A72803D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01E5C-8F9E-4B95-A668-431E563EF3C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9731A-0004-4D1E-8E02-9CF6288D46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He Is Lo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40320" y="4902120"/>
            <a:ext cx="1249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F/E - 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T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Based On Philippians 2:11, vs. 2 by Alton Howar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American Folk Melod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11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He Is Lord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67320" y="6488280"/>
            <a:ext cx="200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He Is L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He Is Lord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He Is Lord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67320" y="6488280"/>
            <a:ext cx="200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He Is L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He Is Lord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76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0T16:09:55Z</dcterms:modified>
  <cp:revision>20</cp:revision>
  <dc:subject/>
  <dc:title>Slide 1</dc:title>
</cp:coreProperties>
</file>