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82C-CB1D-4CA9-867E-3E64A8EE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97A-EBC1-4A7F-A2A8-56047A6A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65C-F179-4B1E-B0F3-147199E1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970-8E6E-4A91-BE82-7AFE16E4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F56E-FCC5-4E27-836D-AB21E745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8AAB-085A-43F0-BFF5-07F18934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BA9A-F6FB-4216-96C8-FA9854C8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9F6C-9F1D-45C7-8E79-3144A1BA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B9C2-EFA9-4402-ADA9-8217AF29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A931-1CFD-4568-9AB2-5FC53013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C555-D13B-4761-8416-36C8F8DA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53E-27E5-4D74-BC0D-15132FE2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4521-3A07-4E24-85A4-E0D2249F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326B-9871-4E26-B9E8-9D8AF0C4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EBC-685F-4619-A1FB-6B2D8E7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0416-65B1-4E5B-8411-2EBA8DB9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097-8207-4F1F-9D71-51E6249E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42F-73D0-43E5-B087-5DCBCA0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D28F-4F2D-4E33-B549-058392FE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5E25-05C7-4D7B-B58E-26256AF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0162-F056-42ED-9B5A-7CE4FFF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A4E-A680-42EA-99C0-8171CAF0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AF0A-3CA2-4DF9-AA70-ADED942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E14F-238F-4E5D-80EF-CF7E691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20D0-5DF3-4E29-A0E9-586D1BBA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2A23-1A1A-41E2-BAA0-378D609D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7DBC-1927-4B56-9DE0-9EB22EF4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EB91-9D75-4959-A149-68762AD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47EE4-7925-40EE-B7CC-4A46DBD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116D-DDAD-4D47-B376-57DF7EFA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6114-B0ED-4977-B56F-FECA413F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AB0-A93B-4738-89B9-57EA42F7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716-F640-4013-9A21-34754F2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9E8-DBA1-4797-A8CE-B874250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6DC-89C7-40AD-A0FE-61FE3C7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5A4-9691-45D5-9E7A-559B0297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1DAA-95B2-4FFD-8A95-D9E194AAA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E0FC-31AE-4F7C-ADEE-898E62971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5CC5-4EA8-402C-AB76-D2EDCBCAC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Paid A D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, Arr. Michael R. Greene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Paid A Debt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Paid A Debt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76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Paid A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Paid A Debt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Paid A Debt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Paid A Debt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676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Paid A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Paid A Debt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Paid A Debt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Paid A Debt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760" y="6488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Paid A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Paid A Debt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8:26Z</dcterms:modified>
  <cp:revision>31</cp:revision>
  <dc:subject/>
  <dc:title>Slide 1</dc:title>
</cp:coreProperties>
</file>