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DC4-1102-453D-8C35-690FE825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25D-5060-43F2-913A-02A11468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EB8-AC00-42A9-836A-156225CD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29C-CB34-4C97-921D-519A23C2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AB47-A039-434D-802C-F9530287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9F3-B199-46A5-9E27-B0DE12B2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8276-6D79-406D-9D21-E81B9EB8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CE58-A252-4724-9C80-3169736A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4F91-B6AB-49B6-B72E-5C73693F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B4A9-C060-4D9A-A417-DDD70763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66F6-76BC-4987-82C7-A368C3A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F48-CBC4-4677-AC39-8E918493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E166-7BF9-4E3B-8AC3-EA54372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1DFB-7165-4BFD-B204-8CCFF4A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B6FB-2B83-45DB-BDB5-61A0AEB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6DDD-1BE1-4C70-8811-3609EB95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F14B-2216-4C06-ACD1-9C4AA228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B1F-E92C-4BEB-A0A3-2128E115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FEFC-66E2-4EEF-8F6B-20CE57D1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F381-6061-4D9B-8FA8-627AE7A7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3D5B7-C3AF-4203-B6DC-9AADF70A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33D-2983-4CAF-A694-76353180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A32B-84A9-448F-AD42-17E69F17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9B63-E2B5-4FA9-9060-DB59976C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12F1-4C82-4A2A-9B1A-88B7C621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85D5-E03E-4E25-BBCE-17974332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F9B7-5CD1-4B8E-AC11-89EFAAB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447A-18CD-401D-9C49-D6175B5F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C9D3C-EAD0-4056-909E-8D58EBF2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2AA5-BA17-40D7-B669-753AF6E5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3A6D-AE0E-4C5D-8029-87F8B2E7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7ED-3561-4063-AB22-CFA6FD0D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CA8-560D-4447-8590-832B774C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AE5-9118-44FA-BB09-24A3620A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C27-5748-49AC-9A54-57D2E6F2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39B-921D-4674-9341-0E994FF2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5F59-CCEC-4279-A18A-321B36A2D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EE50-6C51-4C26-A488-545BA2E75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40F7-1DC0-4AFD-9573-506E7773C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Beautiful Heaven Mus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A. S. Bridgewater (c. 19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P. Bland (c. 19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w Beautiful Heaven Must B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9920" y="64882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Beautiful Heaven Mus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w Beautiful Heaven Must B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ow Beautiful Heaven Must B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ow Beautiful Heaven Must B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Beautiful Heaven Must B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920" y="64882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Beautiful Heaven Mus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Beautiful Heaven Must B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Beautiful Heaven Must B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Beautiful Heaven Must B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w Beautiful Heaven Must B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9920" y="64882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Beautiful Heaven Mus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Beautiful Heaven Must B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w Beautiful Heaven Must B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w Beautiful Heaven Must B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5:40Z</dcterms:modified>
  <cp:revision>31</cp:revision>
  <dc:subject/>
  <dc:title>Slide 1</dc:title>
</cp:coreProperties>
</file>