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1D2-EAEB-40FC-BEA1-744C1563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EA25-7B7E-41E4-BFB5-E47C4195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502-524D-42D5-8073-BA07FEBC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C622-8FE0-47F7-8A92-CE65423E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6127-B6AA-43AB-8256-F1F5B0D2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EAB7-8916-4BAD-B3C8-85277C88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C7B1-17F4-4390-A201-48E31438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EC5E-F45C-4B3E-B66A-868E3937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7B81-B354-45E2-BFC6-07ABA92E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82C5-E5AA-4AA9-8E45-A8D51A55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8C9C-6868-4928-A70D-747092B1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C723-9610-4558-9664-98EEBDF8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BB46-6EF8-4D82-98B8-6C510478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3EE1-F75E-4109-9BC2-251F4F0A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D5AF-9157-41E4-92E6-DA95450E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CF58-3AC1-4D6C-904E-8CA39B97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F50C-A078-4093-B73A-892BF9FB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E13-BF10-4897-BA45-42D67607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BCCFD-CFBD-4E04-A385-65093F6C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7896B-0513-4549-96F7-EB3DB4AD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0B22B-5492-481C-A98D-DED042C1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A994-3E75-4273-99E3-5722AE94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4A721-A45A-46F4-A856-2F1F3CA1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D8C1A-67C0-4DA5-9BB3-01159642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01E29-8B1D-4738-9D3F-0B2E348B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370C5-C39A-43E9-A916-EBC97903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58C3C-8FBF-4B56-8F04-3B52B126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791BD-5F64-4291-AC0D-9671D10D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878B1-B19A-4EAB-9AB4-55C13B66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E5392-6B1D-4B20-8478-3EB94B81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DC56D-8ED7-4425-9EE7-49F1E18C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D68-007D-45D2-A71F-20CE624D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ACB1-ADBE-4AA8-B489-99E87E00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3E2-DC11-4EBD-8C1F-9E09479B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75D6-2103-4E90-A4B3-4EF86D49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2E2-355E-4A8C-BB35-4F5A9DAD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0EDE-4BF8-4F1D-9708-D4E790262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AC99-2558-478B-8EC0-616C743A7D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9E99-232B-453D-998C-E1755D097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 Lifte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otte G. Homer (19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e Lifted Me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2360" y="64882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 Lifte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e Lifted Me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e Lifted Me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 Lifted Me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e Lifted Me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2360" y="64882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He Lifte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e Lifted Me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e Lifted Me_arr1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e Lifted Me_arr1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 Lifted M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2360" y="64882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 Lifte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 Lifted M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 Lifted Me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 Lifted Me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 Lifted Me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2360" y="64882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 Lifte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 Lifted Me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 Lifted Me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 Lifted Me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45:45Z</dcterms:modified>
  <cp:revision>31</cp:revision>
  <dc:subject/>
  <dc:title>Slide 1</dc:title>
</cp:coreProperties>
</file>