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1CE-0F77-4A42-A5AE-0560A8F6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F83-3C46-482B-9189-EFFBD07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8B2-5F6D-4134-9B2C-18B018EA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256-A571-4F36-A0DF-2CB07CAF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507E-CBED-4E1C-9C10-DC3175FB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F96-92FC-4469-B58D-9E2CD443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360-FAE7-451B-B1CC-C7D61914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CF1F-14E9-44C6-87EE-F5660ABE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8EF-D5F8-466F-AC82-C09E770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FAE-2706-45DB-8C6B-096F210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A47E-AB96-44A5-8846-73DD701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2BA-E467-4A29-93A4-8173937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338F-0280-47C9-9C32-49ABAA6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13DC-30DA-42D7-90B1-2B9D82C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AA45-FA6C-4EE6-983D-2063800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23A7-3397-4356-8309-C8788E77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4005-B625-46F7-A2C2-70E7A6D4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A49-C0ED-4707-B52F-C973169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3B15-4B83-4F24-9452-348BCA65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187E-D79A-4B27-8E97-0CCAAB69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D522-E38C-4AFD-8E4A-CA33802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EF9-F52C-4B5A-A3C3-4315655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80FF-42DF-4784-9F71-95D4D21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BA48-B2DD-4424-9825-20A53D3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3B7C-13A8-4BD1-8C96-2FAD1B2B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F39A-F10E-4DAE-A368-B82E4F7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D888-45A2-4E07-9AFB-4039CF4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07B7-1BBA-4FBB-B5E2-4604877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E060-5D33-49A3-B264-BCB5802A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EBA5-AE9E-40E6-9347-7979A7D2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D8DD-8698-4FA4-8E1A-4FD90E91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2A8-AC8F-48CB-9713-7D59D6A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18E-3FB7-47BE-ABA9-A346413E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8AE-0402-4971-884E-18741E0C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38B-78A7-4D40-9A2D-9C53BB8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A3A-125B-4313-8949-01C1AAE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5F37-FC3D-480E-83C8-4C5EA9ED7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F81D-5FF2-4949-BF9D-CCB4F8AC7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6B6-2239-40D3-9104-3A5A16E31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’s A Wonderful Savior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irgil P. Brock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lanch Brock (19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s A Wonderful Savior To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s A Wonderful Savior To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s A Wonderful Savior To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s A Wonderful Savior To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s A Wonderful Savior To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s A Wonderful Savior To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s A Wonderful Savior To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s A Wonderful Savior To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s A Wonderful Savior To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’s A Wonderful Savior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s A Wonderful Savior To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s A Wonderful Savior To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s A Wonderful Savior To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8:14Z</dcterms:modified>
  <cp:revision>29</cp:revision>
  <dc:subject/>
  <dc:title>Slide 1</dc:title>
</cp:coreProperties>
</file>