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DC0-7F9C-4F26-A314-30423B52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24C-F3E4-43D5-AC4C-93B040E3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5FE-B765-4611-A2A1-FA7B6D50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1C9-7B04-4638-B67E-6882B909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AC3-799D-4EA4-A714-CB496363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1E2B-6527-4527-91C3-CED4431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EAE-85D2-40C2-9DAB-13584896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F4D-9010-4E09-BED3-5B654AF1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CBD6-AFAB-49D5-9C39-9FFE3CD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5F5B-C804-4E1F-9C40-CD5311B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694F-2D1B-4F5A-9695-4C67540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275-D439-49AE-A86F-4E58F2EB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109C-96F9-43E4-B8E4-BA5FEAC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9367-086C-43F0-B0C5-CD3DF8C7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8ACD-672B-4B6F-8514-4939BBE1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092-FCA3-40E6-A457-CA5BF14D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769C-E75C-4CED-8A23-57A127B4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05C-57DA-4CC4-B551-FF51D44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31DE-615B-47E9-BB85-3DE33511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6098-10C5-435F-981A-00033FFB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5B63-796A-4086-B073-4AB9C6F9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D8B-B6E1-4044-9CC8-46A9ABC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4FE3-D4A2-4F11-8A7A-37EC6D20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3A57-FA9F-4889-87FC-FFD8721A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9992-E8E6-4E5A-8503-AC22EF00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6C60-5510-4720-9354-8B54FC2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6082-C91B-4CE4-843C-65087D5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A8AA-CA81-4B6D-8FDC-48E8009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4BFC-FB6F-4B14-858E-1458AB2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94DCA-B9F9-4337-B623-5D051F9A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83D5-DDA2-4E02-A5C6-D5208AC0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445-0CB2-49D5-8336-339C6D38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00C-CA76-4D7B-B694-6671CBFA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8C4-D4E0-4F39-931E-44EBA6C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14D-3C96-4DF6-83DE-57DA023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86A-D3CF-4463-BBAA-DAAA0DAA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FCBB-0451-47FA-BB9B-EB9764BA1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3F50-64AA-497C-B175-52EB3AA38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50D-5619-4AEB-A810-EB0A87D39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me Of The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me Of The Sou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me Of The Sou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me Of The Soul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me Of The Soul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ome Of The Soul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216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ome Of The Soul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ome Of The Soul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ome Of The Soul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ome Of The Soul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ome Of The Soul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me Of The Sou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me Of The Sou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me Of The Sou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me Of The Sou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me Of The Soul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me Of The Soul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me Of The Sou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160" y="6488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me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me Of The Sou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4:58Z</dcterms:modified>
  <cp:revision>26</cp:revision>
  <dc:subject/>
  <dc:title>Slide 1</dc:title>
</cp:coreProperties>
</file>