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798-8784-45D5-997F-0B0597BE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CB6-5354-4374-B478-A700C7EB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6FF-562F-4A50-AAB6-222F5132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36F-0DD9-4694-AEDC-FA111166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353A-5F02-49A5-82C7-A36A5568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6DEA-1560-4A57-8C27-1CDDE5D6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4CBC-B8F2-45CF-A571-52E173F9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CD3E-2C44-4298-B234-5C80FAE4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D9BF-E3BE-4393-BC04-009AFE6C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DB3B-AA03-4161-AFFF-3960C6CB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5BC5-9689-475F-ACBF-F1A23E03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43E-3FA1-4741-805F-D81D1B7A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0DC9-0CE9-44FB-A654-0BA72A11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6FA7-8E5B-4903-A927-1423E2F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6DED-C57B-4418-91B0-47A52B65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29FE-3C0D-4054-9325-02125B19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4B11-CB5B-4EC7-9363-319BFA3E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23E-157A-469E-926F-A3938ED1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9057-C438-47CE-9E5C-B39B22BA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D4EA-3835-4D2D-9788-85BFD3A9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C26A-9858-4CB2-8467-FAEE9398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067-C779-42C4-A15B-44B67A71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316B-0561-4029-BECD-29B97DA3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110C1-CE51-4AD8-BF52-06250483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1D14-C61E-49F8-A66A-EF553FAB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065F-B5FD-4117-8217-FB79DC06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81A8E-14D4-449A-B037-8612EF9E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2407-53F8-4859-9925-F6D6B84B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0DB9D-23A8-495A-BB52-64748295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F7FD5-72AF-4C9B-94E6-AC4C79DD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175D-471B-48D4-AD4A-59CE1137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376-E398-4539-B393-365C3EC3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F88-FA35-410F-A185-CF80262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676-974D-4A22-924D-3412CC6C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04A-86EF-4227-B5D9-5527F848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DEA-0B41-4D79-B4CD-0A20DE65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7C59-7924-4C27-B723-1309EBC63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B5FD-050B-4413-9665-C0D5F8176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76DB-9D3E-48FE-9A17-A2C051EF0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ow Firm A Fou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1.11.1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Keith (17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om Funk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nuine Church Music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3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ow Firm A Foundation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ow Firm A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ow Firm A Foundation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ow Firm A Foundation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0440" y="648828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ow Firm A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ow Firm A Foundation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440" y="648828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ow Firm A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ow Firm A Foundation_arr1_v6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5:31Z</dcterms:modified>
  <cp:revision>31</cp:revision>
  <dc:subject/>
  <dc:title>Slide 1</dc:title>
</cp:coreProperties>
</file>