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05231-D39D-4706-B615-940F8B131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B2388-5B7C-41EC-A459-D2B3AB022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45088-FFB6-441C-9F3D-EA38BEFAF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0ECA8-E788-4799-AAE9-D2194F2AB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D229B-ECC0-4F1A-AA0B-180934967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D35F7-E678-4997-856E-844BA9CCC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CCC35-F892-4FF3-9EE8-E327BC9A9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8DAE1-F1FA-4534-8B04-99C3B3744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01051-643F-4608-BF6D-92FC6DAF8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97E19-DEEB-4814-94AC-25F5CD256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FC3CF-5E97-44D4-B5B3-59FF3ACA7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C669E-18A3-41AD-8A31-D677565C1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DBF84-E46B-42D4-934B-47055B1C7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593A3-F576-474B-B8E5-F8C96A63D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B1D12-B6EA-4671-AD31-C43F0FD81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73DD8-68F9-4B9A-AC05-CAEFBC427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486A3-0DB9-428D-8292-C061CEB0B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E2080-7ABE-464C-9C1B-F316BA8F0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45C164-ADAF-460A-8464-700733687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012B37-F56E-4CB6-9B9B-FF119DAC7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1758D7-CA95-4217-B6D6-A6D0AAC89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0F6D6-2BB3-4AF7-873F-D829CCE1C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AC62F7-A4E3-4BA0-92BC-F6E9AF8AC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F29A47-F72A-4CFC-800D-23B7E14C6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B31732-8B7A-45EF-98EB-CA9E5FE74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6E24F6-B564-4CAF-BE2F-041466110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86B38E-9071-4580-A4DA-C389AF3EF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946D3B-F77E-4205-8BBE-FB530AE2F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2D53DD-9CB4-4774-B3C9-BB8F56E03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3F6B1A-5204-41DA-995F-18A2A6906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3A2320-C650-4D46-9B8A-D0AADC6F6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DDEB2-48C9-4397-AF44-A7661D81D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4DC96-FEBF-47B8-819B-321DB19FA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11E45-9512-4627-8093-B83514DE6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862B3-168D-41D4-9DDF-88E3DB79A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9D99B-3311-4639-B5AF-3821C9778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85FD2-ED02-4D8B-AD46-1B2491753A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9D6A2-7981-424A-A586-50E7B4A52BA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E742E-ED62-40C1-A431-DF01DA4FFC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Hold To God's Unchanging H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A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A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 -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Jennie Wilson (190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F. L. Eiland (190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13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Hold To Gods Unchanging Hand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121680" y="6488280"/>
            <a:ext cx="441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Hold To God's Unchanging H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Hold To Gods Unchanging Hand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Hold To Gods Unchanging Hand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Hold To Gods Unchanging Hand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2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Hold To Gods Unchanging Hand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21680" y="6488280"/>
            <a:ext cx="441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Hold To God's Unchanging H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Hold To Gods Unchanging Hand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Hold To Gods Unchanging Hand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Hold To Gods Unchanging Hand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Hold To Gods Unchanging Hand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121680" y="6488280"/>
            <a:ext cx="441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Hold To God's Unchanging H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Hold To Gods Unchanging Hand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Hold To Gods Unchanging Hand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Hold To Gods Unchanging Hand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0T20:01:49Z</dcterms:modified>
  <cp:revision>27</cp:revision>
  <dc:subject/>
  <dc:title>Slide 1</dc:title>
</cp:coreProperties>
</file>