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51E-AA0B-4FDD-82C8-04E1F7AA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9FFA-BB5D-491F-A897-02BB3982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005D-B2C5-46E4-B854-F70F439C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73D4-D92A-4A5B-A430-3D125EF1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EDB9-0329-4B59-BE86-EB5C358B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DB5B-91EC-4A9B-8416-78A28EF8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73E9-DC1B-4831-A7C1-991E795B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DAA1-4638-46FF-A78E-D1EBD116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174F-929F-4E32-8EDE-2A44CC3B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55AB-D2D9-49D5-B12D-8713A606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A354-FE21-4201-AD35-C5BEFBD5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488-7FB5-471E-84DD-955B02B9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6C97-B25B-4DCF-B1B2-8DC1B724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F7A2-CD89-484E-8928-AEC9F738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341A-4672-4C1F-9C23-D6EB65B9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2B75-2F2C-4CAB-A530-61B2789C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A87E-E0E5-42BD-8D05-427B24E2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BDDA-CA11-4427-8BFC-A4B03830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DAC06-8BB4-4681-8F57-69412720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A166E-C7CF-4A0A-82A6-260B19AB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2F255-DEA6-47B6-8667-F313FCAD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690-E502-4DE1-B39D-0FE69978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CE1EB-A48E-4296-942A-7E6C3BF0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21E09-5810-44A8-BA17-113B3FD8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7E472-509C-4589-BDE8-EF98EF5F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0173C-B6F6-4988-8881-3A050004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AB666-7264-4E03-8CD0-F423E50D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709DE-7F54-430C-A2FE-8314B845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3296F-88B5-44ED-B0B7-A87DAC9E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F6986-A8C0-4E6A-844D-B9BA0DC9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0B18A-2831-4F70-A798-AF8E26C2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6790-E900-443E-ABA4-C49210BE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4D2-BAE5-4F28-8DFE-435AB40C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414-298F-4747-B022-77F8FAF6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7F0-9694-437E-BD4E-931E1A97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28FD-4CC6-4542-A56B-F1A3C406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C71B-274F-420F-A5CC-46D78ECE7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C343-FA11-40CB-BBA3-0C055D7493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B8EA-65A3-4624-A265-0FC99DB7B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ar The Joy-Bells Rin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E. Hewit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 Degen, Arr. by P. P. Bilho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ar The Joy-Bells Ring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7280" y="6488280"/>
            <a:ext cx="37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ar The Joy-Bells Ri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ar The Joy-Bells Ring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ar The Joy-Bells Ring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07280" y="6488280"/>
            <a:ext cx="37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ar The Joy-Bells Ri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ar The Joy-Bells Ring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ar The Joy-Bells Ring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7280" y="6488280"/>
            <a:ext cx="37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ar The Joy-Bells Ri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ear The Joy-Bells Ring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53:26Z</dcterms:modified>
  <cp:revision>35</cp:revision>
  <dc:subject/>
  <dc:title>Slide 1</dc:title>
</cp:coreProperties>
</file>