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E63D-F652-4CD6-B992-A5108D17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9411-322C-4B12-8256-737AFD7B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F1E9-2D47-46F5-8A63-E1E666E3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CF0C-F014-4D54-B7AB-E2AE7C0C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98B8-3F59-4037-AD04-CAB0CC50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E39E-78A7-4BF5-BC01-81A9E24D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7F57-95D6-43CF-9590-5E214A93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103E-EABC-4FA9-B19B-093AD64E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B480-A78A-4AB4-BCED-3A01DFC8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B3B7-422F-4E8C-BA80-381ACBDF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5377-523C-4E77-9ADE-9DA3D5D5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9295-1660-4D28-AFF9-F125BB07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F43E-8444-40AF-92B6-41C7BFA3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51A1-9F32-4C6E-90DE-85A877FC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ADC3-20D2-497E-99BA-FB55C935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BFFC-ECFE-4BD5-98A0-F3F41C2C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D2DD-9FA0-4490-8B3D-208BDAE6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C681-88A1-43F1-B350-8DE1831B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31F4F-A7AE-45FB-9549-C9E4B9F9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E50D5-378D-4447-9255-244387DF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81B53-120C-471E-AD8A-0E795870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FBF-2A52-45F0-84AF-54663B8C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A4EC4-36A1-437B-993D-470513D8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2B542-B769-4775-87EC-DD8B7705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271AB-7054-46AA-A33E-1BA578B4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37755-0FF9-4C27-80D5-88CA30B1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D102B-CF49-4732-B42A-3D042EC7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AB63E-F5B3-4FA2-8176-EE3FE204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53A4D-0821-4BF3-BEE3-89076FB3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33F9D-D171-4745-8086-07414460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9C290-C36B-4C4C-964F-E2FE3D15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02A6-BD85-4EEC-8A1C-7C762C6A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BC49-5F4E-45B9-8D22-CE6C83BD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2C33-AD95-4CAD-BF43-35D09640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8D96-AA48-4913-A45A-27F2F496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13C5-FC40-4930-9D42-F9ADDD2A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C7F6-1E61-41DC-BECB-AAF431FDD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71E4-BBB7-4F41-90C1-104C77468B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5296-762F-4C94-9DCB-8E9430649B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e Is Able To Deliver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A. Ogden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A. Ogden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e Is Able To Deliver The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6720" y="64882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e Is Able To Deliver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e Is Able To Deliver The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e Is Able To Deliver The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e Is Able To Deliver The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e Is Able To Deliver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6720" y="64882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e Is Able To Deliver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e Is Able To Deliver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e Is Able To Deliver Th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e Is Able To Deliver The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e Is Able To Deliver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6720" y="64882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e Is Able To Deliver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e Is Able To Deliver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e Is Able To Deliver Th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e Is Able To Deliver The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9:41:38Z</dcterms:modified>
  <cp:revision>27</cp:revision>
  <dc:subject/>
  <dc:title>Slide 1</dc:title>
</cp:coreProperties>
</file>