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C11-5991-46D8-BFBA-6A3D25CB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C15-90BA-46DB-BF1A-2A1715BF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F88-4D59-4CDD-8BC1-C3BBDA88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B15-BAB5-4272-A178-33E94CB1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8BF4-93CF-4843-9538-385E8EA7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CF2D-89C0-472B-9A06-C8D4368F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7E2E-D9AC-4EA4-8F9A-5EC4BBE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DA1A-D46A-490D-AA6D-88DA5712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E2B2-30A1-4C64-87D2-64B9F81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F741-532F-4233-874D-3D3F375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F41-DE30-42F6-A088-726B552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56E-1872-4D7F-BB3B-73AA9DC7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3F11-1EC1-4C42-B992-737EBB6E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989-EF1C-43C5-94D6-181AFB95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9D96-60D9-4978-9CD2-4EE26954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6A13-74E2-4183-90E2-69F648BE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187D-E38C-4136-9744-C9720F53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4F0-B0CB-4C6E-B2DB-38555A79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95B5-4D59-4FF0-B1C9-7FA52E80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3FCA-EBB4-479F-A272-F85DA302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64B9-1F5E-45CC-B0D9-29A50F6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B82-305B-4245-8D4D-1782E1B0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3AE6-30DF-4C63-A794-A089268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EEE6-9FCF-4A3B-8EB5-337351E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7ADD-2ADD-4131-9466-EC35B8CF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654E-3141-49E0-B1FC-016AABB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C361-2338-4972-8409-37A93C2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BC10-DF73-4635-97C1-8C1ADA1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05A76-4FF0-4B4A-A331-05ECFD1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DDB0-BC58-43E3-BCC1-F7A338D2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B047-281E-430E-AAC6-9F74D9A1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534-28EB-4077-BF15-30C202BC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CA6-D552-4E1F-B886-2A6F935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ED1-50C3-42AE-8BF8-DE60360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665-9563-4D27-BEEE-3888BA1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0CE-BB23-42AB-B63A-7B8295D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6F13-6F45-43FF-A5AF-896B6FBC2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7632-7DB7-40D8-9C72-5EE917F8B5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A0FA-5291-414A-BE54-588B6E98E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Is Wond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8320" y="4902120"/>
            <a:ext cx="26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 (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ing through 5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prano</a:t>
                      </a:r>
                      <a:r>
                        <a:rPr b="0" lang="en-US" sz="1600" spc="-1" strike="noStrike">
                          <a:solidFill>
                            <a:srgbClr val="d9d9d9"/>
                          </a:solidFill>
                          <a:latin typeface="Lucida Sans"/>
                        </a:rPr>
                        <a:t>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9d9d9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r>
                        <a:rPr b="0" lang="en-US" sz="1600" spc="-1" strike="noStrike">
                          <a:solidFill>
                            <a:srgbClr val="d9d9d9"/>
                          </a:solidFill>
                          <a:latin typeface="Lucida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Is Wonderful_t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Is Wonderful_t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4520" y="648828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4 ~ He Is Wonderful (+B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Is Wonderful_t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Is Wonderful_t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e Is Wonderful_t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812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5 ~ He Is Wonderful (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 Is Wonderful_t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e Is Wonderful_t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Is Wonderful_t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760" y="648828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1 ~ He Is Wonderful (AL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Is Wonderful_t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Is Wonderful_t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Is Wonderful_t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8480" y="648828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2 ~ He Is Wonderful (+SOPRA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Is Wonderful_t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Is Wonderful_t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Is Wonderful_t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3 ~ He Is Wonderful (+TEN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Is Wonderful_t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872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Pa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2:30Z</dcterms:modified>
  <cp:revision>33</cp:revision>
  <dc:subject/>
  <dc:title>Slide 1</dc:title>
</cp:coreProperties>
</file>