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904C-ADD2-40E7-B826-E57AC6FD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F87-468E-479C-8165-BC759ED4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98CF-C4A2-492A-ABE6-07DED9AC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2905-EF25-4E43-ADEF-A3ABB64F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BE67-C2B7-496A-941C-9607CCAF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DD4B-1229-40B8-BC3E-6DDF0B5A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A770-B13F-44B9-8405-8EC10CF5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4C7F-007C-4F4E-BC4D-96DDB1FD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DBF2-6FBB-4E39-A5CB-E79D000F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C872-BCBF-4757-939F-524E6C4E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18D6-C207-4DBE-ABC2-BFF387AE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5C0-6F3D-492E-B80B-22DAD337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1F7B-8F13-40B7-A6E2-26EE5FFC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17DF-465D-4172-A8D9-F444CA96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499E-C2C1-4D3E-B813-96F72F49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2BEB-832A-48B4-82DF-3DA3FA12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24A0-1D9A-4270-8C4C-2933ABBF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8988-FEF0-4DB0-BEAF-3DFA25F1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27F90-6F4B-4E12-9538-20D4E21F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FF8C7-E042-4FB9-BEEA-3F7E5BC6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4A441-1D30-4576-81E9-2FA63807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330C-56A5-4FD6-BA02-DAA7B63C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01300-8965-4BD6-8109-DEF53043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7295A-F38E-48FD-95F4-D4AAB096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AF817-22D0-441C-89EC-8D6FBDE8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88937-E36B-4B47-AAC0-BBA8EA11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E43CB-E851-4BB3-8C4D-DCA33F99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F02C5-D1D4-4E5D-9384-382EC0A7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33921-D423-4DC2-B83E-53258607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D0510-4287-4816-9FD3-FEF32478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5626A-5ED1-4DE4-82F7-D93B9134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2AC3-FDA4-4F8B-A0DB-42898D7C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4173-A8D7-4070-A250-0F409F64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B85-D981-42BD-B79C-AD588E97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2F8B-D73A-4174-9AA6-170EC4F0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657-3712-47B8-8560-5D1A2648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DEAE-FDC8-44DD-8049-893116BB9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AD40-1CB0-45C0-8CBC-71197DF581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8844-DB23-4995-8D44-1AB6944DF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arves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Arise! The Master Ca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ry Brown (18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8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arvest Ti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arvest Tim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arvest Ti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78840" y="64882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arve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arvest Ti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arvest Ti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arvest Ti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arvest Tim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arvest Ti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8840" y="64882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arve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arvest Ti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arvest Ti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arvest Ti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arvest Tim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arvest Ti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78840" y="64882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arve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arvest Ti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arvest Ti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6:11:05Z</dcterms:modified>
  <cp:revision>32</cp:revision>
  <dc:subject/>
  <dc:title>Slide 1</dc:title>
</cp:coreProperties>
</file>