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A9A-36C3-450A-86B8-6DEC548E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8A9-5B19-4FC9-837A-A846D1AD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561-25D9-450C-A1C9-E9CBA1AA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FA2-8CFA-4F0A-8E70-53A072F1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709C-7DB9-4CA9-9426-6F903635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C3AF-D32E-4F1E-BD12-6132CD5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6BB1-E81E-4E03-B088-FEE059C7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0C7E-61BC-457E-B4DD-255A2CE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8D88-4D62-42BB-961B-B6673676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0F60-EC5C-46F8-A459-2B896FE7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F5AE-DD57-43BE-8BC4-FA1B127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4C4-8A38-4932-9F47-1B90AAB1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FBD-816B-45B3-B79B-CD498BB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850-B2D9-4B4F-91FF-9F3014A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9CDE-FB27-4EA4-9B90-7D7FB2E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930-BAF9-4F43-B93F-7CCAE4A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6E4-A969-4152-B8BE-07944B4A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428-7081-455C-A52A-1F76BAB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2AB5-9F21-4CD6-9DFC-83BFF402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1CC6-C75B-4D2F-8AC9-A239D6F9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4AB4-9C7D-4E75-AA64-B20EC7DD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27A-8434-4419-88CC-961AC24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63CB-75EC-425E-B60D-AFB56C7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866B2-B981-4C49-81A2-C1B8C2D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B663-9DAE-4609-B64F-EE07C981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97F90-E5AA-4275-884F-CD98CE16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E075-8E97-4D90-A0FC-A8534B25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6617-0038-44D8-973F-1327820E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E5424-B777-4DF8-9F79-A1DEC98E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D611-3B8D-4460-A290-F9E12CA6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9444-CDA4-488C-8575-AD62FB2C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904-93C7-4152-B831-3F4EF26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0C8-72DF-48B8-9D7E-D51B550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4AB-B90A-4A44-88CD-ABAB0A9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B8D-E040-4685-B82B-B61E9E3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9AF-84B7-455C-B211-D1DBF8FB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9E2-7F3B-4893-A8B6-34D30DC1E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572-21CA-4DF1-B3C1-BB3FEF91C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88F-922E-438A-9930-F1DEFFD6A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gher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gher Ground_arr2_v3o4o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gher Ground_arr2_v3o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gher Ground_arr2_v3o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gher Ground_arr2_v3o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igher Ground_arr2_v4o4o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igher Ground_arr2_v4o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igher Ground_arr2_v4o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igher Ground_arr2_v4o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gher Groun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gher Groun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gher Groun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gher Groun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gher Groun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8760" y="64882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gher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gher Groun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gher Groun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gher Groun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01:00Z</dcterms:modified>
  <cp:revision>35</cp:revision>
  <dc:subject/>
  <dc:title>Slide 1</dc:title>
</cp:coreProperties>
</file>