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FF9-5015-4CC6-88FA-C196A1B2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DB4-4B56-4329-AC52-EF834C6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B40-B07E-4D73-BD1C-BA8632D1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AFB-56E7-490A-A118-2CB82020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A031-14BA-4F9F-B780-A0E74EAA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3971-B268-4ABF-B484-C26904DF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C0FC-035F-4CF2-A54F-93959FF1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2C65-F3DC-4414-BC57-B06C493A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861C-0C3B-4E5C-B9A4-7FE01FD3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1423-36C4-4F4D-A671-924F00CC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A995-D0B4-49E5-9F17-85CCB857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EB3-59AB-45E0-A36A-99691C45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DA3D-0E93-4BBF-9FC1-1CEA2E90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5E18-13BD-4B2A-A3AE-6BBE795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225-289F-4F55-A4D5-7FA83D3A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F82B-5229-498D-B24D-C54E57D7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13FA-135B-4607-BE4B-81117F64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8CF-FE88-4803-AD28-342E1CFC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0BDE-ABDF-43A1-BBB3-A4E9ABE0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9A74-72B3-40FB-A95E-E3CFC5F1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E970-6D4B-4A31-95FE-21F856A7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75CA-E075-4624-9092-2D41F4D5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B66F-D86E-47FB-AD0F-3DE464D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A008-72C1-485F-81C4-813FE803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47D69-78C8-4DCF-9AF5-97C0DD57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6444-E154-4474-8FFE-A06B440D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BDEF-70AC-4349-9C32-BC2FEBC7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F7C6-9E95-4B12-B6B6-46E91825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ABBC-3FE0-422A-9911-054837E0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8550-D017-4438-974A-09950652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51488-499B-455B-B860-C1C2CE0D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A40-3340-4769-B606-A35A4D34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7B1-B3A1-4700-8B7E-BD6FC7BF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C64-EA2C-47E0-BEE0-D6734FEC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E19-DCD4-4487-8FF4-9B820CB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B99-C430-419B-AD88-8440CB97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826E-2F69-4DF2-9F04-25A7D09D8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2DEE-C41A-4C0E-8E9A-80AE7759D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7036-CA35-41C7-B4A9-E84AC435A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Keeps Me Si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Within My He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B. Bridges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B. Bridges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Keeps Me Sing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Keeps Me Sing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640" y="64882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Keeps Me S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Keeps Me Sing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Keeps Me Sing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Keeps Me Sing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9640" y="64882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Keeps Me S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Keeps Me Sing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Keeps Me Sing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Keeps Me Sing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9640" y="648828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Keeps Me S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Keeps Me Sing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3:09Z</dcterms:modified>
  <cp:revision>27</cp:revision>
  <dc:subject/>
  <dc:title>Slide 1</dc:title>
</cp:coreProperties>
</file>