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5C52-79E4-480A-8156-9355E8088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5A82-09DC-4DDE-84D0-F9304A18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DFB4-8869-431F-A5DE-8724AFEFC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D16B-B43E-4559-9626-3B0B7CA81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9B7D-AA3A-414B-99AF-8CD11268B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B54F-3E3A-4128-B293-9C82C6F1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DE6F-7C57-4F91-A19B-F3D60190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E1B4-8EBE-406E-93DC-3C70DF92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C5A5-5587-462D-8C5C-40587721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6A00-84C8-4316-B19F-E8E27206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4870-CF41-4900-B10C-3D65F8CC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8CDE-5314-4564-83F9-E7B856AA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43E8-9CF6-4467-9EC0-1D05EB54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3733-4B32-452F-A82E-3A600F3A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D3AB-D2C0-4B76-8815-E19EBCAD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32C0-7C8E-4E54-84CA-1E1E56507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1603-1804-4213-AC3B-00EF6FEE6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770A-059D-4910-95E9-566D01DF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504E9-0727-4BB9-BC0A-B523A4714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134F1-250B-4176-97CF-35FEC1EC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E1BEE-F77E-4826-8E93-37309FBC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AAE2-1E2A-41C7-8D9F-9DE6B5BD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6388F-32B7-41E4-BA61-7082837D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968E5-CB69-48C7-B179-10272B20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F4651-734C-429B-A05D-DAC96C55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09A6D-CE72-4D8D-988F-008C4E76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C4773-A1D3-402D-85F3-4B17ECCB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178DA-4362-4CCA-8E7E-ED31B94E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D33BF-6E90-4820-A7BC-C7932D1F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B1E24-5CD4-4F7E-BC0E-1323B070C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B4AD2-BF5A-4C80-A7F2-76A30D394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F596-5B02-4195-BE35-B0C129E6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2A9E-25D5-44B5-97F5-795A00A2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DD55-65C8-4C81-8977-F3D42CD9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5281-69A7-4AAC-939D-852A7095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A042-DACC-4E90-889E-66F6D97F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22AE-0E07-453D-A87C-5D2296DFE9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77FE-E531-4740-9A99-C59B7A4D19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30A8-C952-459E-A835-423404DE9C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eavenly Father, We Appreciate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9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D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eavenly Father We Appreciate You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8440" y="6488280"/>
            <a:ext cx="48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eavenly Father, We Appreciate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eavenly Father We Appreciate You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eavenly Father We Appreciate You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18440" y="6488280"/>
            <a:ext cx="48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eavenly Father, We Appreciate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eavenly Father We Appreciate You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eavenly Father We Appreciate You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8440" y="6488280"/>
            <a:ext cx="48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eavenly Father, We Appreciate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eavenly Father We Appreciate You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20:26:34Z</dcterms:modified>
  <cp:revision>34</cp:revision>
  <dc:subject/>
  <dc:title>Slide 1</dc:title>
</cp:coreProperties>
</file>