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525-1E4B-43AC-A182-91B0BDFE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F9F-D6BA-4242-9B91-068C9663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3A2-6111-41B0-838F-191C5C6D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B77-7521-407E-8106-AE7B2524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857B-E763-4686-AD0E-56337475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AE46-0326-46A6-AE40-7A48620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C38-3572-468B-B975-9DE71CA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C79-D8D8-4D83-AF5A-03BA8D44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FD7-A943-4658-89EC-C790594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5BA6-8902-44FA-B83A-6AD4B78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9910-C87A-4D38-9E92-6984FC6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DDB-167C-4063-9CD1-891EE66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E5F3-54AA-488B-8C2B-83A970C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C96-97EF-49B5-85D1-6906B013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6885-5E9B-4D08-84F8-1CDFB9DC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B8BB-BEB3-48F6-B9E9-0A076BD7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91A4-60AC-4487-A7D9-5AB0A572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FC5-11C2-4F54-8CB2-E7AF05A7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4A64-A837-4AE9-BCC0-2B99FB86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78E4-BBCE-4F60-8FB4-34BBB14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078F-E700-42A8-9A1E-CDFA6EB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C85-DE1F-4E79-BF09-0CCC35E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68D6-DD34-4A3A-B5C4-7465279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F8C0-146A-4128-B74B-107470D7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7BC9-DE6E-4D80-8700-842FF05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08AF-1015-4C09-88DA-87E80D0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D80A-071C-4812-A1CD-F5573637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0E4E-EC15-4AAF-BC36-26E7B92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A594-E5D4-42C9-B693-27C424A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7D65-21B7-4D80-A486-EFF47DEA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45E2-29F3-4EF1-AA32-121B763F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5E9-3B79-4103-83B7-51FD2F1A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F5E-C1F9-453B-BB75-D8C3DF58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05D-C50D-4089-A293-B05BFAD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B67-9002-4ACF-A7FD-47E3620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508-9FB9-4B9F-8E12-8C500B8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CBE-70C8-4303-8815-0A3CB45A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5D3-102E-436E-92FF-3CCDB918A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2AF-A7FD-46F9-B491-62777B80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Hallelujah! We Sha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E. Thoma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allelujah We Shall Ris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allelujah We Shall Ris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allelujah We Shall Ris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allelujah We Shall Rise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allelujah We Shall Ris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allelujah We Shall Ris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allelujah We Shall Ris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allelujah We Shall Ris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allelujah We Shall Ris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allelujah We Shall Rise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allelujah We Shall Ris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allelujah We Shall Ris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allelujah We Shall Ris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allelujah We Shall Ris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allelujah We Shall Ris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llelujah We Shall Rise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allelujah We Shall Ris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5480" y="64882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Hallelujah! We Shal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allelujah We Shall Ris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0T16:08:47Z</dcterms:modified>
  <cp:revision>32</cp:revision>
  <dc:subject/>
  <dc:title>Slide 1</dc:title>
</cp:coreProperties>
</file>