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91C-C982-405E-B6B3-2A0CA5F3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130-A3A1-4D4D-9071-69C670FF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78C-E966-4039-8210-AD6FC414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671-D93C-4525-9180-333E4B40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BF9E-D6D5-4220-BD45-C72C3CF4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29D1-9EE6-4C91-870F-9279786A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6D66-579A-4647-8D5A-48B8331F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50DD-4ADE-47C3-9C55-33B17914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1EEB-4482-42FC-AD4B-7B8660F8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B894-241B-4D03-905A-ADE1FC0E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E5F1-9783-4B9B-9C48-4F630E14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84D-7EE8-4672-818A-514BC093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E158-5A67-43FC-B9B7-19A62F83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D278-669A-4FB7-BD48-23F191A8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1BA0-FD94-46AA-92B7-934C948D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1E69-EBF6-41FB-AD94-3780B47A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84A3-5355-488A-BA16-8E988D22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EAD-AE66-4213-9BAF-77B0FE8A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A87A8-E36D-41D4-B96D-288C33B2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2881-0B9E-4982-9F81-32DA4C27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C3963-6F41-49C1-8896-E2217BE8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BA8-F0FF-4EF7-8A0B-2EB3284D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3DEE-7630-4253-A322-2E902A33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C8CE7-5BEB-4FA2-AA42-11943577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7350-5B7E-452B-B9BE-9F6F7AA7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F650B-AA56-483F-AA85-0A14868C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D07D4-C542-4172-A65A-A08E59E2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1E02-F663-4D3A-9A85-C8E3E5F6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199BA-6B83-4AD8-B746-B6F5B910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8576C-FD64-47B5-BCE7-3CE70D9B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F070-3BA4-49E1-9FAA-051E0C57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9D0-0C68-4231-9412-BAFF9986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66E-1A83-4AA2-B696-24BFEF70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61A-19F7-4CF1-B7CA-5364B6BD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C85-AC8B-4C22-8D7A-A33CD89C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F9C-C417-4946-9A9E-D8EE2D4C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9367-BE77-4CDA-B8E7-0AEA13F82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FA7D-BC51-4A7F-ADA7-DAA563B49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3698-E849-4CA9-8EAF-CA902D7C8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w Sweet, How Heave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Swain (17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ow Sweet How Heavenl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6400" y="648828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How Sweet, How Heave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ow Sweet How Heavenl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w Sweet How Heavenl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400" y="648828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w Sweet, How Heave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w Sweet How Heavenl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w Sweet How Heavenl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6400" y="648828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w Sweet, How Heave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w Sweet How Heavenl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ow Sweet How Heavenl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400" y="648828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w Sweet, How Heave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w Sweet How Heavenl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400" y="648828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ow Sweet, How Heave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sheet music with black and white tex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47:39Z</dcterms:modified>
  <cp:revision>27</cp:revision>
  <dc:subject/>
  <dc:title>Slide 1</dc:title>
</cp:coreProperties>
</file>