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AE95-21A7-4E46-9C4B-F979F848A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BC24-E6F3-4096-AD4F-4A7ABB833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6951-4D92-41D5-905F-518D79DD1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82D1-CDCD-4FE4-A5E7-FFA3608B5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F0C90-823C-49EE-8CEC-05199BCAF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0C643-2251-420C-96B6-25CEB06EC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9E578-8B8D-42D2-84BB-F7A076002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7FD7D-ABC7-465A-B356-25BFD07C6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281F2-4C73-4A70-BB1A-3A6DA5CDA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D12A1-9535-4DAD-B3CD-54E349E71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10B32-BB7E-4820-9788-DA2305A3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B588-BE3C-44AA-9573-94D90E8CB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97CA6-4295-4300-AA5E-341CDBC5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5AF10-DBBA-4E4A-B4AA-8FEA4B3F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356BD-07FC-4BE6-868F-11B6DF417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1DA2C-F541-42D5-8624-22409CC3C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018C2-A350-416B-859A-50D541A3B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20A2-282E-4F35-BA6E-8091F6FB2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8C51C-F614-4F68-B553-1728021CC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CFA44-55B6-4F90-8C43-BEE285654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CA934-3F9F-4940-A4BB-04FBAF0F8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2DD9-716B-4BAC-A1EC-DBF9E254A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35F18-7B4D-4FDC-8E27-D8B84A9AF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E42E0-65CE-49FE-B921-9C15557B4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F8EAF-AE69-4EFD-B73F-52FC50240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4BE50-3248-4358-9873-A9FF0C22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12D44-8659-4763-AC5E-4306F6E1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C90A5-3E82-44FB-B12E-7AB187AB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821A1-843B-416F-98B1-3E08B6CAD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AD0BE-97AA-4F10-8AAC-FBE650EED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B8AD9-70B6-464A-8CEB-A722AAAF5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3047-45D1-44B5-8C14-AF7C7182A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2649-12ED-42EC-97DA-C77B20173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FC81-9A0D-470C-B0F0-26CDA446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6A53-0321-4280-B415-50D68CE9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4CF9-95E2-46F0-BD2B-71E78364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C7F99-CB36-41D2-9633-DB190BC708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14571-F9C1-4A8F-924C-87C04B4239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FB4BD-9747-44E4-AD78-C6E0AB3079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Have Thine Own 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ADELA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5.4.5.4.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9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G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dellaide Pollard (190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eorge C. Stebbins (190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2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Have Thine Own Way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1720" y="6488280"/>
            <a:ext cx="31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Have Thine Own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Have Thine Own Way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ave Thine Own Way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81720" y="6488280"/>
            <a:ext cx="31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Have Thine Own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Have Thine Own Way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A picture containing time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81720" y="6488280"/>
            <a:ext cx="31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Have Thine Own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Have Thine Own Way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0T19:52:42Z</dcterms:modified>
  <cp:revision>28</cp:revision>
  <dc:subject/>
  <dc:title>Slide 1</dc:title>
</cp:coreProperties>
</file>