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932-9011-4FAE-A488-BB2AC4F8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34A-BC63-42E2-84B8-06383CFA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240-7371-4B6F-8820-380AADBA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6EE-A865-4F5A-9B08-71C6F006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8BAB-43E1-489C-9677-00E565F1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2009-F1C6-42AF-83CD-15F3FAE3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8CE0-0014-4878-AFDC-5E7CF53A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24C6-6A20-469F-8815-80ED448A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DDF8-E996-430F-9916-5D1C3570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3D8E-9CD0-446C-9409-08E0169D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D285-473D-4914-939B-4ABDBCA7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BE8-5D87-43CD-A749-7AEBAAE5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C236-ACC2-45DB-B956-CE7888F4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407F-B9E6-4F8D-B20E-FE8B690C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B8EF-D05F-4AC1-B2F2-C89583A3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9166-3B63-4E94-B24D-C4BC4095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4E80-8787-4802-8AA2-00B4D1D4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CE2-9FFA-4504-9320-395F823B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DBCAA-813C-46B0-9723-D14321A0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FCBC2-64BA-4E0F-BAA0-03DBD492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3E2FF-48E4-4748-90B9-73E6C3D1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52A-466E-42C3-90C1-120809B9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3F40B-5C34-41B9-A5B9-0573FC38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5B826-DA07-4AD9-947C-5532DAFD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080F3-B5D0-49CC-832F-9D7C3EF2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E7E69-8E4B-4E82-8DF1-752E36EC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0D27B-9E7A-41F0-B618-19AB6938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165D-0363-4B29-A44E-34715D23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F3069-167E-4CCD-9C03-50B71742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1A796-EB57-4DD4-A2F0-DCE1637B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732B-1D44-406C-9B7C-BEE04F1E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A8F-B281-4404-A5E9-EBA4033D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3E82-8225-4616-BEA8-218CC09B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39D-3135-4A14-A018-38070F6A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D74-2772-41B2-8994-8EF3773E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1FD-D38B-4F54-A2FC-12C55352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9900-5B80-4487-AA35-9B0132E6B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70EC-3954-41B8-8AF6-FCA6C6D4D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7F20-5908-414E-B32A-73C68FFAD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 Loves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684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loyd O. Sanderson (194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o. Showalter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ng-Land Messenger No. 2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howalter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ng-Land Messenger No. 2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98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by L. O. Sanderson (194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 Loves Me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 Loves M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7320" y="64882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 Love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 picture containing sheet music,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 Loves M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 Loves M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67320" y="64882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 Love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 picture containing sheet music,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 Loves Me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 Loves M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7320" y="64882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 Love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picture containing sheet music,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20:12:07Z</dcterms:modified>
  <cp:revision>36</cp:revision>
  <dc:subject/>
  <dc:title>Slide 1</dc:title>
</cp:coreProperties>
</file>