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8F9-C7FE-4113-A41D-C291ED1C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285-222B-45CF-92C6-B5E4F988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F42-17BA-40FF-AD21-3D34054F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CF6-7F47-41A7-AA8F-F210ABEC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CC5B-F2D8-4E0F-8AE6-5B881BAF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311E-0908-4E8C-A6F4-494BB3D3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F292-82E7-42B5-9A57-B16609C9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EF46-10F0-4105-8702-4B5DFFF6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72EA-B9B6-4097-9B41-6EF98F6B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168D-FAC9-499E-83CB-8D67B3E9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A28C-EFB1-41D4-9652-BC0B898C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370-2B18-4158-8AB2-1237D480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47F5-CE5E-4FCE-A389-B62E4E9B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8D40-6D7B-4FD4-AE8D-D2B76447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9B41-909A-4FFB-96AF-40660EDC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C8A1-C51F-43AB-B6F3-34412858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D40C-3D00-4A93-91A0-FD6DE6A6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595-F0D2-4120-AB52-27E07C5B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D24F-B223-4275-B028-2256C720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A78D-EE7B-4832-A411-7E4F74EC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4228-9CA9-4379-9C4A-8F74C11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434-FAEC-4687-B99B-04F14565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32D1-FDBB-4857-87A3-F49F4826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133E-8F98-48A5-AFC0-78D8959D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C813-9A8D-4233-A643-66DD8BE1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9B26-0D61-46CD-A963-B5DEBB7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BE52-F071-4A8E-A675-3ECC6F4B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74C9-CCB3-4D01-86AF-CA0DBD3D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F4C5-74DC-4CD4-B7C7-D87EB9DD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6D8C-898B-4981-92BA-602B5267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D621-D264-4063-BDA8-FB6D3E90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4B2-F634-4ED0-9BEA-4AF6ADAB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D21-8BD4-4910-873B-6C63D72F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E02-C68A-464D-AD97-4A3514D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EDD-57E3-43CA-9267-E9A3A67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9F6-E6AE-4F9D-B362-380FFE0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543D-F728-4A0F-BAD8-A29744059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9DEB-D972-4747-9775-AE00CFB0D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A2A0-A10C-4A3B-BAAC-C0C288B9A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ide Me, O My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ide Me O My Savior Hide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5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ide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ide Me O My Savior Hide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ide Me O My Savior Hide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ide Me O My Savior Hide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ide Me O My Savior Hide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5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ide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ide Me O My Savior Hide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ide Me O My Savior Hide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ide Me O My Savior Hide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ide Me O My Savior Hide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520" y="6488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ide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ide Me O My Savior Hide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ide Me O My Savior Hide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ide Me O My Savior Hide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7:34Z</dcterms:modified>
  <cp:revision>31</cp:revision>
  <dc:subject/>
  <dc:title>Slide 1</dc:title>
</cp:coreProperties>
</file>