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4AD-28F7-47DD-A0DC-B8F564E5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CAE-0416-4CFD-992B-2394302E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D4F-2782-4175-B6AE-E8EF7D1A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127-3302-411B-9D3D-3899AB9E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248E-6791-4E09-94CF-37350EAB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FE81-D813-4F2C-BE1C-AC5613A5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3828-3287-498C-971B-B721740F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748B-9FC9-4E56-99F5-3F422735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E2B-36F5-4A24-B72F-9A0D8D3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A8FE-1DCC-4103-AB70-9C7F68A5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0E8B-742D-4D1E-A19E-22358D78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637-585D-4C9E-8FF8-4517185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7E24-93BD-4E7B-AF9A-3C5B65E2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B2C3-5F37-402A-B515-0E54A2A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4D2D-AE1E-424F-BE5D-A69EE7AA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A7EE-1A7F-47A9-9E19-6AF1314F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3624-F428-4722-A60E-8BE4DBAE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C6D-AF18-4306-99F7-7551E977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8E04-978E-4BC5-99EC-73F386BD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BE84-C14F-4F4E-ABBD-A3BDE1D5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0508-290F-49BE-9F61-CEB23BFE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22C-A0BF-4D29-A58B-777E99E2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7BAA-47AC-47E9-BC42-7052CA1B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75FF-7DB7-441D-8A08-4AE36C23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E7FA-48D5-4BB0-A576-10F8A249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2940-FD82-48EA-9580-2A705D3C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BC8F-0D12-4EF1-91EA-1478137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2460-D59D-45F8-BCE7-8C736D0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A26B-C9C9-4554-AEC1-C44F651C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3FDD-D4CF-43BF-A671-76B05D9E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8D2E-AE1E-4F43-80CE-C3233838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089-3BFC-4444-BFA1-04A45814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E05-6668-425E-9D99-EE5AAD9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4D8-62E6-4A0A-9BF5-087EDCA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603-ED67-40B6-A02C-20EFF61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ED7-311C-4FBD-BFF9-27DF9D8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9072-DD31-464A-A4A1-E09A539EC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2988-1A14-4CED-84B3-1D893FBC7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BF0E-C386-4102-B265-D821A00AF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venly Su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alking In Sun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J. Zelley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H. Cook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avenly Sunl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8480" y="64882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avenly 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avenly Sunl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avenly Sunl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avenly Sunl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venly Sunl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480" y="64882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venly 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avenly Sunl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avenly Sunl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avenly Sunl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avenly Sunl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8480" y="64882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venly Sun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avenly Sunl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avenly Sunl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avenly Sunl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4:11Z</dcterms:modified>
  <cp:revision>25</cp:revision>
  <dc:subject/>
  <dc:title>Slide 1</dc:title>
</cp:coreProperties>
</file>