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3CB-5C7E-4DFF-A053-2947B498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073-68F4-4EBD-A066-070A1A9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8D4-CEC5-4524-AAD0-66A3E6D9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733-A5D9-4956-BD72-52ADE0E4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D57-E234-4C5C-9DCA-BC0E1524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36C9-1B8C-40B9-8221-AE5B0FA4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F4D-17B6-4386-BEC8-432E487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2243-4732-4EC9-A120-0FC47348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D4D3-0E5D-4E81-AE3F-174DE54E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AA9D-D13A-4522-849E-A0A6ABB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09DE-C074-40DC-9B28-E2755D7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5B8-EFB6-4191-AB56-5715138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C8C2-7057-40DD-9CEB-B028D9AF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F2E-CEA6-4991-AA5B-255BF41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7B86-A905-4AF9-AF7A-49ED40D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84E-619C-45FF-A1FA-195DEAB4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943-EC31-486E-8BC5-10F2C199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682-31B9-4B78-8781-13C0EA7A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9642-18DF-4DCD-8D0A-17FBB372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B411-E7AD-4DD6-9A7A-AA860B6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A9A9-BD39-414C-84A3-57D0FBB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386-B15D-45EA-ACE0-21A91BA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E1C4-F19D-42EB-9EAE-A858016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F9D2-78F0-4933-A82E-3F0340C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EAE6-8D93-4400-BCC6-4599445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A900-2476-4D6D-97F0-1C73863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C922-047D-42AF-A4B9-CB606E6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BDE9-5D53-4F3A-A312-A62B6FD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C910-9E7F-41B6-ACDA-31354D9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4E68-851F-44FF-8BA2-05935913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5DEF-897C-4024-9EA2-A3A0F3A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899-3565-4838-949A-DE468EF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282-7389-4E9A-8CA1-6EE6959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4F0-D405-4693-97E2-1AD3CDC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BEE-CDE4-4801-A79A-3AFCC816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B22-2125-40EB-AA3A-989A50D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C2CA-B215-4731-A9B9-57611E258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536-EF45-42C6-944B-E07E6B194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DDB-F80E-4732-A566-7530B43FC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Leadeth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H. Gilmore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Leadeth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Leadeth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Leadeth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Leadeth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Leadeth 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Leadeth 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Leadeth 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e Leadeth 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Leadeth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Leadeth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Leadeth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Leadeth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Leadeth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160" y="64882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Leade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Leadeth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Leadeth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Leadeth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4:02Z</dcterms:modified>
  <cp:revision>25</cp:revision>
  <dc:subject/>
  <dc:title>Slide 1</dc:title>
</cp:coreProperties>
</file>