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752E-D1FB-4923-A286-45CDBB859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6509-B71C-42DA-BBFD-1D43A957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A369-D81A-48FB-96BD-ADE20B894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5996-6AB7-4CB9-8394-3029A3574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FA45-2BFE-457F-85EA-2B72FE483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90BC-6F5F-4984-9345-498BBCCE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18FC-9AE8-403F-965D-9088C338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B4FFC-D870-42B5-BEDC-72BE6A6E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2B8B0-2897-41F5-93B5-10336FF4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0CA10-DF6B-4E20-9458-7A4DE216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324F-F065-44D3-8E79-5313F85D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8F90-92C4-4A47-8555-45D8965D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05AB-BD94-419F-80B0-CA9F63EB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833A-7853-477D-A9E4-5F30176E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46C71-F3D8-42E4-B5B0-48653DC1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7111-BF67-4461-A1D6-B624DEF93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3B98-39A5-4983-ABAE-28D2EED34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F9BD-6405-4D3E-82BF-D1F84528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72FA7-690B-4ED5-931A-A1FAC2D89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5EEE0-EF5B-4312-9BAA-1AD5ECF4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935C8-674D-47FB-8806-F9AE92D5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B038-CEFC-4270-AA1B-B8160663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90639-5101-47EB-A936-723892BA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DD9CE-91BA-4A94-8BDA-BA78F9D4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4C233-F364-4DE6-96DB-5DA33C52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1926E-0DF9-4591-B661-98C86F17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1716F-7373-414E-8AD9-968D789C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FB3B2-6B14-437D-A221-2293636D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6C1C9-977A-4EB8-81CA-4FF1FBF6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013C6-6DE3-4369-9ECE-4A67BF8AB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919BA-FE46-4D76-AF22-889FEC13F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D2F9-B1D2-427F-97DE-68ABBE32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E7AF-A93D-4461-8B49-322DA677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A815-6AC8-40C4-8743-652E83B2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2D54-BDCA-447B-90FF-E3448764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AEF3-EDCE-4B4D-B11A-99492F2C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7779-33E5-4708-9512-1D2BF02A2C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31B3-9552-4A0D-B097-9CBE40666F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E29C-6B31-40C4-950F-268E7A5C28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ear Me 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PASS ME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5.8.5 w/ 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C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anny J. Crosby (1868), Arranged by Eillis J. Cr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H. Doane (187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ear Me Now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57600" y="64882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ear Me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ear Me Now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ear Me Now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57600" y="64882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ear Me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ear Me Now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ear Me Now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57600" y="64882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Hear Me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ear Me Now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A picture containing music, sheet music, text, musical instrumen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57600" y="64882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Hear Me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A picture containing sheet music, music, tex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20:23:30Z</dcterms:modified>
  <cp:revision>34</cp:revision>
  <dc:subject/>
  <dc:title>Slide 1</dc:title>
</cp:coreProperties>
</file>