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E411-044A-4F39-B7DE-3BD2A066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69EB-ED69-4E93-B048-5C64E9C4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E556-15E1-43DD-8B52-2C07A60B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C4BD-EE21-4BF5-90DC-AE4091ED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BD7F-8613-4D68-B1F9-32782150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736B-CAE7-4155-85D3-81E9629D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5639-A8CD-43B8-979E-11960031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0C90-A7B4-4685-8E8A-77D35EC4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BFBF-F609-4D18-AC06-04D79737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667A-8D29-4AAD-9C1D-0C10AD92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6234-75AF-4014-B9EC-19BE99C6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A1C2-150E-4FFF-943E-3AFF8565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E4E2-FAF3-43BD-A012-2DB13936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2600-563D-4F0B-8918-C00C92F8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4C90-F359-4586-A46B-8A4ABAA2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6BAB-861C-4AF2-AF3A-B6B76935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A3CA-A85B-45EB-8C48-CC28206D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1099-9F3B-4DA1-8FB7-E4109761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689B9-69C1-4916-9AB9-9C7901AB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9ECAF-E747-4C10-933A-F67E4666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54C9C-D601-4C93-BE49-F5E5D3F5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5F61-4D16-41A9-BC94-771D6FED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CCCE4-FF69-4752-BF86-65C60586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0C2D2-3044-4C6E-A7A6-F8F828A7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BC44B-6679-4451-A942-5B991FBD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85018-243A-4796-AFA4-9F82E172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BB521-8896-4E87-93FD-D7B515D6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EBFF6-4B29-47B9-9338-63033548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30026-705B-4EB5-A752-1096A1D4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AE922-755E-4232-9BFC-D602D9A1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271A4-FE35-4512-B619-ED374DF4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E8A5-8778-404C-A732-8FD280FD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9A5F-6122-43F2-9236-03B3D068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87CD-4C29-42C2-868E-DFF18928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4FC0-464E-4FE0-8940-9C950C53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A2F5-F882-49F1-9E0A-99FFC468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C8B5-2D0A-4C51-B6DD-5A5FE2B81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6974-1E38-4492-80B4-B8B1C2B58F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08B0-C1BE-4E5E-B855-08E35448F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oly, Holy, H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NICA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2.12.12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5160" y="4902120"/>
            <a:ext cx="132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eginald Heber (182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B. Dykes (186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oly Holy Hol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7920" y="6488280"/>
            <a:ext cx="26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oly, Holy, H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oly Holy Hol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oly Holy Hol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oly Holy Hol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A picture containing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7920" y="6488280"/>
            <a:ext cx="26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Holy, Holy, H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A picture containing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A picture containing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A sheet of music with words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oly Holy Hol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7920" y="6488280"/>
            <a:ext cx="26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oly, Holy, H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oly Holy Hol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oly Holy Hol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oly Holy Hol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oly Holy Hol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7920" y="6488280"/>
            <a:ext cx="26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oly, Holy, H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oly Holy Hol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oly Holy Hol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oly Holy Hol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20:34:39Z</dcterms:modified>
  <cp:revision>19</cp:revision>
  <dc:subject/>
  <dc:title>Slide 1</dc:title>
</cp:coreProperties>
</file>