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590-8B28-43D0-8232-19AD9D89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CAC-E99C-4F53-B51F-007B0CE0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40E-15ED-4119-ACC2-F8CA96D5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CCF-1DE4-4590-8EFF-1642FC8B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97B-EC6C-492E-88AA-F9089C8A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39A2-CDEB-4DE4-B363-4ADA4652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2C1A-E280-4E8D-B5C7-B9CC1D11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318-39A0-49D1-A5F2-97A1D07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8AB5-6A44-40D1-9764-6B0ECE29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DC2E-DACD-43E3-939B-CD16C30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9D95-29CA-49CE-8DDB-2BAA557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7BE-D15A-4A7E-BBCC-3DBDD93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3278-5ED9-4E85-A0CF-BF67410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1776-A022-443A-91CF-0A6417C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692-77E8-4BFA-BEF5-6B90B2A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7A5F-5137-498C-8B54-FB8BC310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D13-A20E-45B1-921A-F0CC13BC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25C-BB09-40EC-9B98-CBA42A58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36EB-81DA-4600-9C13-65C9E6A0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5235-38EA-4BB5-982C-33901ABD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93B8-108F-40D2-BD06-66F6554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536-9D3A-47B8-B0CF-789F6C5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6051-93DC-4F6A-B40D-6E4A91BE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A312-4FE4-47C2-9D99-90DD50AC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1551-A83C-4308-B4C6-C0B4CF89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FD11-92AD-43FE-802F-EDB436A9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355C-24B7-4245-A08E-8023A46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028A-3285-4637-A717-C7E8DF3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E7D3-7CB2-42B7-A125-4F6646F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F45B-0A8B-4127-BEAE-59DD2277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FE16-E9A2-4F27-AEFB-614F8DF1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0BE-F69F-464A-82C5-388B735C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92C-51A3-4F74-A8AE-B2D75DD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AA3-C312-4DA5-85C1-4E46E8B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14D-E4CE-4AC3-9656-AE11BAC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B6A-A584-4E98-B6D8-F2A66D13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7721-3913-47CD-A302-3F16914EA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2076-24DF-4728-A988-115CC03B4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C731-4DF6-4D5C-9055-B32B1D092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rk! The Gentle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B. C. Slade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B. Everett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rk The Gentle Voic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5920" y="64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rk! The Gentl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rk The Gentle Voi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rk The Gentle Voic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rk The Gentle Voic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rk The Gentle Voi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rk! The Gentl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rk The Gentle Voi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rk The Gentle Voi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rk The Gentle Voi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rk The Gentle Voi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rk! The Gentl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rk The Gentle Voi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rk The Gentle Voi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rk The Gentle Voi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10:28Z</dcterms:modified>
  <cp:revision>26</cp:revision>
  <dc:subject/>
  <dc:title>Slide 1</dc:title>
</cp:coreProperties>
</file>