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17A7-6153-42C1-9C91-9A639B2D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D05-53A8-46C1-84C6-607D3D1F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0B6-E666-419C-B265-2F955E47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86D-3DD5-4C29-9BE8-FAC49EE2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E438-1857-4FB4-8F09-5F59E6D2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83DB-BC7F-4583-B8E5-88193D12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D4F4-8845-4908-80CB-572304C7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FFEE-CC85-4BA1-B87D-7104F684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653C-BA17-42E1-A402-709C5969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84C2-8527-4DDF-B500-BF1701CB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85FE-7232-4921-A5F2-6340D503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9D3-C26E-4B87-997D-7364C826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93E0-77B7-4BE2-AD07-7E426B67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39D2-C7BE-4EAB-A79D-855B1F32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DCF3-9C9F-4BFA-BF75-4686E1A6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D52B-FD42-4FC2-98D9-C2AFBBB5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A102-9E34-40BB-AC1C-AB038217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24D3-44D1-4AF6-9CC0-AA60B3BA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733C3-A0FC-4BEC-8346-1A03B831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EFDF3-2600-44F6-B337-AD5C1569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40977-B3F3-46A2-A82B-AB38126B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7CE1-EA5E-4389-9AC5-99D157BC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1DBE7-506B-4EFC-A992-A6855AD4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551AD-E649-4C44-BAB7-BF55B3DA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28DB0-0AF6-4F90-A167-4D5C03B0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1F9DE-BFA8-4EC0-AD17-537511E0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0C9F3-DAB9-4EFE-9AB1-12049BB5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D79CA-B8B2-47D0-ABF0-E5A46A31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C9657-9C50-445B-B3A5-9899F86B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38467-CB02-4DD3-8A54-309FB906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2D30D-BC4A-41EC-8C46-EBAF964E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017-A86F-4677-8B4E-B626356A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ED9-D8B4-4D9A-BECA-4860EAAE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A920-1C86-4DA3-BD4B-C38114BB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1D4-E874-49BE-B710-4938707D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8B6-A0D5-446A-BAED-ABE1EB09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06D8-FB9F-4D77-AC7F-D2A591594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6E55-198E-46F3-BD69-DCE4A2EA93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9466-639B-4A5C-8397-56954ED90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oly Bible, Book Div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LE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G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Burton (18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B. Bradbury (18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oly Bible Book Divin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080" y="648828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oly Bible, Book Di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oly Bible Book Divin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oly Bible Book Divine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0080" y="648828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oly Bible, Book Di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oly Bible Book Divine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oly Bible Book Divine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0080" y="648828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oly Bible, Book Di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oly Bible Book Divine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oly Bible Book Divine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0080" y="648828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Holy Bible, Book Di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oly Bible Book Divine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06:45Z</dcterms:modified>
  <cp:revision>31</cp:revision>
  <dc:subject/>
  <dc:title>Slide 1</dc:title>
</cp:coreProperties>
</file>