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087C-7931-4341-AAD1-3B445FDC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B07-5CEB-4C27-A7F3-5516FF21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4C63-1C4C-4163-AF48-B9A2F564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957A-3CB2-4152-9E1D-B12852CD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BE04-016A-4CE9-8B7D-662C3F66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BCBD-DE80-45B9-A1CC-604E4809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52A5-1295-4DD4-843C-8883E541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D9CE-D959-4398-A13C-E551E364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1FBB-FC2A-429F-B762-6A4BBD4A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9437-327D-4F3A-BB7C-8A961BD4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3524-3D3F-470D-9487-3DDF4681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222-D00F-4316-8529-BC6DB04E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BEC8-5417-47A7-823B-504C613E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AFFF-163A-400C-9F9D-42E157DE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D14F-7B3F-4229-AA79-C50A4CE2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F206-47DF-4415-A408-63C5BD9D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72E1-01AE-4C33-A7CB-7EB09918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585D-1593-4407-BA85-171D28E9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D7AA0-A0FF-4426-8A3D-20475FE6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BE1E7-927F-4FA0-9389-C9F58C21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9E5C4-C6DB-4072-BA2C-656F9AFB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80B9-274C-4504-9244-290CC10B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47108-1DCD-446E-A5D9-F046F9E4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3EFDB-282B-44D9-9D4B-B4D5EB22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1DA5A-442E-424D-A655-BD4C0FB7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39988-4D1B-4848-9245-F7AD4A8D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0BE72-6391-429C-AAA0-8FF7BA3A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9F244-DCD4-4BB4-8BD4-B286C08D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24B8E-9C3D-4BA1-A828-1C6CFD49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B89E-8BA8-4854-A338-26474E1B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402B2-E7BB-4AA3-8233-6691E821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0C0-9EEF-48C5-8EA9-D930D307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354-EA0A-4227-A830-08BDD8C1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3CAA-D9F5-481B-A544-F17731AC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CB0B-C1F4-4C94-86A4-8D452D05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8210-EEDF-44D2-B8AB-8A69FBA0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F957-BE98-447C-896D-1E2DDA56E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ACC5-8F72-4532-B515-16985C9827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71CA-2F66-4C43-9EDA-E2D57ABE9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ow Sweet The Name Of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ORTONV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Newton (17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Hastings (18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ow Sweet The Name Of Jesus Sound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9800" y="6488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ow Sweet The Name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ow Sweet The Name Of Jesus Sound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ow Sweet The Name Of Jesus Sound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9800" y="6488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ow Sweet The Name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ow Sweet The Name Of Jesus Sound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ow Sweet The Name Of Jesus Sound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9800" y="6488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ow Sweet The Name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ow Sweet The Name Of Jesus Sound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ow Sweet The Name Of Jesus Sounds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9800" y="6488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How Sweet The Name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ow Sweet The Name Of Jesus Sounds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58:55Z</dcterms:modified>
  <cp:revision>15</cp:revision>
  <dc:subject/>
  <dc:title>Slide 1</dc:title>
</cp:coreProperties>
</file>