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5CE-0537-4AD1-AE52-3502A7F1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556-00DA-474A-B789-BAA3D3CE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9FA-4821-4C90-A9B6-7236C0DC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6D7-75B5-4580-BA5F-AEB334C5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A7D6-5622-4B57-978B-15F50565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BADE-BB29-4437-B137-8F366895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56EC-B54F-49D2-BA64-7688ED3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F9B6-693D-4024-86F3-86B92F39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60CB-08D7-45EA-8D11-B386876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BBF5-0B08-40AA-B9C2-5452C3E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9626-A7D7-4416-AEA4-0B0FBCE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FE0-46AA-4367-B2EC-0D5DB2A6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A9D-1D7A-4C94-B8E7-6B99B471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7395-592C-42F3-ACBD-E3F75CD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1613-A7D9-4761-9CE6-3FCB9CDF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9B8-7FC6-4492-BD32-AD25F58F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94B1-69DB-492D-994E-AE8215B2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2E2-B849-4231-8997-FC270F10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8EB8-AEB3-4EC8-A4FB-43F07B2D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8E36-1C36-4CFB-8701-98C91E67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3F50-A2BF-4F2C-A22F-79EA4E2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0FB-7E81-4B5A-A03E-C1FF17A5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D12A-AF48-496D-B270-E098CD7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772A-28D7-4589-9DC7-2D41E3C1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35D7-6999-4ED4-8A0E-D9C5F96E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C731-7537-41EA-95D9-2DEB2E5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A116-8A3D-4BF4-BE6C-B2BDC31B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3443-44A0-40D5-B81A-BF07160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09B4-5733-490B-B758-D99CE7D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C859-CF68-45A8-AD39-052E2C50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FCE9-F4EF-4C42-A821-B450610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AE4-4A89-4B2C-9B7C-2C121A9A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546-7920-4941-B1D0-775E94AF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99D-6E89-4B2C-A1E1-6B77627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608-7841-461B-931C-E1B7CA6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6A8-ADE5-4F53-A9F0-6475E7E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23A5-071F-44CE-A915-0B0819581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ACB4-7A28-4AE8-80AB-4AB9054B2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0CFE-8693-499B-9B91-A7EEE143A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is Eye Is On The 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C. D. Martin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is Eye Is On The Sparr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is Eye Is On The Sparr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is Eye Is On The Sparrow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is Eye Is On The Sparrow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is Eye Is On The Sparrow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is Eye Is On The Sparrow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is Eye Is On The Sparr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5480" y="6488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is Eye Is On The Sp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is Eye Is On The Sparr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is Eye Is On The Sparr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is Eye Is On The Sparr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480" y="6488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is Eye Is On The Sp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is Eye Is On The Sparrow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is Eye Is On The Sparrow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is Eye Is On The Sparrow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is Eye Is On The Sparr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is Eye Is On The Sparr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is Eye Is On The Sparrow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is Eye Is On The Sparrow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is Eye Is On The Sparrow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is Eye Is On The Sparrow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is Eye Is On The Sparr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5480" y="6488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is Eye Is On The Sp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12-23T01:59:00Z</dcterms:modified>
  <cp:revision>31</cp:revision>
  <dc:subject/>
  <dc:title>Slide 1</dc:title>
</cp:coreProperties>
</file>