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E49-38B8-4EF1-B077-912140FA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7BE-4D54-462B-AEFF-F8F2B4CB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694-CD4B-41D1-B1DB-1D95A91A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538-2BDD-4B3E-B152-4E048D67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AC3C-F3F5-4EC0-AA3A-C2D69D22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07D9-5D8C-47AA-AD73-EAD6D662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BA78-E291-4FA3-AC37-55B782C9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7709-47F7-4DCF-A354-1D33D521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DA5F-B3EB-470D-95EC-6FD37F3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194E-E6E6-461B-A842-5D3C4D4E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5557-8774-4FCF-BA24-04E32B3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0EE-A270-4D54-9835-5A477CDD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68C4-195D-452B-A66C-C12E7D8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F34D-7243-44E2-B576-915C08DC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4410-7B2D-4794-8449-E2B6318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3EB-32BB-4BC8-9F51-21E70D99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EBC9-9801-45B6-B83B-0F8BDC6A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B4C-24EF-445E-8309-69B3F4BA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C5A2-3B47-452B-9B38-8EE813CA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497C-C6E9-41E4-9F7F-32EAA8D6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0303-D8DE-4B1A-9173-A98AF7DA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92C-B6AE-41C9-B2DC-DB5844CC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8120-F7BF-4627-BE10-54918CA0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965F-0E47-43A8-A383-18A51EAD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C0B9-D6DB-4A46-9DDE-FEA2117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76FA-A6BF-47C6-8484-3518E6D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037D-507B-4CEE-9C44-1626A683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FD3C-9FEA-465F-B4D5-92D37CB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197D-BB09-4076-8A33-FAD365C5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831D-75F0-4E06-ACFA-6DA9C185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EB9A-48C1-448F-AF75-B07B6C20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3A7-FB52-4A06-A825-3E7E9D4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828-2BF0-4C53-BCA1-FFC23CCF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355-38CA-4486-9778-E143A024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417-4FD6-41EF-86BE-54BD278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260-1266-4195-A2D4-3339F511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4D37-1065-43CE-9519-52ADF9FD9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DB18-3473-442C-8D6D-72E480EB2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38D6-AE98-4851-AC05-81827C329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r, O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, adapted from Deuteronomy 6:4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, Arr. by David Sex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ar O Israe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r O Israe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080" y="648828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r, O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ar O Israe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3080" y="648828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r, O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51:57Z</dcterms:modified>
  <cp:revision>23</cp:revision>
  <dc:subject/>
  <dc:title>Slide 1</dc:title>
</cp:coreProperties>
</file>