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42BE-239D-4A98-A1F0-AB71E92E3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2A19-9C3A-4908-A54D-4419117D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B6CA-25F9-4313-838C-67ABAD974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CC73-916F-4A68-A2DE-2F74B7A43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EF1B-A879-40A3-9D4B-6332A234D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8733-2B6F-4A11-A235-6FCE4DAA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E91C-7C97-4826-85B6-F2862A4A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62DD4-2749-4EAC-8520-D89087FC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165D-E436-4527-89FB-D554F027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77CB-B8EF-4771-AA57-3C57F515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E45B-7A5B-4820-8AC0-12CA5EE5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A0C2-50B2-4659-8C15-663E18DB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FE4F-DDE1-493D-BC02-9A3D512B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4FB5-BB59-40DC-9578-B9C3005D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45B3-2C28-489C-B0C1-84107C6C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4CDF-96C9-4B91-B7B4-735A64BBE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19FC-0097-41F5-BECC-85EEAE738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0483-001A-4309-9186-C84BEEE3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FB62A-0334-4335-802C-EBF6A8C37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EE6F0-C4CC-4D09-B477-0D31EBE0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115D2-24DA-4FAD-91AF-080CB42E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DC06-BEAA-481F-97E9-0C5C3E24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9EF9F-97F9-478E-9ACD-296C3D1C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09BE7-9D72-47ED-828A-80932CB4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53BFA-BDC5-4708-AB57-16BDE51B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F2D5F-8743-4897-8FDA-4C6DEA71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F109F-FB62-42AB-BCFD-17671D67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B4318-C0CD-4424-B0D0-F0FCB8C4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92D1B-FACD-4DDA-8CEE-F3F0C5EB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A140C-F43E-4F53-9541-B568EB7E6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20F3C-7070-4ECB-9359-022258320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7F92-0279-4B5C-985E-3E671DBE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DCD4-9B55-4ABC-B3D9-37B5B324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7179-A20A-4C12-9E0B-4041085F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8878-676F-48DC-979F-88E58D76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85B1-727B-4E80-8D39-724AA29D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E6C1-94FC-4524-B4BE-927301840F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1C19-0DF0-4DB3-B30F-9F6BAF1D5B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E6DA6-0B28-41B1-97DC-9B20E744F9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allelujah, Praise Jehova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J. Kirkpatrick (1893), Psalm 14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J. Kirkpatrick (1893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1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allelujah Praise Jehovah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Hallelujah Praise Jehovah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Hallelujah Praise Jehovah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Hallelujah Praise Jehovah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Hallelujah Praise Jehovah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Hallelujah Praise Jehovah_v2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Hallelujah Praise Jehovah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100080" y="6488280"/>
            <a:ext cx="36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Hallelujah, Praise Jehova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Hallelujah Praise Jehovah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Hallelujah Praise Jehovah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Hallelujah Praise Jehovah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allelujah Praise Jehovah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0080" y="6488280"/>
            <a:ext cx="36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allelujah, Praise Jehova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Hallelujah Praise Jehovah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Hallelujah Praise Jehovah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Hallelujah Praise Jehovah_v3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1"/>
          <p:cNvGrpSpPr/>
          <p:nvPr/>
        </p:nvGrpSpPr>
        <p:grpSpPr>
          <a:xfrm>
            <a:off x="7486200" y="6519960"/>
            <a:ext cx="1660680" cy="338040"/>
            <a:chOff x="7486200" y="6519960"/>
            <a:chExt cx="1660680" cy="338040"/>
          </a:xfrm>
        </p:grpSpPr>
        <p:sp>
          <p:nvSpPr>
            <p:cNvPr id="210" name="TextBox 2"/>
            <p:cNvSpPr/>
            <p:nvPr/>
          </p:nvSpPr>
          <p:spPr>
            <a:xfrm>
              <a:off x="8539560" y="6519960"/>
              <a:ext cx="60732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14"/>
            <p:cNvSpPr/>
            <p:nvPr/>
          </p:nvSpPr>
          <p:spPr>
            <a:xfrm>
              <a:off x="7486200" y="6611760"/>
              <a:ext cx="1034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allelujah Praise Jehovah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allelujah Praise Jehovah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allelujah Praise Jehovah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allelujah Praise Jehovah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allelujah Praise Jehovah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allelujah Praise Jehovah_v1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allelujah Praise Jehovah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100080" y="6488280"/>
            <a:ext cx="36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allelujah, Praise Jehova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16:09:10Z</dcterms:modified>
  <cp:revision>18</cp:revision>
  <dc:subject/>
  <dc:title>Slide 1</dc:title>
</cp:coreProperties>
</file>