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75B-1C71-4932-AAE1-6D457347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6B3-3FC8-44FE-898E-C5B51A8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18B-8A9E-4D76-AC85-2419EBDB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723-5107-428B-9E6F-44B6AE25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9EFE-0B10-4D11-BC8C-9C153445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824A-DEA2-4DFE-BFEE-F0391C3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8E3-FFA9-4E87-AE78-3C0BE33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B0C-4930-46C0-9545-23E92187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312F-79EC-41C4-9300-C25E0C6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FDD-13C5-4069-AE92-340FE73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8D81-D5E6-403C-B591-69E4F57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CEC-6A6F-4EC9-802C-3AAF29EB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06BD-2164-402D-A07A-68E25B4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B05-918E-41C2-9AA3-30CFFD4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92E1-2BFE-43AF-AEBE-04C42DE3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51DB-C37D-47F1-9528-91FEDD6B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A10-9A8F-469A-A285-B138E4C0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D36-A6AD-4A6B-B15A-E537F0FD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98B6-205F-4263-9E96-16563FDD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8163-E4D1-4930-9408-33EF5087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BD16-9D17-4185-802B-4DAC57E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605-5426-4DD5-AF5C-2214D95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02BB-E893-48D3-B6C7-A2C715DF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3ACF-0227-4EB4-B3DE-732A8B03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084C-578D-48E0-808D-AC478AA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160C-D1E8-43D1-A417-0C16964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1178-909D-4EA2-B49A-37042E1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DE51-DBF5-41D7-B481-E1F4EE2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1538-A5BF-48D8-933B-FCDC4EE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47D1-5951-4840-90E2-308AFB87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D566-A16F-492A-A593-57FDF9CA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2BF-B3A0-40E6-BC76-1578CFE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9F0-25D4-4381-A238-08AACAB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E22-D534-4686-B11B-30396F6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F26-C39D-4AF1-AF7E-12ED60B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BF3-CA0B-455F-95F6-2709ADB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77A5-9415-4879-89D1-9B09AF1DE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D9C-619F-41AF-AAE5-D5B98AF9A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00A-78F2-43EC-9F37-C3375954B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Strang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King’s 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Stranger 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Stranger 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Stranger 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Stranger 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Stranger 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Stranger 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Stranger 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Stranger 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Stranger 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Stranger 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Stranger 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Stranger 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13Z</dcterms:modified>
  <cp:revision>36</cp:revision>
  <dc:subject/>
  <dc:title>Slide 1</dc:title>
</cp:coreProperties>
</file>