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200-AF82-446F-90C4-61A56B77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EF7-A5C5-4090-AB3C-CF70100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C65-82A8-4768-A8C8-D10D24C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45E-0808-456F-A8FE-72E3567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FD39-F388-43DC-96C6-6EE3B859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2CF-4D18-4E3D-860C-2AC54B35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5D74-171A-40F8-AAB8-F19A611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DF1-E9A2-4212-9EAC-BCE96B2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806-5448-45F2-9B87-14DA2577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EF9-E4BB-4549-8887-A609EDD0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9AB5-2A92-439E-9825-D7B3EB2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772-77D4-4349-B744-50C159A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19A-9EF6-464A-A6D8-48E319F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411C-98EA-49B8-B6A2-243307C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E360-5EBB-4F36-86A8-86FDE50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0D0-5267-4B3F-8EE9-A8774D0A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EC47-596D-4747-9B61-DF91F064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D76-509E-4FC5-8CB1-515695C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0A5E-1490-4709-9231-68738EBF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5622-BF90-4B8A-B376-39D6122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DDB9-0A87-4903-9CE3-E7F0D264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548-2DAB-4A84-8448-122F90D1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9143-8832-4FE2-87B5-0D43FED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A520-DEB1-46B4-AAB9-D2DB2D1E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9A9C-7AB8-4D06-A3B5-E0B7DE82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67A5-006D-47AF-87E8-ED7385B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A895-AF00-4CF4-81EF-4CBD511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1A0C-460E-4272-96BD-53BE96B2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523C-2814-4EE6-A97F-571717C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F675-1F5C-4F7B-8AE2-F824F63C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ECB5-4347-4183-9E60-CCCB087A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655-67C2-4EA3-A89A-CD43A3A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5CB-EEDB-4ED8-BA95-7AA833A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5D1-CF1F-49AB-A495-BC98FB6B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B53-981C-41AE-8513-1933304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A21-628A-4D19-AB98-159480A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0D3-AD0F-4B74-8C34-57F9BBE39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1198-BCA0-47C3-99C0-7626F75CD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52EC-36EC-467D-9379-96FF42724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Savior’s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tand Amazed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tand Amazed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tand Amazed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tand Amazed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tand Amazed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tand Amazed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tand Amaz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tand Amaz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tand Amaz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tand Amaz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tand Amaz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tand Amaz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tand Amaz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tand Amaz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1:18Z</dcterms:modified>
  <cp:revision>23</cp:revision>
  <dc:subject/>
  <dc:title>Slide 1</dc:title>
</cp:coreProperties>
</file>