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0FD-2F0F-443B-BCFA-14683FDE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604-A902-4355-A7C9-D688248F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287-5D16-4ADC-BA69-511240A5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32C-4BC4-4F7E-9A4B-D2D44CE8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45EC-A3ED-40CB-B487-5B321010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4BA2-2CCA-488A-8E2C-D5CEB690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2D24-C8C5-4831-8C07-BFF6F81F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B10B-E002-4699-8E22-0F9C03F3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6F1-6D74-4E36-BA82-078A4448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398C-2A8C-4F02-85C0-E5F3B3AA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1885-3995-4069-A359-0F586C5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C17-F5CF-493C-A5F2-FFA477EA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D58E-C5BB-4FF4-A311-55FE4E5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3606-0D1A-48D8-AD2F-6769FDE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941-FEB9-41D2-A855-9A7510EB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6DA9-3EA5-4FF1-98E1-FFDC12A6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D743-29D2-430B-A5FB-FA70C5A7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D82-E7A1-4B94-8449-60F998DE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F54E-F2C9-4BEF-902B-95D7487E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66F2-4282-45C3-B1EC-06F0FBE2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B40F-4E8E-4176-AD55-AB4BBD9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C05-9027-4A9B-9BCB-CD41DEF8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CDCD-A24A-4584-A1F1-9CE61919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F388-A865-46C5-BA2C-613048D2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18AA-D7E6-44F1-BED7-E52A1731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52A9-4451-4A6B-B400-03D3C52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E96D-8277-4B56-BE35-A4A03E0A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018E-96BA-4DD6-8A5C-EE0E087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B22F-DCCE-4758-A333-36738A9F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60CC-015B-4BC3-A0B9-BBC0723B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42E6-BEF6-4A09-ACDD-3120E8FC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900-F0BA-40F8-9C04-FBDFCBF8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0CA-0D14-4EC9-B52A-5046A8AE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1B9-6E9F-4EC8-B21D-540026C8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47A-DA23-44F2-A6DB-57D676E6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E17-1719-4037-88A5-2182DA6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3BEC-B49B-44CB-875C-BFC140DF6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128C-193B-4F6B-BFF6-692B89C83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7251-E7FE-4FD7-B22C-B2CDBF03A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’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s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ts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ts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ts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ts Me_vcho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4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s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s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s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s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s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s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s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s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9:38Z</dcterms:modified>
  <cp:revision>31</cp:revision>
  <dc:subject/>
  <dc:title>Slide 1</dc:title>
</cp:coreProperties>
</file>