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9DE8-C3A2-4A73-BAFA-F8A94D24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B09-ACA6-488A-868F-2865FD15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4F5-AA4E-4783-808A-1AD4F2CB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7AE-9F41-4333-8299-5CD1046C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EF9B-1DB6-4676-9CCD-D5F3E998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7AA6-39AA-478F-B463-69D7EE59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80A3-7446-458F-88CE-CBB7B481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9A9A-077A-47C4-8E7C-53B03D4B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7ACA-D37B-45F0-8E4C-04B2A7C3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9E1E-AE61-4796-89B5-8B7BE087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BEF0-11BA-4342-B254-7B5EAE6C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8D5-0195-402B-A9AD-C1AF46A6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CDCC-32BB-4353-8EE4-0BB87605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9038-2D46-4A65-8BAF-271C2313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DA23-6D52-4EA3-ACD7-1EE2140D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E59A-08EA-4C2C-BE7B-1A86CA1D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1DD7-A628-4B8D-B665-0C2E207D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E25-B58D-4157-8221-527EBD22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F174-DFC9-4ACD-99E3-8CA2E785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06BB7-2932-4004-8593-DB45D7C5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12073-17C4-4DE0-98D5-9AA4B6F9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B0B-082C-4838-B5A4-39841ABE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E22E0-BFE9-4914-8A8E-4D3BB618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AD035-561A-4242-ADC9-9C814177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2461-DB8C-4DED-A695-8993EB90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E237-550F-409D-93B1-A1B5EE50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77A1C-234B-4BAB-884E-EDF42303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EF52A-55D2-4E25-B440-BCC84DC8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880A8-E019-4754-829B-A78C92C5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C030D-E544-4F1A-AED3-A60D202D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024EC-0DA0-4894-AC57-BD52396E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473-E2CF-45B6-8DDA-1C0CB3D7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44D-BB88-414A-9129-6C13EC3A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35E-2808-4DEB-8CCB-36858697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EAB-2D52-4671-8040-330FF110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8D2-901C-42DB-9B67-E8208494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9738-17CF-419B-92D5-D06CBB03F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0D3E-C486-45C8-85D2-DF02E65139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CD9E-12DA-455E-9079-68165BFC5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Service Of My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o The Harvest Fiel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it S. Teddie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it S. Teddie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Service Of My K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1240" y="64882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Service Of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Service Of My K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Service Of My K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Service Of My K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e Service Of My King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1240" y="64882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n The Service Of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e Service Of My King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e Service Of My King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n The Service Of My King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Service Of My K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240" y="64882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Service Of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Service Of My K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Service Of My K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Service Of My K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Service Of My K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1240" y="64882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Service Of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Service Of My K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Service Of My K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Service Of My K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2:31Z</dcterms:modified>
  <cp:revision>32</cp:revision>
  <dc:subject/>
  <dc:title>Slide 1</dc:title>
</cp:coreProperties>
</file>