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F02-7ABB-404C-9F8E-253D6177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407-5086-46D0-8679-AC3B583A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496-C358-48CC-AB27-DE7F30E0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ABA-E9C6-436F-A21A-B03FB286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15EF-9368-4E16-9EB8-B7B502BD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7565-A068-45F7-95E2-7634436E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7F96-D392-4062-877E-638E3F70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B80C-8B01-4F63-AE55-6065C96A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54AB-50B6-4C37-96E9-28A6F1B8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C177-56D9-4704-9D91-46A291EC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B235-FCFD-4C29-941A-00C9A08B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799-0754-4287-AE11-3F5C53ED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B8C5-3E36-4C4A-8FDB-3E9A7410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1627-905D-4012-84F9-7EF42424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CBB2-73E1-4853-B21E-125C0F0C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6006-0E80-4262-9695-DB4F676E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E462-F84A-469A-8863-90B75E90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649-EE54-48A9-841D-1B59A55E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508A-F21B-473E-AAA0-08A58013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A4B1-C663-4059-AEBC-04388D4F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23A0-A7D0-4F58-9C3E-1205A240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742-6F04-4C6A-A217-0EB8820B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4A07-B5DC-4E04-820D-2AAECDEE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9666-7E61-4B25-91E2-7C3A36C3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CE99-9E33-4E33-A571-7C30D599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6E93-6BD4-446B-B69B-2B20BC2A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6361-D3C0-46BC-B0BC-A29B1DE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B4EE-F418-4D69-B55B-14945AE2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30C6-CF8E-4EB8-967F-1AD795DF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413BB-DDFD-46CB-82EB-1F331644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B5AC-A7A4-4798-A2BD-0946A48C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E0C-B9BC-43CA-ACEA-A14F0EA4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33D-C11A-4395-8333-988BC130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F65-33F6-44F7-954C-556A00B0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6A2-1857-490C-961C-42547A58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3D8-1836-4A93-918F-277F7955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4F22-2974-4648-86BA-8D23DA571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2AEF-1171-4E0A-B273-16D786800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0EC3-D77C-4CA6-AF4D-3D5404A45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Must Tell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6480" y="6488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Must Tel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Must Tell Jesu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Must Tell Jesu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Must Tell Jesu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Must Tell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6480" y="6488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Must Tel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Must Tell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Must Tell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Must Tell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Must Tell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6480" y="6488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Must Tel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Must Tell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Must Tell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Must Tell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0:08Z</dcterms:modified>
  <cp:revision>30</cp:revision>
  <dc:subject/>
  <dc:title>Slide 1</dc:title>
</cp:coreProperties>
</file>