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83F-9B57-4AFF-A4AD-8F06452D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D5B-2823-4C95-B67F-50379F4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9D7-367D-456F-9E2D-D87B3CC4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BCC-1DE4-47CF-B3C6-082B4EEE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C33-0C3A-4647-AB25-3018C032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14D0-9DCC-4321-9E92-DF9DFC7C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18D7-6202-4A97-AE9C-5E5407EB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BC91-1B76-4416-8829-0B3A65E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AEB-AF6F-40DC-9D88-EA7A3D7D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F00-419E-4243-9440-02C42007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F09-C0F7-4D0D-8D05-5E11FCE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399-AFE6-4A2B-BACF-FD7B411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DF80-4890-4DCF-9399-FEA214E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AEE8-2574-419E-A488-74FD20E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29A-3940-4DB9-9A6C-8308D09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42D-C381-4A64-B5FD-4E6F1A48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168-CBD0-47BA-A0FF-23459B74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08E-27C5-46FE-A411-7CF8223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E6DB-37AC-464C-A378-9D387A15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5FC7-68B8-4816-BF0E-7C5C02D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29F3-B5F7-4D25-8EE8-3BF08FE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5A3-AB01-406C-9D28-10AC56D8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F628-89AD-44FF-AABA-8B60333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1C82-BE10-44C9-BB87-D1AE426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4BAB-62B6-4A75-A6EE-7D37063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56A6-E77F-4D0C-9BE1-6F7AEC4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8D2D-3FAE-40A7-8DDB-6210D20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11E8-A8E9-4E38-A183-9062DEF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C08C-9959-4462-B448-2B519E4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4061-8FD3-4861-99A4-23E27A7A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D448-B4CE-4F28-A8B8-23D9497A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360-7319-4ED5-96FA-F5E512AA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224-23D8-4FEE-99CE-F919EFDD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BA1-6934-4A1E-BA56-77E0094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7C0-1BD0-4F7D-BDB9-3058EF7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1EF-80D6-448A-8CFE-DC59146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287-F50C-42C8-AD2B-78DADFF64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6DA9-2E4D-47F5-8403-8B2E0B97C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1DC5-C1AE-46D6-9A03-F1901805E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Coming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Coming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Coming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Coming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Coming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Coming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Coming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Coming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Coming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Coming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Coming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Coming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Coming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8:13Z</dcterms:modified>
  <cp:revision>34</cp:revision>
  <dc:subject/>
  <dc:title>Slide 1</dc:title>
</cp:coreProperties>
</file>