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C48-1470-449D-9E74-F308F912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A7A6-5448-491A-A26B-0CE717E7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3A6-2406-4BB4-B19E-0BA4E221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DE2C-6550-4EBF-B60C-5E81B038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B604-102A-420E-9D06-5F2F2475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086F-53E3-47AB-AF28-E18CE057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FD38-78D8-4A97-B43E-93342E39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89AA-82E0-4F30-98BF-27B3BD46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6CE0-16B4-40A5-9DBC-F703EB4A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2A47-8867-4FCB-B4E6-FCA66716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ACC4-1883-402B-815C-93F660C3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D8ED-6415-456A-8AB4-4DBBC47D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E07B-4101-4A75-8120-87567E6B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C5FC-8B13-4A0E-AD31-A1149B44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57EC-C8DC-4C7C-8FB8-7944EC08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31F5-792D-4843-B6FD-583E7B32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F5EA-1F57-43B0-8625-41B19B42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DB4C-D7C2-4199-A390-5D26541A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413F5-F45B-4340-A63A-EEBD43ED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96CDB-D8C9-4DF0-B43B-762423C5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B7DBF-EFCD-4FDA-B576-F2885D6C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652D-16A8-4CEE-9029-3575CCE9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AB5BC-E267-4138-835E-5E2C1433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00683-A001-4126-A7DF-B147915F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52367-BB45-404E-87BE-14E93DE3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F90BF-94DF-465C-914E-012BE601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738D5-CBCD-497F-8576-6B38BDF6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77AB4-B679-4B0B-AE3A-59A47D5D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5BDDE-7A11-4825-91E6-553747CA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567CD-4F63-4160-960B-728770C2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E4892-F438-47BA-B028-CE4CA090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444-2996-4046-AC7C-4F25232F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560-01FA-47CC-9BE6-AAC871FF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326-551D-4654-A1E4-BD5AE76B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0E9-FB51-47A2-BFFF-1FBAD833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9FE-9DE7-4890-80A6-0115F24F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26CF-646E-4E3E-BCDF-F5B1B5C26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B7C9-12E9-4CAA-A152-E631707361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339A-C2ED-447A-B8D3-E76DED763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to The Heart Of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Deeper And Deep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swald J. Smith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swald J. Smith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to The Heart Of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3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to The Heart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to The Heart Of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to The Heart Of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to The Heart Of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nto The Heart Of Jesus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3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nto The Heart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nto The Heart Of Jesus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to The Heart Of Jesus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nto The Heart Of Jesus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to The Heart Of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3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to The Heart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to The Heart Of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to The Heart Of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to The Heart Of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to The Heart Of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3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to The Heart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to The Heart Of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to The Heart Of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to The Heart Of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1:57Z</dcterms:modified>
  <cp:revision>32</cp:revision>
  <dc:subject/>
  <dc:title>Slide 1</dc:title>
</cp:coreProperties>
</file>