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FDE-894A-43E7-BB9B-26E9B961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79D-E6B6-4FE9-B68A-D210F76E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892-5537-47AA-9282-D346BF78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AF0-D773-4270-BF9D-37571BD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EFF1-E820-4D1D-BA3B-7B4E4FB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A31-C1D8-4315-ADA3-A365528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DB72-2F30-45DF-8278-900CFB6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A1CD-5D40-4EE8-A460-52C68A2B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DF4-FCA4-4171-8463-9DF682A8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364A-5223-4D07-BE20-D7774BD4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8AB3-2E4A-4A49-8368-70051FC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E11-74CD-4203-B2D7-AFDAFEA2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640-97D9-4600-873E-C0A66B6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DE3-75A4-4520-8BAD-8EB9C3B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9509-88FE-4719-B373-177E4C0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56D-93B0-4E08-9D40-0710C60B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1ED-271F-45AC-890A-D5732427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BB-1E66-4A16-97DD-45A6EC6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C435-700B-4210-8EF0-BFFFA703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1E32-655A-4D48-96AF-3BD874E5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CD35-8013-4419-99BF-4D5F9A8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3F8-6D92-4E86-8E52-CD7FF96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D344-1109-4F5B-8FD9-6785CC3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44C6-198F-4111-9696-CE9C378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5C3D-E8FC-4EB8-BEB4-D6AA923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3AE3-7AFF-49F1-AD6E-8719753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6FEA-4028-49DB-A931-5019B38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6371-5F5B-4FB0-A5A2-73F41E21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6CE1-A1EA-41B0-8D43-65E9472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3BA2-0BC8-4E0E-9227-61F7F534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0771-6A4C-45B8-85F8-B47563EB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CD7-1E5F-492F-BFE5-2522546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F82-5B1C-402D-B7F4-C97D46D7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0DC-D4D2-498C-9795-A1B11B6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A94-8684-4EAB-910B-FFA9E3B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C89-4E60-4CB4-A7C2-B018A84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869B-FDF9-4175-B677-B9FC68655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5E57-1F27-42EA-BAC9-868EF591F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1FC-3755-4CBC-AA56-6F9DB387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The Wondrou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H. Rowley (1886), Arr. Ira D. Snak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P. Bilhorn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4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the Wondrous Story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the Wondrous Story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the Wondrous Story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the Wondrous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the Wondrous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the Wondrous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the Wondrous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the Wondrous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the Wondrous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the Wondrous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the Wondrous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7:34Z</dcterms:modified>
  <cp:revision>32</cp:revision>
  <dc:subject/>
  <dc:title>Slide 1</dc:title>
</cp:coreProperties>
</file>