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D96-CED7-4B3A-8486-47ED65BE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19B-2F4B-423C-B193-AF27868C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58A-5917-4B31-BB6A-6A7439B0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C36-5B97-4C1C-90C5-0D51F9C4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F6B3-7AEA-4F08-930B-BDF07FD8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88E8-5EEB-4EC7-A64A-80DD47B0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2653-26ED-4579-A1AE-4B5D20F5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7C71-1E70-4A46-BFEB-98AB0374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8A5C-B243-49A1-844A-73ACCD4B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DE7E-BE5C-421B-9B4E-134B8CE2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FE81-CF31-4F3D-8C0A-457B5A6C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F9A-8BF9-47BF-8D7D-5818ECB8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3ED6-8A23-4392-88BC-BCCA7D94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89BE-DCC6-468E-9958-6D6CAD9A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C0E3-4EDF-4B39-BD9D-AD6463D2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5FD6-A0CF-4287-9D8A-31AF43F6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5115-D0C9-4A54-8E9B-74355476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803-0FDF-4099-8F95-839FF5A1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1A23C-64D4-4198-9EBB-3DD6CB02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3938-79D5-4C49-B92E-8C7BBC28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C64F-B688-4FE2-8FCC-6501A284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B78-7C76-4D98-9977-DAF971C9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1269E-C441-4C5B-9EC1-2F313433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2DE5A-8D86-4E5B-A79A-B86E1CED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47776-EAA4-43B6-BCCA-C2EDFF2E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6E46-ED9B-46A7-8DDF-A596C658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DAAA5-DEDC-4D22-B005-AD825FD3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75095-BF6F-4107-A797-7D4CD2AC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3F9C-88AD-434B-94E3-EED12D5C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C1AC-76DA-4DB6-9BA2-8A1B5AD3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00F2E-8B6A-4495-B924-AFB1B590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105-C2E3-4A55-8CEA-7882CC2B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12E-FC26-4277-8C4C-C2BA60AB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8901-BA95-4FBD-A4A4-139D5FB2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1D3-759B-4D71-96AF-157A420E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DB3-1933-4461-9049-1AD87869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C4D0-A9E3-4FF7-A78B-DD5049C01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293A-001C-4CE6-B6B4-AC31D7105E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A161-F123-4992-BB2E-C5893B0D1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t Pays To Serve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k C. Huston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k C. Huston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t Pays To Serve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000" y="648828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t Pays To Serv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t Pays To Serve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t Pays To Serve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t Pays To Serve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t Pays To Serve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000" y="648828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t Pays To Serv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t Pays To Serve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t Pays To Serve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t Pays To Serve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t Pays To Serve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000" y="648828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t Pays To Serv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t Pays To Serve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t Pays To Serve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t Pays To Serve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8:58Z</dcterms:modified>
  <cp:revision>31</cp:revision>
  <dc:subject/>
  <dc:title>Slide 1</dc:title>
</cp:coreProperties>
</file>