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BDF-88D2-4F33-97D1-349B6BCA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67D-E75C-4DE0-82EB-D07B969E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FFA-3B6B-4CC3-A6C8-C29C2DE3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0D9-DC80-47C2-9C89-C9AD962A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C214-3E1F-4820-AA1D-B489EA5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D025-008F-4DC0-9DE2-9C1191F0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7701-B651-4AB5-819F-19F1441E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37FA-4418-408D-B542-3521EF9D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B1B-D83B-4B81-97CA-155F004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EE67-C1A9-4153-B97E-9A50F317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3C70-16F9-4B88-B840-0256EE41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DAD-A38D-43B9-8CE2-F7AE30B3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DD38-2C77-4C15-86F0-B73F4A30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F094-441E-4FDD-84C1-AAA8DD58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77B-547E-4919-B7E4-7D098BF9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FFFF-0F44-4926-9ED5-F08D9D10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50E9-00E6-4CF0-8100-9A017A98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A08-D04B-4DEE-9E10-510711E8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ABC8-ABF5-48C8-BD6F-4FCF1AAA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2882A-511A-417E-91D2-7421BF19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335C-8587-47D2-9546-4517C6F6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C62-8ABB-471E-938F-2DC3AEB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47A5-F65C-451F-9085-4C85B728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BD75-0E00-4B2F-A81C-389AA041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03EF-68DF-4643-902C-E14AE515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55EC-62DA-4F0F-88C8-7599A45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EF3E-7910-4095-874E-4A789C82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29D8-5D6C-4C72-84A3-2A0ABC47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1F7F-D44B-438F-8043-3BDDC241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E839-A3E2-4C09-8CD4-899F427B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200E-8111-4998-8562-BC9F3981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501-5C5D-4729-AB5C-6BFC5795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FA0-6589-4B8A-95A9-3DBD8CAF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3B5-ED52-4163-8AE5-84FE6347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A84-5DCF-4558-B511-81416B29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990-3B16-4FAD-8F50-B0D4A6F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8FFE-6DAA-47AC-826C-D4E750077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0CE0-2038-45AB-B81E-E15C52121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EB31-10EE-4A46-9956-0BAE01885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The 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the Vi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the Vi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the Vi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the Vi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the V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the V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the V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the V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the Vi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the V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the V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the V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1:47Z</dcterms:modified>
  <cp:revision>25</cp:revision>
  <dc:subject/>
  <dc:title>Slide 1</dc:title>
</cp:coreProperties>
</file>