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A0A-4CE0-4643-A76A-BDAD0412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F81-D74F-4BD3-8782-6087557E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B22-99FA-4D07-B527-01530A8D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95E-99FF-401D-BC69-6BF89E18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8E0D-9CC4-4193-A308-FA584128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96DF-8C77-4F69-9E8A-13A7483D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4096-223D-41B4-94A8-3766499C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21DA-C065-4AD0-9299-63A12690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67DA-51F4-44FB-9C3F-4116973B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A9F0-91AB-41C2-8CBC-671FC01A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8657-098E-4B71-BA2E-ADA44F3E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069-FB11-4DA6-B203-2CEC44DA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964D-6DBA-425D-ADF7-641BD9BD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63F5-5085-436E-BED1-4F0F4A59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AB4E-7891-4C7E-9329-EA5B0DA0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0004-EF13-4592-8E12-9D1EC90D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2168-33ED-4DD1-9635-F64D687A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599-7D91-4D69-8F7B-73034A30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1E487-7555-463F-A97F-2B659D2B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2F374-D534-4400-A2F6-E4D63355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40CA-3BFB-4265-B709-18453132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95F-64F0-46C1-9D79-C2EE4700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D468D-50DE-47A7-8F4F-C29A5A11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59714-BCCE-4D95-B6A2-64CE382C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E657C-8DE9-4F05-A923-4CADFB8B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D29F2-9FA0-455B-A57B-C7D79C5E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E941C-1A56-4087-B360-92A86FB4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5947-0A98-4554-A732-D506B7AB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B0CC1-95BB-4AEC-9579-D715A777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D4DCC-7C98-488B-8D41-F6B3947C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2608-03BB-497B-8DCB-2CFD304B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CC8-1F65-4A22-AF16-6D711E03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2AB-A9A0-4C63-9E44-16353477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39A-16C6-4838-9534-28689034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0D1-18A1-4F76-8F82-A8B692E2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5EE-F85A-4B35-B431-D4C50F3E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3CE9-4061-4DE4-9D66-04F64CC4E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3F76-A41E-47AE-8E71-022BD6FFBC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0059-C021-40D1-856F-972EF6F0B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  <a:ea typeface="Arial"/>
              </a:rPr>
              <a:t>I Will Sing Of The Mercies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89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H. Fil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ill Sing Of The Mercies Of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9760" y="648828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ill Sing Of The Mercies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ill Sing Of The Mercies Of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ill Sing Of The Mercies Of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ill Sing Of The Mercies Of The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ill Sing Of The Mercies Of The Lor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ill Sing Of The Mercies Of The Lor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37:40Z</dcterms:modified>
  <cp:revision>25</cp:revision>
  <dc:subject/>
  <dc:title>Slide 1</dc:title>
</cp:coreProperties>
</file>