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6F6-85A6-4384-8A77-B4B569D4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7C8-BD6E-4047-B553-C9A76036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FC0-4549-41C9-BCCE-13C7809B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6C5-89A2-47F9-8704-8222D66D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F63B-4683-4331-9BAF-534A50A4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0E2B-9E7E-4333-AB3F-AC905B86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26C8-619E-4FC9-AC84-5AF3D84A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3174-E650-4741-B771-41FBDCDA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72FE-82AF-434F-9889-FB8CCD81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E07B-774F-494C-B186-0D4644C2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2A43-055A-474D-A9BA-F5E3435E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BE2-3896-43FE-A5A9-D2DCC5D4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5B22-51DD-428D-8696-4EC89E02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BF98-C4E1-414E-904D-2456447B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ACE9-9A9D-41F9-A62E-04D04531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F45D-FF6A-41FD-A10A-51110B55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0467-33DD-455C-966B-ACB2B3A1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C94-4950-4716-86A0-215F6B9E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D692-0716-4D9A-A56C-43018138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9FCB-69DD-46C2-BD55-7253C51B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A07A-EF63-44F4-825C-D7858144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F31-A1A7-4213-A71A-E9C86883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88C8-1EC2-4A7B-B7E8-091A7BD9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A002-84CC-4680-B277-47FAFC4B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6C80-A372-4F1D-953B-BBE240F5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28A5-B0BF-40AB-9B35-2D76D6D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0421-9F89-4218-904C-9AF090CB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BF18-CF9A-4633-BC4D-4C2965AC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B39B-80F6-4442-B9E2-241E4AB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103AF-41CA-4A58-8F91-CC450B3C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DB67-E76E-4A66-BE43-3E80BE1E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803-23F9-41D0-8899-2BCD27C1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007-8F0C-4C38-9650-68A47EC2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D8D-7C0D-4273-965C-CD15C9D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9D4-37F3-4163-BCEA-CBEAB165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7D5-B23C-45FC-8C7A-A91E182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9C01-A24F-4C3F-A342-BCA596803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8CA7-B517-4A93-82F5-63C19827F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1244-D408-4B49-B77D-0D9AA5B40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Kingdom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lmer Hartsough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Clark Perry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Kingdom Of The Lord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Kingdom Of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2456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Kingdom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Kingdom Of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Kingdom Of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Kingdom Of The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Kingdom Of The Lor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Kingdom Of The Lor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Kingdom Of The Lor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n The Kingdom Of The Lord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n The Kingdom Of The Lord_v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Kingdom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56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Kingdom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n The Kingdom Of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2456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Kingdom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n The Kingdom Of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In The Kingdom Of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n The Kingdom Of The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n The Kingdom Of The Lor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n The Kingdom Of The Lor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In The Kingdom Of The Lor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In The Kingdom Of The Lord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In The Kingdom Of The Lord_v3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Kingdom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Kingdom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Kingdom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Kingdom Of The Lo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Kingdom Of The Lor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Kingdom Of The Lor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Kingdom Of The Lord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51:17Z</dcterms:modified>
  <cp:revision>33</cp:revision>
  <dc:subject/>
  <dc:title>Slide 1</dc:title>
</cp:coreProperties>
</file>