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9AEF-D000-4BC1-B893-C2AA02D2C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E3BB-8458-4CE7-A9D6-F203E9E6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B561-04D5-49F6-9BFA-6F705AC4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ED62-A005-4245-AE62-DFCAF4953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1E1D-F7DA-444F-95F5-0F6B171FA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31EA-5EB5-42C7-8AAA-15F91F9D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2D3F-2FC5-4737-B7DC-3AA55647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E7F9-564E-4F01-9B8B-D86A18F4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16B4-9DB4-45DF-B291-6B1E4490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62D4-E56F-4340-AF78-25D4ABF6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2BA9-D71D-4E2F-9F04-1F8E81C2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DAFB-D624-478B-8D45-C0605428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9F9B-2C95-4178-A774-2B791041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AD9C-C31D-4B12-9390-ACF0C199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D455-BA46-4CF8-885A-2A7F6679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2388-806A-4C7B-9401-ED05661E2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A3D5-CD6E-4B4A-AABC-E11A3F778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D2FB-8349-474C-93AE-1C4F6711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07BF2-8F40-411A-AD13-0972ABC5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A6E67-433B-4490-9449-23C6A0C1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EB380-231D-4107-B127-8CA7FDF0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351C-1BD8-49B8-B528-21AFD330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ACDF4-07CC-4C92-B216-19D6509E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54A84-85D2-4A6F-9F92-4680A4AE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F87F8-8736-4205-BCA6-CFB5FD3E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476E8-13D5-4F70-8F4A-ADB07F22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D99E0-0469-4ED4-94DA-7396A9D8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C0D91-DFCF-4C2E-B7F2-A57DFE83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7F318-ECD7-4A45-91A2-4EA03D49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DFA18-7D39-468F-B0D6-0C2B5B690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28835-4A66-4C8A-A480-91A3A624C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D715-C8AD-4A9D-A665-57A22A7D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A70B-11BB-4F19-B197-42F0C21C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E619-6EA8-4E4F-B43C-1B4607EC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FEFF-4D5F-4898-945C-FBBFDDE1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4C74-474B-4A0D-AB6C-61725C5F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F900-69BE-4AEA-B6C7-2DAE028A54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7C1B-FB5E-489A-A0F3-5EF50D2968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61C9-5834-4892-B891-75F6BE58D9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n The Shadow Of His W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B. Atchinson (18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O. Excel (18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n The Shadow Of His Wing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n The Shadow Of His Wings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n The Shadow Of His Wing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106920" y="6488280"/>
            <a:ext cx="39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n The Shadow Of His W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n The Shadow Of His Wing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n The Shadow Of His Wing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n The Shadow Of His Wing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n The Shadow Of His Wings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n The Shadow Of His Wing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6920" y="6488280"/>
            <a:ext cx="39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n The Shadow Of His W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n The Shadow Of His Wing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n The Shadow Of His Wing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n The Shadow Of His Wing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n The Shadow Of His Wings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n The Shadow Of His Wing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106920" y="6488280"/>
            <a:ext cx="39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n The Shadow Of His W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n The Shadow Of His Wing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n The Shadow Of His Wing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34:04Z</dcterms:modified>
  <cp:revision>31</cp:revision>
  <dc:subject/>
  <dc:title>Slide 1</dc:title>
</cp:coreProperties>
</file>