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235-FDC2-49D5-A1EB-A3FFD2D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4B6-A1E2-4EF8-B134-5930443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73E-F6F8-4997-8A8D-2233BC25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613-DDA5-4933-A3E5-E731FAD0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FA07-1568-4DC3-ACDF-55B9086A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83E-9D60-4CE4-8CBC-A88AB26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BB5-90ED-4A23-89C6-C3FEB84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9DBF-1A9A-4AB9-A0A2-5B1FB80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13DF-5BC5-45DE-A681-55BEA413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F2F-1B18-41CA-9793-E70D9BE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AF49-6D92-4E1D-830D-E22EBF34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11B-CF14-42DD-8050-21F4085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988-BC05-46D4-B2E5-83D9A14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5C4B-9F5D-4F1D-B165-9B999A6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21D0-1B22-40F4-8CAF-AD6EC47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F56F-C490-4E69-9FDE-F15E0189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4422-A62D-4C2D-B797-F95B07E1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C20-DAFE-44E2-B435-20B8C899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648F-FAE9-4F58-8EE8-14E46913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C7C2-4065-4BC3-AE96-C6E834D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BAE6-763F-4D68-92FD-113AC46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D08-B3D8-4C26-BC47-CE13F03F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D64A-7CEB-486B-93AE-F0D52AF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999E-3C25-40E0-9AD9-2844D5E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167D-A444-4B1C-9896-A498D08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B1EA-FB43-49C9-8D0F-C01F6B5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59AE-B9D6-4B32-91AD-CD26EE6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F149-EC85-4179-80A6-F22A45D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5515-DC41-4305-80A6-B27CD58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EA5F-159B-48FB-AF85-248B0FE2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23DF-3DDD-4FE6-848B-FBBD5A0D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98A-F4B5-4EF6-BF0F-FA14850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8E6-2F92-41F2-95D5-2443CC0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80D-4A22-4B80-A98E-CABFF9D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30D-CDE3-4ADB-A23C-D1832BA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B38-3209-4D76-8F47-3580580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C806-C9CC-43A8-A1F8-5E0BA76CE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A44-F87B-4B20-9BCB-3A59230D5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62A-B616-4F00-BBB6-7F7092071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Gethsemane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Gethsemane Al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Gethsemane Al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Gethsemane Al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Gethsemane Al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Gethsemane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Gethsemane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Gethsemane Al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Gethsemane Al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Gethsemane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Gethsemane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Gethsemane Al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Gethsemane Al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07Z</dcterms:modified>
  <cp:revision>32</cp:revision>
  <dc:subject/>
  <dc:title>Slide 1</dc:title>
</cp:coreProperties>
</file>