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672-84F4-4AB8-B98B-45CDEE76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40E-E22B-4201-A92F-09569D03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612-2DC6-496D-BCED-4CA244D8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D94-83DB-4255-80F9-B9AF42F4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6DA5-08DA-4A15-897C-59099222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D72A-C070-488B-9F96-6CFEC338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9E90-EE8A-4EA8-9982-00BC27B3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9EAB-4E14-455B-ACB6-F78AF96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491C-5AAD-4219-A445-81E9FC7A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6573-7D58-405B-968A-1B69D840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DE8-E393-4AA7-B178-2E965E0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B1B-9CB3-4E85-9266-417A6946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53DD-4327-45A5-8914-FFB4177B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E771-DFC8-4265-9E57-42AE658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DC0F-4C2E-464E-82E7-430FC4CD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082C-7395-4682-8AD1-712AF81A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0958-B5AE-43E0-9667-6D6B04DA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F93-A5BF-4E62-9E90-1D866F7A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8ED9-B55D-4593-961B-F117EE55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EEED-72C1-4203-B22E-3D442662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64C7-B033-4EAD-B982-48ED841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CF7-788D-4CE9-A947-E1C74169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1089-D88B-45BB-B20C-ABFC4BE3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F4E5-5167-45A2-B2D0-33672BD3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9CE6-508D-4C8E-88F1-23A1B5C3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BFE8-6883-4B5A-81E5-ACC8CA0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56F2-465A-4B31-8957-DF816C5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810A-3666-457B-BDE1-F86E63DB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4C90-AA08-4A25-BBDA-7D88F561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3981-6774-4D68-8944-8108F5F5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C89E-436F-4A71-913A-9DF91BAC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928-553D-435D-9C63-A9777799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1F7-FA53-489B-B518-88DAD482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A60-2295-4A71-B1B3-775BD737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989-F386-4556-9BE5-9BF194FA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D5B-5BBE-40AC-83A1-0E8E052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4A9F-4518-426B-9AC7-2C2BFE6C3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FE85-7EA2-4DCF-A0B9-60088230C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74EE-B4F1-4BBA-BF89-092B610DD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Thy Heart Right With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Thy Heart Right with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16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Thy Heart Right With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Thy Heart Right with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Thy Heart Right with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Thy Heart Right with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Thy Heart Right with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Thy Heart Right With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Thy Heart Right with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Thy Heart Right with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Thy Heart Right with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Thy Heart Right with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16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Thy Heart Right With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Thy Heart Right with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Thy Heart Right with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Thy Heart Right with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6:49Z</dcterms:modified>
  <cp:revision>28</cp:revision>
  <dc:subject/>
  <dc:title>Slide 1</dc:title>
</cp:coreProperties>
</file>