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DCE-99C4-45EA-81DE-121B1208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E33-1CE6-4631-9DD9-256F9502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A6A-887E-4197-BFFA-4575B873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021-9188-4E30-8439-4FCAC30E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19B2-413F-48FF-9F47-8DF43EA0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9220-E273-4025-8F41-D68395C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4D1-FBF0-4483-AB6C-AB9815FF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07A-1EBB-4C70-A594-2FD0012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97A-FE23-4EB6-98B3-8D4D6E27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8A6A-1303-44B5-B3B0-56CA5BC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CCF4-9191-4D00-BE75-856C6FA2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F8E-7D54-436C-A80D-091D760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FF7-54DA-4ACE-AABE-DE1E147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00CD-CFAB-4DE5-AB49-6734F6F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83C1-E95E-4933-9B74-AA48EA20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6939-8CE3-47F4-98A2-BE0C3F41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E2FF-B37B-4263-BE90-57B2D1C3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D2D-D293-4437-AAF1-2F6D2C9C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8F84-CCBB-4708-93C7-BE885DA5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4589-A5F8-4E12-BCB0-57C29F2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7C16-A6AD-4775-BB9C-5B977159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FF3-BD57-4B42-927E-5D74D77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7962-BD27-450D-9C69-6533F27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11D2-CD53-473B-B7F4-CAD93AB7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C2DF-E477-4FFB-A478-FF4D6ABD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C70C-38C5-4A9B-A3EB-8E52D4A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6CB5-C0F3-41A8-BE29-0B47545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9CC7-0725-439C-9EB5-3CCA9F9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F29C-9A9A-4FDD-9864-B004034F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31CB-5BB8-458A-B8FB-0A81528C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AB67-A2F8-48EC-92AD-1F7345DB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826-E658-4A1A-BFC9-053035A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6EF-A02B-44C4-9A06-0DBB79CE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7C9-91FD-42D5-B356-C95C1CD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893-47FC-44CB-A593-A16A1A5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47E-322F-4D29-9A1F-07F42A2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D05A-42E2-403A-8F5B-348CFCEB3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2B8-BBEF-4997-9100-81A74D41F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01D-6A48-460F-A411-A23910DFD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Land Of Fadeles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No Night 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Clement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rt P. Dank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Land Of Fadeless Da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Land Of Fadeless Da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Land Of Fadeless Day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Land Of Fadeless Day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Land Of Fadeless Da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Land Of Fadeless Da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Land Of Fadeless Day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Land Of Fadeless Day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Land Of Fadeless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Land Of Fadeless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Land Of Fadeless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Land Of Fadeless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Land Of Fadeless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Land Of Fadeless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Land Of Fadeless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Land Of Fadeless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9:56Z</dcterms:modified>
  <cp:revision>29</cp:revision>
  <dc:subject/>
  <dc:title>Slide 1</dc:title>
</cp:coreProperties>
</file>