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0EB-B451-45ED-BF4F-BA49ED23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5A4-1066-4CE9-819B-8221EBF8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198-A806-4EC4-AB9B-326B623C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3C8-8613-40C5-A5B0-7C9626C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B2E5-3CC7-4262-B315-6F05F04E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4CE-993B-43FD-B808-6CF6A0EC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4001-0C0C-4F27-8C51-D654DD4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A15F-698F-4883-A501-3F473E3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9CA0-EC4C-4A03-B645-647A1F6D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325D-A762-4848-8834-04F7F9A3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A3EF-F695-4F4B-8530-5686F0D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A50-7321-4744-A101-235D25C3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53B9-E305-4B56-82DF-F550E10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01E7-8D30-4A86-BFB5-CF3F404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87F-2B90-405C-822F-D810ACD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257-E092-4481-B28F-128EC6EA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A78-5DFC-4C3C-9BED-487E8D81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AF3-E636-4D46-A4EC-0898D537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3AA6-0E48-4F87-BDFB-A4063851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3B28-ED9D-4475-8648-36C901B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A82F-FB67-4321-A47E-0EA1E79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1DB-9DC5-4C42-96F4-638BB39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6B37-6F92-44D5-9819-D3342971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0F51-112D-4E1A-A3DE-9B9D9A5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0F45-C16E-45F0-92AD-A9D544C8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9E28-5786-4688-AAD8-0934344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114F-66F8-4314-8DC2-0920A9B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ACE4-5DEF-4125-A2E4-5957BE9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1720-4200-4FC0-A478-DCDD7CF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A80A-C780-4A66-BA4F-37FB6BF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743A-28BA-4B89-8935-7304BBF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114-A9A5-4AC5-874A-C8BEABED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9DF-FD05-49E9-A27C-E980651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D28-400C-420C-88A7-8A2D3B0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969-752D-46BC-B5BF-047929F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6F1-C958-4F01-B854-C4CBA05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8F7E-8A8B-403D-BAB1-E504C6387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F0C0-AB23-417F-8050-9D3218962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9FE-4C21-42B5-8FE6-72B46E0AC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ave Heard Of A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. A. F. White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k M. Jon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ave Heard Of A L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ave Heard Of A L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ave Heard Of A L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ave Heard Of A L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ave Heard Of A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ave Heard Of A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ave Heard Of A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ave Heard Of A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ave Heard Of A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ave Heard Of A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ave Heard Of A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ave Heard Of A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06Z</dcterms:modified>
  <cp:revision>29</cp:revision>
  <dc:subject/>
  <dc:title>Slide 1</dc:title>
</cp:coreProperties>
</file>