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26B-885A-485A-8BFB-D1839A11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191-F684-4B1A-870E-8497849C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4F9-6660-45A6-A9D4-7FF9F615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97A-CAE3-4EAD-B108-97A725F2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923D-B56A-4E44-9820-B7131A84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6A41-A633-4FF8-A37C-CB187BAE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C71E-F2B9-4AAD-96E3-F6D7B5CC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D250-EC88-4E9B-8CFF-E8F66B18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8273-C036-4867-AFD7-5E42A99D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AD8B-33D1-4400-B44B-82C42190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0C97-BDBE-4960-BAC4-615C4693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C45-3EB4-4D19-8C8D-01AEFB95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6818-CF72-4858-AB2F-6D1D7E8C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877A-2368-4C79-82B7-8AD9C347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2C3B-DC28-4322-BBD8-62A2EF5D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19B3-7B67-4710-B401-A9AF3005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A90A-D492-489A-9DE4-9DE979F0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568-F44E-4798-ADCF-86AE8446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90AD-01F5-4CDB-8494-9286664A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5F260-D6C7-46AC-907F-0B5CBC65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556C-7049-4310-8746-024B0B34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100-5ED5-4988-AD18-3E73F699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AE7B-9B68-4B4E-B69F-D83FA95C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4CC9-B15C-45A8-8534-45DB2110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144A-EE56-46EF-AA15-90721470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4D49-A06A-456E-9E80-F9F1E198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09EF-9626-41CC-A790-E8A07188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DE7F-A31B-4B9F-B73A-4C079945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C94B-63BB-4FD7-809D-CFF5229B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0D0E-9FBE-4F94-A115-9A83F816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E6A8-89EB-4A3E-BB54-EF793D8B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71D-AE73-419D-B0EF-A61C610E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8C6-19D1-4F9C-A1E7-A3090B19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397-C62F-4DEC-AC41-1C679CE5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788-93D1-4641-A49A-CF9F6631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FA7-4722-4889-A367-F9951F63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6288-491E-4CD7-AA49-E38880B11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5923-FD1A-413F-BE2B-9EBB600BE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115D-CA18-41C4-BD9F-8385A8B3D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It For 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rgal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ullius C. O'Kane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It For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It For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It For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It For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s It For 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s It For 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s It For 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s It For 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It For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It For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It For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It For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It For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It For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It For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It For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4:42Z</dcterms:modified>
  <cp:revision>26</cp:revision>
  <dc:subject/>
  <dc:title>Slide 1</dc:title>
</cp:coreProperties>
</file>