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9AD-4157-4B9B-9EB0-930FFF86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46B-23C7-40AF-A040-DFAFA238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1CD-535F-423B-934F-84F0BAD4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F75-BC6D-4543-9CBE-BDA5EBB1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E21A-015D-4D4C-9B90-B3A91578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0CF8-6F1C-4D41-849D-90ECE3EB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926F-F58F-495C-911D-4EA58D3A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AB60-C2A8-44CB-9AF5-6828C903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8B6C-546A-4A92-8933-7D1401F5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AFE6-44E2-437C-9874-69B76CBC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66B0-4C5A-4CD8-B709-09778D3F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7A4-D5C8-4F75-BB0C-36FF6BF8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C149-A8E1-4BB2-8152-AE485CBC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6468-B2D0-4F63-9295-178B727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802D-DDE7-434F-9EBB-5DE0DC2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C87A-A2B3-49F5-843D-4D058267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18FE-AF2C-4014-8A06-B3123DFF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896-C0BC-4979-B400-3038BC1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5027-E1A2-4372-898F-F127C1C1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0955-0CA8-4883-9454-109B46F9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740A-8167-4003-AA40-8B7B9959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7C4-5758-4100-A6D4-98AEFF9D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ED3C-B5D5-45B1-871F-614310E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E2DC-3979-492A-8C5C-0B97E5C3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02EC-2707-43D6-8925-B94EDA9F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61D5-4078-4569-86A4-765F771C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90BD-3421-45C4-B2EE-D49D7FCE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B6CB-FD1F-40D4-B85B-DDB4F43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53FD-04E0-4D94-ACD4-08E27CAC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C5D6-A027-49CD-91FF-5B95B8AD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5CB6-79CE-46AF-9B6A-84A5B59E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695-6807-4F7F-9E23-DA4089D1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359-D7A9-4BCB-BB66-0E34E0ED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ADA-7BCD-421E-99AB-0B7D4666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FAA-8374-4639-BE12-71D712BD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973-C9C4-4A12-BEF1-4E1A14C3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2469-82CE-4624-95C7-C9556687B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3A37-5738-462C-8479-4636132B4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DE60-1A04-4708-A569-56DC42F42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m Happy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, Arr. Ellis J. C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m Happy Today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m Happy Today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m Happy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 Happy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 Happy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 Happy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picture containing text, sheet music, 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 Happy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 Happy Toda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m Happy Toda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47:40Z</dcterms:modified>
  <cp:revision>27</cp:revision>
  <dc:subject/>
  <dc:title>Slide 1</dc:title>
</cp:coreProperties>
</file>