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C32F-1692-45B8-91F8-0AA11671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2E3-064A-4D50-82CB-4B6FAEDC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504-A5C4-4A2D-AD04-2422D601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D0B-CBF9-40C8-9451-2D124E37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C233-EF65-425B-B8E0-8B91DAC7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9682-1439-42B5-B249-78ABE5F4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B358-9265-458E-9717-7F1A2F4C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08B5-2DE9-4C94-AFA6-344B80F8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7440-CE24-41EC-9675-A657EDC8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DFAE-15E0-4F14-82ED-B296CF3B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48E8-E8BD-45C2-851A-CA19B055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8C9-6CDD-47BE-8C84-5B21EB8A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BFA1-DA51-491D-8AD7-67539F84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CA55-8BD5-47AE-9477-6AA3E3C9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1FC2-C802-46B7-8D77-F59EEFCE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6260-7BBA-4ABB-817C-1E2536FA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FBD4-B2C0-4256-ADB3-089E0772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3FC-038D-4DF7-9B8D-1A858DEC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1DFBC-4076-44E6-8D09-C03DD7B2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40837-A7A1-49EF-A829-73B975D9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43731-7596-4F99-ACA1-AE7FB8E7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62AB-F267-4309-80F7-117F555B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E3CCA-1B89-46F0-A6F3-BADEFC59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56667-1B44-4EBF-8A8E-595DDCF7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71BC0-1746-4B57-849D-F7F79115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E2D48-88A2-45E9-8F3D-B19C13CF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C7ADB-DBAB-445A-8F2C-2A4DEEF1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C433C-ED7F-46B7-B194-D7CADCA4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AC3CC-D91F-40CE-B9B2-9F6DE36F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4D31C-8F4C-44CD-A1A9-441F2653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C6BB6-ABC3-428D-B496-480F2A2C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F4A7-075A-4913-9345-95D0F6A6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F08F-8937-4AAB-8E4D-605569E8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1AC3-8C8A-48A4-BE58-92C88F9C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2C0A-6A5A-4C77-B16B-8BBBE3FC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4D7-C9E9-4803-9D25-2628E0CA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0D45-8924-4336-93D5-6A108F87F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F5D7-6D03-40D4-8170-54F17D6CF1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F5E3-EC79-45D0-B70B-F3BA107D1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Come To The Garden A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n The Ga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Austin Miles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Austin Miles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Come To The Garden Alone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3840" y="6488280"/>
            <a:ext cx="39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Come To The Garden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Come To The Garden Alone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Come To The Garden Alone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Come To The Garden Alone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Come To The Garden Alon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3840" y="6488280"/>
            <a:ext cx="39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Come To The Garden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Come To The Garden Alon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Come To The Garden Alone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Come To The Garden Alone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Come To The Garden Alone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3840" y="6488280"/>
            <a:ext cx="39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Come To The Garden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Come To The Garden Alone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Come To The Garden Alone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Come To The Garden Alone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2:57Z</dcterms:modified>
  <cp:revision>32</cp:revision>
  <dc:subject/>
  <dc:title>Slide 1</dc:title>
</cp:coreProperties>
</file>