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4F5-0410-447A-BBBB-47E7BF25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FED-908A-486E-930C-E43ACA7E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5A9-5244-4EF0-A79E-332439ED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350-ECD6-4EDA-8922-5DF3D37C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9153-CE1E-4F91-815C-C8D8DCE2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DB9A-C685-4785-977E-5D0FF5D0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53DA-1CCE-4074-BC63-45A1C18D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7897-0FD8-496F-89B4-834CA401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D31C-C2AB-4BFF-9A4C-B52F09CB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28CF-35CB-4D77-9837-085AB106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B093-80A5-467A-B9A6-DEB88429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5A8-F9EF-47CC-A35A-F037A049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0515-F8EA-44A9-8693-053BD027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AB80-95E8-4B65-80AA-922A1D4B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0466-FEEE-4BA9-9985-C14126A6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73A0-A685-49B7-BB17-6E8271B0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12F2-30EF-46F3-99A1-811C1B2E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BD8-4052-4714-A61F-1287C5FA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988F5-13CF-4927-A8F9-6A0FD44F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BF7E6-73C1-4DD4-92DB-34257B48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5BDF-F9F7-467E-B7C1-F895A798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452-ED84-41BD-B1B6-0CF19DA5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DF251-169A-4B97-A1EC-1491058E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04A0-C8F1-47DC-9B4A-78679066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753D-3846-4399-B77A-31099B93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244A-803E-411C-9885-2A89B769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896D-D4BE-4F08-9CCE-9239D41B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91E8-143E-4425-B7FE-AA85CD57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1371A-F78F-4DF7-8E9C-58B75150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F168-1336-4DF0-9C41-454166EA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4353-4A48-459E-9431-90E0057C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6B9-DD74-49FA-992D-0D281C70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707-70D5-4B6B-B253-DE1A3195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D0E-6FBA-4386-A530-27399362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0BC-6993-49CB-9009-384D0F3E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BA6-EDF2-4C50-8BDE-D0484AC9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E368-946F-4E66-9FA8-CA43CD205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1925-4DF1-48A8-A85C-971BD3E4B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2956-328B-4736-ADAD-2ED61D2D6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Will Sing Of My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y Redee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 - 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shan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Will Sing Of My Redeem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ill Sing Of My Redeem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ill Sing Of My Redeemer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ill Sing Of My Redeemer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4320" y="648828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ill Sing Of My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Will Sing Of My Redeemer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Will Sing Of My Redeemer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Will Sing Of My Redeemer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 Will Sing Of My Redeemer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 Will Sing Of My Redeemer_v4o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ill Sing Of My Redeem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ill Sing Of My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ill Sing Of My Redeem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ill Sing Of My Redeem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ill Sing Of My Redeem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ill Sing Of My Redeemer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ill Sing Of My Redeemer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ill Sing Of My Redeem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320" y="648828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ill Sing Of My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Will Sing Of My Redeem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4:31Z</dcterms:modified>
  <cp:revision>37</cp:revision>
  <dc:subject/>
  <dc:title>Slide 1</dc:title>
</cp:coreProperties>
</file>