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7A2-CD50-47D1-A1D5-CD49F714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1C2-39C3-4979-B4C0-6E81FC5B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AC3-DA96-4F26-9326-EAF63F21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9F2-F571-4930-837A-368E0B5B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ED85-6C67-4F44-B96C-36614514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AB69-7253-4658-B09A-900E51BC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EDE5-B846-4672-9B1B-6CEAA74D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0D4E-AE5B-460D-A256-01993614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638F-F9A6-4DF5-B85F-4F1B8B0D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E47E-BAC8-4E2C-8B27-FBDCC601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2BCC-FCD0-4883-BDD4-ADC7936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693-72A8-4DEB-8EB3-E3281D2D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7A31-7954-47AD-8751-986D31D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4D04-4925-4926-BB3E-B2A3927B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C04C-20AB-4FC8-ABDD-5C8D1108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B7DC-4129-4593-97BE-BB88E677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1769-887B-44BF-B3DC-38030FB6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244-397F-4A42-864D-E34D77BF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9A39-493C-47F3-955A-2467F6B9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B7FB-5FCF-4598-A27F-C389990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87B8-8676-44CD-9932-52A547DD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5F1-18BE-4678-9101-0D08DA74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0C3B-A791-4C05-8359-378EB478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ED1D-3B1E-4FCA-A1CE-66F96121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4568-911E-4222-B741-1C18F140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C729-1552-44AE-A4EC-D80B71F1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6A44-0FC7-4FDC-BD12-A55EB249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363B-D7DF-4DE7-A9E7-EB311CC1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4FFC-3C50-4C1D-AF3F-C7EC71D7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EAA4-BFF7-40F6-913E-DBA3BD82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12FF-CB0B-4E0A-829D-FCE3DD25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D9F-2166-468C-B1D5-AD8E1166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110-7E31-4C37-A0C1-7883D6E7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21D-F37B-4BE3-ACD1-D5F7786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C2E-3271-4437-9DED-0117B0D4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1B7-96FB-4D4C-BD7B-6CABDB7A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66C3-AD22-44DF-A08B-B332EEB1F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BF93-70EE-4381-8409-7CFE39092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8FE6-D109-44DD-B093-AB02F6501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Gave My Life For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KE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58 &amp; 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Gave My Life For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Gave My Life For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Gave My Life For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Gave My Life For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Gave My Life For The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Gave My Life For The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Gave My Life For The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Gave My Life For The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Gave My Life For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Gave My Life For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Gave My Life For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Gave My Life For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Gave My Life For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Gave My Life For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Gave My Life For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Gave My Life For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3:38Z</dcterms:modified>
  <cp:revision>26</cp:revision>
  <dc:subject/>
  <dc:title>Slide 1</dc:title>
</cp:coreProperties>
</file>