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B34-2D98-411A-A7D1-7629336F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1A9-949E-497E-B9E6-EA5C2AED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B12-AC54-4BB4-BA0C-FDF0C791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CC1-BE4E-4541-BD5C-E75147E4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AAF-B019-46ED-896A-25BB9D4C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B5C3-7060-4C73-98DF-BB1B036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D22C-BF3D-4DF2-880E-70A8BAE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0B3F-5170-4911-88C8-D5827F9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2F32-41A4-44BD-B068-C7A8DA7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7E4E-9B9A-41C8-A893-FBF4808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8BE-2F6B-4701-B69A-3E25EAC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F6E-2974-4370-B0E6-50C14F87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0167-A80D-4E10-A8ED-4237A15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1E8-0053-4807-B2A9-C46A1AA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DE6-C023-4967-AC3E-57350969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D16-48EA-46D5-939A-6A31C0C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DDE9-3934-44C1-87E9-18CFE00A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E15-110E-4BF6-9453-8FCE5CA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2CDC-C5A3-4A6E-AE9E-827E98B2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045A-4D17-4793-ABE4-D21D488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BEB3-36B8-46D0-921B-BB5D269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3D2-2049-4F2D-82D0-B13BB41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211F-5E3A-4A81-9CD9-3C6E7AB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3B19-6D9F-4E88-9834-54CD76B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1709-D546-4BEB-957E-F244EC4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78E9-0EEF-4875-B0A8-92EE41C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FE59-1721-45E6-AE82-B704B0D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3076-C19C-41F1-BA5D-ADECE3A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50B4-1118-44FA-99B3-8FA068A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B45C-53B3-4FD9-BB87-008D878D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10F9-90C8-41D6-A767-0A43F430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1E3-7D63-4EF0-BA50-715140C7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28F-1ECF-4B72-907E-6FE99E8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77D-E009-4D8D-8E63-B9F36DD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748-6F2C-4BD5-948E-CFC96478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E41-D7C4-4D46-919B-32BC81D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D92-6974-443D-BB35-C5E0AE793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643-5AB0-4A52-9962-FFFB3ED69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5C6F-1FBC-46D7-A597-7BA5327FE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hy Kingdom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AL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mothy Dwight (18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hy Kingdom Lor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hy Kingdom Lor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hy Kingdom Lor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hy Kingdom Lor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hy Kingdom Lo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hy Kingdom Lo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hy Kingdom Lor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hy Kingdom Lor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hy Kingdom Lor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hy Kingdom Lor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hy Kingdom Lor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hy Kingdom Lor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8:26Z</dcterms:modified>
  <cp:revision>31</cp:revision>
  <dc:subject/>
  <dc:title>Slide 1</dc:title>
</cp:coreProperties>
</file>