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973-518A-4165-B59B-788FEEAA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D39-775A-4872-941B-2418107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EF9-1C9A-429B-AD57-F6CEA0BD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AF9-317B-4A2F-B3C7-84E5F960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405-F17D-41F9-B5CF-6422D5F1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6272-93A9-435C-8A02-DBFFA112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1DAC-22EC-44FF-8434-91C50882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6664-BBD9-4694-AAB6-9732C08C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AB5A-737B-4159-AEB0-FD21E79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9A8-9DF3-4EA1-B67F-DB7189D3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594-0FA8-4C48-8CF8-8520CE9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B52-762F-4447-93D7-0CDF1AAE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BB0B-0A6C-4536-8CF8-8756C7B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71D4-60AA-4BEA-9224-12C5A067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DB7A-09FA-4FAB-A901-7AAC352A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E79-4222-4A3A-86AC-2A0ED081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C3D9-6A88-461F-A54D-6FBD9A30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398-8FE3-4C46-9E41-A8EE62E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0A6D-B548-4A3E-94B7-4282037D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DDD8-F735-4926-8CF9-6117CADA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B3644-74F2-41BB-A609-263E2B60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980-42C9-4F71-9778-D64C3F4E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04C9-DBEC-4D2B-B549-66C3946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2B24-1A0D-4BA8-9A7A-9828FDA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245E-5A9F-4030-A67A-0BA012A7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C74A-9626-459B-97AF-E5E06E41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2F12-BC23-40FF-BAE4-D7197127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35E0-46D2-4EA1-B433-F34A2EF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48BA-454D-42BD-951E-56E4D0BD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397E-6BFF-418D-98C4-D9D7BC61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552E-974F-40C9-B9FD-152AC2C6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986-4DFF-4EB2-A848-D553B45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8ED-7B8B-4A4A-BD68-76AB0F7F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C46-1F92-4A24-9983-03B48DB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DE4-12DB-4273-88EF-B7469331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DF2-7AF7-4EB4-BB85-4546021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BEB6-D581-4851-B23B-C74E5E0B0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8A1-BAB5-48F3-8451-7D7A68FF7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11C-390E-421D-8520-00CF56141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f Jesus Goes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f Jesus Goes Wi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f Jesus Goes With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f Jesus Goes With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f Jesus Goes With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f Jesus Goes With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f Jesus Goes With Me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f Jesus Goes Wi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f Jesus Goes Wi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f Jesus Goes Wi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f Jesus Goes Wi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f Jesus Goes With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f Jesus Goes Wi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f Jesus Goes Wi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f Jesus Goes Wi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9:03Z</dcterms:modified>
  <cp:revision>34</cp:revision>
  <dc:subject/>
  <dc:title>Slide 1</dc:title>
</cp:coreProperties>
</file>