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E4E-D6C5-44A0-BCDD-283C7E83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8C5-B5D5-4BEC-86AD-7F0F78AD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B97-FBE8-4104-ADA7-D824011C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254-BB20-41FE-989F-2569C707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9FBC-7DB9-4704-A707-A84D237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4122-4F52-4334-8478-069858D6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FBCF-0C66-4FFD-930F-223C4E3D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F1C4-2062-4475-A078-9AAD3D9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10B-F113-4630-9CD8-59CF2874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E561-48B8-415E-87D1-8B301AA3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D929-FCD5-4C2C-8D9F-36D6890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BD7-44A7-445A-B807-53BDD51F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018F-6F25-4F5D-ABB7-5C570F1E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2BB0-3DC1-4B83-8379-3577C2E4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4940-80AB-432F-85B8-FD08276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A46C-FCF7-4296-B90B-17F67D10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1C3D-328E-484C-8A19-032818D0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356-4535-4775-B1F0-CC02D844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6AD7-C4C5-495F-995C-6029525F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62C3-C8FF-4F01-B8D7-B5AED69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B581-3398-48D7-862F-76E4A32B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124-D584-4FD7-9994-06BEA634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499E-1D7B-4E3E-8740-2EA283BD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2F95-B67B-4400-A4EB-F93B03B5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A631-A85F-490D-8D50-8A1E822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D0DC-15AB-41D8-B0C2-1F91140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FE74-8F77-41CF-809A-592BAB7D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6307-139B-4DEB-9011-D21A507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AD68-2BDC-403F-AE6C-498773D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A487-756B-471C-A3D9-4BAAB807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3E17-4514-4117-AE75-A9576347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079-4C1B-457E-936D-2A627EF7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B6E-1C33-4D8D-B215-E384EABB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BA5-3D8D-4436-A623-0EDD8106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6AA-EA6A-43AC-8E29-B0232684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BA9-BB14-47DF-A02A-E751A96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623-EFB9-4E5C-BA3A-0148BAD1B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AF4-6623-46A4-9291-A0DE66FF5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FBF8-19EC-434D-A9F9-7D7045E5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Res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Resolve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Resolve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Resolve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Resolve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Resolve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Resolve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Resolve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Resolve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Resol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Resol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Resolv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Resolv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Resolv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Resolv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0:19Z</dcterms:modified>
  <cp:revision>33</cp:revision>
  <dc:subject/>
  <dc:title>Slide 1</dc:title>
</cp:coreProperties>
</file>