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FE6-4530-457D-A5FE-269D7C53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9CA-36A0-46D3-A3D9-C47A32CF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E7E-8DB5-40C0-A4D7-F6BE0382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A37-DCB4-414E-8229-FEA45F28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296D-6822-4298-840F-F3772E2F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D56-8B19-4335-824F-3D0365A5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3FE-8286-4A40-9C9F-CA5A864D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782-C180-4693-B7A8-62C4AAD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9C1D-1F79-406C-978F-5C197AB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2B3-9D05-488B-8443-4CCF358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510-3551-4F4E-ABBE-E210AB7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C4B-B179-4FF7-8822-A927EEF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C9C-669D-49CA-B630-D78A969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65F3-84BF-45E5-9F15-35EF29E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79F4-4851-4314-A2D1-12A33A7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89B-8DB3-445F-A6EF-CCDBDFD2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748-D158-48D8-818D-A93C90F4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160-CD56-4F4E-B4F9-EE2386E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32D2-6C41-4661-9962-E1C5BC6D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E0C8-8078-4CA7-8BC9-C0F9CACE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76A9-B342-4841-9884-9BAE14D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5BC-85F5-4E59-801A-835CCA72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810A-2B3C-41A6-AADB-E15BAB1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1FC8-D1AB-4FAA-BEA0-C089C85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266B-2606-42BD-808E-2D5ACC85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3013-2F17-4379-B29A-16C9C56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0A8C-7901-4E7F-A746-CB1AC39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FF53-6165-47E1-BC4C-5F20BE4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7D38-5B70-4319-B43F-B9B9DC8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322A-16AB-47D6-AB66-05734A76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E3E2-5E79-4272-BB17-DAFE3777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D30-FD0D-48CB-A6C8-F1F5C5E5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980-5F7F-460F-95CE-D5BB3FC8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D2A-3217-4A20-B191-7D8C8D4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E37-6E81-46DB-97BE-5B17998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D6A-B84A-4CE1-88E5-B750FF5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020-A85B-467A-B297-B5B3629CE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747-1DBF-405C-80A4-ABD8DC43E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3753-668C-4F39-B24F-5FF33B460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Mine No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Mine No Mo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Mine No Mo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Mine No Mo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Mine No Mo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Mine No Mo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Mine No Mo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Mine No Mor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Mine No Mor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51Z</dcterms:modified>
  <cp:revision>26</cp:revision>
  <dc:subject/>
  <dc:title>Slide 1</dc:title>
</cp:coreProperties>
</file>