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5F2-13B1-439C-8F54-32C36BD9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7C3-32F2-4B35-841B-8A322E31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B03-44C7-4F92-A462-E43010A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157-A5A0-4F7B-9137-83EB7DCB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53C2-E425-4AC1-8850-91789307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5FE-49F2-4A2A-8775-36825BD0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B04-D396-423F-A1FB-8C54EC75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963-E046-4F9F-8154-29DC6BC1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8E6-299E-44F6-899B-619832C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BA35-4C62-4B6F-9F9B-70396FD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E99-AD23-4D73-B1A3-8195E602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80A-AAC2-4860-8510-ACF47F4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5F2-A034-4AC3-9BFD-1E42E26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4373-7785-4F41-BCCD-58E31FD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A325-2A64-4A91-8491-A202B9FC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5FB-A149-4218-ACFB-504AE21F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391C-7FFA-4349-8ECA-BDB4DB29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5FA-3C78-4C4D-84A0-EF3DAD7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4083-C1FC-4CAC-8229-DE077F28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6FC6-212B-4688-BBE2-731C198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EFAB-0591-4CF5-9D4A-3448C1E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808-0B2C-4719-90DE-ADE470B4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694D-2E4A-44F8-BBFD-20D04353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3BF3-D839-48CE-9469-5BAE917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3C27-C2CA-463E-AF94-03B84EC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75E4-3C33-477D-B8DB-89F7F47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D4A0-69C3-4704-84F3-24AA99E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4709-1FF4-4F72-A8F4-BE58FE6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21A5-61C6-4BEB-AA91-F219C6D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605E-2E2B-4C67-9887-BED84F19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C469-BEE2-4F76-BB91-74E88892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D67-FCB1-4DA6-8C59-2C3F403F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9F5-C3A4-4A7C-AFF9-FD63856D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AEC-AB87-4361-8AC6-055CA67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EE1-B573-43A7-B991-1CD19EBF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3A5-806C-4DCC-B869-4229E7F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53D3-FF05-4E01-AFC8-61A9C3B2C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DA2-40CC-402D-AA11-F76101258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485D-3FCE-4376-A46D-C463C93C8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at My Redeemer Liv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That My Redeemer Live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That My Redeemer Live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That My Redeemer Livet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That My Redeemer Livet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at My Redeemer Live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at My Redeemer Live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at My Redeemer Livet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at My Redeemer Livet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at My Redeemer Live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at My Redeemer Live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That My Redeemer Livet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That My Redeemer Livet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6:25Z</dcterms:modified>
  <cp:revision>32</cp:revision>
  <dc:subject/>
  <dc:title>Slide 1</dc:title>
</cp:coreProperties>
</file>