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575-9115-4192-A9D0-28D96158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F6C-9F56-430B-90FE-61FFF7E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4D3-C091-4E39-A7E3-53D982E3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70E-CF8C-483F-B5F5-D038B582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0739-3771-4CD7-B9F3-A27DD7E5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A555-CDD1-4A10-B131-136DA77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652-95AF-44C0-9053-770F9B7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8F6-C97A-4BC1-ABCF-3FD1A3B1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5261-656B-4F78-BC28-4BFCCDA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2B1-A448-4C1E-B3CC-4C85FD6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F59-16E7-49D4-B8A3-2E2186D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DF5-D3E6-4CFF-AD2F-ABE2CCC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0EC5-4610-4783-8B17-3FEA23C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48F9-1E59-4E66-9708-27F55EE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946-1897-4535-AB2B-5A79335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A20F-B17B-49C1-899F-20BD5885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49F-A5B2-4B2D-9B47-4B073435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D20-A496-4DF6-B946-7F4B1F9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05A4-209C-4379-8AD3-42D3ED46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8EC4-0648-4A46-A189-35087854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514A-82B8-4A66-9B96-F9ED7F4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46F-78DF-4A51-881B-8304BD3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CFB1-1A2A-40A3-838E-814E821B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3F4E-8A44-4C84-87E3-9B8BB5D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F8BB-1649-4673-9E1F-AEA9B3A4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2654-DFB6-4B17-987D-1E7CB81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1D59-F467-4028-AAF9-9876245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35B6-C104-4B0C-AF56-56243C3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8128-856F-4F87-B8C6-D767F78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FF75-866D-4842-88B4-1DEF5FBB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5377-5D7E-42F3-9522-9998D441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FA9-1E6F-4A86-BC86-71645CC6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9E8-FAE9-4C57-AB18-E346AE0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D7C-330F-46CC-B43D-5B025E8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F62-C108-4DBC-9560-36A3CCB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CEB-B5FC-453D-BF4B-0C54257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BBA-8FB5-4BCF-AC9A-2751634DA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A6E-EA54-47AC-A8D8-2ABEC75A6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BD0-7006-4D03-AF0A-E92995FD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Good To Sing Your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AENW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92, Arr. McNaught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Rowlands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Good To Sing Your Prais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Good To Sing Your Prais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Good To Sing Your Prais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Good To Sing Your Prais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Good To Sing Your Prais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Good To Sing Your Prais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Good To Sing Your Prais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Is Good To Sing Your Prais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Good To Sing Your Prais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7:14Z</dcterms:modified>
  <cp:revision>31</cp:revision>
  <dc:subject/>
  <dc:title>Slide 1</dc:title>
</cp:coreProperties>
</file>