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36F-9803-4C6C-A5E3-188DFDC2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FAC-A630-4AE1-87D5-1851EF1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E02-CD29-47CB-BF2D-DB61D823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121-1554-4A58-8829-24B10429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0CD-D931-416E-ACFD-EA84A91A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537-7A9F-4A65-826B-4D8969C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C8F3-A3D9-4C73-814C-A51609B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D4C7-5FAC-4AC8-90CE-08ECD47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F50-AE23-48BB-93B9-3EC12939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F86F-44D3-4C43-8C0D-0636427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C7C-2071-4F86-9C97-E5C5D959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A8A-9D34-4F63-8DAE-16F5F4C2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9FD-A820-4EF8-886B-A93F5277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47D7-D068-4602-8767-E7EF6C1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1AED-3409-41B4-B1F8-C964C06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E3D-F3A8-43C7-BA50-1F3C1491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B24-F24A-4211-99A9-D46E169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93A-DBC8-4FF5-BEAC-4E99BFA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114B-6012-4F43-B6A2-EAAE4B0D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5FD2-FC8F-4E85-8B52-15346C1A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C204-96B7-4129-B0C2-F267C65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6C7-4EAE-422F-B9B0-70673F7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9F86-9648-4CAC-A881-F369990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38DD-6153-45AD-B506-2C09A83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9B4E-AE9E-4D1A-B9AD-45329C2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E66E-1AAE-4DD3-9C80-3BE2288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508F-D4F2-445B-979B-25B41E19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07B0-C784-4DB5-B487-AD454EE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48CB-83EB-4B16-96A9-314C29C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C06B-7724-4CE7-8FCC-9C42C467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41E4-E067-4413-B0A5-87AD197B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3D9-75A9-4AF3-9ABB-DF9D6FE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7B8-74D5-49E1-B005-B057A5DB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A25-F85F-4CC6-826F-D697C9F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8C4-DAD5-4119-9F59-7A0CD83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33C-784D-4F88-A4E3-A517300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AC9-BA5F-4EB5-A196-1A814A944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09AF-4F2B-4A88-9141-17B32D1EE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E95-CDAE-4046-9E67-AA50149AF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mmortal, Invisible, God Only W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D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0200" y="4902120"/>
            <a:ext cx="13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ter Chalmers Smith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niadau y Cysseg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mortal Invisible God Only W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mortal Invisible God Only W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mortal Invisible God Only W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mortal Invisible God Only W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mortal Invisible God Only W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mortal Invisible God Only W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mortal Invisible God Only Wis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mortal Invisible God Only Wis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2:56Z</dcterms:modified>
  <cp:revision>31</cp:revision>
  <dc:subject/>
  <dc:title>Slide 1</dc:title>
</cp:coreProperties>
</file>