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57D-84D4-4572-8307-4C8A6030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D5D-16B4-411F-BE4A-D6D5EE5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E46-AE26-4740-A6C0-67D6D70A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FB3-3D32-449C-AEA5-B854323A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7D24-36AB-4000-9F08-8F07887E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8941-2EAC-4718-A3E3-DDE9ED6E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065A-9E18-453A-B76B-DE5EA4AE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DED3-DD6B-44AB-B317-851E1C77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5B61-9D64-4D47-A720-DCA1D71C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2F57-D304-4B94-9FDB-F30A1AA6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DD7E-8C44-489D-94AD-9D9AD489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C2E-F874-46D9-A37B-82A96C57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F089-E572-4887-9888-4F3F0789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89A0-B9DB-41E9-836F-3B9E227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1CA3-6439-4945-8B76-F56EEB6F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FCED-3590-4049-9345-2B9B5CE2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73A1-5087-4F41-B2A9-C4F46DF0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250-2F0A-4D8C-B644-334C5D89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496E-BCD3-4A21-8F0F-7E229450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448F-3E4B-46A6-A736-8198A6FF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5116-01D7-4519-B86B-CD4779CF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4A9-25C0-49B0-BBA3-6D8D803C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7C20-810F-44B3-8C07-6E63E38B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C8C0-691B-4FEF-9B20-4ACF0D7B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0F0B-3B09-494E-AF59-1C94C8BD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1D0F-5644-4D7F-B66C-C39E7AA8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078E-5963-45B6-BCB5-29E5C1BB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305B-F4DF-46CC-9C33-74D267F9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980F-4568-407F-9216-55FB1A75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3CCC2-D064-452A-9BD2-DD8DC2BB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32A8-2613-4F0A-9A2D-7620F97A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51D-3A89-4EDE-A78A-A02F535D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0C6-4601-452D-928D-F036D7A0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293-DE33-450A-9FA6-8BD4758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5F6-0D07-425D-8F3B-9A281583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0AF-29E1-439B-B67D-8F2B801E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0E3-0839-4060-BCE3-05EFEB880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AD1-3F70-4FD4-8C5E-289538B021E5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9C81-36EE-4B00-BB90-64202DC89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A Poor Wayfaring 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Poor Wayfaring Stran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102600" y="4902120"/>
            <a:ext cx="174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m (F)/D -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v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ian Songster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58),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2&amp;3 Taylo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val Hymns &amp; Plantation Melodie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man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val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891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a Poor Wayfaring Strang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9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A Poor Wayfaring S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a Poor Wayfaring Strang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a Poor Wayfaring Strang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a Poor Wayfaring Strang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a Poor Wayfaring Strang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A Poor Wayfaring S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a Poor Wayfaring Strang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a Poor Wayfaring Strang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a Poor Wayfaring Strang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a Poor Wayfaring Strang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9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A Poor Wayfaring S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a Poor Wayfaring Strang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a Poor Wayfaring Strang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a Poor Wayfaring Strang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35:41Z</dcterms:modified>
  <cp:revision>24</cp:revision>
  <dc:subject/>
  <dc:title>Slide 1</dc:title>
</cp:coreProperties>
</file>