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842-18B2-4B65-8C18-86A9D328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2A9-BC43-43F9-A74E-C14D9D05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561-C4DC-491E-AA66-91D925AA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0AF-240D-4665-A802-5D6F4664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FBFA-6BA5-414E-B395-540A6582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3C02-D239-4122-ABCA-FA8391A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E517-CADC-475D-8962-036BCF8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54A-318B-43FA-91F0-55DB3B1E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79E7-8FDB-42CA-B1CB-3EB34ABF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7DF8-9406-4682-AD8A-6BB14FE4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E000-351E-408C-9874-87C7EFF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4DC-CFC1-4422-A5C9-1DE4D43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8E9E-F665-44E6-9183-ECB61F3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F65C-F46B-4D82-AEF2-0BFF4C2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5AEC-4664-4F9B-84C1-CC6C616E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FE2C-5512-4086-A032-E6C09D7B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9CB8-2C35-42BC-A11F-DCA271AF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248-A073-4ACA-A4DB-F1E30D8B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F833-7A13-4ED6-82F4-E8C37B40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77E3-ED1B-4DFF-8AF5-0221147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9084-2964-4960-918A-367745F8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CC0-B53E-4197-86DE-E8F9C130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6510-BF38-400E-AA69-EC2C2E0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8A1C-BCC2-436F-8BC3-E75E93D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3F9E-F554-4C75-9A49-037A5824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6B33-716F-40AF-BB32-FC2C695F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42C3-04B6-4CFB-96B6-1DB32C0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8C48-DCCC-4B41-95F1-F2B3D0A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B528-E78D-4160-961C-3B4FB6CC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62BB-4178-43A3-84C4-F57F602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E9BE-90B6-4A3F-A4E8-B5568C75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635-7542-43A1-861C-03C5F026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7AD-7F27-4019-8A73-028B32DA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A12-D8F6-4547-A7D9-15992E3C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672-699B-4B34-BFD5-6DA1093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67F-7CEE-4B82-9BCE-5B79F61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6993-50AE-4535-9AAD-DBA290BB2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27E-9878-45B2-9923-B84EE41D5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3BC4-060B-4837-B2DE-29CCFC323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ing The Mighty Power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LACO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sangbuch der Herog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 Württemberg (178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r. by William H. Monk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Sing The Mighty Power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ing The Mighty Power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ing The Mighty Power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ing The Mighty Power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ing The Mighty Power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ing The Mighty Power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ing The Mighty Power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ing The Mighty Power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ing The Mighty Power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ing The Mighty Power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ing The Mighty Power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ing The Mighty Power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0:48Z</dcterms:modified>
  <cp:revision>14</cp:revision>
  <dc:subject/>
  <dc:title>Slide 1</dc:title>
</cp:coreProperties>
</file>