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BC5-F866-4201-84D1-734DB7DF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748-5B84-4979-B60F-04FD5EAC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074C-2804-4D00-9F96-B5E2FF46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990-7610-4DEE-8078-620605FB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37AB-E0A5-4E0F-BF87-F04BA380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0310-88D0-4BB5-927B-D1318DC8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F610-F3FB-45F8-B9D8-A4C08F92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6377-58BD-44AA-87F7-55496757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502A-04F1-4FFC-8B91-5D413540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7998-B870-48B4-9514-FDE8026C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E612-7FC5-4778-9F67-DFC4FFA5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F6F-46ED-4F27-8A09-11CA21DB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5B8C-1E93-45FB-8B29-282AD4FB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49BA-6628-467A-965F-B73FEAF7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C8F4-1AD2-4F6F-87EA-7C440A73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E064-F0FC-4DA9-883F-3BF3C8AF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167F-FE13-49FF-B2CD-B63C9CC5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DEB-DB8B-4C06-8CC6-0776649E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89E52-57D5-49FC-8DDD-3450A74A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68C07-8505-4362-8EE6-69E0EC84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AC14D-EAB1-4158-ABD5-40221AFA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D43-9CB2-4DDE-84D7-A3520E2C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53871-3611-4CE2-B061-E2374E78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8F973-CE4F-4941-A9FA-DBE6FB91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6F528-19C9-49C5-9D9E-0AD3F402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0E330-68B7-4D5C-962A-8A4F798A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EE287-B399-4561-AC7F-DB76B8BE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5225B-B417-4D3C-88CA-790D3948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259B9-55A2-43E0-8062-19D52827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6C67D-85B4-4835-A56E-69E26D4A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399B9-572C-45CA-958F-93F2C5D3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90F-72A3-43F9-9145-F72F8993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7A6-688C-4254-B615-89B610F7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413-D21F-427E-9983-9CD3DC4D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9189-D6FC-4600-BC19-7FDBC19F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B3F-4E92-4D2D-944E-2B6FCCC4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7646-E42F-4E41-A31F-EF3CB452D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CF14-A912-4CF4-9A84-294C6F4765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6498-DA89-4915-859B-06CFBA4A3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s My Name Written 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Lord, I Care Not For Ric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Mary A. Kidder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k M. Davis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s My Name Written Ther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s My Name Written Ther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s My Name Written Ther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s My Name Written There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s My Name Written Ther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1000" y="6488280"/>
            <a:ext cx="37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s My Name Written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s My Name Written Ther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s My Name Written Ther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s My Name Written Ther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Is My Name Written Ther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Is My Name Written There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s My Name Written Ther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000" y="6488280"/>
            <a:ext cx="37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s My Name Written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s My Name Written Ther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s My Name Written Ther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s My Name Written Ther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s My Name Written Ther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s My Name Written There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s My Name Written Ther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1000" y="6488280"/>
            <a:ext cx="37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s My Name Written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s My Name Written Ther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52:21Z</dcterms:modified>
  <cp:revision>31</cp:revision>
  <dc:subject/>
  <dc:title>Slide 1</dc:title>
</cp:coreProperties>
</file>