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2E96-F29A-47B6-B349-5B20F881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D99-8707-47D1-8414-B297776A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B0B-3B96-471B-9FF4-06DC3947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A8D6-17A4-40BF-8093-0F224551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E4FD-4F25-4D1A-BBA3-373F5F3D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C584-F219-4430-8455-C89C811D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7CBE-2040-4D06-BBA0-D02AADCE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ACD8-6135-49B9-A373-25F13B2E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001A-3977-4BA7-B7F0-07C8FD3B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D1C0-8E95-4038-B5FD-406065C4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AAAC-05F6-4848-BF8C-853911ED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E309-BCDA-40CA-AB1F-CC77CFFD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9B68-C25D-437E-AA5D-8A4738F3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1692-B1A2-4F71-B4B0-E53D67FA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9D8D-75E3-4B8B-B7FB-C06DF541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41AA-ABA2-4C23-8143-ABF7CEDD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60CE-7806-45A5-83EB-C055070B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7C9E-34A3-4CE5-825A-8141D475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96BCC-E2D1-4E9D-A053-FD49DF3D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5AD2F-0E36-4C2A-B55C-EC5253BB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EFC33-561E-45EC-A4E6-7C96003E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F11B-1DAF-4C9E-8C40-CDB19466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2B1E1-661E-431C-94A8-911D15F8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55381-9B5D-486A-B495-336AE6B3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243A0-D393-4B7F-8308-63457AFF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B2A52-98C7-4FFF-B5A1-D6251EB2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942B9-2778-4D56-8A53-1040016A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FC8B0-CA3E-4F27-A68F-B7BE17C4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12FAE-CBC9-487F-B635-D114F70C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81786-48D6-4E32-8CBC-3F26EC96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E4B73-D00B-4F2A-A7FE-34D72BC6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A081-D534-4241-85CE-3D3C278D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D3E-E5EB-4D57-A7A7-DA03326B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808-FE99-4D54-A719-2BA211F2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2742-1BE3-4A4A-BB53-2E7164D1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86BF-4C64-4F91-906A-D7D72B1B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5EE9-1A34-4F55-9BF9-6CDA2C265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0FC6-4E2B-4BD4-9BCF-0B213CB3D8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753D-F1A9-4BD0-9FBB-1FEEB8BC4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Memory Of The Savior's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WINCHESTER,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Cotterill (18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ste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salter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(15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Memory Of The Saviors Lov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8360" y="6488280"/>
            <a:ext cx="43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Memory Of The Savior'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Memory Of The Saviors Lov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Memory Of The Saviors Lov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8360" y="6488280"/>
            <a:ext cx="43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Memory Of The Savior'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Memory Of The Saviors Lov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Memory Of The Saviors Lov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8360" y="6488280"/>
            <a:ext cx="43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Memory Of The Savior'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Memory Of The Saviors Lov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9:49:27Z</dcterms:modified>
  <cp:revision>26</cp:revision>
  <dc:subject/>
  <dc:title>Slide 1</dc:title>
</cp:coreProperties>
</file>