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D4D3-44DE-4063-B6F1-883BB322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2D14-B4B6-4E80-AB16-3CD9BBBB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08B9-2A7C-4314-B128-9F8CABF18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DF7B-F025-4A8C-AC89-75F93B8A8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2C99-8AE3-411F-B130-DF01A67D5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8293-01AE-4064-AEA3-CDFD5AB5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CA2D-4471-4E07-B595-9796E711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4105-5F35-4B6F-8E96-230A0F57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04A3-5EB7-4636-A4BA-06B3F4C6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8D8D-ADBF-4A22-8885-20B3E11D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9477-219A-4297-BEA3-E3EE2441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373D-ED6C-42C9-9FD3-5D20B0D3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4C4A-DD01-4DE3-922C-83095BD6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40DD-685B-4316-939A-30F28921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62AD-22AA-49B8-918A-7CFC72DB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F010-EC8B-4DAC-B48E-70DD139A5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EED0-0E34-41BD-B447-63A4CAC01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7CD2-C973-48A6-8842-531E848E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B70FE-A464-420D-96E3-9A4690B9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2BE28-AE6F-494D-8C8A-43175D7A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A4D66-9CFC-4C75-B5CF-C051AAAE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F64A-DA30-4BF4-A3B9-289B19D4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9A71E-81A1-40B6-9F68-C49458C4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6B365-1213-4E40-9BAD-FDBB9F0D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B831E-075C-4654-9372-2C21FBF2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EBBD7-3A85-4C67-9913-C8821112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7DD92-9B2D-43A3-A6E1-A8042B70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7CAE2-969D-4608-B3B7-6B348296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3690A-E9EE-4F61-8978-5280B9C9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12899-A52D-4436-BE7C-7A24655E8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A117D-EB53-4040-9012-36A57325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A34F-9A78-4081-9623-3980C2F1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E2E4-1326-4162-B271-C2BA6755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7804-77C7-4BA6-B8F0-7816815C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1546-69CC-4543-B1E2-FEB7A3B1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8193-1149-49AF-8B2D-DD6931EC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934D-3E14-467F-B4E2-625269215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3B20-C0CD-4E34-861D-BE3CD8EB63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F7B6-663D-496B-B10D-EABEC61E84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Need Thee Every H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nnie S. Hawks (18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obert Lowry (18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7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5680" y="648828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Need Thee Every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Need Thee Every Hour_v5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Need Thee Every Hour_v5o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Need Thee Every Hour_v5o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Need Thee Every Hou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5680" y="648828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Need Thee Every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Need Thee Every Hou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Need Thee Every Hou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Need Thee Every Hour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Need Thee Every Hou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5680" y="648828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Need Thee Every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Need Thee Every Hou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Need Thee Every Hour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Need Thee Every Hour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9:39:15Z</dcterms:modified>
  <cp:revision>33</cp:revision>
  <dc:subject/>
  <dc:title>Slide 1</dc:title>
</cp:coreProperties>
</file>