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6BF-7765-4A97-B21C-8ED6588F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83C-5C4A-4563-9503-EDEB4A97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106-09AD-45DB-8165-BDFF348A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711-757A-4675-A355-BAA6BB90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B4C2-B7A7-46C0-B70D-60229EAD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275A-9D83-430C-A488-69516B5F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84D6-D723-4A36-9B93-D985C12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5D85-EF14-41C4-9A7D-510783AF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0620-A08B-4BFA-86F2-D447EDD9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E9F5-7A3C-4232-9BD8-92B7C428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A606-9342-411A-850A-B6416EB9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028-F3D5-4933-9612-00085117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91D9-AC07-469A-8E07-28C04BBD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370A-9166-42D1-860E-ED5B3A8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4A83-0B1B-49F0-8A8A-1D97897B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FCD5-C064-49C6-BE10-4AABC760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5940-97F3-4634-82FB-470F2E13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A48-8ADB-4883-8EB5-F262007B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276E-37FE-4FD7-BA4E-B66FAC91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6B3E-D558-4BCA-93D1-9AE9D341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64C6-C13D-48F6-8E25-3F9F0854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BFB-F419-4C54-81B3-17A89165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6A318-10A3-45BB-B027-B6001122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53C8-4C42-40A5-8186-492C2734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CC2A-019C-485B-B8C8-E02C6CBF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1AD3-2DEC-4321-BCCC-520D0722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EBF8-953D-4A57-87A1-0C05874C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93E8-9B7B-463C-9278-1233309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C26D-C4DF-4082-AAEC-DF9BCF0A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05EE-3B7F-4136-81D0-85F7E0A9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CF05-2EE6-455F-8955-29ED0F3C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513-46E3-45D8-9F2F-4D30BF60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1E1-A0AA-4D82-9005-6D7E5EF2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C3E-BC9C-44E9-89CE-B4C8A78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896-8F61-4F5F-8D52-5943AE9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374-5F0B-44F5-B474-BD9E9460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054B-4827-402B-9761-85B79BBB7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AB01-697A-44E4-90FC-196B41FAE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8D16-0E1A-4EDC-A8C7-655DDEE02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ill P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Ever Will I Pr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Cumming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Harrison Tenne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ill Pray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ill Pray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ill Pray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ill Pray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Pr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Pr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Pr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Pr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Pr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Pr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ill Pray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ill Pray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3:50Z</dcterms:modified>
  <cp:revision>27</cp:revision>
  <dc:subject/>
  <dc:title>Slide 1</dc:title>
</cp:coreProperties>
</file>