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BB5-5F26-4998-A47F-A19D43C3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640-2571-429B-919A-6F860FDB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1F5-FF34-4FE4-9D8D-E3A6723C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703-0FF2-4C04-9293-84D048BC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B558-E83C-44E7-B659-220453A7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96B4-7EFC-41AA-9A4A-850CA861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2D1C-7A46-4499-8785-D6EB2D08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50B8-FF10-4E9D-8531-63D9A924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79C3-1914-42D7-A86C-871ECBD7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36E3-9670-4B7C-8BB7-F8091DE5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9821-4FEB-4096-8F3D-689B8E24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AD7-4214-4A4E-B29A-55C6F248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6FC3-D34A-497D-A4C4-FA9FC8BC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4842-ED9A-4B67-8E96-F3C6AF49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969B-BE93-4115-98BC-E910FAC8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DCAB-24CE-4549-B0E8-B1AD2579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A020-E97E-444F-AC8A-82CFDBA2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DD5-0FE7-44D8-B0D2-9C92EC53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5EC1-81F5-40DD-BDA8-EF5E2818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BE75-831B-4CFC-915E-7F068537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291D-82B7-44D2-88C2-0A171E3E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80A-5EC5-47F6-9DE0-7B58E20D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776DA-9926-4F51-9E00-7B319563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CC8B-E79B-4566-9922-827A2F9D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F2CF5-18B8-4DC7-B051-F60157D5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BE3C-9CAE-4039-BB87-DE9E3570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EF6E3-4321-4243-B0BA-627318CE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FB6C2-8374-41C5-9D54-79687693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22F3-0BC4-483B-BC01-89A11071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8948-16C2-46FD-8AFE-3D67B015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DB7A-B53C-4712-9A48-9FE277BC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5E1-3011-48FE-9816-ED9299E4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8E3-3723-4E26-A82A-B79557C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9CC-DD5D-453A-AB22-7ACBE54A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D0E-7EA0-48B3-A3D2-6FAFBF1A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2C2-D30A-4C1C-A454-E98F7F48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A2F8-B71E-4A78-B7D2-94F151E91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311D-312A-4F81-9729-3C5CE6EFA5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4736-D8B0-4C3D-9056-AE8D84AB2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’ll Live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J. Lan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J. Lan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Live 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160" y="6488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’ll Li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Live 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Live O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Live O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Live 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160" y="6488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’ll Li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Live 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Live 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Live O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Live 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160" y="6488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’ll Li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Live 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Live 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Live O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1:37Z</dcterms:modified>
  <cp:revision>31</cp:revision>
  <dc:subject/>
  <dc:title>Slide 1</dc:title>
</cp:coreProperties>
</file>