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D4D-A83B-45D3-B3D5-D9E6D937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81F-DAEF-4087-B299-F6B34969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AE9-C5C4-43A1-B9F3-86970AC9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C1C-9034-4118-9359-34E7AD2E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CA6D-1AF8-4C62-A54F-772C2F8E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4518-B9A8-4B97-A61F-BB96BF3F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73E6-7CB8-4F7C-BFF9-973C5C80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F213-3CF4-4076-9F37-8166CD47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DDC5-017A-424E-B16E-C22DCDF2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7106-2A28-4E7A-9130-1D450618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DB1E-9E95-4DC8-B5D0-14A7D385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C53-AEA5-431E-8F39-BC96B85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B138-4AB3-40F5-9E3C-7D01D00C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FC2B-BEE5-4B36-A3A8-BFEA9675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0017-2C30-4D46-8090-C7FD08FB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0FF9-5138-4041-8DA3-94B5EC89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9FA7-70CE-44C4-B1E6-69B1D48C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581-FFC0-4A35-809E-4CB0665F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6DD61-95CE-46AD-AA1F-4D4206AE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5D07-9112-4A59-A6AC-7C50C2A9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83CA-7E3A-42B6-95DA-5ACABF64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CE1-67CB-4FDA-8069-50569778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01999-4BEC-4BFE-8E9A-B43690BF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E94AD-39F7-4C15-B92A-44C6B213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CD399-2CA3-4490-BFB9-D26D6FC2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3F9C-6775-4953-B0CF-8F152848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40A7-CBF8-4B56-B78A-045927F9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FF96-0F0D-4655-B49C-828BC141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C843-DECC-4F68-A479-EB0EBD54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1622-7267-4B77-B80D-DBDFFFD4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72A5-1B9C-4041-B1AC-0DEA4245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626-D54C-4EE6-A13C-D11DC7D0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3E2-C862-4727-975B-DF5267D5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918-8E65-4AED-8979-FBF809D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B09-8687-48E9-BB0E-5137F29B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0C1-F2B4-43F1-9318-10168910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4F7B-E326-4B34-A656-834C2B397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B843-52A7-4BFE-90EC-25F588F11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665D-F92F-4C9D-A7CB-1BE1A4319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Want To Be A Wo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iah Baltzell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iah Baltzell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Want To Be A Worker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72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ant To Be A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ant To Be A Worker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ant To Be A Worker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ant To Be A Worker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Want To Be A Worker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72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Want To Be A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Want To Be A Worker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Want To Be A Worker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Want To Be A Worker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ant To Be A Work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72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ant To Be A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ant To Be A Work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ant To Be A Work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ant To Be A Work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ant To Be A Work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72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ant To Be A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ant To Be A Work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ant To Be A Work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Want To Be A Work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3:06Z</dcterms:modified>
  <cp:revision>34</cp:revision>
  <dc:subject/>
  <dc:title>Slide 1</dc:title>
</cp:coreProperties>
</file>