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FF2-4860-4C84-ABB5-B322B20D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7EA-6916-4122-B617-CC8BD83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A5C-8673-4DF3-A964-91BE5FF2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C44-5A58-46CD-B1E4-457A673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A958-F587-4090-9695-ADCB283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1A2-B112-45E0-B149-E0D7105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7A5-2CCD-4D32-AB54-EF34077F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455-12C0-4349-A697-9244EE23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58F-985C-4826-831E-AAAC7F0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EB2F-9281-491D-ADA9-B4CDBA9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C23D-8839-4A35-9519-E47A5BF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ADA-2712-4565-B2D9-AF3A96C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6EC-C1FB-4D9B-8F43-6D011D4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78D9-97BA-4913-8583-9E9CC98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8FB-8573-42FA-B73F-A56C2FC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8D5C-EB3D-4314-ACE3-5A997236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5F5-3D8A-4EE2-BBEC-FFC84584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5E9-40E1-41E4-A422-FB395B61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8021-D0FD-4FE3-824F-8B68B88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219C-55C4-40C8-AB1F-BA52742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9749-3649-40E2-BDE6-87637CB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D95-6776-4911-BFD6-CD1A894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2783-F7DE-4C89-A0B6-39E41F6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C3EF-D82D-45E4-A237-67CD318B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442E-F00E-4787-97DE-A3ABC47A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7993-A051-4E68-9181-58C3027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966A-C847-45CF-8489-4BB4679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F3DCE-EEA9-4FFB-AEE4-1DCFC09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6003-270A-45F7-929F-CA0D775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D74D-8B4A-41CE-A8CB-62B73FB4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176D-B09C-4E0C-86CE-F92D3181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572-FDB7-4EC7-A4B2-3F3D04A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C00-3F08-4B14-B6BE-63A81C7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870-EF39-4755-A1B0-A2FF0FE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C36-1A20-4BAD-BD0B-69F3F74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5C0-C5B0-4BB7-9B61-5E89843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959-2879-4079-A5C9-19131DF19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BBF-9B96-428C-A91E-1298209E9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533-18C1-4398-93ED-87AB5541B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Sorrow I Wan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Walk With The 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tley D. Ackley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lk With The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lk With The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lk With The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lk With The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lk With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lk With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lk With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lk With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lk With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lk With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22T01:58:59Z</dcterms:modified>
  <cp:revision>28</cp:revision>
  <dc:subject/>
  <dc:title>Slide 1</dc:title>
</cp:coreProperties>
</file>