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156E-804A-46F5-B0DE-A8A0F770D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6EA3-D25A-4070-8DB7-ECE7F85AE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CD8D-522B-4AFF-B683-7DBC16402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ACA9-E907-4A6B-AD90-B48236A02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7EB5E-BE9D-4CBB-AAF3-ED191078B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F17B3-E875-4EAE-AF87-CB75534B1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BA40B-9E22-4EA6-B367-0848B2CD4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56CDC-C3F2-42DD-8442-F051A207C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62987-9785-4AC8-916A-A022491A5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CFAE0-D685-43A3-802B-CE25D11F1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3864C-B8F6-4E85-B9FC-235F8C55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F90E-36EA-4036-952E-A9B149C0F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A8A28-EE25-4F4C-A46F-4F77736D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D10D0-9694-43E6-B441-BDDE54DD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ECAA6-51B3-4C0C-B49E-F54E8D0D3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A90F3-9802-48ED-8775-5DB6FF0C4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90211-17C8-401B-B948-08B5823FB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B135-AB42-46B6-866E-190643322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F9DB5-4FBB-4B1A-A21E-DBE63D925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C0FFF-6602-4E74-93CA-EE4F688AC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46710-860A-4BF1-8497-1377A6F7F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CA13-C175-42CA-B8FD-3AE5640F8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B8913-1EE8-49C7-9326-1DAAAF4E7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8BEBA-E8FC-457B-9B89-B14829FDB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40B45-C829-481A-9B2C-EB7966D08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C1C97-5C92-4CBC-9DED-03D402F9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02BB2-0A75-476C-A372-22EEAE16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6503F-CE14-47D3-B525-F8621732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CD6FD-A809-4550-9430-C7135CED7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90780-0FB2-404A-B120-42BFBE40C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83799-ECB3-467A-8225-543C8F19E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FD47-8B14-4470-8A65-E710809B1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80F3-0ED0-4C93-A788-4E30D0E68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EC85-6973-49CD-8534-6B3014E2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A5D4-9F13-46E0-88B9-35B4025B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D941-BEC0-47C0-A18A-CFAF03FF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DED0-6B2D-4A83-9432-CFEF24DAE1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8B0F2-5E19-4ABF-A482-612D7E9441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B616C-FE23-45E0-8B85-923EB0C2F5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 Am Thine, O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C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rances Jane Van Alstyne (187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H. Doane (187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5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 Am Thine O Lord_v3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06200" y="6488280"/>
            <a:ext cx="29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 Am Thine, O L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 Am Thine O Lord_v3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 Am Thine O Lord_v3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 Am Thine O Lord_v3of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I Am Thine O Lord_v4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106200" y="6488280"/>
            <a:ext cx="29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I Am Thine, O L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I Am Thine O Lord_v4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I Am Thine O Lord_v4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I Am Thine O Lord_v4of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 Am Thine O Lor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6200" y="6488280"/>
            <a:ext cx="29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 Am Thine, O L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 Am Thine O Lor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 Am Thine O Lord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 Am Thine O Lord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 Am Thine O Lor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6200" y="6488280"/>
            <a:ext cx="29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 Am Thine, O L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 Am Thine O Lor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 Am Thine O Lord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 Am Thine O Lord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02:17Z</dcterms:modified>
  <cp:revision>27</cp:revision>
  <dc:subject/>
  <dc:title>Slide 1</dc:title>
</cp:coreProperties>
</file>