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98F-7546-4102-BE4C-867AB3C5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8DB-2D9A-4796-9FFD-A068238A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3D9-6C71-4B93-9131-62F86FDE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353-D4C5-43BB-9BCE-A90C2CC2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C3C-85D5-4F84-B2B1-DF287452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C387-0AF0-40E3-8E5C-E02AE608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CEB9-DAD3-42AC-8A14-7E6370BA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316-4826-49C7-8048-8408C24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DE2-6CC9-4AEA-9712-7628554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607-7456-42D4-BF77-E60FE4D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E395-86E9-4099-94D0-FE7715D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7B1-535D-4EE3-967B-2B7719C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A284-82B3-421C-9575-F678B83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1AE-5300-4D36-9C48-574D56B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4C5-2D20-4EB0-946E-DFC2FBB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4647-4C00-456D-B275-FCE1219E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45B-F897-41E2-A56B-DF81E4B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052-ED8B-47B0-AAD0-E1597225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F5B8-5D41-407E-941F-9B04F726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DBF6-E73A-46FC-BE93-817367AC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655A-8376-4988-9870-DA4CB73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30C-125B-4430-90D1-3511A90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D60D-7804-48A8-BC34-54B4589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721C-B214-428D-BC3C-1B88663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BB50-D62C-4517-A93B-FD1F0DCD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511D-2C68-43DE-8F3A-00E2D093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172E-780E-496B-B7E3-899E177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71F7-3212-4118-A298-10731D1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648D-CB44-44EE-AA18-B044B24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D5E0-29D9-4D6E-9015-1B300B40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3AFB-6A98-4E59-9134-AEC8A2A2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381-5041-4A1F-851E-6BB12B2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C2C-14F4-4F92-9FF3-E722221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BA7-E4A0-4BBC-9FEC-A44A88E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E44-EFF4-4046-8F23-AF0526F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DC1-592B-4B06-9628-6679A63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4BE3-2F65-4F54-9B5F-23B3D9CAB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F67-4872-4C44-AC45-921B25997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48B-6C37-412C-A885-5DDAAD9D6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Well With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o G. Spafford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Well with My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Well with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Well with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Well with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Well with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Well with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Well with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Well with M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5:55Z</dcterms:modified>
  <cp:revision>29</cp:revision>
  <dc:subject/>
  <dc:title>Slide 1</dc:title>
</cp:coreProperties>
</file>