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1CC-D881-47F5-A784-98DD4C92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183-BEEB-48BF-A93F-E83936C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06E-59AD-46DE-9C92-F37AEE1F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713-645A-4020-A641-2E9073B7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4B66-9D9E-4E14-9295-3AF6F294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3B9C-4F94-4853-9DED-79BB86E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F44-48BF-4ED0-9463-B4124577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8836-65BC-4C7D-B832-9F5C1D0D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4EBC-648D-4834-A9AB-9AEC87E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6E21-2733-460F-AE70-4C3ED49E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0F7-B4AD-4038-91D4-49AFE15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E57-44DE-48C9-B62F-8F623F50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6B8A-63F0-4449-8254-A0D4D04F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B79C-93AC-4BA6-81FA-04FA786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150-556E-46C7-BA72-9178C24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D7D7-2902-4604-9C7D-7556E611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0CF0-E900-4247-811A-C43D77FF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EFB-B25C-4E69-B977-6DD76B8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F0B7-ED52-4712-8412-B2D65B5F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86CF-9BE6-4692-8C8B-A107FBD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CAEE-DAA0-4D71-8DAD-470CAED0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0D8-8C1D-4DD5-A067-99BEB84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1C7F-388A-40F2-8150-0F2A053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202E-8EBB-4D54-8622-02A21C93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2485-F30F-43C4-800E-8591EF21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6199-8031-4738-B7EA-BC31F3A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21B7-ADC3-4A36-A2A7-6EADCC9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7071-1575-4AAC-95FE-70C7882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1539-BEB2-49F7-A715-5104F22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54CA-2DF6-4B30-A8E8-C688C1C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5117-0484-4587-8A2E-99443EA5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D72-05B8-456B-8BE3-E464F36B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D09-093D-4DC3-8011-12981843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A7C-6A84-4F11-A442-BA20468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5CF-7801-459D-A175-579C021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83F-2487-4F3B-B7A8-527D130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8E8-04C3-4E53-ABE6-0EB054CBF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5F14-ACF5-4B90-BDCA-75FEC8459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48C-9353-4B50-BFE6-E1C3FCF27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Bring My Sin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LEA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Bring My Sins To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Bring My Sins To Th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Bring My Sins To Th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Bring My Sins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Bring My Sins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Bring My Sins To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Bring My Sins To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Bring My Sins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Bring My Sins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Bring My Sins To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Bring My Sins To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34Z</dcterms:modified>
  <cp:revision>36</cp:revision>
  <dc:subject/>
  <dc:title>Slide 1</dc:title>
</cp:coreProperties>
</file>