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20A-2A4D-4FBB-A885-EB3A1AF4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AC0-8736-4761-9D56-452A88BC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4BE-5C5B-42B5-A89C-9E3A7FD7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421-60A7-410B-BBFC-FDDE5566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1C82-400A-48D6-896E-CD6017AC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0CDB-4F90-4AB4-AEAF-3618ABC1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32BB-5874-46C7-A777-26269C82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0592-A1BA-41DB-8505-B0600647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784B-33A2-4671-8A55-570C0DC7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4C5F-A366-4FF9-BECE-3184E0CC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8679-4E75-4523-980A-99BED97D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21E-590C-4A0B-BC56-60738BFB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2D37-769D-44E1-B1A7-59CCCC4A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1102-A410-4A4F-84C5-484500F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0ECD-C949-470C-ADE4-38937A1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B455-9AB7-49D2-AA2C-ACB7DC53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A591-F762-4A87-94C9-9D19601C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80A-AD8B-4C24-8AC6-ECF83956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437C-23C1-456F-973E-C7AD349C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F1D2-DCA7-42C5-ABEF-D7E84199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B4B5-3416-4D99-A21B-B659654D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861-5A2D-4EC5-B51A-8660A503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85BE-85AF-4554-A3BE-74EF0745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7B98-5131-4F09-8962-F7221FA0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A7AB-7C17-4BD7-A289-87E7AE82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A14B-AEF2-4125-87DC-743F971E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694E-8013-4BEF-A9D4-B8E823FC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5AB6-85D0-46BB-8D9D-064237F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8257-B138-4A9B-8B9E-BA2B9006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0C1B-B445-4432-9314-1A763BAB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6E99-F5D1-47C9-9E42-20522C09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FB0-253C-474A-B7CB-C00BCB2A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658-C21D-4DB2-8412-A1D24242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D1E-45B4-4ABB-AF04-8FE2CC91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66D-72D7-4C80-8E19-4F7E945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25B-6E02-4A97-B530-23D54587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169A-7298-4E38-8E62-DD6A3824C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AD3D-86CF-405B-934B-71207979F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1DE8-15D0-4CB6-B712-C0CCD5C4F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That My Redeemer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A. Fillmore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A. Fillmore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Know That My Redeemer Live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Know That My Redeemer Live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Know That My Redeemer Live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Know That My Redeemer Live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Know That My Redeemer Live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Know That My Redeemer Live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Know That My Redeemer Live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Know That My Redeemer Live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That My Redeemer Liv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That My Redeemer Liv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That My Redeemer Liv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That My Redeemer Liv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That My Redeemer Liv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That My Redeemer Liv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Know That My Redeemer Liv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Know That My Redeemer Live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5:54Z</dcterms:modified>
  <cp:revision>26</cp:revision>
  <dc:subject/>
  <dc:title>Slide 1</dc:title>
</cp:coreProperties>
</file>