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684-0885-404E-B2A2-BB1FDCE8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E97-67E5-4892-AB61-F262B29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7F1-F6B3-44AE-BB09-802D87BA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490-1633-43EA-9C4D-CD219F1B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7FDC-8E3F-4EDA-BFB2-F86629EF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1FAB-5D92-4D34-89EA-B3B7B8DA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6F45-95CA-48E5-AA66-BBECAB76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F8A6-7C54-4835-BC71-76D4577E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BB27-B31D-4041-95EE-C6168DC9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77C1-0030-408D-BE30-819D4D9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AA61-6F0A-4138-A1FA-9A92A59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6B3-082A-4D3B-8A7C-F24183D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9517-DC4D-4903-B434-31D249DF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834A-6BFF-4043-B95B-3B4C74E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F04A-861A-4F78-BFBC-16082B4F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B95A-2146-4A4A-BB69-E7CC5040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628D-0B99-4AD6-BC54-0855EF2B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DEF-2819-4252-B54B-57F1ABE2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A081-4D2C-47C1-8C2E-F429FD8B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2330-0733-4F73-90C6-7E5A70DA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120C-C257-4BD4-9897-96966A59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65A-9D47-49B8-89C4-FCC458CD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8392-9B34-4E3B-8172-F032180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C9730-8139-4FA1-BF78-8AFEAD41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BE2A-561B-4DA6-BC91-D9BB853F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9CDC-39CA-4EBF-BBB8-451CC49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1518-2F4C-4747-A395-F57185B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D760-F692-47F8-9C94-692D202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184D-F5C7-4E76-99B3-9F6AE8F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93A7-241B-4952-AE7F-4047EC2D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2612-70E3-4D05-B68A-019E2832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164-B3DF-44EF-B2BA-21547C0E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832-9E7B-4C4D-A4B7-F3CF9549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D46-F08E-407D-99B3-6664A70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FF8-3A16-45CE-A786-0CCE030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202-4362-49CD-89F0-C16EB5A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9B29-792D-4AEE-BD64-2DD919565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85D-0B16-4D01-B576-E529B35E9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02F-2B79-4AE5-9A90-E6529A29D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ve Got Peace Like A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ve Got Peace Like A Ri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ve Got Peace Like A Ri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ve Got Peace Like A Ri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ve Got Peace Like A Ri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ve Got Peace Like A Ri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ve Got Peace Like A Ri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ve Got Peace Like A Riv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ve Got Peace Like A Riv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3:26Z</dcterms:modified>
  <cp:revision>31</cp:revision>
  <dc:subject/>
  <dc:title>Slide 1</dc:title>
</cp:coreProperties>
</file>