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147-6FB4-4989-A93A-FF1C604D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FED-1F18-42AF-8D94-701F7BD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945-2D1D-4A9A-8ACA-C3DC0551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C0B-44CD-4855-89D3-EA3E5E89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661A-AEE1-4049-8BEB-70E004B7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38E4-BC58-4560-A7BC-2E64C94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0EA4-9327-4D90-95F6-EFF2FF12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F8A7-49E8-4531-AE25-A7ACAC7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88E6-8DCA-43D9-AF3E-D07C34C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05A-FA5E-4658-B72E-C44E26C9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DFF5-CAE3-42FF-BC43-AE9D696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BA7-1682-4730-81BA-B16179F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FE9-3827-452C-8362-34C6654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E3C-5E7E-436E-9F39-7082ABD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D063-9837-4677-9F19-388E8D33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6F91-236E-47DB-8B2A-9E4FE13F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B509-5230-4ED8-9D5A-D6BAD2C5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5E0-8EF4-49DF-A608-5ADF9CC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34CC-B05D-4C90-969E-D92A73BE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C601-79BD-4F65-9E2C-C4382960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7490-F434-4EC8-AB70-5DAE29CC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7B0-C3B2-4DD1-A2EE-DE9AE58C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2AFF-3F74-4393-846D-E44C6753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5839-66E6-4CE1-B638-0A86D240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0E0A-2E7C-45AB-AB1D-115CF8D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ADD2-E8CC-4BF3-AF40-DEC3C95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9F73-3C45-4A71-895F-CE4667C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C32D-41D0-42FF-96DD-2F432842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23B4-704B-4BBE-B0F2-5AF49CB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895F-43D3-4D54-9ED1-979C966A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19D2-9E1E-43D3-A7E7-85907ADB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3C8-2F31-4CE4-B0FD-3CB600A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1EB-7122-4C94-BBDA-327F3384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167-513B-4421-AA97-DC5213C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91D-4788-47C8-81E0-D08D79E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9F4-A680-4E6F-9197-9DD2B94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D4AF-80C7-445A-8375-8D71C01B5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BEB9-CDA6-45C4-8AE0-594E522E1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F788-F578-4E21-8B2D-98DE17EBC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vory Pa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Barracloug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Barracloug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vory Palaces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vory Palaces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vory Palaces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vory Palace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vory Palace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vory Palace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vory Palace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vory Palace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vory Palace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vory Palace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vory Palace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40:03Z</dcterms:modified>
  <cp:revision>35</cp:revision>
  <dc:subject/>
  <dc:title>Slide 1</dc:title>
</cp:coreProperties>
</file>