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CA9-57AF-4C0E-8296-5AE45759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0E6-38B2-484D-8DAB-F2CF02D8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D34A-6A7D-4682-8E03-6A4A205C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FA7-E069-4028-A7E3-C9CA2ED6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B90E-71A3-4FB6-A5ED-9D5E905A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B9C7-4B97-4BF2-9FF6-6A3EC073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8DEA-831A-4EB2-833A-E2153E02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2F1F-E547-4100-95A2-1D3FA3FC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F79D-61F2-4C6E-9116-43B0A6FE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4D02-5362-44CB-9335-D1D5E81C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CBDC-962E-4651-96A5-15D137C2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1D4-718F-41E0-AA11-2BAA6B4D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C36D-D1B3-4C14-842D-2C8BB5B1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6515-E3D7-4FF0-95FB-3530E0CD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42C0-CB29-46D3-B874-63DE1D57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4216-DAF8-4F75-89D5-C9645705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4FAF-19E1-4E51-B1C1-8FB7CDB4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0307-CB2C-4AFC-8905-C51B763A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3F8BB-9196-49C3-B7BC-E361CF01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4F5A3-D31B-43D4-B732-B9EACB5B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162FB-9503-4FA5-AA39-80F23BCE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764-030B-4192-8C99-05E434BD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B772A-8C4D-4F5E-A19B-8892544F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C6410-14BE-4E75-9C3D-A031FA44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AD58E-19E6-4196-BB2E-B84CF487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A8F35-78E8-425E-BDA5-E9B60AC8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57135-87D1-416A-8C76-27D2F5C8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DF645-4E07-4DDA-B8E3-A1864EA3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0FBB4-1E9D-4F14-B81D-D0D33725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43286-B959-485A-ABFD-39BF881C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B7B19-E938-4481-9EC8-3A2733E2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399-D936-4B0F-B837-BA2797DC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BCAD-1767-468B-A131-0EB57E81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CFC-902F-4922-B1B5-9B4890AD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0DE4-33BA-40D1-9263-593F60DB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C29-BDFF-494F-96FD-0A7450AA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3EE1-1DF6-485F-A6F7-511A9F254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A0B4-B225-46CD-8A11-2D8822A109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4B0B-CCFE-4EB6-AB64-67F315526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f I Have Wounded An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An Evening Pray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39960" y="4902120"/>
            <a:ext cx="126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Maude Battersby (c. 1895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by Charles H. Gabriel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f I Have Wounded Any Sou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80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f I Have Wounded An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f I Have Wounded Any Sou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f I Have Wounded Any Sou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180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f I Have Wounded An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f I Have Wounded Any Sou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f I Have Wounded Any Sou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180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f I Have Wounded An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f I Have Wounded Any Sou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f I Have Wounded Any Soul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180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f I Have Wounded An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f I Have Wounded Any Soul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7:58:24Z</dcterms:modified>
  <cp:revision>32</cp:revision>
  <dc:subject/>
  <dc:title>Slide 1</dc:title>
</cp:coreProperties>
</file>