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5F8-4203-4F92-93B6-25B03840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012-6870-47AB-9D0E-54AB9E7E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582-484F-4C4E-99DE-E29D7D35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7D9-72AF-4C13-A6D8-DE46C6FB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84A6-1F51-4C40-B8EC-2A5B986F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C582-09C0-445D-81B4-0A924678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9286-580B-4B7B-AFFA-F943097E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1341-D2B6-45CC-8EAD-42BA73C9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E008-0480-4840-B70F-754FB995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2135-40F4-4DA9-A492-3B3F0B37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9D0B-AE63-460D-B4D5-53AD8FF4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A6CF-7C6E-4962-82CF-F4FAB954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5064-6EBF-48B7-90BE-E96C723F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DEBB-FB8C-4935-BCD8-39C8FDCC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E06C-99BD-4BCB-A774-AF54B25A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93BC-B3AC-4677-859F-09482B8F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72E1-568C-4631-B173-0C059C3D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2D81-8E2D-4731-A4BD-6A01623A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62CB3-4DB2-45F9-9F74-DB86CD4E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F0BF-4CD4-442F-9C41-23A2CACF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D570C-0728-4898-8102-382CABFE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6FE-DC30-4E57-95BA-53FE2E0E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61CB3-1FA9-4164-92DE-CB702F57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10166-FA68-403E-8FFB-A021554A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BC2BA-499C-48DB-BB0A-55422D42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A29C2-3146-4D5A-B82D-DE346C92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EC1B3-E3C4-4CE8-BC59-6AD266BA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4AF00-6578-49E9-AAFC-23B5FB66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7D2E9-4E3D-4B3A-9BB2-2AF83A76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5665C-F1D3-43B6-9A64-37433FC2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B4A3E-A78B-409C-8EAE-1A9C2383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C93-4FF9-4CFB-9FD0-8D4E37DE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E2C-1351-4482-8D0E-BD1C3212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769-FDCB-44EC-8B3E-DBDEB5FF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528-34C9-4FC9-94D1-311131E5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667-7F24-41CA-BC9E-FA93D88C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3785-1AD5-4831-9BE1-E12FA86DD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B868-0AB1-4545-8BCF-00BB7032A6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E149-D418-4BF3-8F06-7C3FE5081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'll Live For H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alph E. Hudson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R. Dunbar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ll Live For Him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0000" y="648828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'll Live For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ll Live For Him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ll Live For Him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ll Live For Him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ll Live For Him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0000" y="648828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'll Live For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ll Live For Him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ll Live For Him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ll Live For Him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5:08Z</dcterms:modified>
  <cp:revision>24</cp:revision>
  <dc:subject/>
  <dc:title>Slide 1</dc:title>
</cp:coreProperties>
</file>