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4097-3BCA-49A6-BC6F-5DC194B28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0BF1-1383-4205-A0CD-C59294906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6EBD-E5D2-48ED-91D9-A31F08E9F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8870-FB62-4E96-A610-3BA5477DD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8589E-56BE-4FF8-91FC-862ABB1BA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08DC5-6040-4455-90DF-BFD0EC0A8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EB33E-543D-47EC-9F78-CE54CFB1A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4A021-02FF-4B80-9D50-57642C049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7EF99-A5B8-481F-AC3F-BDFE0158C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5786C-A586-4FE2-B44C-21985A4A8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641A8-DD08-4FB5-80E5-B50A9D3AE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94BA-1837-42FD-AB90-A41B9C4D2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24135-FD49-435B-8C4B-C6BAA1A63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9A184-AFA8-4712-8463-B33B28F60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5A2CB-956B-4E18-BD8C-E5B795C22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5E1D6-73FF-4631-A458-C9396FA1A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0AF7C-7246-4F7F-B0B3-E1034F042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B09E-5713-42F4-931F-D66FE067D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879A08-AC04-4F71-BF0F-3E9F94D28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48E523-1957-4F0F-8DB4-ADFCACD02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889697-DD13-48CC-8273-D964D50AD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544F-BCA4-450A-8058-25DD8FECE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490216-B2BE-40DF-BD7F-EBD5492FE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C3EBE8-54BD-4E56-9CF6-856376BF2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9CE953-BB17-42B2-A533-318EC5961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3DE2DA-8693-4A87-9923-1E1F62426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79587E-F942-4F19-9021-391404B75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EDC68F-1004-4C47-AD6F-946D38722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0C451C-3911-42C1-89EF-D18B327C7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E913E2-E21B-4FF4-A6C2-D74144974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562264-4497-4DBD-A13F-8D25DACB0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0F1B-F76E-4B86-9E2C-5FFA01F56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44BA-FB5E-4A08-A11D-DBA77216B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B1B3-4BD8-4574-88E3-ED76965C3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EF37-A713-4699-B357-2563F3F7B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2215-3D26-4F7D-85CE-53490FB5C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E1026-9EFA-4030-89BD-8F8C0A3DCB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18DB3-01C7-4608-923C-A8B4976E292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F8532-6AE0-4B9A-B854-69E36B03AB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I'm Not Ashamed To Own My Lo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AZM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59760" y="4902120"/>
            <a:ext cx="1436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3/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A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Isaac Watts (170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Carl Glaser (182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8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Im Not Ashamed To Own My Lord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17360" y="6488280"/>
            <a:ext cx="459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I'm Not Ashamed To Own My L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Im Not Ashamed To Own My Lord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Im Not Ashamed To Own My Lord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117360" y="6488280"/>
            <a:ext cx="459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I'm Not Ashamed To Own My L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Im Not Ashamed To Own My Lord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Im Not Ashamed To Own My Lord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17360" y="6488280"/>
            <a:ext cx="459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I'm Not Ashamed To Own My L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Im Not Ashamed To Own My Lord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80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1T18:20:10Z</dcterms:modified>
  <cp:revision>27</cp:revision>
  <dc:subject/>
  <dc:title>Slide 1</dc:title>
</cp:coreProperties>
</file>