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F465-8206-4203-9DE3-0BB192F5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14D0-F720-4CDF-89C9-EE1751A7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57D5-6504-4ADA-84C9-4651414C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0722-0124-450F-93F0-5BD86C91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B38A-9E21-45F8-B518-AD10C3F8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9FDA-3864-4C56-9915-25FE4486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FE3A-104A-46CA-93C2-AAADA272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BBE6-349A-4690-B065-59DDA448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0CA5-959D-446A-942E-22D08A00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4044-BABB-4E37-B2D8-EDDBC5C3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265F-CB4C-43FF-83C0-AD38BD45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E60A-B47B-483B-B0D4-7BBC2245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15BF-9C9F-4455-8193-E526F901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5559-E128-4B4C-ACCD-45FE46E3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4C3E-587E-4552-AAA3-126B86F1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2045-7A7F-4E43-8FE2-78C12B54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9C9E-732C-42B1-8C07-382A3BB9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59D0-E15C-4770-8684-83C9AA90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157DC-E782-422F-BFDB-767743BD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95B1E-8F38-40F7-A6F0-DBE47514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4D1DE-786D-4252-8ADE-DC7BD48B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0449-3890-4A58-AA80-93CB4D7D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E7CFB-D0B8-4068-8DBA-F2B1D83F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1934C-B230-4897-9440-5F69C608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F49BD-41F4-473C-9F24-DDC4F99F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BAF8D-6F61-4542-9240-2F1662C6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A920B-3D6C-4FE3-9FE6-5DFE4240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B9E7A-36C9-4161-BB9F-AA9A642C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1C10D-07DC-42D3-B7DE-56DFD909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EB456-0EE4-4DEC-B905-A69B50B7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B5523-9C9F-49D9-A089-F9AC3E69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F861-4147-44C8-AA50-6CE51A40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02EE-7D84-45BC-8421-CCAD8302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E783-0A39-4F8A-B09A-6173FC06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B9B2-B82D-4A3F-BE90-420A4AAE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B8C2-8C31-4DF4-AB89-B5A8E2F1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02C5-B96A-4CC1-BA1E-761A1C256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B0C2-36A1-4B09-A65A-8414171699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A309-C8E6-4A80-BB5E-C3305BB0B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The Hour Of 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PENI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5.6.5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ontgomery (18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pencer Lane (183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the Hour of Tria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6200" y="648828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The Hour Of 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the Hour of Tria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the Hour of Tria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6200" y="648828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The Hour Of 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the Hour of Tria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the Hour of Tria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6200" y="648828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The Hour Of 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the Hour of Tria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9:15Z</dcterms:modified>
  <cp:revision>29</cp:revision>
  <dc:subject/>
  <dc:title>Slide 1</dc:title>
</cp:coreProperties>
</file>