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965-DB0A-45DB-AFD4-55E0D3ED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B0B-54C4-40BA-AD23-386D3A9B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9A2-5314-4ED9-A9E8-E71A0484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06A-328C-49F1-B155-381A0CF4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4D86-90A7-4A8E-B49D-DA70A078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5C5-5B42-4C1D-98BC-2A7DE992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F89F-B6CE-41F6-99D5-9D09D74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58F0-4D46-4473-A7A7-E7A3643F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4F23-D704-41B5-9029-627002E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D5CF-A560-4FA2-AD29-7D2B946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D4D0-B091-4B98-8AD5-C68F468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46A-612A-4094-8CC6-991208B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F3C1-E520-44E9-88A5-B8E009DB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D38-2382-447A-9FFA-E04E618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20F-820F-4AA7-87D0-6C988CE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8C18-C691-4070-9B9F-1FEFB1F0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DD52-2917-4190-8B5B-AF604239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DF0-912F-43D8-B6B8-ABD2F4FF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B2B7-B51F-42A2-BFAF-B39B47B7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DC4C-69B7-40FB-9D8D-19C408C8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B9D2-77FC-4F41-888A-DEBA129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B7B-D206-46B3-AC26-BE805FF0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17BF-8805-49CC-8A37-1C8BF73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9EA3-4A9A-4244-B113-BB921E92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4690-8F82-4DB2-87C2-BB72F5B8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42D9-BDA4-4DBA-8A19-018E520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BA20-FE60-4B75-AF63-F244192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BE11-0318-4381-AFD4-7E5EE05A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EFFE-5905-48D6-AC60-B339D829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176C-EDC5-43DA-9E25-50BFDDD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14F3-A373-464B-A93D-82B30FCA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ADE-2555-4639-9273-05C964E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BF9-BE42-489E-9AF2-EB24F4A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328-22FD-4291-84D1-8808AC0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983-C64B-4BAA-AF1D-2D99584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D52-B899-4192-AAA9-2749FE0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B9A-FBEA-4416-B804-9774FADD0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936F-3A2C-44E5-844D-85D0A3803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5A5-5D35-44CD-8730-965F20D5B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at Home Of The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Gaines (1775-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Gaines (1775-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at Home Of The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at Home Of The Soul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at Home Of The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at Home Of The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at Home Of The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at Home Of The So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at Home Of The Soul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at Home Of The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at Home Of The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at Home Of The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at Home Of The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at Home Of The Soul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at Home Of The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at Home Of The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at Home Of The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6:55Z</dcterms:modified>
  <cp:revision>32</cp:revision>
  <dc:subject/>
  <dc:title>Slide 1</dc:title>
</cp:coreProperties>
</file>