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52AE-8021-4361-940B-D06E7E587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D285-6835-4EF8-909A-2CE78E75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CDA2-9D60-49F4-A366-D207C05BB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AA4C-39DB-4145-89DA-AAED49E7B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9F91-2791-41E6-B6BE-80991EBF8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E2F2-744E-40C9-8805-E95B4B27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0AA3-BCEA-4039-9712-68E631D9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3E5C-1910-4517-B335-6BBA75C5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6293-DED6-441C-BF3B-9CD61372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D6BF-2971-48CF-B63F-5D426AFE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8DF8-8114-4244-AB40-BAE61CC5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C93F-159B-4F48-B486-C7E7F2D8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4C84-83A5-405C-87A8-209A1B30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93CC-A058-4023-83DF-484F587E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784F-8440-4407-8264-AC224C4A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3C00-2A47-41B0-8DFB-89A72EB94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BDA4-12F3-44F5-8BFB-0A690C819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27EA-A12F-40B2-B883-CFFE920C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8D3C4-CBC4-4AAE-832B-F7EF000F6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6D957-AA98-41F5-B797-CB5BB61C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D80CC-B8B1-4F6A-BD6E-D91605C1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3430-7422-4659-A65E-96C131B6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50B19-6CCB-4E1D-B449-454BA1C9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A97DA-D304-48C3-9261-B2CE32B4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C958F-F188-47E7-AA4A-30E79710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731AB-23FB-468E-9D96-26B2241D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F34F4-B8D5-49BD-9DB7-0959ED17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309C7-0926-44FD-861F-3E8537A7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A01F5-A451-4FC5-8CDC-E1E5CA8A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1BDB0-8D16-4E18-9EA0-C199C8206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F93E9-CE04-4357-97F8-F9E78442C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5B4C-0FF2-4D6A-B329-26EFFE0C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BAAC-C599-432A-9B37-71CF4B60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495E-21F0-4B10-9CAD-AF128B9C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82BA-16AC-43EB-BF4A-89A2F398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7133-524E-4CBD-9D6A-22CB4F3C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2184-60A4-423F-BA50-F7FB64117F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322A-0F0E-4310-A548-981AE0A561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D875-0E53-497A-9F07-AE1B6D7AFE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Am So Gl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C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Rowe (187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E. Thomas (187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Am So Gla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1000" y="648828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Am So Gl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Am So Gla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Am So Gla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Am So Gla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 Am So Glad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 Am So Glad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 Am So Glad_v2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 Am So Glad_v2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I Am So Gla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81000" y="648828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Am So Gl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I Am So Gla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Am So Gla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1000" y="648828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Am So Gl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I Am So Gla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I Am So Gla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I Am So Glad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I Am So Glad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I Am So Glad_v3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I Am So Glad_v3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1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Am So Gla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Am So Gla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Am So Gla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Am So Glad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Am So Glad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Am So Glad_v1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Am So Glad_v1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01:08Z</dcterms:modified>
  <cp:revision>31</cp:revision>
  <dc:subject/>
  <dc:title>Slide 1</dc:title>
</cp:coreProperties>
</file>