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0FAB-5D7C-4846-9041-85DA5A9B6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142D-AE2D-4D0C-9401-83EF4EF0B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1E9C-B91F-45C2-8B3C-9DBD45A21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CBB6-C601-43AC-B4C3-DEBA3E6A2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757CC-64A1-4527-8960-1C4E837C4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D1F38-41E0-4092-83B4-41DD5F2CE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0D8FE-1CD5-4356-A03F-5569B4064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AC75C-7E8F-4140-8038-ACC75B528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CC79A-8EA2-4508-ACA4-1A9B08222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FAC36-5CD4-4F0B-869D-072D31A48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1559F-F10B-46B1-888C-785481866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A349-8894-4A12-8139-14C467DE2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B1536-1B3D-4C06-994A-60A757431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D0BCD-51EA-46A4-B9D9-6782B828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B1CC5-ADBD-437E-92BE-8F9D6DDEE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EC3EC-7660-490E-8F0C-E4CBD478D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4F2A0-8FB7-4F9D-B0BA-91FE19F8C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BEFA-21F7-495C-90DE-E24287496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2B52C-900D-4B34-A23E-11FFEF914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3AE05-CF0A-4FC3-BD25-C0E5C7738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A49F5-4EDE-48FE-BF0A-03706FE06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F8A6-1470-42CC-B3C3-C340E655F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CD586-0D44-4F28-B315-2637BD852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AAB25-821F-4F41-A921-A8A4A4EE3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56C78-6CA7-472C-A897-4192C6BAB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0461F-A3FB-47F4-AE9D-7B2F922B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46E09-5E66-4622-A90D-43E7880A1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475AA-4E62-4B0C-9D24-C6727EFB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DA2B5-A90A-42A2-B694-92E431801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B5EA5-98C0-4F3D-AF69-ABA1454E4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BCD9C-4543-427D-9543-67A17F1E1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BAE2-F89E-440E-9FF2-7F904B36A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F638-F711-4571-BF6F-3B17A81BD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AD4D-7E28-4705-9ED9-27C5A5E0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E012-83D8-4FEC-AE8F-EBBB79D40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1B23-2D1B-48E7-B908-C95E4E574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DC13B-4B44-4478-8B13-D10D3374D5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10308-19BD-4D56-AA31-7A22E0FBF1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857E3-736D-48B4-B633-9E9282E821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 Love You, My Jes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2840" y="4902120"/>
            <a:ext cx="1439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raditional American Hym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Ingall’s Christian Harmony (180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6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 Love You My Jesu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1520" y="6488280"/>
            <a:ext cx="30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 Love You, My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 Love You My Jesu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 Love You My Jesu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01520" y="6488280"/>
            <a:ext cx="30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 Love You, My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 Love You My Jesu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76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09:34Z</dcterms:modified>
  <cp:revision>33</cp:revision>
  <dc:subject/>
  <dc:title>Slide 1</dc:title>
</cp:coreProperties>
</file>