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B9E6-B500-490C-BD03-DD0524396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3619-D6D6-4980-89AA-0AF6BB46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83BC-001E-459F-BB7D-A26C0062C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ECE5-F3E3-479E-85BA-0BE8F2651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1143-119A-4FAC-BF21-6E3453E80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F7EB-A8D8-4537-BBAF-22813712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E033-79B7-48A7-A8DE-FF1E9048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56CBA-A2C4-49EF-A960-BCC78407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EBEF-2BA3-4849-9A36-4A8FC335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36F4-48FF-4DAC-9DC7-20328467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BAAB-43B6-46E1-ABF5-00F6C81E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ED22-E80F-4569-871D-F9AB4F9E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1694-B8CF-4A24-B900-19AC6816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310A-2C07-4287-8093-28DC2F15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13FD6-E266-4157-B168-AE261176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E4D4-0BBD-4844-99C1-843748A64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D4C07-C6DF-43F1-A754-6C9E8157E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2642-822A-4815-924A-D6566EF4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A3B11-CF8A-4F85-8476-99F568ACA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727D1-E632-48B4-B9C4-9577A8ED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995C2-7F80-4A5B-B5D6-5E9EAB53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61C7-1074-4970-81D2-45D8AA9D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B708A-7149-4DE3-814A-6D93BEEC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638A6-D5BE-4F60-B431-3361DA61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BB2A4-E34E-495F-B24D-3A8B1F70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0CAE1-D1F8-48A1-AE37-2BF83246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90093-52F6-442A-8551-568F3152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6C623-EAB3-4E9B-8006-AA1BD1FB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61D19-C9C9-4D5B-8B93-A5ED4F51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763D5-0D69-46ED-B90D-F91097A94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192AD-F660-464C-A88A-DEEE4C9F1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CEA4-DB5B-4068-A99B-C6C2D550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C29D-F66B-414C-8303-DC0031B7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234B-3345-4A7F-A2AB-9491D73E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C467-325F-4E7F-A4DB-2043A068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3C3D-9362-4E03-A64E-0C74930D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3F3C-D71F-4525-B055-31383FA70E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A459-B347-4118-AC6F-C6782B9C59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C13A-F2FD-43FA-A6B1-90281407EA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Shall Not Be Mov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/C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dward H. Boat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merican Folk Melo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8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Shall Not Be Move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5240" y="648828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Shall Not Be M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Shall Not Be Move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Shall Not Be Move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Shall Not Be Moved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I Shall Not Be Moved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75240" y="648828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I Shall Not Be M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I Shall Not Be Moved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I Shall Not Be Moved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I Shall Not Be Moved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3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4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Shall Not Be Move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5240" y="648828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Shall Not Be M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Shall Not Be Move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Shall Not Be Move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Shall Not Be Move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Shall Not Be Move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5240" y="648828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Shall Not Be M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Shall Not Be Move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Shall Not Be Move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Shall Not Be Move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24:38Z</dcterms:modified>
  <cp:revision>32</cp:revision>
  <dc:subject/>
  <dc:title>Slide 1</dc:title>
</cp:coreProperties>
</file>