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3D7-8FD0-44E2-A300-356DAF68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FC2-67D6-4F4E-AB67-B0872795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0B4-C1D4-497A-A358-E57DA4FC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8EA-9FC3-41C4-AF54-D9E5C992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9557-BA61-447C-9479-23A7BEA9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E952-C0D7-4F80-90BE-44DE8396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0A72-F555-40A3-9038-468B2AEE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01F1-38AF-4B10-B100-0374D0EB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F66-1FAC-4FB3-9624-D7FEA7B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67A3-2C73-42A7-A7DE-8A71AFF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D7A3-4A9F-45A8-9C40-53D17274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D7B-1D76-4DCC-8893-081F7B4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A370-D971-4DB3-BF1B-3FD820D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8D4D-6507-40C4-AB4F-A31A602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C185-18E4-4B74-92E4-4E3D91F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8B38-65D2-4089-B235-754FBBAE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3A2-B248-4F51-9B1D-6D5FA35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6D3-C863-47B9-A494-ABC973B5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5169-CB58-4B16-BF47-D595BE33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6465-0112-4A5D-BC89-EBC364AE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66DC-474E-4557-8B62-4EF4AE8B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8DA-FCBF-4FB6-B909-7F1BB711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28BF-1980-4157-8892-A225206A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7A69-81CC-4FCA-BBA1-93537E1C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1BAB-D551-4CD1-8739-4851B591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E1A2-A0C2-4734-88E5-BBFD9E6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61FD-320B-4785-9252-752CC74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B12A-06D2-4119-90C0-311C337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D07F-7DF8-4D28-9138-52AACFF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4294-F308-4819-96A3-A65F49B8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3DAF-E337-4D65-8C54-440E6E8F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333-723F-4746-8D27-73678EB7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3B5-0AE4-43DF-B75C-9A9987B7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515-2188-46B8-A0C1-996845B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28C-17F2-41D7-A936-DE7F294E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961-7D1D-425C-A72A-3B7F9A9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079-9382-48A9-82BE-C86A4DD7B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F2AC-8CEC-4886-9E78-CDC0925F3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93C2-E0D2-4404-8B82-0D4FCDF60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e Lord Will Find A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d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e Lord Will Find A Way For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e Lord Will Find A Way For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e Lord Will Find A Way For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e Lord Will Find A Way For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e Lord Will Find A Way For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e Lord Will Find A Way For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7:20Z</dcterms:modified>
  <cp:revision>31</cp:revision>
  <dc:subject/>
  <dc:title>Slide 1</dc:title>
</cp:coreProperties>
</file>