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8A50-5489-496F-A207-9AC9B801E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CF93-24EF-41C4-AFB0-ABCB5BA76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7C87-CB7E-4736-A4A1-AF98A2389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7EEF-E4AF-4C75-B4D9-93A9D61FE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542FF-5243-4D2B-A825-9F6772955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BD4F6-5B39-44CA-8A3C-802A9E833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C37DB-9492-472A-B439-6CD473DDC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6DAD7-296F-45B6-B260-E9A198AA7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3EC2F-3002-46DD-B6A2-8D25F7C1B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A4CE4-9818-450F-B441-5BE10974B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2FCF9-B53D-476C-B86E-1437AA38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0FB9-9046-4D0C-977A-FE59BD05C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FF2F7-696E-4834-A431-A1B8496F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3BCE3-AA2D-4EC4-9B95-18828601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D1651-0769-40A0-B1F4-F529BE1D8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E6684-5589-420B-A62D-C3E83EFF9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2180D-7472-4CC5-9F0F-D0D442EF0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AE44-58AB-411D-8A63-D16678904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7DFFE-7FCF-46E2-8493-54E073CCC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6970C-7217-4406-AB59-75C5C614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8F570-2794-47D7-8354-1512F1D1E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786F-9096-4E89-95E7-1B6B1A9EF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351B6-2609-4E7B-8D0F-1556F9EFE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28DF6-396E-4E3B-8533-979D7D537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38F77-0CD7-49E1-93B4-A21C60408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E3D91-F7CD-4F40-9269-FA162CB7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61DB3-E1FD-41C9-9CC2-C7D5359F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2F11F-9236-4F48-9C5A-D439AF15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D360C-D5A3-4556-8A80-591CB98D5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CD3C5-3C7F-4487-8C8E-A5DF80BD4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DBAA9-6E9F-4916-A2EE-A638B97B5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FB32-BD34-4D2F-B296-01EA74A99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DC30-BFDF-4CD8-979A-749D1522D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65DC-E926-4DD3-85B7-ACE3A34B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9553-8720-4BDB-BEE1-FF16EEF0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665A-A5A1-468C-BCBE-2DCB5E08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3BB76-4494-472B-9E66-E4D1B1C8C3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A33FF-53DA-448F-AEF7-1661B0EC39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2414B-873F-41FF-A88F-BC43C00C37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s It Well With Your Sou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F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#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ames Rowe (192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Virgil O. Stam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s It Well With Your Soul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1440" y="6488280"/>
            <a:ext cx="357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s It Well With Your Sou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s It Well With Your Soul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s It Well With Your Soul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s It Well With Your Soul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s It Well With Your Soul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1440" y="6488280"/>
            <a:ext cx="357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s It Well With Your Sou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s It Well With Your Soul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s It Well With Your Soul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s It Well With Your Soul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s It Well With Your Soul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1440" y="6488280"/>
            <a:ext cx="357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s It Well With Your Sou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s It Well With Your Soul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s It Well With Your Soul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s It Well With Your Soul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35:25Z</dcterms:modified>
  <cp:revision>30</cp:revision>
  <dc:subject/>
  <dc:title>Slide 1</dc:title>
</cp:coreProperties>
</file>