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4960-62F8-4280-9D7E-56671146A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4170-98D5-45B4-BC99-8684B5BC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5D1B-2D84-4608-9EB3-0860E5C2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59F2-88EC-4C0E-8F0C-BDD5B357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2E7A-CB15-4ED7-8298-FE4F0075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EA2D-4FFA-4DF5-ACB2-B09F1B61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F815-EB38-4D93-BB90-0F3F3698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3BBF-9E20-4AF5-85D9-7B0B150C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B8EC-C966-420F-8946-8170317B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70D2-CEFD-4B1D-B36C-0D465FCE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5F0B-743D-4AF8-A214-7C79C005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6846-7956-46A9-815B-EC026481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698F-6A13-4E69-BFD6-069894E3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114E-839D-4776-B583-01A52230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0B5B-AB61-4DBD-99D8-5B292D5A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5279-C87D-4D4E-A151-329A8629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EC26-18E7-4159-B14D-32910C4A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437B-AEC3-4980-8139-36484463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BE333-E6C4-46A6-92A6-1B7304E5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F5663-8853-48DF-BFB9-4EF6F7DD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A6AE4-1B06-4E7D-B891-E3714DF9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C48B-0B04-4607-8995-3867B0F3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46A4D-6880-43B3-9E40-801009BF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DF45F-83AA-48AB-AF06-2B1BCB18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86842-1C6D-437F-A37A-83610E8F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04A17-B81A-4634-ADA0-1538CF63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6A754-1B8B-492E-8D6C-C5594F27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BEE4D-7EBA-4A6F-96DB-F68BFF6C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C4F9C-9A55-46DD-8748-43AA57F8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6ABBD-03DE-4E3D-A84C-540C77347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B574D-D9E0-4A74-A845-5E199135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C2F6-D314-43E0-9625-DD61EB1B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48D0-6853-4D8F-9F35-31E46BE5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3E09-ECCE-4AB5-A978-4CB68F37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2A2B-88B0-4F82-8F14-65336054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1EDE-58EE-4EC0-850B-709042F1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A443-1B5B-4E5D-AF64-A14B311641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D1F5-68B6-49AB-94E4-2A4752832E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491B-425E-4785-A79E-92F0529C51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'll Be A Friend To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son Oatman, Jr. (192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W. Dennis (19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ll Be A Friend To Jesu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7360" y="6488280"/>
            <a:ext cx="33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'll Be A Friend To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ll Be A Friend To Jesu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ll Be A Friend To Jesu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ll Be A Friend To Jesu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ll Be A Friend To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7360" y="6488280"/>
            <a:ext cx="33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'll Be A Friend To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ll Be A Friend To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ll Be A Friend To Jes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ll Be A Friend To Jesu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ll Be A Friend To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7360" y="6488280"/>
            <a:ext cx="33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'll Be A Friend To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ll Be A Friend To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ll Be A Friend To Jesu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ll Be A Friend To Jesu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19:43Z</dcterms:modified>
  <cp:revision>18</cp:revision>
  <dc:subject/>
  <dc:title>Slide 1</dc:title>
</cp:coreProperties>
</file>