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E98-8FBF-45D7-864D-E96CA327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71F-9C7B-4A00-B031-D4EC6F9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8F3-79AF-4268-815E-15583600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824-152A-4FE2-B4B8-2DFDFBF5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BBA-BAD2-4927-8407-B9A9CC0F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9E04-998B-44BC-8050-A4DD9D65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87A7-5B86-4CAB-95C3-2D25BF5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9BE3-679E-4B7C-9DF8-08F97AA8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31C-25E6-4A28-8179-2C55034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646-0740-4DCB-AD9A-CEDE7D2E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C700-FF1B-4313-80E6-50910F3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951-FD6B-40BC-B93E-8F814A22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77D-2123-4C12-96B9-A3A13BC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0764-BCF2-41D8-B2D5-B54B833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586-96A1-4E8C-8D73-63EEBC9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0A4-3B6E-4A5F-A47C-86D6B777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10E5-C753-4965-AE46-977D0138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8D1-A26F-4AE3-8D5E-73B598F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628A-EA67-40C1-A0B6-213F31A0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D253-AE6A-4540-8AF7-CB0E8D9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C567-1A1F-4AF9-A5A3-22DFA30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E2E-2240-46BA-8918-504BA0EA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BA8E-93D2-4849-B1D1-E8A77EC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EF86-C9D4-423F-9BAC-F9B4040E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33F8-98FF-49A1-8B95-20EE84A7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2B1E-CA85-44B7-9CCF-EB614CA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D06D-719E-4677-8F04-E2CB1AF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778C-1D31-4092-BBF5-54E00AE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6362-C640-4705-8BA7-E412787E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0765-72B6-4511-A5A4-D20F7F13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1677-AA30-46C4-B42C-8E76CA56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5E3-3E6C-48EA-978A-E1FAF3B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457-77F9-4E36-B896-11C8763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05C-35C2-461E-B047-3C7C427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0D6-0643-4299-8AE4-9AD2B70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CF4-105D-4057-B915-3EDA3EB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F9D-A718-4AF7-B110-07221AD57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FEA-D3D5-4F30-B942-36DCE34B2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626D-2F24-46E1-936D-F7B6F8CF9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Morning Of J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R. A. Evilsiz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Showalt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Morning Of Jo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Morning Of Jo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Morning Of Jo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Morning Of Jo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Morning Of Jo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Morning Of Jo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Morning Of Joy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Morning Of Joy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Morning Of Jo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Morning Of Jo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Morning Of Jo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Morning Of Jo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Morning Of Jo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Morning Of Jo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Morning Of Jo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Morning Of Joy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Morning Of Joy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Morning Of Jo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Morning Of Jo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Morning Of Jo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Morning Of Jo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Morning Of Jo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Morning Of Joy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Morning Of Joy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25Z</dcterms:modified>
  <cp:revision>28</cp:revision>
  <dc:subject/>
  <dc:title>Slide 1</dc:title>
</cp:coreProperties>
</file>