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CCF-D5E1-4431-8611-B26219B1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A03A-3A32-4DDA-B035-7F081220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026-6A61-4B72-AC4C-76B9B175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697-E4AA-4B0F-9ACD-1ACC092D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3A94-A6AA-490A-B8FC-3E1B7D9E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AB32-67AC-4120-8EDA-3706D305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48D7-1399-44CB-B16A-B7B5120B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DC4E-0575-4783-AB35-E9F3FE47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55A3-1F38-437C-B874-47C4E499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BBEB-68CB-49EC-8FA7-3C273C5B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6F0E-FF6F-425D-96E7-37A53E9A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D31-4AC3-4577-AA75-78F28691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DBAE-B2AE-4020-A922-D2D4A7FD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CA63-DF41-4AA0-864A-269C4D3F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5C7A-15CD-4D5D-AD95-1EAD12C4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FD35-E4E0-4BF2-8586-C18C0669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3661-CB21-4EED-A668-1D418569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205D-5B70-4096-A3AF-881428AE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CBD23-E974-4918-A711-826797C0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6D970-8327-4CD1-8C74-02FAC096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EA2BB-E0AE-47A1-9254-1063C5CE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3E6-3118-40F2-94DD-750AF854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3A2A-0231-4351-87AC-22679439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80481-5DBC-40C2-81B6-27408D5E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5C044-E9AE-47AC-8835-FE934EB1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ED32D-694E-4B4E-8780-BC45AEAC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A9561-1F93-40C6-8D4A-4923C5D7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F1C80-8F40-4E29-AFC7-D1109D34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8E9AA-4880-4A72-A53B-C8A1FB1E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DCF2D-F04E-4FF9-A71D-D2EF5911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693F-2C67-4570-A89A-9128E565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AF45-11B1-48DD-B789-1276B2E2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D89-4449-4475-B847-B72D6F3F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AB5-A575-428A-9DEB-90D35A9B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DAB-9F61-4DB7-B82C-6A04AAFC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667-D353-4588-BAE6-1AC9C43C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5501-B461-4C6B-BD9F-D7D8048B9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7470-4B6A-4AE7-BA9C-FADE239AFE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3015-52C2-470C-9C27-1EBD3A6FF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Praying For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Have A Sav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. O’Maley Cuff (18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ra D. Sanke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Praying For You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Praying For You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400" y="64882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Praying For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Praying For You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Praying For You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Praying For You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5400" y="64882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Praying For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Praying For You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Praying For You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Praying For You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5400" y="64882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Praying For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Praying For You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7:59:01Z</dcterms:modified>
  <cp:revision>40</cp:revision>
  <dc:subject/>
  <dc:title>Slide 1</dc:title>
</cp:coreProperties>
</file>