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9A53-264B-47F4-ABED-22296406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C3D-C97E-4F7A-86A4-0CD4E4BE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C12-E4F0-4AB6-BED0-BE4E7245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040-F5E8-4579-84FA-5BCD64F4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1B0E-04B9-4F52-8EAB-8638A45D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C361-312E-4ADD-93FD-698417E8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BBF3-1217-4020-A86D-69148885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AF29-36A2-4DF0-B346-584D2FE6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18E8-4BFC-4ACF-8939-318ED148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31D2-542D-49BA-ABC6-DA1FF608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A764-6FF1-4819-9B2C-4947BD5D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38E-228A-4C6C-978F-7C32260B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3ECF-F4E2-4C69-885B-6DCDE308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1103-ECFC-481E-8E4C-48AD3F0A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51B1-DD6C-4BEC-AFAD-D33B42A7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8A77-EC14-482D-9A6D-8A32D971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35B2-6DE5-42C0-8990-77E57914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505D-CBAB-49A4-8062-B799C48F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7DF21-A344-47F1-98E8-B0C42E55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66FD7-B195-4F96-84E7-26B5CE50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AAE78-62F0-43A1-9BAB-8C394002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124-6451-457C-B73F-2B2D13B2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92455-6E83-4870-A0E9-F5D081CD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DB002-13FE-4E03-8698-AB44C729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49D4A-1D9F-4859-A22B-88997214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BF71E-11A5-4676-8FA8-A6AA9A6A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855EA-9E96-416D-9409-9A5E1644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F484D-D826-4357-AC0B-BC40E398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3059D-6E0F-4C27-96ED-CADA1322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8DF77-2713-4AAB-9B80-B595DC48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35DC7-F579-46DA-BFBA-6B135865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2737-F899-44E2-BBD7-1DD5864C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C277-02E3-45B2-A6FF-1F69A8CD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253-ABF2-4C24-ACF6-97675876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FED-D5E3-44DD-BB50-C468418E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A746-3130-40D8-A1D3-26B08678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2D96-E076-4314-A65C-3455332A0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EEA8-96FF-438B-9A1F-4534038D5B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4E8B-1553-47CE-BE84-88742AA80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Love To Tell The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56528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therine Hankey (1866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orus by William G. Fischer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G. Fischer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Love To Tell The Story_v2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Love To Tell The Story_v2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Love To Tell The Story_v2o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Love To Tell The Story_v2o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Love To Tell The Story_v3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26360" y="648828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Love To Tell The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Love To Tell The Story_v3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Love To Tell The Story_v3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Love To Tell The Story_v3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 Love To Tell The Story_v3o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I Love To Tell The Story_v3o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Love To Tell The Sto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6360" y="648828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Love To Tell The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Love To Tell The Sto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Love To Tell The Stor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Love To Tell The Stor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Love To Tell The Stor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Love To Tell The Story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Love To Tell The Story_v2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6360" y="648828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Love To Tell The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Love To Tell The Story_v2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9:04Z</dcterms:modified>
  <cp:revision>32</cp:revision>
  <dc:subject/>
  <dc:title>Slide 1</dc:title>
</cp:coreProperties>
</file>