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17E-D652-49A2-96AB-1759A83B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306-7DE7-4420-88B0-59B988AC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7D0-B743-4835-B7C8-AEF0B54C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733-E461-44E6-9967-58046E9F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BBDE-9B54-4625-9534-E1680C04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EEC5-49C1-4C4A-BC32-E82B7DDD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9699-CACA-4AE5-8ACB-2B7A12A6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F33E-AE5D-4CCD-9AD2-4236F884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6BE0-FEC4-433E-A708-BCF7B505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5236-6211-498F-AA49-963222EE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AF49-7B45-4064-866F-D2B10D47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C61-6C95-4F34-8D50-F9D75D3E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0305-B2C1-4A4D-95AC-6AA0FE9F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182D-1865-48F3-9222-8B7158E6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F86A-AEA6-4581-BCA6-4DAF7A31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3923-A68B-407C-ADAD-6614F469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7F45-D5B4-46D6-A3A4-BA5FBCCA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D54-51D3-4609-AF2F-DBF42370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06A85-BAA8-4C72-877B-9864CB7F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88FB8-6F8F-4067-BA2B-AE2EB4B1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EF2E-807D-4E7B-8CA9-0DDF0CC2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690-ACE3-41CB-805E-EE428B36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2A5FE-EA58-4E77-8AC3-8A88E20F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E5F8F-131D-4BBF-A970-AF0C9247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4CB6E-3600-4A04-B762-54A6AF41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3C13-7619-4DFC-8AA2-700B9DFC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7D6AC-4EA4-4644-BAF5-8FE2AE69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E75CD-DB74-4C28-9F59-B6770548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6E8CE-64FE-4952-B45D-66DC1E4C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DCA9-8602-4EBD-A15E-AA1629FF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5A2C6-F824-4C3B-918A-BFBC12F3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E85-A84C-46FE-A2BF-5D475817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AC9-2DB3-4F2C-BA6B-9856E6D0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4B1-4DA2-4729-A85D-906910AF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024-3B05-476B-AA2F-7C9BD583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C22-60BC-40D3-A949-4CF8C7AC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6DC0-A4E3-47B9-8C41-4F6B9ACAF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9765-4E22-418A-AAC3-C7B43FC2AD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5D2B-1B29-4A27-BC49-ABE2A71E4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Heard The Voice Of Jesus 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P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oratius Bonar (184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udwig Spohr (18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Heard The Voice Of Jesus Say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2120" y="6488280"/>
            <a:ext cx="41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Heard The Voice Of Jesus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Heard The Voice Of Jesus Say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Heard The Voice Of Jesus Say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Heard The Voice Of Jesus Say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Heard The Voice Of Jesus Say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2120" y="6488280"/>
            <a:ext cx="41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Heard The Voice Of Jesus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Heard The Voice Of Jesus Say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Heard The Voice Of Jesus Say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Heard The Voice Of Jesus Say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Heard The Voice Of Jesus Say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2120" y="6488280"/>
            <a:ext cx="41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Heard The Voice Of Jesus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Heard The Voice Of Jesus Say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Heard The Voice Of Jesus Say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Heard The Voice Of Jesus Say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5:15Z</dcterms:modified>
  <cp:revision>32</cp:revision>
  <dc:subject/>
  <dc:title>Slide 1</dc:title>
</cp:coreProperties>
</file>