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E1D-C6B5-4C8D-BB9D-D49C561F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FAF-7FFA-4C00-AF8E-E01507DA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E8BD-DAD3-441D-8CC8-5E2E41AB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015-DC6C-44FB-9CF1-3F3448C7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84D2-F59E-4206-A96E-98E9E97D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82AF-297D-460D-A46B-60CBA4EB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F479-F3C0-4EB0-8C2F-616E3F8E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3062-9B86-4257-A556-CF8307DC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671B-BD76-449B-9F49-6A7AC211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FA2A-F71D-4CDC-A840-6523AD19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F399-4D4F-4AFC-9543-3304A6E9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46E-4476-4831-A171-56143846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C5B7-FC2C-47E9-A346-7767EA38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B714-B234-414F-8BA4-4BFF7D47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8AAD-A755-46AE-AC80-919B8DF1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8B88-83F8-4010-85DB-FBB121B8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C9CA-FF91-466E-A92A-8B5C00E8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D9B-2607-4893-BB12-1B5958FA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6005D-9037-4BF9-9BDF-599472CD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7737-1E05-4AE6-AE87-4058EEA6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E383F-C810-4541-A044-EBF7FE52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DE01-8EAA-49DD-A477-C5898B63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C2A9-C192-45EA-85BB-95332753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A6B17-6C3F-4FF0-9600-BAE6D90B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D5311-3EFB-4444-9167-9A584F8B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84583-8BC1-4333-9785-F9FD1E9D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29FC6-5C6D-4C46-BD47-83636D68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D49DB-6CA1-40D9-A73F-969CD158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9C33E-5791-4670-80B5-50A27D7F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658D9-1F1A-4036-AC37-10DA658F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CD014-68DF-41F5-A70B-5FF84B02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A8E-B4FA-42D1-92BF-EC6DA183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8B6-4344-4C63-9BD6-999BA087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594-BCED-436B-AC06-1E200596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153-8EE5-443D-9DBF-0A13951A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AA5-7DA4-4AA9-8D04-617625AB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2637-FEA4-4924-90F3-68F385A24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D5B2-CA6E-4997-BD69-F4A54E0516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634D-2321-4EFE-B5B0-1EEAB3BB3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Know Whom I Have Belie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 Know Not Why God’s Wondrous Gr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 Nathan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shan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Know Whom I Have Believed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8120" y="648828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Know Whom I Have Bel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Know Whom I Have Believed_v3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Know Whom I Have Believed_v3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Know Whom I Have Believed_v3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Know Whom I Have Believ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8120" y="648828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Know Whom I Have Bel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Know Whom I Have Believ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Know Whom I Have Believ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Know Whom I Have Believe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Know Whom I Have Believed_v2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8120" y="648828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Know Whom I Have Bel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Know Whom I Have Believed_v2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Know Whom I Have Believed_v2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Know Whom I Have Believed_v2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7:50Z</dcterms:modified>
  <cp:revision>31</cp:revision>
  <dc:subject/>
  <dc:title>Slide 1</dc:title>
</cp:coreProperties>
</file>