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BA7D-575E-48B8-9E00-71FEE121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779-D2DE-4A1C-8078-D896C2D6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5790-E3A6-4617-984C-6966B4A1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59D-8894-4CF1-9063-38E2A6BA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6F75-7F54-466E-9EF4-2C7BE8C3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1225-6330-4EDE-A8B4-890664E2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85BE-8BE7-4661-B4F0-1824B7AC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0F19-40C1-4A01-93E6-854005A3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3216-ACE4-41F8-8E5D-2C6F0D3B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619F-345C-4D0D-9297-70FFA0CE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21AE-6C6D-4DAA-BEA2-80CA0ECE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0D0F-670A-4B6B-8BD5-41508E88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BC86-DBF6-4A4F-B31B-2E54C88F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FFC3-1A1B-4B14-8809-89E0A626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06F5-60CD-40E3-8480-B97A3ADD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8B80-88C9-428C-9BB8-7E1CEE1C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8BFB-BD13-4BB5-967A-391A0111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0E1B-056C-41BC-A732-FC72C3CE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703AE-2BD3-4BF6-9842-8E9E66B2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19A93-C325-4373-A11D-12D53324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FE605-8A91-40DA-A7E6-4F871D0B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E4FA-4C68-4F3D-AFE4-4DC81FE4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ED753-22C0-4ADA-96B3-69450F04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CE37A-A0F5-4605-89BF-134AC07A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21A30-24CD-428A-82D6-050C149E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78CCC-DC48-4E15-9C12-6B65C4D1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827EE-8655-4AB9-B523-019B9A48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DF3E1-38CF-4E3D-AA57-6612C815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FF05E-53AF-4C57-98BD-8D6F08DB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BFF39-C27A-46DF-8FB5-851F6A29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DEB2D-6EE6-46EC-9114-DCA9D3BF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4D7A-7D79-47AB-9922-0A932D94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99D3-B9C2-489F-9A97-A6C234E7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8B13-4B1F-4B66-A229-61721860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366-0984-454C-8973-E4F8F9C8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F6B-27DE-41A4-AD16-9E74E287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1FE1-333E-4788-982B-6213FBA1D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8D84-C8FE-4296-84E6-9BC9AB235E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2C27-EB8C-48D8-999F-86A12BCCF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Heavenly Love Abi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6.7.6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na L. Waring (18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elix Mendelssohn (18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Heavenly Love Abid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0440" y="6488280"/>
            <a:ext cx="36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Heavenly Love Ab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Heavenly Love Abid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Heavenly Love Abid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Heavenly Love Abid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Heavenly Love Abid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440" y="6488280"/>
            <a:ext cx="36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Heavenly Love Ab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Heavenly Love Abid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Heavenly Love Abid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Heavenly Love Abid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Heavenly Love Abid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0440" y="6488280"/>
            <a:ext cx="36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Heavenly Love Ab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Heavenly Love Abid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Heavenly Love Abid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Heavenly Love Abid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3:31Z</dcterms:modified>
  <cp:revision>29</cp:revision>
  <dc:subject/>
  <dc:title>Slide 1</dc:title>
</cp:coreProperties>
</file>