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A6D6A-919C-4B92-AD96-6C201608A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1F289-25D5-44F6-9CD2-EB59604B6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0FB4A-7970-4FFF-B492-331BD5C85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58429-26E8-488C-B381-E69B7ECED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1B121-104C-4524-9E01-80E844949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6F90C-4F38-4925-8125-DE5B9C661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EA7A2-770B-401F-9E8E-AC823A58F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8EC9E-5CAC-42FA-A194-D7A608B7B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CAB77-115B-4B0C-AF85-E86D459EE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7B416-2A81-4C7B-89C7-2587363A7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403A4-4E2A-406F-A4AD-BA4884CDB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CF960-1E70-4081-8B69-25DCD25AC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15A38-402D-48E8-8B60-6A0EF1515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8258B-C08D-4093-B0FE-9B464C947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83E0E-022C-45E1-8663-C413BDC44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5AC2C-4828-4AA7-85CB-E4452DA00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26350-AFB7-48BD-803C-1D154D060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C41D7-9839-401A-A3C1-579E1CD34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A6CE67-BA4D-4F83-9006-EF7439398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B2136A-98A4-4FDE-B4E4-FCC85D185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013871-AFC4-49D6-8C89-0C38854EB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A854E-9C43-401F-829F-45BC24397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837015-5525-4AF8-BCFE-448B2AC3A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E7E7FA-6EE6-4F83-9A2E-33177BD6B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D88ED3-40C3-40AC-8113-569470420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5AE351-5905-4710-A955-61E5E795F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51A866-673F-418E-A214-1F0F64C32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E47A85-C6AD-464F-8C11-23746C272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6C3366-5350-47F4-999F-EDEBAE941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8E66CB-4DBE-4E72-A093-6D9E61DDF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261B40-9A5A-4D5C-8975-F530E3AAB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F0749-5983-4558-BE6B-D88903845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0FE72-1024-4C4F-B564-2D226E65E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5A1CF-29AC-4E66-9B2D-E8FF0220A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71A6E-98AC-4133-A7D2-AA8FF48E9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DABFF-E5DE-4F5A-86B2-BD50DF2DA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82849-857D-4FCD-A1A7-D1B5F26446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EBA14-5E6A-4CF5-8A95-C44D9B4FFA3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C3686-E393-4146-8823-9835042A0D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In The Desert Of Sorrow And S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(The Water Of Lif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C/C -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Henry R. Trickett (188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Fred A. Fillmore (188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19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In The Desert Of Sorrow And Sin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123120" y="6488280"/>
            <a:ext cx="43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In The Desert Of Sorrow And S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In The Desert Of Sorrow And Sin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In The Desert Of Sorrow And Sin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In The Desert Of Sorrow And Sin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2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In The Desert Of Sorrow And Sin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23120" y="6488280"/>
            <a:ext cx="43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In The Desert Of Sorrow And S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In The Desert Of Sorrow And Sin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In The Desert Of Sorrow And Sin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In The Desert Of Sorrow And Sin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In The Desert Of Sorrow And Sin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123120" y="6488280"/>
            <a:ext cx="43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In The Desert Of Sorrow And S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In The Desert Of Sorrow And Sin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In The Desert Of Sorrow And Sin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In The Desert Of Sorrow And Sin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1T18:26:27Z</dcterms:modified>
  <cp:revision>27</cp:revision>
  <dc:subject/>
  <dc:title>Slide 1</dc:title>
</cp:coreProperties>
</file>