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B18-8119-4463-A2A3-1431F632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A21-649A-4509-8801-3769FFEE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37E-85B3-4D08-BD87-EEF00ECF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7A8-7E88-49DB-815A-C56BB30A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F0FD-1FF1-4418-BC8D-7918B117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7CBF-23E8-4B2F-8E2D-CC2F8DE3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9372-BF76-4D5C-98FD-1763CBCE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32D2-ABE2-4D75-9554-9B565C18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A076-D0C0-42A8-9F77-5BEE9D72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85A4-819D-4808-A0CC-EDD98DFC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E0C3-4EB9-4EAC-BBB0-B6B22808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E9C-607C-4258-8D5C-A58C8861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03CC-DAC6-4B9F-9FFA-700A1BF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3CF3-F5A3-4546-903D-CAE6D24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629F-3CA2-4969-9680-6149C80C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0DA7-9BB7-43FD-B3B3-DD7EE0F3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3640-2117-4098-9BA7-53682BE6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AEB-3498-4CE5-AC5D-FCCBD507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D40F-DF26-4496-837F-060F1A6D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E5B8-7587-431D-A0DE-1D2FD53F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90D6F-76F9-4768-9A98-92C9A528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E1C-38DF-4277-A4EE-97ABB13E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8E91-DE0F-4BF8-BBF0-9AB9272D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D0BD2-AF98-48DD-89AA-264AE901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8EE9-F17F-4EAC-9A9F-888AF00B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549E-BEC3-4335-BCE6-6DC6957A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4D802-21F2-4EBB-85AE-4618112E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D0AB-B4FC-4F7A-A64B-7D23D41A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91F5-4297-4F17-9660-21058108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B149-F50C-417F-951B-B22BE64A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FAE4-0E8D-48CE-9B97-5B0F4991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749-DFED-487D-BC3C-C1FCD585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A22-4CD0-491A-92CA-B9AA3CC5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991-14CE-4902-8776-714DE776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CB3-C2A0-414D-AB90-24556E28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1F2-AFD0-4E9F-A524-4A5EA249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EA31-63A8-4E77-8EF2-EBCEB2526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3C9-E3B6-4897-9200-6BDC856E7D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6616-1442-40E2-9BE6-8487C7610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’ll Be Satis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en My Soul Is Sin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Pann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N. Pann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Be Satisfi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320" y="64882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’ll B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Be Satisfi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Be Satisfi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Be Satisfie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Be Satisfi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’ll B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Be Satisfi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Be Satisfi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Be Satisfi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Be Satisfi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320" y="64882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’ll B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Be Satisfi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Be Satisfi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Be Satisfi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1:11Z</dcterms:modified>
  <cp:revision>32</cp:revision>
  <dc:subject/>
  <dc:title>Slide 1</dc:title>
</cp:coreProperties>
</file>