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643-2747-4868-9DE2-22AB9440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AFA-4BA9-4931-9E42-EC8A3D7B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788-36C3-4A3D-9E84-923DA7CD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019-7463-45DE-9670-48AA2E11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6AB6-3E16-4741-8027-0E9CE0B4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8F2C-470E-4450-9118-F9184655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9BEB-87E1-48B9-AD5D-C0A4E865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E1EE-A7B9-4512-BCE1-74CF55BF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B487-54A3-4EE3-921C-1480C7C8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C433-CD76-40B1-8387-4E0B22BE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3447-C411-439E-8D13-02E3EEF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F34-6A4C-49C9-918F-E57BBA1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C7EB-5059-4375-ACC8-9F61E6AD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653F-0CC6-4C8B-9385-D4C1FCE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5B49-5331-49AA-9B92-0B341529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7180-5484-461E-89F2-E4A4E92A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DA59-2DDE-40B9-8D41-0D9C7E69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776-F9FD-4D0A-8292-8596248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E4DF-D983-4E81-9A9F-D10E6811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7E27-A8B9-43A7-93C4-24A16B5D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A61D-A497-47A8-813B-6C39E00C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953-AD00-425E-A9D0-970BE8C3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09BB-4963-4CE1-A84D-038D47DC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AB72-D82E-4A56-A8D0-37C5974D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7283-75AC-4B4A-A2D1-D5BBA75C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005D2-90E1-43E4-AD17-CFCA4D7B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11D0-96B8-4999-9A19-D0AB401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8677-8404-456C-97E7-C6DFA22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2BD7-C64D-4957-82F3-8CC5405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9F6E-6123-4C92-B883-C7FAC328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6DF2-6331-4AFD-8484-78B435C5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9A7-0720-4D8D-8C37-F11D79D7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07B-7ED2-4C6F-84B3-BB2790F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D76-AB0E-4958-8693-09078DA6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3CE-C134-41EA-9183-2489C4B2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EDD-6F40-4375-A2E1-C2749490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6BCD-6C6F-4336-8C45-D133E16F6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CBDC-13F8-4AD3-A3F2-D76FBC3BC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FAE4-FE0A-4E3F-A19F-1870EC2AA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ll Be List'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 - 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 - Traditional, Arr. V. O. Sta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Be Listn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704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ll Be List'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Be Listn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Be Listn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Be Listn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Be Listn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704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ll Be List'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Be Listn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Be Listn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Be Listn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Be Listn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704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ll Be List'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Be Listn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Be Listn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Be Listn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0:44Z</dcterms:modified>
  <cp:revision>29</cp:revision>
  <dc:subject/>
  <dc:title>Slide 1</dc:title>
</cp:coreProperties>
</file>