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2A48-746F-4779-BDD6-7F96879CE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79A6-6A6E-4AA9-9A44-8B6C6BAB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8F36-3BD8-4E12-BAC0-EE5B561B7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158F-5899-42EA-ACDD-BF86D5CB7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8A50-2FCF-4A3D-A0FC-47343D96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D101-5C89-4163-8C0E-FAF40BDF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B8EB-4394-4CCE-A289-6C69D8AF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3001-EB29-455C-BA77-0213A4EF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9468-D83C-4DF8-87CB-76A405CA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AC03-4ABD-46EA-8302-BB462AEC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DF75-C767-4234-BEE8-D76D114F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F57E-BCF6-4876-B4A4-D2D304A3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B173-92ED-4855-A1EF-DDCE715E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2C78-DE3F-4440-A80C-920FA6B9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0C3A-88DD-4300-B834-702BBDFD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F900-316A-4063-8A7E-6EEE2728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B053-F835-4043-90F0-E63078C94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ED66-6270-4845-A25D-50D79686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42C62-AA4E-496C-B7BF-4B8E49A3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1B5DB-BF17-43C5-BDD8-E7D20CC0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36372-62C0-48F3-9031-4D6486A5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6D74-C763-49F4-95E1-7B0F239F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6010B-698D-433D-A678-60DAEADA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DFD98-19CD-4C32-865C-6EB88957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A434A-BDCB-4B82-AD2E-FB19D6EF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98182-867A-4CA6-9703-A5437F4E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1212A-C61F-4610-BF2C-D5B66FFF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6D965-DB98-4F00-9143-03788558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163D0-5FDD-4B77-8968-608952FB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1F2FB-5910-4048-BFF2-8080A018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9DD18-C411-4C1E-91DC-8E1E5BA89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4E48-E20E-493C-A524-5EEF7178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94FF-C063-460F-A317-B84A3823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9FA3-5CC1-492C-9AAA-29136AAF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539B-733A-4699-9725-436DC890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39DA-F885-44C4-BBBB-3357F2F2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A6AA-19EA-4ED6-BF2B-EE5974B204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7282-280F-4C26-92E9-C52216D116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C55E-57D4-4C8A-8666-9AB369D7C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iving For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. O. Chisholm (191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. Harold Lowden (19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iving For Jesu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Living For Jesu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Living For Jesus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Living For Jesus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Living For Jesu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94320" y="64882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Living For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Living For Jesu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Living For Jesu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Living For Jesu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Living For Jesus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Living For Jesus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iving For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4320" y="64882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iving For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iving For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iving For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iving For Jesu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iving For Jesus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iving For Jesus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Living For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4320" y="64882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iving For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Living For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21:23Z</dcterms:modified>
  <cp:revision>28</cp:revision>
  <dc:subject/>
  <dc:title>Slide 1</dc:title>
</cp:coreProperties>
</file>