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160-630D-44CA-B154-DA0724CF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8D1-2FD3-4C27-983D-B65EC336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833-3957-415E-9827-956E49A0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373-10A1-40A2-9B45-D323B42E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C7C-0E7C-4027-B29E-AC8FC5F6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6BE-E47D-43F5-B59C-036DC4D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3E5-4266-477E-97D0-11A2E33F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DC8-FA70-48FD-AF5B-B03212D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722A-CCB8-490B-B240-C4882D1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6B74-82FD-4B9E-BDE9-16E77610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819E-611A-4315-ACF0-3E1440D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43F-6AC7-4E55-958D-2EB8E78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BD07-9A19-4C89-A789-E4BBC54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55F-93B4-413E-A3C5-82CD208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34B8-CA01-496C-99EF-10D7B0F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0C2-A318-4F5B-A294-18A49CCD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1E88-7875-4D8E-AFD1-D1D635C4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1E4-9C0B-4EB1-A840-BE693AA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3EAE-F582-4018-AD37-A199C7A2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979B-EC16-41A4-A276-FF684541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A2C1-0413-4E67-9183-4502A31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A11-F975-47FE-96D3-A9B09A3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D890-5668-421E-A3C3-2EFF3FC2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B483-3145-42DA-810D-5373273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0A5A-170C-4B24-8212-233F2A82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7490-847E-4765-B642-30B5C4B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5DB5-3149-4442-951A-C546727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E7C6-8A0B-472F-A302-5A12CB4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D82B-7CC6-4124-B851-99C013BA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2341-62C7-4A57-979B-D78977A3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F261-3FF1-4091-A9CD-E7B0CF63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795-360E-4325-B107-6B819DA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63E-B07E-4721-97A5-54C9E4A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CEA-D4C3-466D-A4D2-2BFD8CA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8A5-3073-4F21-AEC6-77E3BC7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05D-67B0-4C1E-821C-90AE80D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EFE-11E8-448E-B530-68797CB2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1A1E-8F3C-45E0-9708-5F2D31005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3120-19BE-4651-8ED2-42C566E3C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d Me To Calv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nnie Evelyn Hussey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d Me To Calva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d Me To Calva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d Me To Calva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d Me To Calva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ad Me To Calva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ad Me To Calva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ad Me To Calvar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ead Me To Calvar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d Me To Calva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d Me To Calva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d Me To Calva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d Me To Calva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d Me To Calva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d Me To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d Me To Calva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d Me To Calva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d Me To Calva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2:25Z</dcterms:modified>
  <cp:revision>30</cp:revision>
  <dc:subject/>
  <dc:title>Slide 1</dc:title>
</cp:coreProperties>
</file>