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3EB-68BF-468C-8CFA-39159C75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0DA-10BA-423D-8986-1692FA1E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892-C91E-42CF-A9C5-C5D5C236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A65-0EFB-46B4-9E12-087E7558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29E3-912C-4188-8EE7-27A67FE9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D6B5-A281-4088-AEE3-841FE9DB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C0FE-7BAC-4FE9-9F9A-F74F1334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AC5F-033C-403C-97A3-AC1D9026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14AF-CFFA-46F0-84FC-79E76F14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CA46-0245-45A9-ABF9-14F7AC34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F72C-590E-49BB-95C6-4BB2BBC2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A9A-70B9-4C44-AF90-9D6FF2AF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17C4-6347-42E9-B907-A71E5749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EA24-FB63-4946-8EDD-E3994DC5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64C3-80AB-44FA-A75E-4A65368D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2DE4-337D-43CB-BA9A-10CA4313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2BE5-CFD1-4D15-8321-6E79B8BE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66D-E8E3-4BDC-A06A-1C2AD472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26F9-B2F9-4382-9794-06C4430D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28C0B-5EAD-4D42-862E-C81A6E07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AD41-10A5-4E2A-A053-614BF3F8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790-6872-4D90-BC02-6F07ED2D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672E-F8A4-4B1B-9221-BC69D67D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974A-EFAD-4FFD-9C42-20DA69E8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922F-9D1E-4459-9D06-81BDAC83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BD642-3BCF-41A8-8604-0DF67C1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9DC8E-A219-4E6C-9A06-14D39E09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3AA91-B360-4144-BF8D-3BD9F225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5218-5B91-4CD3-9E24-91E42CD9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0571F-BB99-4F54-93FC-2F7BA468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343B-73EC-449C-BCAA-5F2CCCE5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AA3-D888-450B-A768-19BF20E3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7CD-5FAD-496E-B82D-80B37EEC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62C-5897-460F-8DC6-DD35B1E8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278-43A6-45CB-B22C-9E4A8D1A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F80-C832-4F17-A034-5AAAD052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72B2-B481-4D70-BF98-EEC365849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2D0B-CBFF-4D96-9D12-1757F53FD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28A3-7441-4C8E-A7B0-1E165E9B8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ike A River Glo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YE VAL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D w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ngal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ountai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ike A River Glorio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ike A River Glorio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960" y="648828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ike A River Glo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ike A River Glorio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ike A River Glorio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ike A River Glorio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1960" y="648828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ike A River Glo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ike A River Glorio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ike A River Glorio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ike A River Glorio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1960" y="648828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ike A River Glo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ike A River Glorio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7:59Z</dcterms:modified>
  <cp:revision>31</cp:revision>
  <dc:subject/>
  <dc:title>Slide 1</dc:title>
</cp:coreProperties>
</file>