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FE4-3F37-4B22-A2B6-E63A1371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AE4-AF71-4AB5-9AAF-089C278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881-289B-445B-AC0E-05279C00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160-9509-4DE5-A012-C0F63B0B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CBAF-5ABE-464F-AE54-027CCFB6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726-7412-4FE4-99C5-1EB1E6C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91F-AFDE-405C-B2E5-E3E34E1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2C91-9DB9-40CA-A130-FF708607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C32-61A2-487B-9759-87D0AD5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DC67-7F92-4DFF-A81B-CEE02438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6EE8-D352-41E2-A8AA-0D2E7D9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68A-AC9F-4E17-9B15-D57DBD8A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505-E283-4DDD-AE5A-5EF3702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CD1A-813A-4F9D-8762-B4FC760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87A-A6AC-4761-95C4-71FD91F2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A99-7647-4481-B3EC-7072FE3B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F66A-C613-424C-B98E-26BE8293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532-CF42-48F4-A6EF-311073DB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37E2-D1B2-4C97-A010-F23C3D41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7BEC-7F39-47BE-8D18-870E468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2147-1A6D-408F-96C8-6206393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685-37A3-4F24-AEF6-E6B16AC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4353-075C-4F67-8BB6-D32D8CC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9109-FE53-4E13-B30F-CC615416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9541-340E-4E90-BA55-10BC447E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746C-4575-4945-A858-A9FACA3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49D4-7A6E-49C4-ACAC-469051C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E391-0B80-45F2-933B-2ADC671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836C-E767-4E7C-AE70-E4943A6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FFF5-79D3-4C5C-971D-B936BCDA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FFA3-C21D-4D4B-AF0F-D37D96A1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C92-FADB-4AE0-A7CB-5BE687DD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685-8A80-4F43-AA56-D198C63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838-A5B1-4FA7-A149-6CCFF8D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26A-B01A-4891-B2C6-03B7488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846-E2A4-484D-98F8-E944CEB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A41-9BAC-4708-8480-877A5BFA3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A8E-F46F-45FD-9DDF-F39007F10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18D6-5623-4B39-AB51-44AD8A17F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oking To The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M. Eagle (1911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oking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oking To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oking To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oking To The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ooking To The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ooking To The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oking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oking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ooking To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ooking To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oking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Looking To The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Looking To The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Looking To The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17840" cy="338040"/>
            <a:chOff x="7507080" y="6519960"/>
            <a:chExt cx="1617840" cy="338040"/>
          </a:xfrm>
        </p:grpSpPr>
        <p:sp>
          <p:nvSpPr>
            <p:cNvPr id="210" name="TextBox 2"/>
            <p:cNvSpPr/>
            <p:nvPr/>
          </p:nvSpPr>
          <p:spPr>
            <a:xfrm>
              <a:off x="8561520" y="6519960"/>
              <a:ext cx="5634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oking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oking To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oking To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oking To The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oking To The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oking To The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oking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1160" y="648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oking To The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4:17Z</dcterms:modified>
  <cp:revision>30</cp:revision>
  <dc:subject/>
  <dc:title>Slide 1</dc:title>
</cp:coreProperties>
</file>