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09E-E413-4886-926A-D0C83371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202-84FE-4215-A67A-4955B0B6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32E-C996-4128-80E6-4287A316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A62-5B1D-431A-B538-EDA71CD9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D132-70F9-4A21-B058-733BD5D6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9D2D-1D78-4919-B66F-FD4209AA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5E26-7687-47FC-934E-100BF433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DB9E-0593-4D39-8954-D6ED520A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C019-DA6D-4FBD-B23D-B1539421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A25E-7920-4CAB-9AAA-35BD0604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D902-FF74-48CC-80B3-411E020B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4E1-2120-4871-B163-0265E209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8809-E71C-475B-9BFB-4D83D308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F5AF-E905-4E53-A4AB-4F6F7B0E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37DA-A55F-4D51-AE9D-0DE91822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A195-91E8-4320-9432-89130ACE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56B3-99FB-4AE6-B74C-E9FE90C0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B06-9C9C-4AFC-97E9-05193558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633E-64FA-4961-937B-22F57347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783C-8DBC-4BC5-8A11-6F79D278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5D37-8389-45EE-9D4A-CF066930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479-3823-46DE-87FD-9DCB7A0C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2EC3-792A-4CEF-BFCF-F2BB7278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1D988-75E9-4885-9DE4-FD86701D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1421E-A371-430A-95AC-42B54F5D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39C1-C832-4C89-B596-07EF2830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FC2B-5EE8-4EE0-A95A-5BBAAB13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10DD-AB0E-4F71-9866-3BED951E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FA4E0-3103-4D00-AB6B-3416C00D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63D4-5058-4707-8E7C-6FC6AE99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30D7E-775D-49A7-95C3-FF8B968A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D01-9376-4347-AF8A-A2947600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382-56A2-4B8B-995B-20AA65E1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219-F568-4807-B386-5B843CD4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D2E-502E-4700-9356-1FEA3DF6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5BC-E82D-4B1A-A11A-026DE2BD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26DA-F8BA-4591-8904-E505B57A8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CB33-133E-41BF-9F9D-06CE7FD579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AD28-20F3-4839-98FA-FFF9376A4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iving By Fa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+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Wells (19118), vs.4 by R. E. 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L. Heath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iving By Faith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iving By Faith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iving By Faith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iving By Faith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iving By Fait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00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iving B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iving By Fait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iving By Faith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iving By Faith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iving By Faith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iving By Faith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iving By Fait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00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iving B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Living By Faith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8100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iving B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Living By Faith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Living By Faith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Living By Faith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Living By Faith_v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Living By Faith_v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iving By Fait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iving By Faith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iving By Faith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iving By Faith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iving By Faith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iving By Fait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1000" y="6488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iving B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iving By Fait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20:01Z</dcterms:modified>
  <cp:revision>30</cp:revision>
  <dc:subject/>
  <dc:title>Slide 1</dc:title>
</cp:coreProperties>
</file>