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8E4D-8BBD-434C-A600-023448E7E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8EC6-490B-4BC1-9CFF-7F8C63498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6685-5B6F-44ED-A797-C108431C5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668D-7517-4DD9-8B18-CAD1E016B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67361-EE11-4618-A9A6-A4EAA9B6A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24680-55F4-4574-B234-7C9E604DC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916DE-4CE0-4408-9728-E41960D62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53708-4E85-4E57-A530-22CC72999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BF759-9C5F-46A8-98E9-5F82CAE28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0FC48-D2C0-4383-99C9-088606D08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EA082-48EA-47D4-A3EC-CD1D04F86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ADC0-15A4-480A-9359-2CC28A855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2E7F5-96AA-4848-BAD8-CFAFC2769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95CD2-64FB-4850-97A9-5456200B1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F2CA5-9551-450F-A196-B0EE3A4F3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9B766-A2C6-4F19-A832-9F84DDA88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DCBCD-96D4-48D2-A423-B808E6C8D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7123-A229-482D-887B-3594A25E1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BF8C3B-6D80-47FD-9314-AE945256C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D3BDAA-D994-4350-BE9F-A02DC1815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52E16B-D0DC-4E20-A292-E99027F48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D350-0651-450E-B660-85E2D08E3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E58E65-A126-407F-8D17-CFE5F9B77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3E0588-8A2E-4439-8A21-78F2950FD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985690-DD18-405C-8CD7-ABBFBD75D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0A5525-248D-4360-B40A-47FD727F4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9F2D3D-C1D0-4BD1-9353-6B08B8260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3CDACA-D190-4545-90DB-0C393B76F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6EC083-5991-493D-B7C7-D678DD5FB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F29E7A-B413-4173-8CFB-EA7547CA0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7A965E-65B8-47E6-A9B0-4D3BD84CF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A9B1-3914-4921-9DBA-72F7E839D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BCA2-C307-4F80-BA6E-3159D1839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2805-A5DA-4EDA-9B07-9D6AADA34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77DA-5E7A-4922-AF3B-40DCA3C03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03C1-500F-44F2-9852-B2FFC9C99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D8423-2DBF-45AC-84E2-28AE49DD1D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C189C-F2D1-4290-B5CB-B4E44310BF5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01003-9373-4343-9F05-63C307B236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Lord, Send 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(There Is Much To D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G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. W. Spencer (189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. W. Spencer (189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25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Lord Send Me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74520" y="6488280"/>
            <a:ext cx="245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Lord, Send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Lord Send Me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Lord Send Me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Lord Send Me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Lord Send Me_v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74520" y="6488280"/>
            <a:ext cx="245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Lord, Send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Lord Send Me_v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Lord Send Me_v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Lord Send Me_v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200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Lord Send Me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74520" y="6488280"/>
            <a:ext cx="245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Lord, Send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Lord Send Me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Lord Send Me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Lord Send Me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Lord Send Me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74520" y="6488280"/>
            <a:ext cx="245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Lord, Send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Lord Send Me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Lord Send Me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Lord Send Me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6T17:36:50Z</dcterms:modified>
  <cp:revision>32</cp:revision>
  <dc:subject/>
  <dc:title>Slide 1</dc:title>
</cp:coreProperties>
</file>