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C5E9-0E0E-4264-80C5-BA46275D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E5C6-C942-4050-B129-FC11BACB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8E0D-9CEC-44C6-BF47-F3C5243E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3913-2CF9-42BF-881D-CC4FAA27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9593-F599-44BD-9834-11291253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2D9D-7415-47A1-9F3E-CA2092EE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38A5-5048-4771-A960-E77BD550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77A6-7AC0-4359-9B4A-759AE08D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3FF9-9515-4E27-A9F8-CB5CFF2B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9B38-DA23-4ADF-9A04-88D580E5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28BE-AC81-4D51-AD1D-144FB000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5ADF-C6C7-4B9D-9EC6-6C6F0494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B5E7-5551-4CAD-A163-DA247EED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CC44-7BB9-4F91-9072-FC466973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42B0-F215-4E4E-9A5A-64040350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AE11-0FD2-4E5D-AED5-2B4A8A43A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1A5D-0681-4D19-970C-A0F9A6368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AAB1-D546-4642-AE88-672B0F69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BBE61-3EF2-40E3-B687-3FE2FD74C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E3AAC-F45D-4AC2-9286-9C3EECCF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DE3AC-38DD-4A9C-ACC8-0210BA53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B200-CADB-447D-910F-0E1D30A4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853A4-A350-4A35-BE14-D3C9A718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05DC4-6380-41B3-BF24-9ED6859A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CC303-E36E-4F1C-AE43-67BAA1FD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65D3A-FFD9-4558-B2E1-1B86D19B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724D3-2D65-45ED-9652-9D71B0CA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D821E-FC46-4359-8490-CF519223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26C4D-D918-4534-B8F9-933F91A1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3A96B-B6B9-44E0-ACF0-E7C28DD8B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1E2E7-D08F-4256-B694-C46FD3AC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A23C-701F-4D96-ABB7-982A956F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2E6D-7FE6-462A-A9C5-24597ADC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1C61-7F40-4E9B-98CE-6336664D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6DAD-23BC-4FE8-9124-0028DB59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7B92-06E8-4572-93C0-AD4BE001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03D5-76BF-4E75-BF9E-FC4A9D2B0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4939-6BB5-4B2C-8571-51C595B04F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A1AC-D912-4B28-A0E1-6F4C2224F1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ord I’m Coming 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Coming H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6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J. Kirkpatrick (189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J. Kirkpatrick (189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5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ord Im Coming Home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Lord Im Coming Home_arr1_v4o6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06920" y="648828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Lord I’m Coming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Lord Im Coming Home_arr1_v4o6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Lord Im Coming Home_arr1_v4o6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Lord Im Coming Home_arr1_v5o6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06920" y="648828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Lord I’m Coming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Lord Im Coming Home_arr1_v5o6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Lord Im Coming Home_arr1_v5o6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Lord Im Coming Home_arr1_v6o6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106920" y="648828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6 ~ Lord I’m Coming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Lord Im Coming Home_arr1_v6o6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Lord Im Coming Home_arr1_v6o6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ord Im Coming Home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6920" y="648828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ord I’m Coming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ord Im Coming Home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ord Im Coming Home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ord Im Coming Home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06920" y="648828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Lord I’m Coming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Lord Im Coming Home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ord Im Coming Home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Lord Im Coming Home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06920" y="648828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Lord I’m Coming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Lord Im Coming Home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35:55Z</dcterms:modified>
  <cp:revision>31</cp:revision>
  <dc:subject/>
  <dc:title>Slide 1</dc:title>
</cp:coreProperties>
</file>