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063-D6F3-4EE4-9BD9-CB195719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0B8-F55B-42C5-B6DA-7A1AAF7D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D11-8833-4D76-97D5-A980B757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D59-E49F-4FD6-B737-09F2AFED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9FE5-2919-47FE-83BE-33DA24EC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3330-A537-4279-ACC9-7118723B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2BB-9FA6-49A4-816F-FC7FF3D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2D71-7E4F-47CA-B4E8-8574CB8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9C23-835A-417E-9652-054EF987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B10F-235E-407C-8AC8-950A44C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2D36-48F9-4F5D-B28F-F457617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DEF-35E9-4C33-8FDE-ECA66EB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E14D-AAB7-4848-AA50-B64662B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8E3E-4C46-4567-AFA8-3A2715E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FF9C-D341-4CDF-A12E-9D02F399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97B4-803D-44B1-948A-5C2DC408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4AF3-0208-4CAB-ABDA-7FA1DAA4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F00-B8D9-4177-A78A-C5DF1736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7487-D6FF-462D-92AB-204FB00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444F-ACB1-4BBE-BB26-973606F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C441-0EB8-4C2A-8F2A-05B0D8D0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80A-F27C-4234-8885-5025F9D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4DEF-6B0B-4692-B391-8834FC7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49E6-040D-42F5-A462-852DC5E8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E8FF-3968-49B5-AD42-825C98E6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4A45-24A9-4A7B-95D7-7772BC2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A8EC-149F-4C52-81F1-EDB20C1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710D-CF78-4636-80A0-B75EE67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837E-F83A-4ABA-A032-DC8ADDAB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BB70-20CA-4992-A66C-DE9855BA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7BEE-7D69-4539-AD95-A960E7B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906-522B-451C-BEED-8FDA1F1C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07E-9A82-4D69-B719-0CEF1F49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8A2-B53B-4EA2-805F-0833C33E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778-9FCF-45CA-AA6D-11D2593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608-A9AC-4C30-B670-894417F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BF9D-FBE1-415B-9124-128FC5826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85D-F1DE-45F3-A1AD-574A7384C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E1F-C8F6-462A-A029-F6B79F1CD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ve,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-ROUND IN 3 PART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3720" y="4902120"/>
            <a:ext cx="225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m(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)/G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 (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nglish Folk Melody (c. 16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ve Love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ve Love_v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ve Love_v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ve Love_v1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ve Love_v1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ve Love_v1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ve Love_v1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ve Love_v1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ve Love_v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ve Love_v1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ve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ve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ve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ve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ve Lo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000" y="6488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ve,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ve Lo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ve Lov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ve Love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5:07Z</dcterms:modified>
  <cp:revision>34</cp:revision>
  <dc:subject/>
  <dc:title>Slide 1</dc:title>
</cp:coreProperties>
</file>