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9FB-25E5-4A1B-ACF3-EB2B38DF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0D7-B410-4539-9F2E-DA20C0F6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07E-E280-4FE6-B648-7F7B3243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758-CDDA-491C-B607-549BDF5E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F7A7-AC15-4C8C-9749-B587DD60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24A6-000A-48AC-97A5-02AC4F3D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0074-DCAC-486B-B58C-EA7DF151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2D59-6F2F-4C87-BD45-09C7AF22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2A12-2844-4D53-835E-00FCD8B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340D-9014-41FA-8EC1-7A15DCD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07AF-86A8-4EE2-92E9-C422B69C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C58-8908-433A-B4CE-2A40276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3EC-C52E-4569-8EDD-C2C5BDF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8A63-6599-49F5-994D-32D9A7AC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2656-2839-4B02-BE4E-6659F6F1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8A13-8F45-45B8-8CB9-900F8884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1C97-6FC0-4680-A1A2-A7DAE86E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CC0-4281-4024-BFEF-A9AF4A0C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2C1C-A99E-4ED6-BAA5-4A5A72F2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1E1C-4612-40CA-AA86-EB69BE04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66BD-9894-4EF5-9C4B-87E2F66D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C64-0DBA-478F-B741-31E43145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7560-6B79-46A3-AF86-F753C0A5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08FC-1C68-41B2-8725-F036121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3FA1-74D1-4C14-8899-77ECC1B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4A8D-E572-433D-93C0-8DA01F9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79AB-35D5-40B0-B14B-D6476D3A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3955-C29F-454C-939A-5D6EA87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3873-77F9-4919-804B-50365CCA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E8DA-D29C-4204-8DE2-248E94A7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1069-8822-45FC-A515-20A81C7D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91A-2865-4830-B633-DC6E21D7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5CC-600C-4B53-A29C-9B72A2AF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C8B-1863-4C3C-8B25-F4C6EB0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A8E-3E35-4C58-A4E4-5805C77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FE9-6633-4003-8ACD-2ACEF6F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FB6A-CBB6-4EA0-AC37-C5E349C19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0D00-0E6C-4C3A-B728-670B3A41B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A792-44A4-46FD-894C-39A6A4B9C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Dismiss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Faecett (17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G. Bitthauer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Dismiss U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Dismis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Dismiss U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9000" y="64882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, Dismis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8:52Z</dcterms:modified>
  <cp:revision>31</cp:revision>
  <dc:subject/>
  <dc:title>Slide 1</dc:title>
</cp:coreProperties>
</file>