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07D-5B40-4407-B96B-B984C2D5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5D4-C2AA-4935-871E-00B7EB7C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C21-9FFE-47F8-9E06-025AD3DF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1A9-C7D0-49A6-9FA9-8DF0C27C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E2BD-D12A-4D73-B8AD-A2197D90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8417-8C8F-47D5-BEFB-2F69D5E3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44C7-C4F6-43D9-B8F6-EC116317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A93A-17A0-439A-9B03-0E2A12CB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8B8B-9475-43FC-995A-45732968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5667-6712-4C98-885E-BFB02BCF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9809-8DE5-49A2-B1FA-5E40DF1A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A23-8BCA-4F71-944C-A262C665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2972-4D96-4F90-9786-65E3689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904F-74E5-4A01-BEBC-1B2EC58A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E26A-97BF-4BB5-B15B-1A03E2C6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1532-4972-4E4D-BEF3-1C3B5839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0478-8DCB-48A4-9046-F9FDE2CA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57E-58CB-4CE7-8C8F-0884A016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9C71-86D9-4688-86AC-5ABA1AC0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C86A-D5FA-4611-AA19-19090AA3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F31C-8EE2-4957-9337-F813D4F1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B97-0BD8-4CF2-9E39-4F0525F7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599C4-0A4E-4F79-90B5-64D1543A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40297-B762-43C0-B1CD-E521C854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04DD-15CF-48A0-86C8-11B47545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8D9E-84D0-4BE9-9013-9D30FDF2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A7F1-81A3-4484-B95F-D1C0E16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A148-7A02-4092-9654-9EDB79C2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981E-0D50-4280-A724-99335116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DF7C-C0E9-4652-9936-30FF95E8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262A-107A-4C45-8BF0-5DB9CFAA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8CD-F1E1-4B4E-9F3F-1658BF93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384-FFA1-43F2-A601-87489C6A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6B7-6E8C-4FB0-B9B4-7FE39053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2C1-CF30-4D41-8502-5E309700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88E-ABB8-42AC-92CA-A90E8E78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596A-E7AD-44DC-BE5B-123543C45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41FC-7C11-43F1-A861-D3BDDD837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DA62-41A2-4558-8E17-0BC1C9854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ord, Tak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360" y="4902120"/>
            <a:ext cx="12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ord Take Contro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720" y="648828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ord, Tak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rd Take Contro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4:31Z</dcterms:modified>
  <cp:revision>29</cp:revision>
  <dc:subject/>
  <dc:title>Slide 1</dc:title>
</cp:coreProperties>
</file>