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86A-0A6C-44E6-821B-A61F0760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663-9B6E-4E7B-B70A-BF47BB01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4ED-1884-4903-9CCE-E560365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5CE-79FE-4186-8594-B2F9B22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1A0C-F37D-488A-8801-C4BAC79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6FD-3BAB-45A7-AF00-F7AB114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895-A24C-4494-AA91-EE720CDA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F74-E4C3-4383-9B65-839BCB1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2B5-7C1F-4184-9792-C60C54A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688-CAB7-4DBC-80E5-E71ECCD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3641-9197-4FE9-9F59-E9F5C74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D98-54B3-4F54-985B-7390AC8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4080-FD0C-4190-9223-C9B13F9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5A39-6FF0-4142-B45D-371B36D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8E72-A992-4083-9426-294082E9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642-ED61-4234-BB25-B3D433C1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29D8-D02B-4DDA-8B8C-7396AB75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C5B-1548-48C7-928E-8560FB31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825D-6886-405F-8F02-8E429F91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F5D4-2FA5-47D9-ADAB-276E1D56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7846-3DA5-4F71-8940-64B5A21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6E3-9675-4CED-A57D-1CB89A9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B8AA-B041-48B8-BF4C-44376E7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0239-1C87-4A75-8D60-36F3711F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25D4-A84A-4B9A-9EA2-C26E589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B9F5-88D2-462D-B4CC-75F712C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12A7-8D6E-40B4-9016-90DC14F8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29CD-AC72-4B0C-B5D4-BCC1DD11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9232-8FA3-4DE8-811C-1715E7D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86C2-86E4-4F6E-9C24-CB9B7357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FAAB-A1B1-48D2-8564-1D09897E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BD6-1380-4915-8DCD-59C5ACB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F16-314D-4843-88C2-B7B4BCA4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5E2-3676-43E3-8E23-0F7391F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235-5514-4969-809C-62F31AB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4F5-F628-442E-938E-596E6C0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65E-CB26-43D6-AE39-F82A614AA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E614-0D1C-445E-A3B5-B3323499C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6F93-040D-4AEC-8B43-1BF97819D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Hi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Stranger At The 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B. Atchinson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O. Excell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Him 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Him 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Him 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Him 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Him 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Him 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Him 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Him 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Him 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6960" y="6488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Hi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Him 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Him 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Him 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5:47Z</dcterms:modified>
  <cp:revision>30</cp:revision>
  <dc:subject/>
  <dc:title>Slide 1</dc:title>
</cp:coreProperties>
</file>