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942-FD72-4CB6-BEF5-D19CFBD4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862-9D9B-4FCD-B51B-5365ECA0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5CA-94B0-43D4-BCA1-E80C72A6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03A7-785A-497D-BFF8-2A324CEC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0166-E835-4C5B-B754-C6D9889B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33DC-446E-4A7B-BCB9-1390309C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26E1-B0E2-4D4F-8571-935425FD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7F6D-7367-4E4E-8994-2C87853E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FB8B-48BE-43B1-BA77-2151C68D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F71A-8187-4B83-BCB5-ED5F1410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6EF1-E5A2-47B0-802E-AD9A1E75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372-299E-485F-ACE7-04501A32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F7E0-A1DC-4B0C-847A-C18842DC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9C6B-C279-4D7F-B604-CD6A28EF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7D44-6C8E-44A4-BC60-9638D59E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196A-A301-442E-8FC5-1CF7E07A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4936-1CED-4B31-8AE6-D0DDD634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6AA-01F2-486B-B520-AE574B84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5C19C-D1C6-4F91-8F99-E5CC6927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7BCA7-3FED-45CE-B907-76E77FA4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F72F6-605B-449C-B38A-2143B847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D50-0104-42F2-9818-CF11253D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9D1C-2F99-4EBD-84E2-BFBE06F6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4B0C-5CAF-4156-99C6-A1629F95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5CAE1-3F6F-4E2F-9BF4-45630B18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5DDDC-2F21-41AE-891A-2CE15DED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0BFF8-2D56-485B-8FAA-24CD7D84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25D28-5A8B-493F-A9A7-C80D10DF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383E5-8940-49E0-A8D1-03FC175D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45A20-4C34-487D-93B8-4894E358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BEFC7-7C27-4CA7-92B6-5D1E6893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879-6DFB-4CE6-989B-2262339A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F10-73B5-4D1E-9B11-C5AF46F6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ED1-24B0-4D70-ADF2-97C6C38C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BEE-EB58-4FB9-9AFE-64FCD9E3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AE5-6437-4754-9ECB-896949DE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DC0B-F611-4E43-AF75-105644E5D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C4B3-2D7F-493E-9795-CB12DF0EAD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C2A4-327E-4D25-B6CE-3154D0C51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Lead Me Gently Home, F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 L. Thompson (18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 L. Thompson (18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ead Me Gently Home Father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ead Me Gently Home Father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Lead Me Gently Home Father_arr1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Lead Me Gently Home Father_arr1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Lead Me Gently Home Father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7560" y="6488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Lead Me Gently Home,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Lead Me Gently Home Father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ead Me Gently Home Father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ead Me Gently Home Father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ead Me Gently Home Father_arr1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Lead Me Gently Home Father_arr1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Lead Me Gently Home Father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560" y="6488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Lead Me Gently Home,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ead Me Gently Home Father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Lead Me Gently Home Father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ad Me Gently Home Father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ead Me Gently Home Father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ead Me Gently Home Father_arr1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Lead Me Gently Home Father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7560" y="6488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Lead Me Gently Home, 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Lead Me Gently Home Father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11:34Z</dcterms:modified>
  <cp:revision>31</cp:revision>
  <dc:subject/>
  <dc:title>Slide 1</dc:title>
</cp:coreProperties>
</file>