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068-AE7F-464F-A39F-69922D51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425-F158-4555-A0BD-8A2C48D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F7A-D7A2-4060-A100-C6A45D3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FAB-80FC-41E8-B618-4CC4176F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342B-F9FF-4394-AC0F-22CCE8D6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1191-CE8D-4F62-A9C2-83CB1B35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C57-13A5-4EC2-BCF7-770ED3AB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9B38-B9E0-4035-B1B8-C552EC5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3656-4CF3-4E40-BAAF-8293D3F7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B427-D306-4F86-94CB-74D12A33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BFB9-2052-480B-8E02-E996975B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241-6445-49D0-B8D2-F622CBA2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B423-1234-4277-80C0-959B6C67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F3C-BEB6-4C7F-AA44-481170AA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C2B1-1E1A-4107-BCE6-E270522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3E7-F23E-43C3-AAE6-3E7F89E0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2131-770A-4F5A-8EE2-1DA8DDA0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98F-6842-4309-A416-5706794C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594A-E386-4FB8-A98A-5CE536E4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BF24-A485-484F-AB54-74E39B5D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37E1-0636-46A5-945C-B6C73A69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70D-CA25-4F7B-B710-B2072CE3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4AFC-5190-4A66-A551-D042D4CF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F06C-734F-4F6D-BA37-7153BBE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01D9-4112-4B36-B135-64BA95C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3BC0-19AF-4595-AF1D-F64B1DDF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466F-9EB1-46DE-8A9B-62512761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36EB-FAC5-4374-A679-C3E2632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587A-58A2-4D51-99A1-DCCCD76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DF7F-7065-49DE-AAD4-A41A019E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262D-29B4-451D-A9F2-6CCB631B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3ED-855C-49FD-8A4C-9D69BA26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13B-C3F7-46D1-B55B-7BD99F2D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539-1495-4BBE-837A-F395B35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7AB-F2E8-4C2B-948A-7D798D0E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C27-F57F-49F3-85B2-77413C2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F82-C676-4318-8356-88B856A5D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6FA-7351-4649-8A2D-AFE5E6F1C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986D-2435-4632-B454-99CC30DEE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Him Have His Way With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is Way With Th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yrus S. Nusbaum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yrus S. Nusbaum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Him Have His Way with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960" y="64882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t Him Have His Way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Him Have His Way with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Him Have His Way with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Him Have His Way with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Him Have His Way with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Him Have His Way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Him Have His Way with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Him Have His Way with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Him Have His Way with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Him Have His Way with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960" y="648828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Him Have His Way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Him Have His Way with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Him Have His Way with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Him Have His Way with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5:10Z</dcterms:modified>
  <cp:revision>26</cp:revision>
  <dc:subject/>
  <dc:title>Slide 1</dc:title>
</cp:coreProperties>
</file>