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0F20-DE4B-4D8E-9974-C43DE5B7E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814F-E81F-4F69-88C4-C4C38DF26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6B26-84FA-410E-815C-947DFDCF0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50BC-5A93-4293-8248-ACB3DA1A6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B9C1B-A739-4A0F-8FE4-8AC200953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539A8-E194-467F-A532-1B0CB7CF5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79B48-B502-4F09-B564-E321A62D9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5096C-071B-4104-876A-9629051A6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BEE73-47E1-4417-A71A-28FB6D110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CE523-0975-476C-82C4-990241BCD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31541-DB04-45C6-BF9B-F5ADFA323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00CE-1D3C-49DD-98E3-CB4939223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18190-484E-42E5-A0C4-5A29A6597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11648-0B70-4C31-B7F6-04A44C999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2D84C-A0C2-4D32-93D2-3ADDD4E3F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21B9C-364C-44FE-B123-B8B901DF8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0C512-D015-4BBB-8AB6-EA4725A05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0D23-0496-4E9A-A056-0A21E5A05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9E1BC-AFD0-4CB9-B17B-27A95BD52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E505D-FC1D-4300-A337-74176769B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9BD1E-7177-49D9-8215-5037DCA74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3E79-9E38-411B-8FC4-06F482DED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73DDE-2001-4E9B-B845-93D0C5725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36145-447D-4B78-985C-E98B4786F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B23C0-E9A7-40AB-9113-E3D4C8962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CD499-F6E9-438A-88E2-A7CCFCDBF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44E9B-6C9F-444D-ACA2-9C924339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6244C-5862-4A40-A6EA-18A40D803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F86F2-C4DC-49B3-91C1-090815C96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CBAA8-43EF-464F-B81A-226B4A1CD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4472A-4111-4A25-A572-63378F7C6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8561-7F74-4B8B-8EF4-9B73B437B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2A13-DC5B-4A6A-9E51-E39055AFE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86D7-AEB1-445B-AA2D-CB956747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2CD9-1CD1-43B6-9845-1DD3B7FF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7DCA-BEC3-47A7-B3C1-96F98E31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61C5D-512A-4A18-A016-8E96A69101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253C5-A4C3-46F5-A4D9-4FA8D14CE2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DD791-A86E-4A97-A03D-A21BA5953F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Let Every Heart Rejoice And 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F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2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Henry S. Washburne (184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George J. Webb (184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Let Every Heart Rejoice And Sing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Let Every Heart Rejoice And Sing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Let Every Heart Rejoice And Sing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Let Every Heart Rejoice And Sing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Let Every Heart Rejoice And Sing_v2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Let Every Heart Rejoice And Sing_v2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6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Let Every Heart Rejoice And Sing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24920" y="6488280"/>
            <a:ext cx="438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Let Every Heart Rejoice And 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Let Every Heart Rejoice And Sing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Let Every Heart Rejoice And Sing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Let Every Heart Rejoice And Sing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Let Every Heart Rejoice And Sing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Let Every Heart Rejoice And Sing_v1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Let Every Heart Rejoice And Sing_v1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Let Every Heart Rejoice And Sing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124920" y="6488280"/>
            <a:ext cx="438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Let Every Heart Rejoice And 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6T17:13:46Z</dcterms:modified>
  <cp:revision>32</cp:revision>
  <dc:subject/>
  <dc:title>Slide 1</dc:title>
</cp:coreProperties>
</file>