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3F7-49CD-48D9-95FA-635A5004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C90-AC71-47FB-8537-50730546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7F4-8F86-422A-B17C-A9F7B139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E58-37F9-4034-80D4-EB9D8136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EE58-58F8-42B5-BD30-533176D1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A802-F597-48F0-84F9-266EC082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3EB9-5424-4EDF-B5A0-B9E754BA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CDE4-43AC-4FE3-892C-0B13B30A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EEEC-796F-4F3D-BB61-0FE5C30B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9AC7-0F74-4C10-ADEA-4DA1B4EE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94E9-A50A-4058-99B5-28AF1752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6F3-F159-48B1-A516-8DBD2D1B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A30B-4AC8-4E37-BADF-CE91E04F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C64E-C7D3-4983-A826-3964BC5C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C949-57FD-4DDD-881F-DC66E863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9555-F046-466A-B594-BEF1FB8F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897C-2F20-47FB-A866-45BA8AAF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7BD-41F7-4B40-A5DF-32FA24EB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1958-86E2-4866-A394-1488E350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CBB5F-C796-4296-8EEC-0B917E75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3DAD7-4D5D-4422-958E-A807BA1B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C5E-862F-4FD7-8F34-7D7210E6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259C9-4CE3-4FB9-B386-BBF4D812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8C7F3-10E8-425B-84A4-BAA3FD3F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B7B3B-1C31-48BF-B914-4BF7066B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72308-E9DE-4AB5-BBBD-E3AF37FF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352B0-7CDF-4D55-9AAC-DCB116E4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BC8A-3927-4FFA-90C5-17F2B470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3A1B0-6CC3-4E84-B6C3-D5727D86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83D07-1BEF-4D2C-A3B2-12E35D09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05981-2DAE-49EA-88DA-D4CBA216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073-E0B7-4E51-9B5A-C99131AF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A9C-C23E-4E72-8863-3EFA052F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6C8-3178-46BE-BD85-BB98CBBA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36A-6787-4E4B-8596-B386BD28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1E4-0D65-48FB-9CE9-FCADEFFE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0A36-25DC-44C2-8320-2782E2C02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F8DF-2989-4ADF-8C28-77BD52ED4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B397-F444-417F-AC42-01D127B82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ve Div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EE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Wesley (17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Zundel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ve Divine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4160" y="648828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ve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ve Divine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ove Divine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ove Divine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ove Divine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4160" y="648828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ove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ove Divin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ve Divin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ove Divin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ve Divi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160" y="648828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ve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ve Divi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ve Divi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ve Divi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ve Divi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160" y="648828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ve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ve Divi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ve Divi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ve Divi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7:29Z</dcterms:modified>
  <cp:revision>19</cp:revision>
  <dc:subject/>
  <dc:title>Slide 1</dc:title>
</cp:coreProperties>
</file>