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106-3354-4D72-8E18-BDA60F69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D91-CFF8-40E7-8C82-61F79310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0A1-BE94-4009-8A8D-76928689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099-2195-410D-B4FB-CC46E16C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0296-2047-4C38-9454-EE1A3C6E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36F-C100-4FF8-9A1F-064CE078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966C-28C4-4622-A8C9-72A2B4B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26F1-623F-4978-94A5-5A3E965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56E-75F9-44D2-B250-059E17D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0C26-8C65-48A0-A973-E6C0663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2F3-F23C-4C80-89B8-943D401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C28-82FE-4DE4-9545-4788861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3833-1951-4587-AAB9-B6B6D02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13E-55AB-4CF0-8F76-D1F61CF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B3F7-28B8-4AAD-9F47-7E33BFD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BF6B-F6B5-4663-9F98-66C789D0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964-C048-4139-A984-5A4AF033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BAB-5EA9-437A-8D64-40CDF058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D5E2-3E71-4343-B7DA-BD8C0EFE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0731-A156-40EA-B4EF-589E7495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6A60-A038-4D0B-A5A4-2829E78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499-27D0-4042-833B-338F2CA9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19FA-0055-4CC4-B6C6-B5C481A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6CA0-02AB-4C75-8B0E-9CC44C7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B75D-A389-4F0E-988D-4A8231E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CB38-747D-4C11-B75D-0418C99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61BB-A1A4-4531-AAE0-8B690C1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FB32-92F4-4C66-8A16-490C6DF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3825-C4DD-4CA9-A424-716B8CD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A52A-0279-47E5-9829-F03CEB5F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5922-8D65-451A-B43F-1B103C1A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BE2-8735-45A2-8738-64E5C05A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9F3-305F-41EF-8C42-65C9E4C7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F22-36AC-4A44-8883-65F6078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F53-269E-49AE-AD04-91D77A9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CF8-0A5F-489E-A0EA-82BA4FC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A871-8D78-4D21-9C8D-37051E29C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353-CC20-41EE-AE2A-A03E5E085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7854-1D44-43AC-B899-FAE2E84FB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We Come Before The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ammond (17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H. A. Malan (18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ord We Come Before Thee N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rd We Come Before Thee Now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ord We Come Before Thee Now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ord We Come Before Thee Now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We Come Before Thee 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We Come Before Thee 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ord We Come Before Thee N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rd We Come Before Thee 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ord We Come Before Thee 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rd We Come Before Thee N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ord We Come Before Thee 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440" y="6488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ord, We Come Before The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ord We Come Before Thee 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31:42Z</dcterms:modified>
  <cp:revision>29</cp:revision>
  <dc:subject/>
  <dc:title>Slide 1</dc:title>
</cp:coreProperties>
</file>