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9D5-E53F-465C-A355-53BD9172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406-BB57-472F-93B6-B2D34DAD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739-FC75-48B1-89B2-B0B14E52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739-6A01-4303-9C43-D0DB252E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0CF9-1C84-419A-8235-8C2811C6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35E8-21BB-4DED-B76B-CAE5573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1F3A-D946-4D00-8385-B4C1D112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23D0-5EB0-481E-A4D5-8B899AA2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0583-18DD-4E51-852E-F3028CF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7E6C-6396-4DC6-A31A-6F19DD60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911A-1E10-4AC8-AC39-4FF59A64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923-8D85-4817-BA37-DE824934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2087-00A2-4103-B0EF-2505F05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995A-A61D-4B43-84E8-D563C202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02EC-F7AF-45DC-8A4A-861BE11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D7FA-6AA1-4EC2-AACD-47B78C1B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86E1-9FA1-4DBE-807D-47F338D7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351-1FBC-45D8-A534-0C296094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0E9F-6A45-4B1E-B9BF-111B8EBF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737A4-B665-4136-8567-4ED8C380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7A8F-B30B-466F-BFF9-04D23AFD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229-0CD5-4C0B-923E-E8C38FA2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D7E0-A4C1-4359-B1F8-2BA7813A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1A53A-AF68-4BC7-B0A4-8559ADB5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9F9C-952D-49D6-A216-3AAAB18B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09BD-1C11-46B2-B2DE-B0AD18FD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C0DC-2E63-46CF-8D40-E7358C0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5DB4-F3EE-4AB1-93D5-09993266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768A-DD33-4B29-B55E-1A9F7E1C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E1069-5AB8-448C-83C6-014D2A46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D9EA-6599-4621-A8F4-753B5E8F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DCA-29F2-4A0B-BD97-B71D80A8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8B8-34A0-469B-89F6-F4A2D034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131-50F5-45F4-A638-2D21704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D38-3DD7-441C-86F9-1D1978D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427-1FA9-457B-B689-FD50B1C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DC91-CC3D-484D-8D9D-C673E1267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3791-E9F8-4106-A922-12B7CE417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DDE-FC34-4B31-A0D5-434F5FDFB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The Whole Creation C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LAN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topford A. Brooke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Williams (1817), Arr. John Roberts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The Whole Creation C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2680" y="648828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The Whole Creation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The Whole Creation C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The Whole Creation C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2680" y="648828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The Whole Creation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The Whole Creation C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The Whole Creation C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2680" y="648828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t The Whole Creation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The Whole Creation C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The Whole Creation Cr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2680" y="648828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et The Whole Creation C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The Whole Creation Cr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7:16Z</dcterms:modified>
  <cp:revision>32</cp:revision>
  <dc:subject/>
  <dc:title>Slide 1</dc:title>
</cp:coreProperties>
</file>