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C45-0B1F-4DEB-8448-80619DB6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7BE-6E31-4AD6-8EB8-5D8B4153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7A8-3594-49F2-8FD9-F739FA10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9BF-C8EE-4898-AFCC-12BB8453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EB1C-C222-4E11-ACE1-B7600C52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D519-D439-4A87-9403-73762999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58CD-3C10-4569-A5C0-F86F57F0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AD29-4840-43EB-B0DC-B298D095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CDEE-2ED6-4753-8C50-F0D5ED83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405C-F7CF-4F30-8E04-5876147B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7E18-8139-4D82-9449-C6BCB2B5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CA6-DF8D-418E-B023-38320584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955D-1544-42C8-BAE3-F09B143E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FC94-6598-4F8F-BBB7-4DC42F97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0FA1-DF89-4848-968A-A5E9A877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F395-3ADC-4BC5-B653-F88EC385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235F-5C5F-4083-9D1B-ADF6B68D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A17-44F8-4B4E-A6AA-CDE6E498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62C1F-84FB-4D39-9CF8-1A254E3E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E906-A24C-4B1D-8F7A-8B045D64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778F-71FB-48AB-A875-5CAB89BF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F82-7417-424F-ACE3-2691F1A5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8446-09B8-481E-B6F0-FD864972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C5B14-64C9-4138-BD5F-B9937BAA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8289-B491-402D-8AF8-06D6570C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2494C-02C1-4D5A-8477-DD4D1F5A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04B3A-E08C-4BD8-9A18-DE85F4C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5445D-CE17-44BF-A50D-A6FB5F95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88DFB-37C2-4FE1-8993-EE3AD874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2E62-3230-4663-9476-B1896673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F405-8161-495D-9CD5-92ADA18E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D07-9A8C-4976-BDA0-D7B93318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B03-65BA-4C4E-BCEA-F4C835A7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CFE-5C40-4B38-AEB2-A606D140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D69-E61D-4A02-88D4-7ED41CA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C27-5CD2-4CB4-9B12-E55F7FD0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10F1-6886-40B5-AA42-EE4ADD612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C1CD-A1CC-45E7-A214-DAE361DC9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B8CA-3E02-4FCB-85DF-853159231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t The Lower Lights Be Bu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Lower Ligh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t The Lower Lights Be Burn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3680" y="6488280"/>
            <a:ext cx="43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t The Lower Lights Be B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t The Lower Lights Be Burn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t The Lower Lights Be Burn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t The Lower Lights Be Burn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t The Lower Lights Be Burn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3680" y="6488280"/>
            <a:ext cx="43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t The Lower Lights Be B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t The Lower Lights Be Burn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t The Lower Lights Be Burn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t The Lower Lights Be Burn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t The Lower Lights Be Burn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3680" y="6488280"/>
            <a:ext cx="43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t The Lower Lights Be B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t The Lower Lights Be Burn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t The Lower Lights Be Burn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t The Lower Lights Be Burn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6:26Z</dcterms:modified>
  <cp:revision>30</cp:revision>
  <dc:subject/>
  <dc:title>Slide 1</dc:title>
</cp:coreProperties>
</file>