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955-C153-4931-82A7-1CA348E8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7DA-5BB7-4892-B6A6-2B5009BA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388-8C05-4F38-8C4B-7327E07D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7F2-55DF-42C2-A4E6-9B327296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487B-F0A6-415F-B337-DE575EF5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41D-4CE2-4DB4-88A1-2F63E14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35B-D567-4812-84A4-058F968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841-1231-4C95-81D4-4565E44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D5C-365B-4F64-BDED-28123D8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1006-52FB-4BEA-8764-DC0FAEA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C46A-FE06-4131-8C20-37F1CC5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53E-74E4-4B7A-9A5E-CEC7A23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421-60DC-4353-876C-6A4DFD7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7AB-53DA-407A-AAC9-3FF9676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7114-60FF-4F3D-9E86-4250C66C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BB1-3B93-4396-9B5B-849209D4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F0C4-0383-43A1-9DCD-A6B34DD0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629-004B-4EF3-B91A-A547DE5E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09D9-5B5F-471E-9F03-0F1BB887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B468-B6B9-4AAF-8DA0-9A2B6F3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AB9D-5281-49EA-A92E-7A395E2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FB0-09F8-41B1-8329-61A04A15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1B28-EDE4-4D01-9351-EFDE8C3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87A4-9200-4BF9-9E90-A7E1062F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9850-AD42-4A5A-874F-A125465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4B10-B9D6-4473-B89E-506755C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E10F-B37D-4829-962C-C19DB45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7437-E4E8-4F02-914E-93963C6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1461-9DD1-41F7-8BEA-A642CFE8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9C1D-C412-461E-A7BE-322B3E70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37FF-9CD8-44CC-A9D4-C5ABB517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901-755D-4760-B233-BD158C26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261-94D9-4DC2-AE36-4FE6AD3E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9BE-71E0-4FF6-8D05-14A00CB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65C-F16E-452F-94C8-415CB984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4C0-88BE-43A1-8B6F-1044C745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D6D-01DB-4C9A-9BC9-BC9C1CDE7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0820-F663-47A2-A2F3-496C941A8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D57-B55B-4BAF-B301-41AA0AF34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w In The Grave He 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hrist Ar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w In The Grave He L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w In The Grave He L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w In The Grave He L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w In The Grave He L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w In The Grave He L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w In The Grave He L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w In The Grave He L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w In The Grave He L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w In The Grave He L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840" y="648828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w In The Grave He 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w In The Grave He L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w In The Grave He L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w In The Grave He L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40:34Z</dcterms:modified>
  <cp:revision>19</cp:revision>
  <dc:subject/>
  <dc:title>Slide 1</dc:title>
</cp:coreProperties>
</file>