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D75-2CE9-4185-AFAF-A11D4379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F50-E615-4992-8778-5A1F52D2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C29-37B6-4BC3-9121-589DB514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99E-FF64-486D-A002-36FB5CD3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17E-C4F4-4FD5-8977-BCED9F20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5044-BC3C-4259-9845-37D5CE4D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E5AD-DC55-47C3-9249-154B64E6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5CA-AF64-42E0-9D6B-B41EEB1A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0279-0329-4776-BFAC-511300B1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A55F-E4DE-4B47-A889-40C8721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70CF-CBF7-4DA4-9712-1A97D2F5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7CE-7582-49F3-A4B0-79590D6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6C07-C97C-4DB5-A094-28F52CE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5D6E-FDE5-4489-9149-B3620139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D81-BEE0-49AD-8D67-BB125E6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8AFC-28D5-41EF-BFDD-1141B226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D819-CF53-4662-BB7E-0D084C70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871-D11E-494E-B790-307EB53B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E664-63CB-4184-9857-EA4C0D2D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E2E0-443E-43F3-8E37-3746A2A5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2889-44C3-48EF-BB75-23F75D09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DE1-ADEC-4FD2-B5AA-0F0A134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4294-556D-4B9D-9CA1-D020293E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8A63-CD3A-4C0C-AA37-05031D62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A224-00DE-4DFB-BB06-6C112137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3EBB-45A0-45EB-AF62-0365D68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3F0F-2834-4C5D-8A7C-020EABE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58E7-85A8-4D5F-AE0E-77D1634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4291-BABD-47FD-89AD-17472408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ECF7-7D96-4F9D-BE9F-1BAADBE0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64AB-7B7C-40B6-AD21-6B96D026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5DE-3280-4ABC-8F51-6A090943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CF6-07BD-41C4-921E-20C3F65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383-D3DE-4018-B982-D8A5810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C6A-D8D5-4C09-88D7-8E5A36C4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8DA-ABD7-470C-B8CB-01671D9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827C-F99D-4509-A8F9-8F6BC7783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A9FA-ABC3-4A3F-A4ED-A298C2489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796-94EA-4D7B-A9A8-23FC94523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Kneel At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. Moody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. Moody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Kneel At The Cro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400" y="64882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Kneel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Kneel At The Cro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Kneel At The Cro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Kneel At The Cro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Kneel At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400" y="64882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Kneel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Kneel At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Kneel At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Kneel At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Kneel At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400" y="64882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Kneel At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Kneel At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Kneel At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Kneel At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6T17:40:44Z</dcterms:modified>
  <cp:revision>27</cp:revision>
  <dc:subject/>
  <dc:title>Slide 1</dc:title>
</cp:coreProperties>
</file>