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4B1-A3BB-4707-9C83-8E443CE6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14E-7DEA-4BAE-A941-E5EE604F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83A-4FF7-462A-8735-1E36E572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91C-8057-4DF1-BB9B-CA64BAEF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4721-C812-4B40-9841-0013329D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441D-A313-4F62-A020-A1A9B136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6F9C-BBB0-4630-8988-3B93E42F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E0F9-F82C-48A2-8CAD-CB35E983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CFD2-608E-4F6C-B7B6-F79B45C7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EB14-2A28-4F14-97A0-7DFF037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5C69-B20D-48C9-A092-49892D13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D8B-6283-4A76-BF36-D91C43B7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D613-BCAB-49F4-9B1E-7EC5E684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A99F-8580-44D8-9F70-AFE8D21A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9006-03D0-4DDF-AFC7-2C149104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D3E4-08F9-4A49-BC3F-D3A94005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3024-E2F4-48AD-A7F5-DEEB919A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052-02CD-421B-B1F5-5E392453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82CF-67FB-4F63-B7EB-70B6E9BE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CCA9-7A2F-458A-BBF6-4EB431C2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D6C5-3842-4A45-9379-6AF51AAA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759-EB8D-494C-9301-D00DB332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E0057-D23A-4B7B-88A2-912217B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5FC5-E542-49EF-AC1A-0BAC8CD0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F3F4-D257-4ADC-904F-59CD00A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5DAD-2684-47E7-B811-7783F14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77C2-6187-429B-9A9E-86099326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F782-7516-432E-AADC-B542C6D1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FF101-D890-4D7F-A419-3385EA8A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09EAC-8A5A-496F-971D-CB8F2388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9CA6-1AAE-41B9-80B9-D48BE3B6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633-5672-4E59-971F-06932D9F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8AF-FC1B-4E7B-888F-0B8F8778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C70-341B-40B4-B86D-E401E8B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C74-D7EA-480B-9133-F3FE3FDF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8E1-3442-497A-BD7C-DCC753D2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5DB-9C33-4FFD-AAFA-18AD1E708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26EE-FE32-4FD8-8B6B-BE7B8283D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93C6-DE25-4DA6-82B5-2FA1EDCAA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ve For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Longfellow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Xavier Schnyder von Wartensee (18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ve For All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400" y="6488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Lov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ve For All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ve For A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v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ve For A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ve For A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400" y="6488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v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ve For A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ve For Al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v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ve For Al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ve For Al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400" y="6488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v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ve For Al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8:10Z</dcterms:modified>
  <cp:revision>32</cp:revision>
  <dc:subject/>
  <dc:title>Slide 1</dc:title>
</cp:coreProperties>
</file>