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0C2-D4F1-41D0-BCC4-B84B1AFC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C6D-04D8-448F-AFDC-1B7B8976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D7D-E4C9-4230-B694-C9084B85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91D-28DB-471F-A2EA-B9CD49B7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5124-86BB-48ED-974D-19FEC491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D6B1-E78A-4C7A-AAEC-E7B8C3AD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A306-79BB-43EF-90A3-E28AE8A9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C173-6D44-47DE-8B28-1D7B1D19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4024-6CBB-4D77-A17C-AEDBF2C4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0B01-98E6-43FE-A844-E71C6FDB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F056-67F4-4736-97F2-E1888357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E23-44F3-4FF9-BBF1-6FAC1C86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EEE3-CFCD-44F1-BCA0-C12AB400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C422-045E-4FB1-A058-24EC3ACC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93BB-9E76-4A4C-8BF8-F5E71C3E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B08C-4C0E-4BCA-8526-58DE0A29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60B7-505A-4642-B602-35B2FEB6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43D-AC18-4455-95EF-F194FDA4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6240D-0605-444A-B550-192D6841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8CE9E-CCCF-4D85-A2E2-34627D4B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4B3C6-B06B-4CB4-A308-C7807735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6102-9DE8-4E95-8944-0F70D5E1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11B35-5F6F-43BE-B1BF-1F609642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D174B-BD7E-47F5-BBEC-4A857A57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8FC3D-52E4-4D05-91C8-BC8B0BF4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AAAE3-E4A9-4DA3-A8D5-FF76FCC9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B59AF-0618-4F9B-ABFB-FD952CAE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C7914-1C88-4D4C-9E95-7BA09231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6E88-1755-40F3-8318-993221AB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40183-F128-4794-B851-F37065FE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52D7D-5705-44CE-8810-1E99C5F4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D1A-1F44-4B4C-BDB3-02709050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609-C7D0-4A4A-BF67-7E428A96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403-0A67-4910-BC59-8D249584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473-2B76-44BC-BAD9-1C656A0B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DC8C-5512-45CA-9557-85CE91F4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C111-2BE3-46F6-9EA5-3D8CC0018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1C11-9D9B-4BE8-AAC9-82153BAA4B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D327-DDA4-4855-86B1-400CC051E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ive For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G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R. Latta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k M. Davis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ive For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7480" y="648828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ive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ive For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ive For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ive For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ive For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7480" y="648828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ive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ive For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ive For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ive For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ive For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7480" y="648828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ive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ive For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ive For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ive For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8:47Z</dcterms:modified>
  <cp:revision>28</cp:revision>
  <dc:subject/>
  <dc:title>Slide 1</dc:title>
</cp:coreProperties>
</file>