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D33-94E6-4DB0-ADD6-338AAE91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A6A-2956-497D-84F5-2B3E3364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3AE-7803-424E-A8EF-06D2ED63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E5A-CE01-41C2-AB00-E871174C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A3DB-7589-411D-B47D-35D3FF4E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DC12-0DB2-4FF3-8112-24D7B038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4284-AAE1-417C-AC86-7CD1A787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784B-6BD6-4164-80DE-FE53B382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A2FD-43EB-4E60-B1EE-E6A4127A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B7ED-6B4D-4333-ABE1-15C78A6F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7C9E-DD15-4AFC-92BC-4917C2B5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A557-71BA-4E49-AE8B-D11041C7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AE4F-260E-4B24-8BFA-FD6E0FBE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BCF3-7E24-466C-8882-51BD90AC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97CA-EC8F-4603-A69F-A74E85CF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ECC6-3E3D-46B4-B198-9C25881C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314D-7CF3-46DB-80F5-4ABC6A3B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DC1A-42EA-41DE-823D-C5D004C1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7BD2-B6D9-47F8-BC75-CDB1FF6A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0CE88-0617-4B59-8090-CF638706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43498-7FAB-4EED-9109-AD3F717C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459-A05C-4599-9747-E4959B2E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9AE80-A6FF-4E45-A9F1-8BB7F354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833BE-BCF5-434A-88F3-2DDF5709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82932-56D6-4366-B16C-A43C6DF5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351C-BC85-40E6-891B-388F8882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10DB5-C14F-4D1A-8420-1C26BB49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4ABB4-5EBD-4B09-AC33-571A170C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40D41-4F61-4FE5-BB7C-29B01684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4F447-3F01-457E-A7CF-23346043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5EF5C-4063-4A86-9F24-0B3C50E8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C032-40C4-4AC0-95DC-A7C77439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059-29AC-4EEC-B817-D1E8C4C0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D354-60E2-4110-93BF-8A79F4AB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80B-7F45-4970-965C-14F7777A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05D-0C76-4A69-8DE0-2E6F4BAE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6A04-75B7-4C38-8F5E-845DC972C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7FBB-24D7-4824-B926-46C990B2DE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AFF9-B006-4A3C-9797-DC1F83C86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eaning On The Everlasting A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C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A. Hoffman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J. Showalter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eaning On The Everlasting Arm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5280" y="6488280"/>
            <a:ext cx="44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eaning On The Everlasting 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eaning On The Everlasting Arm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eaning On The Everlasting Arm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eaning On The Everlasting Arm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eaning On The Everlasting Arm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5280" y="6488280"/>
            <a:ext cx="44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eaning On The Everlasting 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eaning On The Everlasting Arm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eaning On The Everlasting Arm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aning On The Everlasting Arm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eaning On The Everlasting Arm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5280" y="6488280"/>
            <a:ext cx="44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eaning On The Everlasting 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eaning On The Everlasting Arm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eaning On The Everlasting Arm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eaning On The Everlasting Arm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3:00Z</dcterms:modified>
  <cp:revision>28</cp:revision>
  <dc:subject/>
  <dc:title>Slide 1</dc:title>
</cp:coreProperties>
</file>