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E00-8299-4C8E-8141-35E808B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F0A-6C42-4368-9F31-A68F125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3C7-3970-4AA1-B95C-9AD1FA87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C2D-50E3-4D03-891D-1C7B07A5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C911-D6D6-4EDD-9071-C4EEEA42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A26F-227A-4157-BAED-8A91913B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08CF-A271-4423-BDE0-7333352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DFBB-A0FF-461F-8CD8-38D2628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11E-D91A-4B3A-9850-9B47F73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B1A-96DA-473F-9FB0-B51077B9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82DD-89E6-4B6F-8574-95065EF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A46-FE41-4BC1-B83B-8D907EF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A082-FD15-4237-AF36-8BE5A53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D16A-CC2F-453E-ADD4-7176022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4FDA-C0BC-427F-A436-B125FF2E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127B-3FDE-4870-9EF0-5EA2A534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651-7E25-421D-9F88-56B3BA50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680-21DF-4614-A09A-8322D62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5624-ED2D-4132-A0C3-6EC9EA73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6173-405D-4449-83B2-52EF48A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1F6E-4AAC-4804-8BA3-C443543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59F-E60F-4CAD-8D5B-042D489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BF6A-7C0D-4161-9756-74ABFDA7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8562-A249-4A5B-9939-8A93C1E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6182-A7B8-4119-AEB3-F502A487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00A5-A145-48F5-8FEB-6E6AAF7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9C25-5801-4D48-9366-16E8676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9ECB-6C9B-485B-994F-8421BB2A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E583-B1D9-4768-B059-54EA8C6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1227-A37D-4FC7-AEA1-A5982443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158E-13FE-4EEB-9475-E9445607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6C3-DA87-4651-967A-7E08BEBD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81E-090A-4D0E-9898-C6A664B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B58-7C15-4847-AB48-E2FEA500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D61-5857-4B2A-8D8E-0F28D22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F92-219E-4F34-A20C-136028B8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52C2-6D5F-46F4-BC45-F4965D239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4E2-A088-4ECB-9E16-C8E6FCEDC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77B-C083-468E-83B6-EF64DF799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 Lift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ward E. Smith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Lifted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Lifted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ve Lifted 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ve Lifted M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ve Lifted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6320" y="6488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ve Lifted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ve Lifted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ve Lifted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ve Lifted 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ve Lifted M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Lifted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320" y="6488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Lifted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Lifted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Lifted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Lifted 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Lifted M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Lifted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6320" y="6488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Lifted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9:34Z</dcterms:modified>
  <cp:revision>28</cp:revision>
  <dc:subject/>
  <dc:title>Slide 1</dc:title>
</cp:coreProperties>
</file>