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E5B-0EC3-4702-AC10-84ED956C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153-CEC3-4CBA-932B-A27254F7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9E1-683F-4705-9816-5E9BC679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FEC-E728-4CC7-AB7A-316E8DE4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8EB0-9AB4-48B5-82AF-8282C08D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E9F4-23CC-4F5D-8029-C49B6387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C8F8-3816-4611-A6AC-03200F78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E0BC-FAFD-4B32-9E6E-B14AFDA3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D9E3-C8F2-4513-8F9E-3345ABB6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4F5D-035E-4007-BD9C-0E9155AF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909C-BF37-4025-82B7-DB541B9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0F7-595D-43B1-B115-75EDCBC2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4D8D-6A86-4D5D-BE5E-D49B0A7D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FE1B-6C49-4BF4-A357-E17180C7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D5D1-6662-4852-B377-B34E1A7F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A7B6-EDE0-4242-8A5A-F4E00769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2BAB-E472-457E-B097-E35797CB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AF8-BDAF-4606-91B6-62C2B157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AC48-12A2-4871-B822-F9A60234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5435-C493-4BE6-87DF-0CCE2F1A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EC8D8-F172-469B-9DEE-F65DF588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79B-6ECA-4EF3-A9CE-37427010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641D-CE10-41B0-B425-89A0DDC4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F4D7-8AFF-46CC-A7D6-5A32BB5B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395E-7D77-4055-B004-03E33134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9565-2D7B-4273-B254-A6B2121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7272-DA12-46AA-BBCF-CBCCD029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3984-ABB5-4434-A938-7FFE202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264E-E0C8-4EE6-9072-BB60F553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C72C-C9F8-438D-A225-4734F926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E286-3F5F-4FD2-A9D7-455DFCD5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79B-C75C-4555-894D-0AE70A04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F08-171E-445D-B594-338891F7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C76-3A25-413D-9B64-532E2C05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480-C547-4F6E-B151-1E1C7CB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552-154E-4D01-945C-CF8475B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4467-C5D1-4D71-8DD6-E2878C1DE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2EF7-A5C2-4671-87D9-41447A4481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0020-6332-4CF7-8820-A848527A7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y Hope Is Built On Nothing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Solid R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Mote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y Hope Is Built On Nothing Les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960" y="64882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y Hope Is Built On Nothing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y Hope Is Built On Nothing Les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y Hope Is Built On Nothing Les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y Hope Is Built On Nothing Les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y Hope Is Built On Nothing Les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1960" y="64882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My Hope Is Built On Nothing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y Hope Is Built On Nothing Les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y Hope Is Built On Nothing Les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y Hope Is Built On Nothing Les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Hope Is Built On Nothing Le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960" y="64882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y Hope Is Built On Nothing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y Hope Is Built On Nothing Le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Hope Is Built On Nothing Le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y Hope Is Built On Nothing Le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y Hope Is Built On Nothing Le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960" y="64882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y Hope Is Built On Nothing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y Hope Is Built On Nothing Le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y Hope Is Built On Nothing Le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y Hope Is Built On Nothing Le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41:25Z</dcterms:modified>
  <cp:revision>30</cp:revision>
  <dc:subject/>
  <dc:title>Slide 1</dc:title>
</cp:coreProperties>
</file>