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239-814D-47D0-954E-AD164F14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CC7-348A-41E7-9B6C-23195F54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991-9BE1-491D-A60E-22554131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E34-6B81-42B5-BCE1-A4A3A6C8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B14-C053-4755-8DF9-94E806FC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0D7B-4961-46D4-AE7E-72558CB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7F5E-77D7-41CC-807D-CD3C4D66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3DC2-6B2C-4983-9417-328CF9E1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BE9A-375E-41AF-BD67-A6EE9E79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8E50-4A8B-414C-84FF-FED82D9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A89-983A-42E2-8403-E95083A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4F2-8E99-4AC0-9C73-82D17ED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5454-734F-47EF-AEB1-607CD55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C05-8061-4630-AA49-9516926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9AE-DDD0-46BF-8262-B12B428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9AC-6714-45DC-958A-8FCCD0B0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811E-7F23-4B79-B56D-ED7E11A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672-D5C1-462D-94F4-6503E93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9E47-C3E6-4908-9058-13DB86F8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E919-1EC0-4296-9231-9731724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77DF-3000-457D-A08A-1F7FC8A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26D-9D5F-4409-91D3-5766286A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2989-3DB1-4846-9310-A02E635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1AD5-4E8F-4DD7-B921-23DD2EB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568A-6A7D-431B-832D-28329A5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0ED4-1DCC-4900-83A1-F74A46A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826B-8D69-4F32-B5FB-58405E6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2B0F-6164-4F22-9CE8-6C878A6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BB35-B061-40AB-A327-6648622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28E0-983D-46C3-9058-1890BFEE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610D-53D1-4A51-8847-A34D511F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8BF-7BE6-4C49-9F9C-08D0828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4AE-395D-43D0-802D-DF519E3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9DC-9671-48AA-8C2F-80E799E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B3D-309D-4C11-B186-1B310F0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0AE-9F76-46D9-A1B0-8220573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3ECC-81D4-45EB-AB01-33EB49593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C8FF-44D6-4A1F-B6D2-A4C506980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7EA-5DB1-4C2B-B397-30DBA78AE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Jesus, I Lov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mitive Methodist Magazine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6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. R. Feathersto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J. Gordo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Jesus I Lov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Jesus I Lov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Jesus, I Lov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 sheet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50:52Z</dcterms:modified>
  <cp:revision>23</cp:revision>
  <dc:subject/>
  <dc:title>Slide 1</dc:title>
</cp:coreProperties>
</file>