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164-C17B-4767-A426-4ACA6FD6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567-4A68-4D2B-A798-1E9A8795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FCA-638D-4C3A-A188-B8499906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CBC-A9FA-4D99-A2D5-051CE900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FCDF-74EA-4C78-9254-717920F5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54FB-97AE-43FE-8950-613DE6FF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662E-E50C-45F4-AA3F-4E7DF9B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761F-5AEC-45B2-948C-DED5547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6D7C-4477-44D0-96E3-1297481E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ACB9-682D-4BE1-813D-1EDA9807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F400-0C62-460E-AE49-A3E131F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61C-F77A-4308-9783-E0149914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387-4E5A-4B13-B384-B8626A35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70B8-2E63-4DE8-9CF4-7BE92354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4CAA-9BE1-4B93-A62C-12477948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D2B-DE20-458F-A8A7-5EF904A6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0EE8-7C98-48AF-A990-682D8098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C39-1293-4B3C-A4F6-86FEE17E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38DE-4D0E-4BA1-A44E-53BF4D3C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D204-AF67-4875-BAD7-73AFF92C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6001-A838-4271-A0E3-1A7D2B06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4F3-6835-4F22-8965-F2851E20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47B7-2D7F-495F-9111-754F72BE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C175-2C4E-44C2-9E55-1BC99A5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3CBC-4E98-4D7C-972B-1FB7464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65AA-05FC-49AD-ADEA-17D676EE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2E55-7764-4918-A455-370ED455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F0DC-1A06-4598-8B4B-82DDC59D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EB50-092D-4730-89A4-260E5CEA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A2C7-1B9D-47D2-83BF-1173099B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4CCAE-BBC4-4400-8A8F-19E5A932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8D0-CEA3-47C2-93B1-0849B493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2AD-79A3-424C-A7CA-B71090B9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234-E42E-4854-AA13-93D323C7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FF5-F805-4A58-8915-598944D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288-81DE-4F48-B2D6-F620B57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F4BD-5C8D-4487-94B9-475F7DF7D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178-B8F9-4701-9F9A-474577938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F670-1F60-41A9-A3F0-EB9A296AC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y Faith Looks Up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I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4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ay Palmer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Faith Looks Up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5280" y="64882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y Faith Looks Up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y Faith Looks Up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Faith Looks Up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5280" y="64882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y Faith Looks Up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y Faith Looks Up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y Faith Looks Up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280" y="64882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y Faith Looks Up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y Faith Looks Up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9:05Z</dcterms:modified>
  <cp:revision>33</cp:revision>
  <dc:subject/>
  <dc:title>Slide 1</dc:title>
</cp:coreProperties>
</file>