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25E-0DCD-4234-BF0A-EFB8A91D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044-8F95-4551-9331-1F0DFE06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C6C-F04B-470C-8929-41F7E477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550-465C-43A2-9498-7066F5C2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D397-FEB4-4F6C-B49B-DAD56461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D1F0-5ED1-408F-81B3-A308FBA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3A5-2053-4EFE-8638-DDE450F3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D652-510E-471B-9503-515C417F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0C5-96A2-48D5-819E-86F66B2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4ECE-2345-4F26-B388-7610070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D413-80AB-4072-8DDF-527B5BC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6D5-20FF-4547-A1DA-8B3783C5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8F8A-E548-44FC-83DE-E57CEAC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31BA-1E82-4CFE-9CC4-4A22DD6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E63-2A80-4C84-82C1-7011180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C75E-E70A-48E5-8E4B-4C2258FF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51E7-C5A1-4C86-A691-D7C5D129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2F6-79B0-44A1-9C20-4B9FB5C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9652-ECA4-4992-8981-0F9889F7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9824-B00B-4D42-A9B1-DFB3172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C2F8-6ABB-41F0-B49F-3B0901AA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8C8-0A00-4853-9C8B-6EAF9E7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49D9-BFDD-4899-8502-1F1C02B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7F0D-FCBE-43B2-87C0-06F2CD03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563B-7FE1-40FB-8816-1BB68D7F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C13C-1109-4BCD-A8A3-BC372FFE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810B-4FCB-4FC7-BF9B-25EBAF51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F246-3BA3-4BD0-AD76-9A8087E4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1E19-49D0-4F68-8968-3AF6EB6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0E1F-3FF4-48E0-8810-06FE1777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E28E-6029-498B-8A9E-A51D24F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DB1-0A21-44C4-B2A5-E0F3DCFC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917-367A-4270-A0D3-FBF923E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D6E-F586-404D-8E84-0898C28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A6B-8258-43BC-A432-C0BA213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743-20FC-4BB9-BB13-1DB28EE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AAAE-6DE7-4339-B089-7BEC2073D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4FE2-F5C4-4681-B652-DBC851150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38C-B6C3-4DC5-A185-C4A203D8B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Jesus As Thou W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JEW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njamin Schmolke (1704), Tr. Jane Borthwick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von Weber (1820), Arr. Joseph P. Holbrook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Jesus As Thou Wil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Jesus As Thou Wil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Jesus As Thou Wil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Jesus As Thou Wilt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Jesus As Thou Wil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Jesus As Thou Wil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Jesus As Thou Wil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y Jesus As Thou Wilt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Jesus As Thou Wil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Jesus As Thou Wil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Jesus As Thou Wil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Jesus As Thou Wil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Jesus As Thou Wil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240" y="648828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Jesus As Thou W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Jesus As Thou Wil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Jesus As Thou Wil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Jesus As Thou Wil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2:49Z</dcterms:modified>
  <cp:revision>28</cp:revision>
  <dc:subject/>
  <dc:title>Slide 1</dc:title>
</cp:coreProperties>
</file>