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C0F-7837-4DCD-8799-8B331308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3DB-F74B-4992-9DAC-7434163C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5C9-A3C2-4408-AEA7-927956BE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F3E-4FD2-49CC-A55E-4DA92AB5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2617-A43C-449F-A8E0-11F7708C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D002-7027-4649-8C9F-E3E60E5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4620-ED7C-40AC-B03B-2CFDAAD0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18FC-5305-428A-AA00-1C12353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F9E4-D2EF-4B0D-90A0-A60D76BB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E7F3-9341-4A60-B9D8-BA9C82A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F0E-CE27-4B2B-B87F-923D162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FED-8185-4114-999B-CAFD291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2FD-6A8A-450E-B5B8-5010E53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1E8-0ED2-481C-B836-E76A93D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51DC-194D-41E5-8764-9A32F4E0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B99-4CF3-486D-BCC1-16E1C0E8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834B-6CAB-4029-A8F0-19925517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C60-E0E4-4117-B432-5844F22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0F93-AFD2-4004-BDB3-B7391E52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D94E-714E-4037-A6D8-6446685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0564-4AF7-46FB-A374-28AD2D60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C3E-DE15-49EC-9A54-5EDE605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B2E1-ED22-4837-A516-15FBF0D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96B2-8514-4ABD-BB46-20061FB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7493-A53C-4AF8-85B5-7E11056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5E3B-C97A-4B9E-A77B-F2CCBCC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0070-00E9-4311-A1C9-9AF1683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2C66-1F4C-4130-B440-5460600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16BC-A749-4642-BF10-EE65E3CA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C227-2CBC-4FD6-8AC1-B9AD51A5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3B89-F693-4AA8-B93D-674E50D3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95B-664B-40E8-993A-45E5D21C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FAB-736A-4D34-8551-7A9E1DB6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DA2-EF76-49BD-95C6-B5B2CFA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9CB-6ACA-4DA3-ADC4-AA3EDC3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F9E-40E5-4233-BEC7-8E479AB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789D-5044-48FA-BD76-EACACED9B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109-2DD7-4B84-B563-A74172331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9A4-9C9C-458E-A904-9AB8172F7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rvelous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rvelous Th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6160" y="6488280"/>
            <a:ext cx="42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rvelous Th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5640" y="6488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rvelous Th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8520" y="648828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  +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rvelous Th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6720" y="648828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rvelous Th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0600" y="6488280"/>
            <a:ext cx="56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, Alto  +Te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rvelous Th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33840" y="64882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rvelous Th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21760" y="648828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 ~ Marvelous Things - Soprano, Alto, Tenor  +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rvelous Things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4920" y="6488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5:06Z</dcterms:modified>
  <cp:revision>32</cp:revision>
  <dc:subject/>
  <dc:title>Slide 1</dc:title>
</cp:coreProperties>
</file>