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C78-0A0E-4E77-A944-6680EA7E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7FB-C273-4FD9-BD0C-90D77B5E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A87-EEAB-44DA-AE1F-39CA0C88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B2C-D70D-4A1C-8A2F-4319F1DA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AE64-1BF0-40BA-9CD3-5A8D621B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AE4-C796-45D1-B3C2-D5D196AB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90F-9038-4A2A-865D-D19AC4F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4F7-7A93-41FC-BCB5-F182A40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DF12-3072-4356-BD85-0E7260E8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050-197C-45C5-8EA5-9ED5FEB0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B1A4-8C24-41A9-8590-D02CB7C4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37E-4EAB-4A0A-808C-93408AAA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D50-97B5-481E-8FC0-989F412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1816-D67A-4873-AE43-991E9F4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D580-99DC-480A-958A-257CFE38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48EA-C15C-4644-B1B6-53F82D15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2253-1CB9-49FF-B6AF-0CE7E9B6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5F7-F594-4DFD-A648-7A3A8AF5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436C-9495-4CFF-B18F-2165CE8D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420F-A5E3-45E3-93AE-ED6D6149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6BA1-BD24-401F-A3AE-2DB4F043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E19-EF8B-474E-B1C1-44AC0D19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B0F2-0B38-4559-9FBC-B3B506CF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F11A-6D90-4EBF-87BB-ABC15711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EFDB-B8BE-46EF-A17D-FD8BEC1F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8EEB-A037-4218-ADC6-1B09660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C08C-EEE7-433E-8BD0-3BBCEC2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48ED-53D7-41EC-BE9A-1306B89E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7F41-F897-4E0D-B2AD-BC6B9A6A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B6BC-7169-4CEC-A7FE-72D9EDE4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D181-0E4F-4FCE-B5B1-22E2D061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3E3-D86A-41E3-91F6-E8F32B20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C2A-9705-4F43-8B6C-E1742A5D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EA4-B765-4DF1-8ACB-E33C5CCE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431-1797-43FD-AE34-0F8ADB29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E95-5EF5-4AB4-8C00-084998B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E620-C376-4694-A31A-A542F1474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53FC-0AF3-4E4A-8427-716F1EC24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015-52E4-4C12-9898-DC28956E0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ust Jesus Bear The Cross Al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I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Shepherd (16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N. Allen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ust Jesus Bear The Cross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44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ust Jesus Bear The Cross Al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ust Jesus Bear The Cross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ust Jesus Bear The Cross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744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ust Jesus Bear The Cross Al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ust Jesus Bear The Cross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440" y="6488280"/>
            <a:ext cx="45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ust Jesus Bear The Cross Al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ust Jesus Bear The Cross Alo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3:54Z</dcterms:modified>
  <cp:revision>32</cp:revision>
  <dc:subject/>
  <dc:title>Slide 1</dc:title>
</cp:coreProperties>
</file>