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E1F-1888-4E1D-82BE-826C1CD1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F19-9A13-497B-B6B3-405666B8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638-9BF2-4228-AD38-30A46034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C5F-709A-42CA-985E-B1DB749F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5041-66BF-4834-8C3B-6B822AD8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CF0E-4B41-4C4D-AFF7-15CDCBB9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F05B-9671-431D-B941-1B79655E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AA11-6106-4A19-9575-9F3979FA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BF0E-7B21-44A5-A277-34C0C71A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CCF1-4FCB-4F7C-8D61-D67C6D26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F39C-61C3-4A0F-9C88-5266B704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CF2-8E48-47D4-AC22-D306049A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C1BF-806B-4A8A-859C-7F0F1C1A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38E3-4212-4C4C-BA1B-6C71CCA8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4952-A8B5-4559-9E15-B91B9EEA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7EE0-5477-45C2-8436-27B66918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D819-F45C-4767-B60A-238DDF1A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77D-58FE-41C9-A126-93525BE0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D376-CEB0-4918-9150-91D08BE1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49AA-F7FA-41E0-A52B-637E1CDF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4F87E-A796-460F-9FF9-406E4B5D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221-E169-4BA2-A246-E4D7C973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9F0D-2E3B-4168-A84F-274E7321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B1759-6972-4BB2-A3E7-300A6BB9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1FDE6-188F-46DB-A8FA-09C25FC8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6C24-1AA1-4824-BF08-7625575C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E399C-D116-455C-93CE-2B6361E4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9A803-A224-433A-86F7-BC8A730B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67C5-FC92-46E5-A638-23683206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B9E4-116D-4127-B35A-37B3CBF4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AD98-A3FF-44E9-8BE9-2A23BE9B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AD0-6974-4B0D-9B74-82CD8D6E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BDB-2430-4047-BC4E-32E35CE6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061-3D4F-4C80-A0CA-C0502DD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351-44B5-4D8F-BD15-E8A49BFE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19F-1A77-48E1-A9A7-FE981D94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C4C4-9F26-4ECB-A419-125602011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D8B9-4BCF-472C-9175-3F46639EB0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009D-855D-44E1-8816-BD2986B65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ore Love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zabeth Prentiss (18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ore Love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160" y="6488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ore Lov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ore Love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ore Love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2160" y="6488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ore Lov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ore Love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160" y="6488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ore Lov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ore Love To The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2:32Z</dcterms:modified>
  <cp:revision>34</cp:revision>
  <dc:subject/>
  <dc:title>Slide 1</dc:title>
</cp:coreProperties>
</file>