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7438-738C-4F9D-BBA8-CBD9087F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7A9C-FF9F-4260-8A82-6EA40F04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8C5-FE09-4628-BFE0-70F26DDE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274-2E47-4F7E-8115-5A3D32E1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2962-399D-4B85-9DC2-DCCC779A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F451-4F72-40D1-8CB7-7DF21543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A4C7-7C1F-433F-A618-869E4D1F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FFDC-F5A9-403D-92D0-4B007FA6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2B04-CB20-4561-80C4-F0D5CB1A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3B85-1961-4BA0-BB47-DF67F946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6CC2-685B-45A6-A3ED-E933579F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1C6-ACB9-43B0-BD79-D61E5925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8A60-00FB-478D-A323-3A6BEBD3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8746-4B2A-4474-8D16-EE1DA35B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D57F-4E5E-4ED0-AA77-09CC8C7D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D3FE-40DE-42F9-AE83-F057CC2C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1A74-8D9E-487A-B3A7-B4764862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404-B5B0-4953-9BAC-A17C77FF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E77A7-96A3-4B61-BCEA-1139BBFC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ADFD2-D9EC-4454-8159-39A8DDDC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12125-BE45-464E-A9A1-81689057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5C0A-B604-4AA6-9A5C-8303A5DF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5A67D-57D4-4AB1-856B-5DAEAC2B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16B82-99D9-4ECB-BB27-D83290B3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6BA92-A596-4AE1-B6B4-EA732DC9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CAA38-B4A6-47B9-861C-92CF0EB5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5F5FA-1E00-497A-9E1A-BCAEC02A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817C8-E887-43C0-A8ED-87C57852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CAADD-CA43-48D2-9FDF-20C184A4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07E88-01B8-4FCE-AEE0-7E699B9B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B83CD-8E80-4D1C-B971-C5FBD21D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B16-7EF7-494F-84B5-0244DCD5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ADD6-017D-4C33-B787-24723E0E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A3BF-4F76-4B66-93B5-D56BA061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04F-073F-464A-B707-B6F06B52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3F4-966C-4D12-9C5D-539D732C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F033-E9CF-4CB1-8276-FDE4CD245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4D71-E1B8-4594-8618-650D34AD3F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5108-9483-42B2-9F03-1B7821F49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ust I Go, And Empty-Hand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C. Luther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C. Stebbins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ust I Go And Empty-Hande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4760" y="6488280"/>
            <a:ext cx="42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ust I Go, And Empty-Hand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Must I Go And Empty-Hande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Must I Go And Empty-Hande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Must I Go And Empty-Hande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ust I Go And Empty-Hand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4760" y="6488280"/>
            <a:ext cx="42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ust I Go, And Empty-Hand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ust I Go And Empty-Hand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ust I Go And Empty-Hande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ust I Go And Empty-Hande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ust I Go And Empty-Hande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4760" y="6488280"/>
            <a:ext cx="42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ust I Go, And Empty-Hand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ust I Go And Empty-Hande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Must I Go And Empty-Hande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Must I Go And Empty-Hande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40:50Z</dcterms:modified>
  <cp:revision>30</cp:revision>
  <dc:subject/>
  <dc:title>Slide 1</dc:title>
</cp:coreProperties>
</file>