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E1C-DFC8-48EB-BBFA-F1413963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229-195B-4664-93B3-4CE19046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772-1287-4750-B628-93479D85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C39-AE62-4EE9-A67B-6DF22BEE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46D0-0E3A-4EF8-9526-E3ABC476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A8AC-FB5C-4742-A6B1-04C423B5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466F-51B3-4FA6-A1A6-45BB112A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8F2C-0536-4D03-BCCF-3BECB6BD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47A1-029C-44E7-941E-DB62E4C2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E02F-DFE4-4DFF-A5FE-78ECC87B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21F1-12D0-4287-AC55-A85A7097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F1E-30C4-41E8-8E8B-34FC0A25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340C-12EF-46A5-9E9F-4D86973A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1ABF-ECFD-4462-ACE0-97ACD933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3ED3-1663-4155-9132-C0F57140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4BA3-783F-40A4-B0E3-A9577AED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A5EB-227E-4AFC-BBE6-0217F891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999-3D20-4CC4-AD4E-B7C10E52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23AC6-2C93-4E86-8CE9-4D435501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C2F3A-273C-471F-B31C-EA8D99BA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F629B-0966-428F-8C19-E54445E7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5B8-0CEF-4C1F-AF5E-EAD99CDA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19019-7CE6-4E1C-9CDE-1D8F6334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1B926-9215-4DB1-A5A6-9E1DF22D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79EB5-F65D-4FA9-83A4-3749EA2C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B20AB-4397-473C-A92E-B5CF9404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1036E-7BCA-4EA0-B8A5-892123A8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243C-4477-49B6-A5A7-F71382B7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D05DD-1766-4A1E-9CBD-85C91329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0A5CE-29D7-45AA-8E8D-83AEA7CE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EB0E9-B7A8-4E5A-9E8C-14B866A4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6F6-9EFF-49F8-8288-B7288775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F1D-89BD-43C8-8B6A-240CA534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678-8DB5-44CB-B60F-0C49A6FF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8AAC-8752-474B-A39B-2282FEC5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7F93-1BE7-4DAE-A002-C160B57D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E79A-D02B-4148-A0B0-A2CAA22E8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286F-E679-4506-AC66-D547BB2FA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DC1E-EBAC-4F83-B1DE-64EB3458A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Master, The Tempest Is R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Peace Be St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A. Baker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R. Palmer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aster The Tempest Is Raging_v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aster The Tempest Is Rag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21680" y="648828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Master, The Tempest Is R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aster The Tempest Is Rag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Master The Tempest Is Rag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Master The Tempest Is Rag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aster The Tempest Is Raging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aster The Tempest Is Raging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Master The Tempest Is Raging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Master The Tempest Is Raging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Master The Tempest Is Raging_v2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aster The Tempest Is Rag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1680" y="648828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Master, The Tempest Is R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Master The Tempest Is Rag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121680" y="648828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Master, The Tempest Is R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Master The Tempest Is Rag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aster The Tempest Is Rag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Master The Tempest Is Rag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Master The Tempest Is Raging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Master The Tempest Is Raging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Master The Tempest Is Raging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Master The Tempest Is Raging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Master The Tempest Is Raging_v3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2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aster The Tempest Is Rag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aster The Tempest Is Rag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aster The Tempest Is Rag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aster The Tempest Is Raging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aster The Tempest Is Raging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aster The Tempest Is Raging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aster The Tempest Is Raging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16:36:36Z</dcterms:modified>
  <cp:revision>29</cp:revision>
  <dc:subject/>
  <dc:title>Slide 1</dc:title>
</cp:coreProperties>
</file>