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7E89-11D6-447F-AE55-91815AAB3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C5F0-6708-4DDD-AF5D-DDD3EC748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60A0-A20C-4B2B-A0A5-41C2C4CB8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A8A8-6AA8-40D0-93A7-EC040990B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CFB3F-52B8-4CEA-9B2D-6CCD05212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5D25E-F747-4E9E-8F02-0CDAEBE62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254D4-12E0-48E6-8D0C-004E799BA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009EE-D86C-4EB8-8BAE-475D96216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004AA-ADD1-4D1D-A977-4EDA745A2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B468F-C288-4A8E-9DCE-2D0E03B9B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16440-9D53-4C0E-A5C3-8075C0B9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2747-2E70-4094-9EC3-FA32CB8D4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4A430-3413-4AE7-90F8-5E60066B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2E353-E1AB-4FA3-9385-E933C1E4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41993-47DC-460C-8935-983163557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3A21C-B3A6-4B79-AD02-774B5C503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36A9A-CE2E-4443-8B9F-F2CE6BCEC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DAFE-DEAA-4D90-B22B-13D0C4F9C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94541-1AF5-4CE4-A111-02C3B1ECC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16F89-CDEE-4BA9-A638-0390D837D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E2E75-B099-46C0-BE29-9B0722DD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4544-F2C6-419A-8244-F25A08B62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EEB06-FC80-4E0A-B2BB-4CD173DE9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E7308-64E4-45C5-B2FC-B63387C9E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ADBAE-0197-4CA7-B8F3-C7084B612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35D41-907A-4574-B64A-637634D0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66ACE-BCEC-4593-91A8-EDB63BB3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CFFAC-1161-4F65-8A25-8723FF27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3D17A-73EF-4B1B-B29A-F376DE5CA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1C73D-C963-40C2-ACA7-8320C5A6A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40D6B-A720-4C6A-9537-354F258FE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E6F9-8C50-49B8-89CB-DC2655E4F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3591-E41A-4EBA-BDF2-9828EC969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9E72-AC00-412D-951D-0169ABE0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D077-F267-419D-87AE-1E6D2DB9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E2C6-490A-48F8-9A06-2E4D2C84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8C2B3-A3B9-4589-B98E-1713037094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20D6-0C8C-4D31-B003-C99FEB0BC2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8442F-772E-4C59-8A17-64AB6DFADC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More Holiness Give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MY PR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.5.6.5.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12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G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Phillip P. Bliss (187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Phillip P. Bliss (187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6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More Holiness Give M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5680" y="6488280"/>
            <a:ext cx="33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More Holiness Give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More Holiness Give M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More Holiness Give M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85680" y="6488280"/>
            <a:ext cx="33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More Holiness Give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More Holiness Give M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More Holiness Give M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85680" y="6488280"/>
            <a:ext cx="33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More Holiness Give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More Holiness Give M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7T16:40:04Z</dcterms:modified>
  <cp:revision>29</cp:revision>
  <dc:subject/>
  <dc:title>Slide 1</dc:title>
</cp:coreProperties>
</file>