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60C-1FEB-4BC4-8A6D-D04D3C91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1AC-D460-4040-AEE4-CC00DC6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21D-9266-4C97-940D-3E94E40E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85B-88D6-4877-BF01-5B11A103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CF9E-35BC-4FA8-8BB7-D7228908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94C2-4AC9-4524-A1A9-7D26BFD9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1210-4FEA-4CCB-A0D9-CEB13F68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9C41-D131-4988-A9DA-6547C7BE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5C4D-B1DC-4316-94F3-BDF8865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A3C-67AF-47CF-AB5B-46B5E417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8086-376B-49C4-B7F2-8C30435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1F5-F26D-4E35-B30A-4C92A64B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11ED-B215-4E6F-B546-4E06A04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7F1B-AD61-463A-8313-F797E24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A73A-70DB-4862-A0E2-083C8516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A396-4935-4D76-B90C-688475B9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B094-C7F3-4601-9E91-53881758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22C-1DDD-4AD2-AA88-E6281A5B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0C6B-5CA4-435F-9B82-2ECC4652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925A-8777-4F26-8373-3279EFF1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A4C0-6D71-4D86-A3BA-C2AA0502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B65-832B-4B74-8BB1-9324FB6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4506-0F64-477F-8654-DE92FE3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A212-33D5-4B0F-A084-95EBD4D1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0220-0BFA-49AF-84DC-E2047F0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67E2-9FCB-47A7-92D8-67B8D0A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B826-D9EF-449D-A6B1-9DF09A7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0233-EC88-40E9-B533-C1F300F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706A-06BA-41D6-98D4-3AA9D51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2D8F-5D3B-4368-9DEF-CB41E548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D0D3-6502-446E-BE3B-87A2D7CB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6E9-3616-449C-BF57-9B2E239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589-7C16-4A83-90D9-8A29501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C4A-76D6-4FD4-9519-0290695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803-9520-43CB-9ABD-9CAFD680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179-EDFF-4A12-BCB0-A5B4392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82B2-77A5-42F1-9DD4-1E778BB98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44D-E42C-43B0-B898-AE62A53B2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141E-FAE5-4D98-A20E-3531C42EE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ore About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ore About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ore About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ore About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ore About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ore About Jesu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ore About Jesu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ore About Jesu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ore About Jesu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ore About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ore About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ore About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ore About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ore About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680" y="64882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ore About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ore About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ore About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ore About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5:51Z</dcterms:modified>
  <cp:revision>28</cp:revision>
  <dc:subject/>
  <dc:title>Slide 1</dc:title>
</cp:coreProperties>
</file>