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D08-8BB4-44DD-93F8-53ADA629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119-11E4-445E-89E7-07E351E5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0B1-4329-4B25-91E0-EE7C3178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BFC-8078-4BC2-9F7B-71A74391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78CA-4F6B-4BD1-9A6E-1164D9A4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F76-AB2C-440E-A9D1-046C537A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87F5-17C3-42FA-8874-92C03117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3755-2A67-4050-AAC1-7AD86785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5742-94DF-48E3-ABAB-BEA950DF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ED96-F57F-42A3-9B30-DD1F225A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2C5-CF2B-499A-841B-D3500F7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151-ACA3-427D-9DC5-96D0433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8CAF-206F-4489-9650-D551C27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D22-5D00-4924-816B-675BD67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8AE9-8291-4DCC-AF8B-F50FAB1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BA7-0F6E-4A8D-858C-F5455B5C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98AD-E805-4908-ADDE-1A22BCA0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32C-9BDE-48B0-8851-796B5E6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1E9F-9594-4298-8537-8D6E37A5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BEA3-6527-4EDD-9959-B837AF3F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05D5-C8F1-4D98-AEFC-4BA3A1D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5D8-827A-443A-97F0-28890C36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CF00-BC80-409C-A970-86CBF768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92FF-0C7F-4BFD-B19C-ECBFAE6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0F73-AB4B-4146-A45C-1E99D02D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EC64-EC2B-4C55-85A4-37BE3A0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5B481-64EA-48D4-98E8-C7B1F13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12CE-1C7B-4E4F-9209-604FDCF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BF54-C50C-461C-9975-C762449E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C0EA-618F-4946-A9E1-4D313D6F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E7B0-2D07-474D-A702-8C52E084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5F6-6EBD-4F7A-B0AD-1688DFB1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1DC-1E84-437C-951A-65518F0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370-5749-4306-B838-5EF58FB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F51-C2DC-4FF5-848B-821ED39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8B9-F59E-4D25-873B-87D4549C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A35-2512-4037-A3F4-690E89808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19B5-176B-4982-94A6-3EE00CBB6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AC3F-EFF1-4B90-807E-11B605169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tchles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tchless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atchles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atchless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atchless Lov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atchless Lov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atchless Lov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atchless Lov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atchless Love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atchless Love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Matchless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75600" y="648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atchles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tchless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tchless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atchles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atchless Lov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Matchless Lov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atchless Lov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Matchless Lov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Matchless Love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Matchless Love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tchless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tchless Lov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tchless Lov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tchless Lov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tchless Lov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tchless Love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tchless Love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7:28Z</dcterms:modified>
  <cp:revision>31</cp:revision>
  <dc:subject/>
  <dc:title>Slide 1</dc:title>
</cp:coreProperties>
</file>