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3144-820C-4DAC-9043-B80F2BB19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794A-C927-4F37-8F6C-F5D36B34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5E4D-E9DB-4471-BC05-EDC83208D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46EA-C042-4E7C-9E4B-8FBF6BA28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F11F-1928-4868-9184-15DB972B9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E3FB-F370-4A88-A469-941DD662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5D44-7A76-4144-8F80-04A814DA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71A9-16F1-4638-866F-CFDE72EE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5343-4491-458C-827D-5610792E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B1F8-4A0A-4FB7-9FFE-6CC1D3F1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EC4F-D3F9-411E-A1B8-D7BC9D9D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91DC-AAA9-4061-AD52-978A0FB6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197F-D6A8-426A-A813-91634B51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955D-CDC0-4925-B5C2-57901A1C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DA55-6C86-498E-B2D5-C49339F3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4752-0316-4C64-89DB-631046F32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2DCF-1AC4-4614-9AAD-625918D4D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95F7-4FF2-4B5B-97FA-CADAF685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2F7EC-9CE5-4F84-AE8E-566BC32EE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FC4ED-8ADB-414C-A722-23321DC0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8B350-E0FB-436A-BF1E-064BE611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D72A-549C-4AB1-8886-43C814B7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C2197-92E6-4DC5-9BDD-008A3630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6C7AD-781B-490F-8535-182D891B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453DE-1577-49DB-889F-9B03B874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5AE64-7F6D-4FE1-B190-EB527F53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6DA44-958B-4764-BC4A-052939BF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3B200-5F1A-4AE8-9AE9-42FD38C6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51118-C3CC-4FC6-94FE-A38156D8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D87B8-D91C-4E39-9509-1B80E2469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95AB3-8124-4EA5-B3D3-0A05BBBD9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6A2A-395D-4031-87AE-F5207576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40EA-8BFC-4040-B143-9CA4418A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B55D-A726-406B-B615-E2B5304C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787A-B315-4066-A70F-450DA800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FFD3-BC13-4E7D-8B90-31DFEFD5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9C22-160B-4893-AD34-6FE046A085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3854-C744-4C59-8BA3-646864EC75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7DB4-D44C-449A-B638-FCD30F84AB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Meet Me T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 Fanny J, Crosby (188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J. Kirkpatrick (188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6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Meet Me Ther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Meet Me Ther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Meet Me There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Meet Me There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Meet Me Ther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65160" y="6488280"/>
            <a:ext cx="25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Meet Me T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Meet Me Ther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Meet Me Ther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Meet Me Ther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Meet Me There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Meet Me There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Meet Me Ther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5160" y="6488280"/>
            <a:ext cx="25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Meet Me T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Meet Me Ther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Meet Me Ther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Meet Me Ther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Meet Me There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Meet Me There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Meet Me Ther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65160" y="6488280"/>
            <a:ext cx="25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Meet Me T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Meet Me Ther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16:38:15Z</dcterms:modified>
  <cp:revision>31</cp:revision>
  <dc:subject/>
  <dc:title>Slide 1</dc:title>
</cp:coreProperties>
</file>