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727-35E2-48D2-AF96-A61EE9B9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317-EECA-4190-A3D8-422D9BF9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956-1EA5-4CD0-A4C9-BE5B7BDA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8B7-CE4C-4ECC-A324-59D993C6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92DD-3DB7-449B-BF27-E1AD18FE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607B-B1AB-4E8E-B8E2-27448B1A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8C9B-5B89-4CAA-8F3F-E151E743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B638-F5B3-448C-B25C-8AB71B58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3D28-1F36-4257-9C40-4F5B3A98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5AFA-4FB0-488C-A737-86965FC2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B7E0-4499-4F77-B814-DD667CB4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CD9-D9F9-4756-AAE6-8E864B37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2C1D-A82F-4527-9EBC-2D8905BD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BAAC-F39A-48A2-A544-35E46031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5155-847B-4774-9EDF-11046EF9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D7EF-B4C3-457B-BE14-6F9B517B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CF3C-B3A9-4BA4-A1A0-DBE5724A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EC3-CF20-4EB4-8D98-07E5A9D4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DD7EB-62AF-4354-9040-567275E8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A126-7BAF-4E30-954F-46F66EF5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64989-E15D-4DD5-8878-6CC36502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7FB-868A-4B69-8624-F822BE9D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C0A9F-0166-4F0D-A59C-5EDD5154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7C82F-9DA2-453E-958A-22D1A8B0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996BD-2852-436F-A525-C5BA2185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D0E3-E283-4D62-B6AA-F8B41051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18292-190B-4045-9EA4-D9AE2C54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428B-6BBC-45F1-9408-D4A454AD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2D113-1797-4985-9FA7-69C0DC0B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44D6F-B1E0-4964-926A-1AA1184B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C07F4-168B-4EEE-A8B9-D10AD7C1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D5B-6630-42DC-8087-467D1EBE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C17-CE04-4123-83E5-CB6F1BF8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012-D06D-428C-A3ED-720A82CA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A62-B177-40CF-B3BF-58A49644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594-F202-4CB9-A79F-5604F844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D6BE-13A9-4322-A98F-F0D142B6C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75A6-769C-4417-907D-85419E98B7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2E8B-4137-4602-B722-1D6C05329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ajestic Swee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ANO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6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0200" y="4902120"/>
            <a:ext cx="13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Stennett (17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reatorex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ollectio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(18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ajestic Sweetness_arr1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9200" y="648828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Majestic Swee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ajestic Sweetness_arr1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ajestic Sweetnes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9200" y="648828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ajestic Swee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ajestic Sweetnes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ajestic Sweetnes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9200" y="648828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ajestic Swee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ajestic Sweetnes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ajestic Sweetness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9200" y="648828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ajestic Swee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ajestic Sweetness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ajestic Sweetness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9200" y="648828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Majestic Swee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ajestic Sweetness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1:06Z</dcterms:modified>
  <cp:revision>31</cp:revision>
  <dc:subject/>
  <dc:title>Slide 1</dc:title>
</cp:coreProperties>
</file>