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39B5-D529-48D1-B478-EBB2278B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615C-E530-48BD-BF4F-7B4E7634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2510-4E03-494D-8DAF-EEE36579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4E77-CBCC-4199-9EE3-750191F7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864F-DD5B-40AC-A896-B4E41191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6462-10D6-4673-AD24-14D3DFF0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393E-12C5-4686-80A5-AC684C6C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380B-34BB-481E-B37A-DE6F5791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9DA0-FCEE-431D-9169-F6C2640F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0A61-D4E9-4BD5-8777-BFE4F00E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D5D1-1D83-4FC3-94BE-0846FFAA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3713-B084-4BD5-9685-19554F83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99F7-A304-4367-A7FD-1E714C5B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33F7-E0E9-42D2-8703-A6273335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BE74-4AF9-41D8-B032-5A0F9626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98C9-4188-400F-B122-E4C89A53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E3EB-05D8-4E97-825B-15DD5B34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C36C-79F7-43AA-AFC1-DBBA5C99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2E92F-A838-4EBF-8934-98F819BB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74E58-CC66-45FB-ABC9-481B7196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334E8-5801-4921-8BC7-EC94DCDA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BAB6-EE95-49C6-94A6-9FD30449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365C0-5684-47FC-BF2E-112A5534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A0FB3-DAE2-4CB8-84CA-CAE09A6D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ACE7D-68C4-4A53-8536-EEDA7735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B08EB-4976-41D7-9E2C-62EDBC0F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5F4DA-B60C-4183-9E82-59FFF7C7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F6B25-CDC7-4910-8133-8A8FEB19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DA33E-78F5-44AB-8CB4-AB3135E1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A3EB7-A0F0-44B1-98DF-C78385B8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C6959-F3FF-4C43-A2A5-8FA1A301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7CF4-92F9-48E5-985D-4609F91D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E858-1FCF-406B-B69F-E08BC5C3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D0E5-3060-4B14-B770-119BAA3A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9C2E-D529-4D08-8E52-0D8BD434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8E3B-79E6-4177-A983-0EAE0D72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2EA2-746D-49F1-8334-C7A5FC78B3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05E2-24B1-4B80-98B3-900D8FB6D5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BF60-0F44-4593-91AB-582AFB44E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ear To The Heart Of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B. McAfee (19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B. McAfee (19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ear To The Heart Of Go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3760" y="6488280"/>
            <a:ext cx="36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ear To The Heart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Near To The Heart Of Go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Near To The Heart Of Go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Near To The Heart Of Go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ear To The Heart Of G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3760" y="6488280"/>
            <a:ext cx="36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ear To The Heart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ear To The Heart Of Go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ear To The Heart Of Go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ear To The Heart Of Go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ear To The Heart Of G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3760" y="6488280"/>
            <a:ext cx="36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ear To The Heart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ear To The Heart Of Go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Near To The Heart Of Go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Near To The Heart Of Go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05:53Z</dcterms:modified>
  <cp:revision>27</cp:revision>
  <dc:subject/>
  <dc:title>Slide 1</dc:title>
</cp:coreProperties>
</file>