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79C-F987-4279-B369-1137B8A6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701-3F02-4571-BCB9-C3D71873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98F-B709-4FCD-AAAE-8FA86A0A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1A0-82B1-4C39-8A14-A2F21FDC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F712-871E-426E-BA42-1C243213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FDE4-0614-41C3-A238-CF40F934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44F0-AA54-4BB2-82E0-4632359D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DE23-2F2A-47D3-8D16-8FB38EA3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63F3-DD18-496B-9C64-36A427E5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316A-DB47-473D-8F0B-6F1807A1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2D8D-BA15-4706-BF1B-5D076590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D094-0374-42A4-AAA9-B5733B83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8578-9464-49E2-95EA-4ADDB11F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FD5B-B118-4644-BDFE-E49C56FB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D892-6DED-4645-AE6A-15914D29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6189-B381-416D-84EB-591A6D08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B6D2-1611-4C83-9486-333B71E0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6A2-A7B2-4EF4-A12C-048218CA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06B1-01CC-44BA-BE0D-6B95DE6F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4DD57-6E20-4344-888A-C93AF3CF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93E0C-12A6-43C7-BBC9-EBF01F13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AED-0C31-4BC9-A8B7-9C16D395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AB6A5-7719-4966-80D4-BBF3143B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4CCD9-9092-4771-8A17-62E92CAD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E96A5-4795-4FAB-84CE-CFCF0B09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5C9F9-A442-4E2B-BD86-00F51A9F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C58F-E75B-419A-851B-A5775EAB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1F50-E845-4F94-8239-355F8E45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8DC60-AA82-4619-AB95-304A0681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0DD79-5956-4D3F-8CA9-CE7CA3C8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9476F-32CD-47D7-A161-3D18E71C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DEE8-AA32-4596-A9AE-490BB9A1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525-794A-48AA-AF9C-297DFD21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69E-A653-41BE-9826-A53DFCD3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006-B260-4D57-86DC-8CB1D768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2AF-F021-41D3-848F-177D3187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8BE3-7B26-4AA8-A6C7-2F4E20CE9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10B8-CD1C-4A0E-8C89-4D4A17462A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1ED1-C957-470A-B234-FB207F714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ight, With Ebon Pi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O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.7.6.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H. Jameson 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P. Powell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ight with Ebon Pinio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1440" y="6488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ight, With Ebon Pi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ight with Ebon Pinio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ight with Ebon Pinio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ight with Ebon Pinio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ight with Ebon Pini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440" y="6488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ight, With Ebon Pi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ight with Ebon Pini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ight with Ebon Pinio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ight with Ebon Pinio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ight with Ebon Pinio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1440" y="6488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ight, With Ebon Pi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ight with Ebon Pinio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ight with Ebon Pinio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ight with Ebon Pinio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10:44Z</dcterms:modified>
  <cp:revision>29</cp:revision>
  <dc:subject/>
  <dc:title>Slide 1</dc:title>
</cp:coreProperties>
</file>