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A6C-7147-4131-8DDA-F78ADFE0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523-4A74-4F1B-A669-741C207D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4F7-D42B-4287-87B1-B12B0453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7DC-3177-4DD6-A4CF-F79D50D2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5CDB-C5A8-4E81-BBC0-3570754B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DCF9-2BC3-4729-B1B3-F9F38D9C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3ADD-2530-49E8-ACBD-DFB3C0D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3B34-A260-4E60-99E5-7300004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61C3-E0F2-4E6C-883E-743CAE6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8F0-3588-4B4D-B225-59C95C9B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890-A48E-4747-B2E4-4BE7434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99E-73DF-4FAD-800E-1CA0506D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6D6E-9E6A-4DE8-88D3-A65D6F9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3E7C-1C77-4E85-A41F-40D257B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8703-77F1-46C3-ACEF-44421C66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7C51-C486-4DA5-95AB-A48492BC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1FB5-D141-4EE8-A1D5-B7BC99B8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E90-A4EB-4745-8E40-306E91C7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23DD-8AFC-4871-BA1A-474ED2D7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8765-F99D-496D-A382-72DEE355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A861-AB56-4CE9-8B75-4DCBF96C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B80-6CE5-40BF-B1AE-80CD0F19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3457-9061-4DB9-BA9A-EB40F5E3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DC6D-4AD1-4E9B-B63F-B8465678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8B3E-3AC9-4F3F-A1D0-16EC11C1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1E28-2E47-4E93-9307-0A08837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144D-1C20-4967-A840-8CA4E3B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098D-33FC-4A3E-B772-16E6982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ECD7-77B2-4E76-B0AC-DA8CDC49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AAF3-D777-41DF-B499-F92AD2B2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8252-ED72-4F66-BB21-8D1429FF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338-71DD-4C80-9F72-7D33484C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796-40F5-4EAF-9A8F-CBE4614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B83-F732-4722-ADFD-C5D49F3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1FA-A047-45E6-8882-C0F121F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F0F-5746-420A-9833-87217C8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400-4B72-4A68-868D-3326DF8A9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00A-7375-401B-A602-7AD6C4CEB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FEAE-EA34-4448-8509-8E9F35B2B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 No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Not A Fri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ton Oatman, Jr.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Hugg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 Not 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 Not 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 Not 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 Not 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o Not One_v5of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o Not One_v5of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o Not One_v5of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 Not 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 Not 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 Not 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 Not 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 Not 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 Not 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 Not 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 Not 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1:28Z</dcterms:modified>
  <cp:revision>33</cp:revision>
  <dc:subject/>
  <dc:title>Slide 1</dc:title>
</cp:coreProperties>
</file>