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749-B45C-4058-9976-EEF3132E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92D-1E26-44BF-8254-87C97FB3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E69-E275-45AB-97D0-5EC11533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5898-0474-4784-B91C-DDB183DC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D068-37FD-4052-BFA8-699E29C0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0A4F-2A3B-4080-AE0F-76151BA4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4B66-9FEE-4BC6-A22E-E5A74E2C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BA6E-514C-45F7-ACF5-959473F8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6A39-44A7-4DC8-93E7-B95F4451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7363-1250-4C43-B022-EDFA6493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BD31-28E1-412C-9A5C-A8719288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393-48E0-4858-89CD-EDAF7E45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3C7F-9C08-4A47-B603-CEA7B8AE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1F59-F48A-4EC6-8369-0479532E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01C7-2940-40C4-9002-FC759B51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5397-8709-42B4-9FE9-92FB26B7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2413-6EB6-4D98-B46E-91E5E235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2250-CD6C-44F6-A446-DE14A486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0DD69-2B4C-427D-B6B8-60EBED48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F412A-0B51-40FC-BD89-B5D8064C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AA263-5ACE-4CC6-8255-A5C5B8BC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F99F-437E-46AB-A619-D89FB34D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0A88D-3341-4030-85D8-CF1DC972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3C7F4-B152-4A7D-BE0E-0A9AFFF1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953F5-8CAB-4A16-92CB-B4960CA2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5A17B-0805-405E-95EC-74DCD540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6AFC9-7EAB-474B-B28F-5BBED02D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7B121-220B-4696-A0E6-34932455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7FE6A-37B4-4877-B102-C0298C8B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E410E-9848-45BB-AFE2-F5886237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E0DE6-2965-4CEB-8535-FE825833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0DD4-1FA2-4AC6-96C5-929E482D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236-4A69-4953-9276-8A755920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A6A5-F326-4C7A-BBBF-1C481C3C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55F-9BD6-49EB-8142-26CACACC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0FF-DDC2-4606-B6C8-4AC90649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429A-09BE-4B0A-914D-000113571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B7F7-6D35-4BB9-BF11-F70ADBFFFA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9CD9-3741-4DF7-8A2E-799958CA2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earer, Still Nea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O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.10.9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lia N. Morris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lia N. Morris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earer Still Near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earer Still Nearer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78840" y="648828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Nearer, Still Nea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earer Still Nearer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earer Still Nearer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earer Still Near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8840" y="648828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earer, Still Nea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earer Still Near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earer Still Near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earer Still Near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78840" y="648828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earer, Still Nea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earer Still Near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earer Still Near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earer Still Near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78840" y="648828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earer, Still Nea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earer Still Near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10:06Z</dcterms:modified>
  <cp:revision>27</cp:revision>
  <dc:subject/>
  <dc:title>Slide 1</dc:title>
</cp:coreProperties>
</file>