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5A1-7087-491A-8AF3-8196DFE3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23A-CE8F-47D6-821D-0DB8D52A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E9D-BFB4-47AE-B10D-272AF0C1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5AE-08E5-4EAF-AA0F-8733E615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7DCD-BCC7-4324-B9D8-F36AF226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33FB-853E-4DAA-8104-A999D42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4B34-1C43-4311-BB2D-3A2B2BD9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66BB-5DDF-4409-A193-C9B152AF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3F69-F1B7-4EB0-9A57-B314FD66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F708-9059-4582-9194-E628C15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3991-CABA-4D04-91A5-169FBD0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42C-8A99-4388-BF05-D61C26A3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B27-8931-4BB3-B4F7-B8793C8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B2BE-F4C1-4941-B03B-0ACD35A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8A09-9AEC-4704-9BF8-B5B3B4D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7C8A-7E8F-44FF-847C-FB9C5809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D788-12E7-42DC-89D0-9DFA19CE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3A3-E1BD-4CDE-B9FB-6ECB4409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DB77-EB38-4BA0-B950-5B41284A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3330-5623-46E8-A5FF-51807A75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6F3E-0520-42DE-833D-96B42E54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752-609B-40E4-A9B6-0090FACF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8218-1EF7-44A1-94C3-7A4A6E2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4BC5-079E-470B-9897-56D9E12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3A96-970A-4000-A17C-EEBFC7F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147E-4221-4060-9B71-30B1670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4AF0-7C60-41DE-A305-C2C48D7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4E08-402D-4709-B7D1-466EFF23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6350-F7A3-4332-A03D-BD8ED9B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201F-3C8D-44E4-AD3B-0591C788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8F3A-82D6-4607-ACDB-46567EE5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B63-DEF8-4395-B0BA-0E1B9D4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89D-853F-4102-85C2-381B722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E26-DBE7-441D-BAF4-04752818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4CF-599E-47DF-BCCD-C77FD35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EEF-CEEC-4933-947A-2446617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E281-19EF-410E-B098-F52A35E24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9373-A8FC-46CA-900C-2DBDDD2DA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2FAE-86A1-4837-BFD4-85A53306C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er, My God,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T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rah F. Adams (18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er My God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er My God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er My God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er My God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er My God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er My God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er My God To The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6:38Z</dcterms:modified>
  <cp:revision>33</cp:revision>
  <dc:subject/>
  <dc:title>Slide 1</dc:title>
</cp:coreProperties>
</file>