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D98-2959-4E90-BFB7-C10BB96F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4C5-D284-406A-A483-01CBE0A0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1E7-DD3F-4F8B-B974-B1350E42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EA0-58C8-4947-8086-65DFF187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A342-AF9E-4C18-B3D2-302511FE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FC0C-BEC9-4652-B1F0-02DDC49A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E565-4068-4267-9BE9-D2D8D7E5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10A0-4AB8-4024-B039-4BC8F351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5AB9-B7F2-4F05-9753-A1D04CE3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FE5B-729A-4101-8792-5AE33D55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6DE8-A451-4651-8A02-8EB39A74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ADC-51D2-4302-AEED-5599D3E9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F397-CAE8-4959-8E9F-64F25AD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BBEF-744E-4E55-A10C-2B3C5933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129C-C594-4064-B4A5-ACB397A9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0DB5-9516-44AE-BF58-188F67E2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56F4-32D5-4195-90C1-956CD0A5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0EA-2BF6-403F-BA14-2AECDFCC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2517-9671-4064-8A4D-DE1A5025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7979-9440-42E5-B484-795AE7A0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15EB-92CE-4181-B049-5A322C45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623-88F2-4435-A2DD-DB829DEE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058C-7E8F-4725-B09C-EF35A949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E90A-4873-43DB-AC8D-16DF75FE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7D66-9BBF-4A71-A0EF-3FC8DCFA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20BCC-E17A-453E-A5AE-CAB0394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66A1-4CF0-4679-93EC-CE175F9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8F08F-DB66-45D4-A112-2BFBBCBB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7C05-821F-47F7-978A-27C85B0E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64C9E-FCF5-423D-A7BF-E1D16CE8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BE52-A8EC-439A-A1B1-B0F1059A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4C7-418A-49D3-AC6F-E121CF65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F88-860B-4116-8EEF-F1E8753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4BA-BE65-4B26-BEED-35D2C496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537-A77C-4869-9652-6F3F85E6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614-E2EE-4169-AD0D-93A924F8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641C-0F95-4BC5-A8B9-2629F68D6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CC87-10FB-4E08-928B-F03B0A765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ACFD-8E40-4AA9-91D3-BFE330E25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thing But The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thing But the Bl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5320" y="648828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thing But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thing But the Blo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thing But the Blo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othing But the Blo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thing But the Bl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320" y="648828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thing But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thing But the Bl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thing But the Blo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thing But the Blo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thing But the Bl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320" y="648828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thing But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thing But the Bl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thing But the Blo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thing But the Blo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7:27Z</dcterms:modified>
  <cp:revision>32</cp:revision>
  <dc:subject/>
  <dc:title>Slide 1</dc:title>
</cp:coreProperties>
</file>