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270-DC40-4BD3-B742-4380635B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5079-851A-44E1-AC97-D10E1784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44C6-0EC0-4418-B4FC-E0A8DF5C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15D8-CE9B-434D-B30A-B9462C14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34B2-96A3-4DC6-B041-F2043A0F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9243-5DDE-414D-AB9D-B13F0FD5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F21E-9014-48FB-83DF-121F9C20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820A-F3D7-40F5-BCB1-6A1F68F6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F044-2744-4BF8-B08A-AD56B3F0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B231-DA94-4BA5-83F2-E72F4C81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979C-684A-4D74-9750-940EF019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5238-9344-4E7B-9030-22357CA3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B9CD-46C2-45D2-A7D4-4E46C489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43C9-1403-40E6-A15B-701316A3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FC92-D409-41CD-965D-49355265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9772-4AB2-47D7-B778-5CB9A8C9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8897-C478-42FA-90EA-9974F4EA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D21A-8976-4EA5-8F85-B0898F99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A5BBB-6D8A-462A-A2F4-D0C5DC12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10F4F-C56E-4FEB-AC17-628B95C2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1AC8E-01C1-4928-B62C-6CA45CE9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6E2-BB98-4E9E-AFE8-ED8E7B49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42EA8-978F-42D8-AD96-6714FE2C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C498E-08CB-4A14-8357-564841F8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9306D-2807-4531-B757-6048A706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F53B2-75A5-4B8A-8881-F2693CFE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46A81-F027-4CAF-B194-799D683F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07E11-1B9D-400C-8072-07137978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A40B4-CC2B-421F-A2CC-C8D97BEE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F8E6E-E908-4887-8962-0371C62E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871B3-5AB6-419D-BD09-6A9AE521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EBC1-F136-4230-8BB9-18F57C36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B47B-A930-4000-9792-FB9EE1F2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4247-FB7B-4C8D-8921-6245A6C4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AB67-8B18-41FE-8B75-262D636F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6594-8058-4BB4-9B34-7A30CDF4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8C4A-DCD6-4264-9181-E3262A9D6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5B60-6BCC-4176-9E0A-B39F42F2B1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89C0-D8F4-4DBB-900D-209567B58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ear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Jesus, Keep Me Near The Cro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H. Doane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ear The Cross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8200" y="648828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ear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Near The Cross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ear The Cross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Near The Cross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Near The Cross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8200" y="648828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Near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Near The Cross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Near The Cross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Near The Cross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ear The Cros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8200" y="648828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ear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ear The Cros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ear The Cros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ear The Cros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ear The Cros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8200" y="648828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ear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ear The Cros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Near The Cros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ear The Cros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04:29Z</dcterms:modified>
  <cp:revision>27</cp:revision>
  <dc:subject/>
  <dc:title>Slide 1</dc:title>
</cp:coreProperties>
</file>