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ADB-BD6F-40F7-AB80-1A372AD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620-50FF-4BD7-94F1-A626889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5AB-81CF-4107-8BC5-EE647836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C9D-32AE-4DCD-A003-AB0071B5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847-6599-4EB7-B1F2-5A7AE42C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0445-F8DC-48F5-BAB4-F67AE6E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2C01-924B-4360-8A9E-BAEF083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B04-60C9-4602-8659-F9CD523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F08C-C7FF-4C0D-A966-8B20A7F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769-C14B-41B1-9361-2383BE34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9366-B781-4623-A384-90C0BED8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50D-3B0D-4BF4-939D-A05E1C3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06D-692D-4833-80F9-028D9849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CC3D-5EFA-476D-BBFC-171D4ED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8800-2661-464F-BFB8-E1EA462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FFD5-3FBB-4332-877D-C44D0BA3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D786-E4D8-40C6-A171-1DA0282B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DA7-41B6-45A6-846A-A41E011C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3909-740B-4F12-B453-A458FC6C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2CBA-7F1D-4357-80FE-1116977F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2165-F84E-4B88-9ACC-AE269603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007-C829-482B-8964-59A653A5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D678-AC02-4C30-9B7D-4D801848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2BA1-226B-4EBF-8C1A-70934C6D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8AB4-D17E-415E-A077-8302A1E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A6F3-B805-4C12-B84F-0DEB82F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F0CF-0488-4C7F-BE02-67C7C72A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A3CE-38AB-447E-BDEC-4826B20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B9DD-3D5D-4416-8E66-6F8E4E7C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2D49-8AA3-418D-8E18-A1F4FBE7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7918-E9F9-45AA-B52F-C389823F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35B-6099-4551-8995-D8E76323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406-2A00-45EC-A9C7-E000D7EC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F5D-44EC-49C0-8D44-5F8C61AE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BBB-C4DA-4CAB-BA65-86D108B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361-5B7A-44C6-A409-40A8F06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C55-31BC-4F65-828E-5BADE5E98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A02-287D-450B-B8F3-172FD215A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4D9F-64EB-4123-94FB-B5E9DA722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ailed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Frank A Breck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ant Colfax Tulla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ailed To The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ailed To The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ailed To The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ailed To The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ailed To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ailed To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ailed To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ailed To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ailed To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ailed To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ailed To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ailed To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3:38Z</dcterms:modified>
  <cp:revision>17</cp:revision>
  <dc:subject/>
  <dc:title>Slide 1</dc:title>
</cp:coreProperties>
</file>