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98A4-39AA-47FE-B5DD-9863525DC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CFCD-0AFA-428A-A304-E5E98B5E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A8F4-1CAB-47CA-ABBB-033868A59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C4B3-DF70-4C08-92A3-29F8DA8A1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7629-8A9A-430F-A922-9D0821820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2239-71B4-4B54-8DC0-F9BD9DCF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DB31-6637-4FBA-8198-02C1184C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D20B-3D90-4FCC-80A0-E5D03BC5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464F-4D4B-4DC6-9981-78781E3A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CEDA-B949-4062-9EC1-918684E9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64F9-F5A8-49A5-92A2-CC7621A2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4AA3-EB2C-400E-8225-EB3E0645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3E3A-0C25-43FD-8FAA-93C02ED2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DAD3-2955-404E-8098-0A19A54F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9D4C-F78D-4A51-8EF8-7F05DAEE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459A-9F48-49A7-A127-7983FD2CB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205F-90DD-4EA2-9837-DC8E156B4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6058-F055-41C8-9ED6-2CF2882F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94E9E-4E9A-4FF7-80DD-FF73181E6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C421A-937F-4D72-B787-4234F91F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AE708-6009-4AB2-9C2A-EDA867CB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3862-247D-4A31-B1B1-9C6CFA41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DCBC7-C73B-4C88-B26C-319BEAF9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CF60D-27B6-4CDC-A935-EE119848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35F2B-BEB2-4AA5-874D-96EE1116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EF8B1-D39F-4F9F-B431-68A19CD7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C4D9C-EFDB-416F-BDE5-1DBC8FF2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DD086-E6AF-48F9-9B50-73F030F3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FFB3C-712F-443F-A5B5-460C69D6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09947-7729-47F1-9CB8-BE9539E49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C29FA-39DA-4D84-A9D8-CF332A0ED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661A-600D-4443-8976-B1F92BC3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123E-1866-41EE-999F-1BE96BB9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6247-AD62-46BB-826C-78D8FAAA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5018-D366-4175-97D3-8DED859A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9524-734E-445A-BD86-25A0401C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0BD3-AEA2-42B8-99AF-122A3CE05F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9F3B-59B1-4FF7-9D2A-065D9ED03B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91F2-25AC-49E0-B29F-A2BCE13F45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None Of Self And All Of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E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eodore Monod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McGranahan (18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8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None Of Self And All Of The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37880" y="6488280"/>
            <a:ext cx="39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None Of Self And All Of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None Of Self And All Of The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None Of Self And All Of The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None Of Self And All Of The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None Of Self And All Of Thee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37880" y="6488280"/>
            <a:ext cx="39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None Of Self And All Of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None Of Self And All Of Thee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None Of Self And All Of Thee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None Of Self And All Of Thee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None Of Self And All Of Th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7880" y="6488280"/>
            <a:ext cx="39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None Of Self And All Of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None Of Self And All Of The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None Of Self And All Of The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None Of Self And All Of The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None Of Self And All Of The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37880" y="6488280"/>
            <a:ext cx="39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None Of Self And All Of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None Of Self And All Of The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None Of Self And All Of The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None Of Self And All Of The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23:12:17Z</dcterms:modified>
  <cp:revision>34</cp:revision>
  <dc:subject/>
  <dc:title>Slide 1</dc:title>
</cp:coreProperties>
</file>