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F99-7604-441E-A7B2-0D1EEB11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635-C75D-48A3-96F7-794EC670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A3E-4CD0-42B2-B4AE-B77FC93F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249-73E5-409B-80C6-AD98272C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EF5F-D664-4490-AB84-957F209D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0852-D6B1-42B7-96E3-B83BF1C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24AE-A4CF-4AB4-AA17-F1F40FC0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AD31-7AD7-4F33-887A-F35B5484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B48-BCD2-4173-95EC-F8DFBB2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A949-EA5B-47B0-9675-7CC0CE4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6C05-6313-424E-8340-464F759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739-CE68-4EF6-81C6-6D9CFE3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C82C-7D84-4FF9-8F73-AAA6256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D026-F639-45A5-BAEF-DA2A45F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8CA-496C-44C9-BEA2-F21F4E9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85F5-05C9-4D83-8811-78DD3F2F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AEA-BADB-427C-A1EF-F55ADE66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572-584F-40DE-BE37-61AD14C8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EB5C-4509-4987-8105-106A5313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808C-60D3-4A6A-82C8-819B5D0F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0BA0-6183-44B3-A29C-80572E3A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CC-FE02-4412-A2FD-D0FA2B12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250B-5660-4D03-879D-CB0D9D4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3796-049F-4A1A-9F22-37407C0C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86D3-E14E-41F3-9A25-5CB4828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56E5-3ED9-4453-A1A2-152B72B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CC59-AB53-4AC3-AF5C-F1C5571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294B-EEF1-4CE7-B1D3-2E29DFA8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DE90-4150-4527-908D-BFC814F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8548-F0AA-46D0-9AE4-4BBAC598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9912-4EE4-40B5-A784-264FCE15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145-1377-4A3C-9704-FF40C24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6EB-AE12-47CB-A510-6B6F08E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CC9-DD32-459C-B8C8-6AB31FE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AAF-F774-4154-B94F-6D6E969A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364-1A5B-4844-91C1-BF43577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763-2B49-4964-AFDD-11E1D3220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E58-7EE3-44A7-BE5E-BB6A98467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D8E-D1A8-4A94-B1FC-951362D93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body Knows the Trouble I S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H, YES L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Irregular w/ 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uthern U.S. Spiritu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body Knows The Trouble I S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body Knows The Trouble I See_vEnd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body Knows The Trouble I See_vEnd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486200" y="6519960"/>
            <a:ext cx="1660680" cy="338040"/>
            <a:chOff x="7486200" y="6519960"/>
            <a:chExt cx="1660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39560" y="6519960"/>
              <a:ext cx="6073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486200" y="6611760"/>
              <a:ext cx="103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body Knows The Trouble I S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body Knows The Trouble I S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body Knows The Trouble I S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body Knows The Trouble I S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body Knows The Trouble I S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body Knows The Trouble I S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body Knows The Trouble I S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body Knows The Trouble I S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9:20Z</dcterms:modified>
  <cp:revision>34</cp:revision>
  <dc:subject/>
  <dc:title>Slide 1</dc:title>
</cp:coreProperties>
</file>