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437-362F-4BB1-A5A9-69B157DD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E6F-03CF-459C-8443-30151A5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BED-CF0B-4717-96B1-25E2B5BE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71F-4D6B-40EA-8982-9D81AE8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E21B-1284-440C-83CF-F4565577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9835-4874-4B5C-AF65-76C89ADE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C5A3-29AD-4E1B-942A-F1069A1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AEB1-E033-4A56-8A91-405E7392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88EC-DC6C-44D0-A80D-DBCAF51A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81CA-867E-40FA-978F-EF02976B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51F3-5642-4B43-90C5-B57A6F9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357-C375-4428-8C28-99A6A3F9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7174-92B3-41B7-94DD-EFFD202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23EF-E834-4C29-ADFE-089A830D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865F-1559-4652-A0B2-B81B2AF8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23D6-B1DA-49D4-9FFD-6EA35511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FEA2-D9DA-4251-AF04-4AE783B6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3CB-0B4C-40F2-B5FE-98161A7A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7914-CD6C-44D1-A321-2014F3A2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2E6F-1B1D-45F0-B4BF-BBE2A6BD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EA95C-6AD0-4DDF-A779-B3276033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4B7-5CD6-4031-930E-2ACC0BA3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6A9F-6A28-4F17-8D48-8500C89A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BDDF-4818-4155-B9C7-7F0D6F76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C0EF-8489-4B48-9B7C-2F85D0A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0A8B-C4FC-4493-BC72-049BCEEC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44FE-1CEF-4185-A148-A1B59E94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2C9A-61BC-4E92-9570-74ED308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F998-68BC-4D9E-AB06-01857800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7BCA-D4D0-4B37-8106-11E2F6EB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1530-3F3E-4FBC-8BEC-E4500CC3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2FE-2611-4B2C-9559-756B6322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ED7-EA9F-4B4F-826C-9024804A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128-06AE-44FC-ACA1-E8C1FC31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022-B36E-4A88-80AF-74B52C0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CA5-A05E-4451-B655-188E3D32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990-4439-4468-9D18-4B40107D9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E58F-36FD-412E-A86E-50570A601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8051-2EC5-4770-8EE5-68FD92CED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w The Day Is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ER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bine Baring-Gould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 Barnb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w The Day Is Over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w The Day Is Over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w The Day Is Over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w The Day Is Over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w The Day Is Over_arr1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2:59Z</dcterms:modified>
  <cp:revision>37</cp:revision>
  <dc:subject/>
  <dc:title>Slide 1</dc:title>
</cp:coreProperties>
</file>