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749-2A89-4D50-921B-FE06A387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0D3A-AFA9-4FB8-B3AC-DFBC5C85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AD0-C540-4EA7-857B-D19D8BA4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3DE-C19D-4DAE-A02E-F3F41BE7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4085-92DC-4144-9009-F0D47CB1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CCC5-8835-4EE0-8EC0-4F405C12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F72C-AEDF-4C13-BEA9-743ECD79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42E2-D7D8-4F24-84A9-358900D5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0408-51A7-4A00-90D4-A5D7C623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B651-1471-4450-8994-C42DF1F3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4826-C051-43B8-9101-AF6C6594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0EAF-9ED5-4F5D-A2D6-6A1D3305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5175-9FBA-40A5-88C9-7D055FD4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4387-675C-4CCE-AA23-362216AE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B431-C69B-483D-9927-A9DCE403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522D-B5D6-456D-B888-5E8882C39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CF0D-7F12-460C-94E1-8171BA94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63D5-97BC-43C3-A45A-77CE6B1B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69ED8-5261-49F6-BD6F-184C137A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6240-C22F-47B6-9D54-8F0C673F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8E260-CBDE-4CEA-9679-7DF8149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E74-4C2C-4378-BE6D-69AB8A35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CE9C4-4CF4-4270-89F2-AFF3F791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4C0D-731D-4945-A04E-1321FE5A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A5B4-EAA8-4225-9BB3-9ECF54EB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0F2D-0A0A-4840-B6D9-0C5366B1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2832C-C2A1-4E81-B6E3-51CD9C1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16DC6-66E6-49EB-A9A8-23414F7F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1FA1-47C2-4403-9F6F-E7CD7192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8BA7-47C8-4759-83AC-EACC3A62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787D3-8051-49BF-AF76-AC09F29E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222-63C2-4DC5-9A0C-5BB3EDA9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4B2-A196-4FC3-AA13-A3C2627B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0C1-B50F-445D-8E49-606127F2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A14-57A3-4135-B425-F29F2563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508-9620-4226-A0D1-5F217AE9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D09E-2436-4824-858D-246C75B8F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FA1C-9671-40A2-A879-67AEBCE2D2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8F23-66C6-474F-91A9-5106537C0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The Cross Of Calv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684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ill’s &amp; McLaughli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ood News in Song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8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Lizzie DeArm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ill’s &amp; McLaughlin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ood News in Song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86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William J. Kirkpatrick (19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 The Cross Of Calva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 The Cross Of Calva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 The Cross Of Calvar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The Cross Of Calvary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n The Cross Of Calva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n The Cross Of Calva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n The Cross Of Calva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n The Cross Of Calva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n The Cross Of Calvar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n The Cross Of Calvary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 The Cross Of Calva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On The Cross Of Calvary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On The Cross Of Calvary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n The Cross Of Calvary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On The Cross Of Calvary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On The Cross Of Calvary_v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On The Cross Of Calvary_v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 The Cross Of Calva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 The Cross Of Calva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 The Cross Of Calva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The Cross Of Calvar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The Cross Of Calvary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 The Cross Of Calva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24920" y="6488280"/>
            <a:ext cx="350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The Cross Of Cal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The Cross Of Calva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14:47Z</dcterms:modified>
  <cp:revision>31</cp:revision>
  <dc:subject/>
  <dc:title>Slide 1</dc:title>
</cp:coreProperties>
</file>