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3900-A9AE-4DC3-BD16-9177B139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718-6B6E-4B33-8BE2-04D3733B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CF7-D911-41A5-AF45-AC8B7163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4869-3D36-4C8B-BC71-8E3934DD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6D69-F6FE-4FC0-90B1-14CE2B5F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B20E-1308-4401-97D4-0C254B39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A952-6747-4E04-9021-45083789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AAF-458C-45FF-B25E-33CC824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7169-9A89-4CBC-8FF3-E33DDEAE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23E2-134B-41F5-B266-AE424DFF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D2B0-4C3A-451B-B3C5-F1970447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991-2D39-4C21-99FF-244E8A6A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7E87-95A5-41F4-A062-7EAC022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EE8A-03D8-40B6-AEF1-75A7549A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AB3-DF42-4D63-BF33-C167D0A1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B5C-861F-49B8-BCAE-D6E99C3F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1858-D7C8-48DF-A808-3D97AE5C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3E5-7D31-495B-93AE-7D4E8B4F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D4665-CA89-4EAF-8884-838A3F03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4295B-DDE3-43C3-B7F6-D4C7905C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18C9-A02A-4AB6-B8E4-B57B5B4B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7BE-EDD8-4CDD-8D5D-B92677C9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EC2E-D53D-4894-A35F-3606DE36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831D1-5505-4D8B-8885-908EB4C4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C27F0-5D68-40C9-ABC2-09C2E7FA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87F9A-8092-4491-9CE4-FC554C16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4215-98CC-4E1C-BC96-923D036E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270E6-C7BD-46D3-AA13-D651603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EEC9D-E5E6-4CF1-A1C3-5FAF45CD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A25A4-DFA7-4225-B300-5FC1FFB9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6A92-CAB4-4A07-BE04-274538FE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B5D-571A-47C4-A33C-A8A82587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CF5-4F1F-42B5-9220-FC3AAF2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B583-48FC-4AB7-96F9-3805F9BD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6960-8987-4777-8F15-24854058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E17-4FDC-4D18-92B1-66BF5A7D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944A-5BF1-411F-8CEB-C54DA2C6F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9057-2FCF-4697-AE94-2E21C41B1C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BD5F-A0FE-4DBC-B196-4A3771556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Fill My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vss. 2 &amp; 3 John Newton (17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Unknow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Fill My Cup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Fill My Cup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Fill My Cup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Fill My Cup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Fill My Cup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Fill My Cup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Fill My Cup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94680" y="648828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O Fill My C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Fill My Cup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4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4:23Z</dcterms:modified>
  <cp:revision>31</cp:revision>
  <dc:subject/>
  <dc:title>Slide 1</dc:title>
</cp:coreProperties>
</file>