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04B-8372-4287-9BE2-27E990AF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8C2-A7A2-4833-B069-83B29891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34A-612C-47ED-AEC1-57EB3FA0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A36B-86B8-4651-A1C8-2E1B8431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9FAE-D01D-41E3-813F-ED13F444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4339-80A4-4890-836F-75493DEE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5775-7DA0-4830-8E0A-6F3C3E79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DAB3-012F-4B4A-A56E-BB7C7604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EB53-B4A9-438C-8DA9-CF574729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26F4-186C-4FC0-9847-A0212265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35D7-8050-4232-BA05-B414EF4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3CE-AD2C-41D2-8953-83C5798E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C1F8-6952-41FC-8BB1-36E3876A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BDB0-2ECF-47BB-B281-896958DD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C4BE-7F38-4496-B1EB-F151AC2E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B08A-1109-4B17-9CE7-695F1BFB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CBCD-FA45-48A6-8DAF-37402A0C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308-E321-4FE0-9A44-B3E5888C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6FB4-E303-42F1-9BE1-0ED2047D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FA7A-9D8F-4D9E-B3C4-9568BDB8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FD3B-959A-438E-95D2-71318B07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A79-E846-4887-8CBB-CDD07572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D812-A3DF-401E-BD6F-81E9609C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2804-0FEC-4C44-96C7-1EDF65C0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9E65-C322-4A36-BD2F-82B41589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A76F-A88F-4A63-B894-27D341D9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8EBD6-D45D-47EA-9911-20D877D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9B2D-42F9-4626-AE88-4E7D0820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4B21-B7F3-45E5-9AFF-6A9A1883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84BD7-3D59-47EB-86F4-AB91E3B1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FC651-DFF1-4867-A2D5-674B4994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8FE-A9F5-4CC9-B1B1-6D3EF5BA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E4C-C2D2-4958-A169-F7CEDBB3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CC4B-60DE-4193-9589-AA852261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3BC-7114-4C59-ABE2-626C6591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FE1A-F832-4861-BAA2-1320C01D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AC85-375E-490A-8501-CAE960F90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5096-5F55-4DCE-972F-DFE9F8B63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079C-0AD1-4078-9B4B-8A62E250F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, Thou Fount Of Every Bl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NETT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Robins (17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yeth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epository of Sacred Music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Thou Fount Of Every Bles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6000" y="648828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, Thou Fount Of Every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Thou Fount Of Every Bles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Thou Fount Of Every Bless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Thou Fount Of Every Blessing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Thou Fount Of Every Bles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6000" y="648828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, Thou Fount Of Every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Thou Fount Of Every Bles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Thou Fount Of Every Bless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Thou Fount Of Every Blessing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Thou Fount Of Every Bles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6000" y="6488280"/>
            <a:ext cx="43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, Thou Fount Of Every Bl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Thou Fount Of Every Bles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Thou Fount Of Every Bless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Thou Fount Of Every Blessing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7:00Z</dcterms:modified>
  <cp:revision>15</cp:revision>
  <dc:subject/>
  <dc:title>Slide 1</dc:title>
</cp:coreProperties>
</file>