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75A5-13D2-4E64-91E2-FC4C1C50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8031-17F8-4B39-85C0-2EA64695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A11-B352-45EE-A9E3-05C33A7E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7EB7-96C0-4932-ACED-55D3C235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2653-DAA2-4A46-8916-EEAEB1C7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DB06-ED72-466C-9845-704A1306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4C5D-C2E6-4C3D-BD5D-3AC84F7C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13EB-674A-469F-B5D8-33C2E3CD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36FE-80B6-452E-91C0-668B280A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1066-D293-495F-AE73-B133600B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C78D-155B-4D84-ACA5-2A22B4B4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9175-4A49-4834-94A1-CEEF2E96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0367-B18B-43CD-B8F5-DCE1E5B4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CE38-7805-4AC2-8644-A4F7A30E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0345-937E-4A36-A577-FCEE01FA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14A3-5DBF-4916-91ED-338158CF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DCB1-7958-40CC-86A4-4582CADB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3CA-79D5-4F81-8AC4-08DE0364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F665E-2E2A-4DB7-8A14-3186C134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EF6D2-5B7D-4B96-853C-FE097365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D6C69-D5B3-43D9-92E3-96708779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709-1C23-4763-A8B3-F14175D9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894BF-8A46-4BE6-A84A-0D7C761D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25E1C-FA49-48AC-98B4-3415C555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230B8-6C66-4120-8262-30AC2BEC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E9CB6-6652-4D45-9535-CBD89989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3F5A2-5110-464A-B362-55BCBBDB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42778-54D6-4A1E-AC43-CB8E634A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59991-CA8B-49E2-A29B-43371D1A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11CF7-F682-4C9A-A547-A5EE60CE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86F67-7E87-4DA7-8BC7-5C0BDA32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0279-BF52-49E7-BED1-9D504C1C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7A4D-0F2B-469B-863C-71FA9615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7360-1A28-4947-8CBB-925E0F9C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9141-DDC6-4183-A122-DE5E7CF8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A048-53DF-45E7-A0B1-37F17567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9FB3-1F63-480C-AC72-A2F377CBC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F975-95C9-4DA8-BCA4-FB6B07A02D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7D07-5402-4A25-8C82-8A1E6036B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Listen To The Wondrous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What Did He Do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. Gray (190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Owen (185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graphical user interfac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4560" y="648828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Listen To The Wondrous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 Listen to the Wondrous Story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 Listen to the Wondrous Story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 Listen to the Wondrous Story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Listen to the Wondrous Stor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4560" y="648828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Listen To The Wondrous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Listen to the Wondrous Stor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Listen to the Wondrous Stor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Listen to the Wondrous Stor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Listen to the Wondrous Stor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4560" y="648828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Listen To The Wondrous 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Listen to the Wondrous Stor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Listen to the Wondrous Stor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Listen to the Wondrous Stor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29:24Z</dcterms:modified>
  <cp:revision>31</cp:revision>
  <dc:subject/>
  <dc:title>Slide 1</dc:title>
</cp:coreProperties>
</file>