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86B-9D64-4761-AFDB-4403DA5A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CA4-291F-4E7E-8C35-565B80EF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31E-D110-4F45-AECE-CEA1DBA7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769-243F-4E11-AADE-FD19CFEF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6127-64A4-412E-A191-8965978C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0FA8-7C8D-4D9A-BCA0-004B471A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AA2A-4FFA-4F4B-B6A6-6B8E9B61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F4DF-7419-4484-BE03-521B3CAD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9EA0-A120-4721-AD1A-159D1672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4DC2-A6F8-4D98-92DC-6F7F5CC7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5722-9B9E-4841-A054-04E3B85E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648-1387-45DC-A14F-95C189C6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EA38-B627-48CD-8A7C-6C0CA8B3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AB04-EE5E-42F2-978A-EA4EADF1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3CA0-B790-4C87-B8F2-4E97148A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58F5-FB5F-45DE-AD5D-B69A9E3B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4D9A-8098-482E-9737-55A51CE2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DA3-E947-4978-B932-1CAA6567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7E220-EEE7-4C09-B42A-E7431CAF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B501C-748C-4971-97A7-C8674353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31405-AF4C-4339-9F55-00E5753B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416-4A55-4AAC-92F4-E91E37CD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DD83E-2FBA-4B30-BC5B-A718E33E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E197-259D-41D5-B81C-19BD4004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AAE12-A562-4C28-9CDD-AE68724C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963F1-A30C-4810-9DF4-5D146A0A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B78C2-5FB2-4861-BBE4-CD50CE5A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94F1-8269-4FAC-9EF2-80D37F86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A8D3-DBDF-4DD0-BA1E-1E4CF52B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83A4D-4829-4B81-B3B8-5D974BA9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41040-DC4C-46A3-99EC-5143C29E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D84-AA8C-4FAB-8581-273114CA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F98-B04A-4726-B76D-665779D1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2EB-F3B5-45B2-B9D0-8B1F8AA6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68F-A92C-4B43-942E-E4DB3FE4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291-BC5C-4A88-9FB2-DEC91689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D9EA-DD5B-4C42-BC29-67DD308E0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2835-28D6-40DC-A47D-F9800D3066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3774-C8AE-41F3-835A-A29EED943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ur King Imman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Rowe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. Beasley (191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ur King I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ur King Immanuel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ur King Immanuel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ur King Immanuel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ur King Immanue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6680" y="6488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ur King I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ur King Immanue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ur King I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Our King Immanuel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Our King Immanuel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Our King Immanuel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ur King Immanue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6680" y="6488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ur King I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ur King Immanue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ur King I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ur King Immanuel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ur King Immanuel_vC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ur King Immanuel_vC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ur King Immanue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76680" y="6488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ur King I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ur King Immanue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53:36Z</dcterms:modified>
  <cp:revision>33</cp:revision>
  <dc:subject/>
  <dc:title>Slide 1</dc:title>
</cp:coreProperties>
</file>