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4EF4-11EC-45F9-8E98-68EFC036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E33C-87DA-496C-A95F-900F67E1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14D3-C523-485A-A9E6-C31191F2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49E4-8E59-4780-AEC6-66B10A25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20EC-5A17-4ACA-898E-A5B2C0B3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7157-DB36-40D6-BDA3-4591B6BB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1579-6392-41D9-B114-326EDE61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B3C0-13C4-48AB-AA04-70308BF0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31C8-580E-4B4E-AEF0-F2B80ECE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9AD1-612A-4537-BFDE-10D7B4A9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4B38-3AA9-44B8-893E-9D819998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4EE4-3780-41E6-8E16-428050A7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F818-D5FD-4F13-9363-5C875ED5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1118-0911-49F8-B36D-A088942E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5359-21F4-4761-86C1-F19CED63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438A-9472-43E5-B9E3-9739C54A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47A8-122E-4BC7-AAF0-A15B24E0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A505-79E9-401A-97D0-6F7A64C9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B942F-9C9E-4AB9-A46A-AC44A59F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ACBC7-732E-41CB-AB12-F21D671A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9C960-AD0B-44FD-83E6-361B24C6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FA85-DED7-4AA4-9FA8-0DF9AA74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31EA0-355C-4380-9FFF-03E35127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88097-C00A-487A-BE8B-F3E5B821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944DF-263E-4B15-9371-CB266805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7C569-C3C5-458B-938A-C7C0F326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06177-7766-43A2-B56C-08F6652C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C8C34-D939-4C63-B267-13275366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EF267-FC75-484A-8C67-899A688B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3A4D9-D06B-41D2-9C14-016BDBD4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E0329-ADC8-4CDD-9F26-3126685E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E209-39D7-49EB-835A-68D04713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EDD7-DA59-4294-AB2C-BE3739C5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CAEE-C4F9-41B4-A0DF-69F22C50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74FC-A462-4180-926C-C6507305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3625-9F6B-4C05-A7A6-53D83E7F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0FCB-27CF-4755-A9F9-20BC442A1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CDAC-B955-490F-8633-B4EF902119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D999-F878-4B4D-B1BE-DC5208270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Lord, Our 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840" y="4902120"/>
            <a:ext cx="143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F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salm 8:1, Arr. H. R. Palmer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. R. Palmer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9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 Lord Our Lord_arr1_v1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 Lord Our Lord_arr1_v1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 Lord Our Lord_arr1_v1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Lord Our Lord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1080" y="6488280"/>
            <a:ext cx="27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Lord, Our L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Lord Our Lord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Lord Our Lord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Lord Our Lord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Lord Our Lord_arr1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Lord Our Lord_arr1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 Lord Our Lord_arr1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 Lord Our Lord_arr1_v1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30:08Z</dcterms:modified>
  <cp:revision>29</cp:revision>
  <dc:subject/>
  <dc:title>Slide 1</dc:title>
</cp:coreProperties>
</file>