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CB3-7475-48BC-AE6B-196CE204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4B1A-6CE3-444F-9978-08411FC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84E2-01B8-4397-A0E4-5578DB42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C76E-EE0B-4607-A00C-8B4EEE05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9A89-1B50-4AA3-9039-3567E150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F2E5-30B6-4041-86A3-8F6BB5CF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C1C5-1437-4B12-B1AB-CBD0F3A8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851F-E88E-453D-91E2-9AD6F465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2EC7-1B5E-4481-9874-18C723FA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69A9-3F96-4182-A764-643BD192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E61D-AC3B-44A2-9ECC-738A40E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205-F94E-4DFE-84FF-4EF0F377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043E-ABF4-4150-815F-A33B7C21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D195-8B94-491D-9AF8-3EB347CA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7417-59FB-4A80-9A16-9036AB49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8235-F45E-4894-BC15-F5392B4C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52F8-1FD9-4A73-9510-B06F5367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12D-EAEE-4CB7-A881-A1542B97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1F5DA-2A2B-4B16-B595-76B9353A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06CD5-A84A-4AED-80C6-118EEED9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BFCA-8249-498A-93F4-009BC829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A8E-105D-4D48-A08C-6054D85D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EA75F-220C-464D-AC22-232C2171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3E9D-3BD9-4E15-9933-7CC89A13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4AD7-2628-4E0F-8859-5310B101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748E-117B-484B-BD36-7352F920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EAFC1-4870-4AFF-8B58-B52838B7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778B3-DCCB-4759-9A76-36DF7811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57EC-724B-4405-93B8-ED9C9139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910E-45F4-4E10-B810-E6A70CDD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D491-42B2-48FB-834A-FC94D618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297-E07A-4C65-887B-BDEE1DCD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386-1D89-4F23-8328-3C899B0F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AF5-9FDB-463B-9A0D-5376F531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883-D162-4642-BE31-8BC117BD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C5E-78F0-4C54-9CB9-4A369C3A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6FC6-8CFC-40E8-9FA8-C9E67DA98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7342-5109-4A71-B3D8-6ECBEA2C66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64DA-2D03-4166-8EE7-CECABE39E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pen My Eyes, That I May 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C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9.8.8.8.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Scott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Scott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pen My Eyes That I May S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6560" y="648828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pen My Eyes, That I May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pen My Eyes That I May S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pen My Eyes That I May Se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pen My Eyes That I May Se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pen My Eyes That I May S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6560" y="648828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pen My Eyes, That I May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pen My Eyes That I May S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pen My Eyes That I May S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pen My Eyes That I May S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pen My Eyes That I May S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6560" y="6488280"/>
            <a:ext cx="41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pen My Eyes, That I May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pen My Eyes That I May S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pen My Eyes That I May S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pen My Eyes That I May S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52:59Z</dcterms:modified>
  <cp:revision>35</cp:revision>
  <dc:subject/>
  <dc:title>Slide 1</dc:title>
</cp:coreProperties>
</file>