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629-B16B-4CF0-8EA6-86FDF752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694-DEAE-47C3-B146-7A241217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124-25ED-45AA-9AB5-6DA45323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7DA-CE49-4F76-8407-2C2620AB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A804-D94E-4491-B2D7-226F9462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E04-F029-4FC7-9548-5056A9E8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8003-69DA-402D-BDE5-EDD9C7E4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204B-D701-4A58-B198-79A63C69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4C3C8-4F97-43A5-856E-F9A30686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2404-FDF2-4E6F-9876-AD837FC5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15EB-4DDD-4319-9D69-541F43A7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8FD-9DB7-43C3-B7BA-BD44B5A7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8E5-18E9-4D13-80FB-59F330FE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8CCC-7011-452F-88BD-E3B5B192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1104-74EC-47C3-B7FB-1EC6ACB5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731-78F9-486C-B163-512D1C3C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494-A8F5-40B8-89B1-2AB9A4F7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4FF8-151C-4EBC-8CB9-D9366365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1D2E4-E767-4503-84FA-8A815F55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9A1A-1917-4D46-9106-89A766AD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79613-5C12-43AD-9540-F287ADEC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6235-13B2-4E38-BF47-0E0E0F5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5CED-3EAC-4249-AF87-68A7E47A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8B2B-E551-467C-9D94-F5CF4E10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CA85-6651-4ABE-AB04-CDF3DFE3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32F67-8C09-42FA-8561-152BC80B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676F-09F0-48EB-BBC5-CB39C97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FB68F-4694-4C09-9069-CE5592A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CA09-1FBC-452A-AF44-D29929FE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A918-250C-4C28-AF78-630AAFAD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D9F7-A8F0-4289-9F49-C19E17A4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091-6B0F-4100-867E-3212BF6C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791-E9C1-46FB-A3FF-EE53CCA9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BC1A-F9DC-49D7-9616-95CEB4E0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F88-F64F-4009-ACE3-85D778A8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AB5-CED1-4FD8-94FB-1C26C0B8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EBD-7F1A-436A-BB5B-8BBA4CB08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EBAF-05EA-4331-ACFB-353BFAF4D1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5986-7EAC-48A3-BDE9-2F0209227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Zion's Glorious Su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K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8400" y="4902120"/>
            <a:ext cx="227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Sanc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Kent (18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Skene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Zions Glorious Summi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94320" y="648828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Zions Glorious Summit_vS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Zions Glorious Summit_vS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 Zions Glorious Summit_vS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3680" y="6488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Sanc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Zions Glorious Summi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Zions Glorious Summi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Zions Glorious Summi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Zions Glorious Summi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Zions Glorious Summi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Zions Glorious Summi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Zions Glorious Summi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0160" y="6488280"/>
            <a:ext cx="37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Zion's Glorious Su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Zions Glorious Summi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7:41Z</dcterms:modified>
  <cp:revision>16</cp:revision>
  <dc:subject/>
  <dc:title>Slide 1</dc:title>
</cp:coreProperties>
</file>