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0F9-EC61-4F0A-9CDB-BA9DBEAD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1AB-E00D-4FED-808E-DD3424C8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89D-2D6D-47E3-A8A0-C3D8D239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BD6-2642-4205-8C78-468E7997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5C68A-7799-4742-B2BB-922B257A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EF74-DB14-4539-AC59-6D160478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26C3-5853-4154-AB80-9C64CD8F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674E-359C-4524-AE4F-7071B625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567D-46D7-4E0D-9F97-95189014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1231-A3CD-4062-8C61-ABBAE0C8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86B8-D484-4091-86EF-FFDEE615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19F-3F29-4C3F-92E6-6B5B7495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DBD2-997A-446D-AE07-9DD0C975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BDA0-3227-426F-B37B-5E7593B8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BAF1-B867-4C7A-AA21-06CE7F91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736-0817-4452-95FD-FBCD9695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9F12-54BA-4EF6-BF33-4ABEB974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647-B5C1-44E6-9CBF-F17F6D03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3DB58-74CA-41BE-828D-5D6F536D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B59BC-E042-44B2-A0F5-47A30C9E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262E-2612-48D2-872D-0985961D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D93-4206-450D-8A1A-4320BAFE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9026-DBA6-4971-A4A5-3577D31D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B1C4-1923-4F2A-AFB2-CFEA555D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CF6C-BFA7-49C8-87D9-55E24D2E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3967B-3C8D-4047-97C3-DB5AAEB6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B806B-A506-4FEC-AF75-C6BF4210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A33F-E06B-45AD-9B12-CF765265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F48B-C378-450C-A989-C2058A37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93F3-C137-4C19-A73B-47978B90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33F83-AB43-4A31-9C27-0EEDB0F2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4E5-9E07-4D1D-89FD-65AF9A7E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D08-F110-48C1-A3A1-04EF07D3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4AA-36D6-4FD1-83F9-FFCBAE1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9AA-6A07-4D9D-A01D-A1471F45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5BE0-EB11-46B4-82AF-BB811076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E209-5944-4EBF-A1E4-E77EDF151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0245-E160-4E85-85EB-546F2349B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3099-2E79-4CCE-9BFD-E22750D55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Perfect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ANDRING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0.11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rothy B. Gurney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arnby (1889), Arr. John Stainer (189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Perfect Lov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2360" y="64882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Perfect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Perfect Lov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Perfect Lov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72360" y="64882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Perfect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Perfect Lov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Perfect Lov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72360" y="64882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Perfect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Perfect Lov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1:31Z</dcterms:modified>
  <cp:revision>16</cp:revision>
  <dc:subject/>
  <dc:title>Slide 1</dc:title>
</cp:coreProperties>
</file>