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FBD4-786C-47BB-9764-246EA0A6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CE7-AE1A-4C9A-9981-17873479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355-189E-48CE-A276-253DF1A3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D6C-CC1A-4188-A098-7ED24B51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B6FD-8E1F-4DA9-A6B9-AC4B90B8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9A22-9FD9-423A-B5A5-905B149F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B36D-8BC3-492A-B487-50301855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3D05-D251-4D2B-BB3B-D40109D0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FABA-2CA7-4D00-89F1-0331FA60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7FDA-ED25-4BD6-9BAB-CF89A5F2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4285-9B94-4255-9D30-98EAFC5C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7CF-FB52-4FF3-9A90-C287313C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077B-F12B-4D53-B799-307C070A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119C-FD6A-4844-B12F-8D09C3B5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05EC-C0AC-43A4-A71C-6CCABD17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69E4-3175-4588-A534-24823FFD0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6CAF-3545-441C-B908-02D107D4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F9F-FBD8-4086-8C1E-6E2B5063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6F2B-5564-46A6-B45C-432B6E9A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AEA2-53F2-41FF-8B05-34424BF5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46472-8CBE-49D1-B986-5576CC4C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C85-164B-431C-9598-138273E2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8F956-E71E-4739-85D2-434F7747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3272A-4A5A-42FB-B3AF-42814DB9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43103-172C-4CDC-BE9C-530762E5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D3743-1990-4D45-A0CF-79DF9775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EECBB-FD84-484A-BEEB-FB9F59F9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E2E19-CAFF-4E95-A648-93AEA599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8E70B-46E9-4347-91AF-536C68DA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62E89-1343-46B6-AEC5-49BC4CD1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103A-1093-4F75-9824-768A4823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432E-8ED7-4DAF-AD1B-062ED358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6AD-8C21-46E8-B7A5-728A0DD3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46D-D7BC-4957-BCC3-114DE74F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112A-20CB-42A9-AEF7-3A7DFA05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7116-8670-4FAD-844E-DAC3C34B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70CE-92A1-420F-9DD9-7306DAF3D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7E71-6A4A-4ABD-B9C1-0702D2213A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E021-AC8B-47CB-8267-BB7849363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n Jordan’s Stormy Banks I St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I Am Bound For The Promised 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09728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Stennett (178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o. Rigdon M. McIntosh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alker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uthern Harmony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35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igdon M. McIntosh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n Jordans Stormy Banks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4920" y="6488280"/>
            <a:ext cx="44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n Jordan’s Stormy Banks I 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n Jordans Stormy Banks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n Jordans Stormy Banks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n Jordans Stormy Banks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920" y="6488280"/>
            <a:ext cx="44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n Jordan’s Stormy Banks I 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n Jordans Stormy Banks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n Jordans Stormy Banks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n Jordans Stormy Banks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n Jordans Stormy Banks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4920" y="6488280"/>
            <a:ext cx="44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n Jordan’s Stormy Banks I 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n Jordans Stormy Banks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n Jordans Stormy Banks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1:54Z</dcterms:modified>
  <cp:revision>27</cp:revision>
  <dc:subject/>
  <dc:title>Slide 1</dc:title>
</cp:coreProperties>
</file>