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2AE4-87A5-444C-8A6E-193EEF3C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C65-A2DF-4206-A2AC-761A213D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D6B-D32A-4AC6-94BA-A86302D8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FC4-518D-4BBF-AAA0-54A626D3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C8DCA-4323-4EDB-9EE8-8C23CA48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65C-9363-433A-9A46-DD03477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18AE-F319-4361-9C46-D68C58E2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333F-DCC5-438C-AC26-17C48179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0BBE-19B9-4158-8AFA-7F7D72A3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D11-1CE5-4E24-81F9-50D5254C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8DBF-BD27-4E79-B609-551DE6D5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D89-1328-4E91-B327-F8E185B2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5FF0-2FA7-477F-B19E-D7A532E2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7E9A-4FD2-4812-ACD2-D6A962A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A27-1DB1-4F57-A1BB-167977D8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FCE0-7F17-43A5-B47A-822E7667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7377-C0CC-459C-86BD-A67EAFF2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897D-E475-44A6-B78E-0ED43B2E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3E230-D8B4-45B9-BA71-B2CC09BD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F13E-AC1E-4158-B2CC-34FF0CCB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AEB0-639B-44C1-854E-98891F72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74A-ECDD-4F70-B484-155D7923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DC8B5-250C-4271-BA98-83ABFF5F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8ACE-055F-4511-9D07-DC1023B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9138-E64C-4563-8D74-417AAE19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0A4B1-7BC4-47F0-9B8A-60CF250A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5C22-36F1-423A-9C94-6652AC84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BDA88-101A-4480-BBBD-F540592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D564D-29D6-4E9B-A88F-C924AA1B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9E29C-E263-4229-8C63-3ECFE5D4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A8090-35DF-4610-A274-A35CC7F8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B17-4540-49DE-8AAB-ED54675C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134-73AF-4BD3-9EFB-2ED96787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82B-D606-48FB-8401-5A34D792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39D-FFB4-48A4-8888-FD145CA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8BD-259E-41AD-BE32-8E78F24D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153C-1D4A-474B-A975-929A035200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C92E-C196-4A24-95CC-3599231429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6FA-5465-4744-9903-6F423F871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eart Bowed Down With S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Come Unto 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- 4/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E. Bel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. E. Belden (18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eart Bowed Down With Sorrow_arr1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eart Bowed Down With Sorrow_arr1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eart Bowed Down With Sorrow_arr1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eart Bowed Down With Sorrow_arr1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eart Bowed Down With Sorrow_arr1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eart Bowed Down With Sorrow_arr1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eart Bowed Down With Sorrow_arr1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O Heart Bowed Down With Sorrow_arr1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O Heart Bowed Down With Sorrow_arr1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O Heart Bowed Down With Sorrow_arr1_v3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eart Bowed Down With Sorrow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eart Bowed Down With Sorrow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eart Bowed Down With Sorrow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eart Bowed Down With Sorrow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eart Bowed Down With Sorrow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eart Bowed Down With Sorrow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eart Bowed Down With Sorrow_arr1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86040" y="6488280"/>
            <a:ext cx="46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eart Bowed Down With So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eart Bowed Down With Sorrow_arr1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5:49Z</dcterms:modified>
  <cp:revision>34</cp:revision>
  <dc:subject/>
  <dc:title>Slide 1</dc:title>
</cp:coreProperties>
</file>