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5DB1-4F6A-45E0-8AF9-BEB00215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E7C-2C86-4E67-894F-749ACADB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B678-FCBB-4ACD-BF02-A34606AB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871-7F12-4F9F-84EF-BC8A1A66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5521-4297-4A10-9855-36F9D111C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00A-731F-49C0-8ADF-15941DCC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30BB-4E36-4F7B-9C92-5780D864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496-FBB7-4320-A7F4-75BC8CB4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7346-77E0-4F7C-826A-33EA3BDE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542A-0D4A-46A9-B4C0-35901182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208E-A4CD-4F82-AEA9-173E2FA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4BA-4A86-4D2D-B47B-68A8170F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2BC6-3DC9-4921-967F-F20BB81B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2636-D2CC-47FF-84E9-BACA19BA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0329-E1AD-4802-A3C4-0A04ED8C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342A-80B7-493A-A50E-46971367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F0C1-42C1-4348-8EA5-6C615695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93D-0E2B-4F5E-9C6B-0182B515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0A7CC-DA88-4128-8FDB-26B2C75ED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243A0-4301-4BA9-91FE-34B081DD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C68A2-503B-4EA0-9B4A-9578DF1A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59E6-F13F-4B78-808E-E0098050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1DC1C-1E51-4E33-90C3-947E291B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2AB4-F580-4292-B8A0-2999B8D6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C14A-BD14-4FD3-9555-436CB0B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E36A-A2E8-4B36-80C2-8016035B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61FF-BA9A-43D4-8657-43421D8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EC9B8-0B43-43EC-BE09-488182BA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EDD1-7E6A-4DC5-A742-3609E090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9B3A0-BE61-4BDD-B898-24ADB5FAC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2CA9A-8ECA-405E-9B2F-F6BCC564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F31-0164-4945-9920-8F29098B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677-E1D8-4A66-957C-5A1A9782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1A0-B746-4356-A20E-7BB3F71D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380-7FBC-44F4-944F-7A0BFA5E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C69-5836-413C-B977-CA442645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8EDA-B9A3-4629-AC63-9CE35C319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955D-06BB-4BA5-B716-826E55F1D2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C45-6D58-4A24-BF78-27F8C7A43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Trust 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rust The Sav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Stockton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Trust Him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Trust Him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Trust Him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Trust Him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Trust Him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Trust Him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Trust Him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252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Tru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51:21Z</dcterms:modified>
  <cp:revision>33</cp:revision>
  <dc:subject/>
  <dc:title>Slide 1</dc:title>
</cp:coreProperties>
</file>