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5AB-B6EE-404A-B643-ED811E0F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27A-3919-457F-B3C6-029DB2A0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1E4-648B-4B15-9C6C-2F10E342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096-D68E-4514-94D5-1B34DC15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BD7E-D852-4A5E-97B6-C547DCCD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C88E-BD66-4F6E-A274-528CB2C8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7F86-FCB5-426B-94F0-8B880A54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67FB-4597-4A25-99FA-896EC9E6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5D92-BB8B-4E60-A307-F359F5D4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2E68-767C-473D-B721-CE7FE2E2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AEE7-296B-4646-A93D-DAA6CDC5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80A-5CF7-4FC5-84E0-AF36EED8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1953-9722-43CB-AA98-12694589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C99D-05B2-448B-9C62-8935911A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43075-3183-4705-AC1D-D2189598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EA47-6563-4953-A78A-FD29487B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8E6E-AB7C-4C87-81DE-AB73129B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302-2E59-4FA2-A5AA-F19643DA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6FEB6-8275-49A2-BCC1-802C3DF8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0CEB1-A467-4EFF-BF0B-BD485817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A559-A105-44B0-A542-EDCB93F0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7478-43F0-467F-9754-9B42476C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FCC26-9419-4C4A-8EB7-EB9344B7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3AF0-3E2D-441E-9C30-3D763CF3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213B-4C69-4812-A4CA-46BA0E48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1755-5D7A-4B5A-93DD-6DB76A95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4E2A0-12C5-4584-B1E5-D4C4B616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B8424-9C1E-46B3-B8BC-AA81D2C1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32D30-F42C-47F4-B4D4-CC154ABF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F98E6-FFAB-47CE-8E34-36D75A76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D5B2F-D71B-43DD-9C6D-6AFD1422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479-0BA0-46B5-832A-86D7D4A3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8EE2-AA20-4E47-8544-C676251D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381-7EF5-46B5-A701-5CE02FB9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2C4-CDDF-46A1-8499-B4295D3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75FB-B158-471E-AFAC-BD030EF6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6DF3-08BD-4DF5-9A24-CF8845F06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452E-2238-47F7-B140-B6B2EB7020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1C67-2682-418C-B462-5BA51641A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Come, Angel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My Latest Sun Is Sinking F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G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efferson Hascall (186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illiam B. Bradbury (18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y Latest Sun Is Sinking Fast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My Latest Sun Is Sinking Fast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My Latest Sun Is Sinking Fast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94680" y="6488280"/>
            <a:ext cx="31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Come, Angel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My Latest Sun Is Sinking Fast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My Latest Sun Is Sinking Fast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y Latest Sun Is Sinking Fast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y Latest Sun Is Sinking Fast_v3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My Latest Sun Is Sinking Fast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4680" y="6488280"/>
            <a:ext cx="31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Come, Angel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My Latest Sun Is Sinking Fast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y Latest Sun Is Sinking Fast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My Latest Sun Is Sinking Fast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My Latest Sun Is Sinking Fast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My Latest Sun Is Sinking Fast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94680" y="6488280"/>
            <a:ext cx="312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Come, Angel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My Latest Sun Is Sinking Fast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My Latest Sun Is Sinking Fast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3:40Z</dcterms:modified>
  <cp:revision>32</cp:revision>
  <dc:subject/>
  <dc:title>Slide 1</dc:title>
</cp:coreProperties>
</file>