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7F0-EC01-4957-BE97-27C4E8A2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1BFD-2765-4AD4-A6B3-C0338BA5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255-031C-4D5B-8B44-F562F539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4BDE-5169-4E26-BC20-08ED2D1B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B1C0-74E7-46AE-B82E-160F77F3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0272-BCC8-4B6A-9E54-BF78B3E4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9E66-696F-4CC9-B25C-372D72B6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EA46-CE72-451B-9AE2-C85C6417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3762-BA5D-40C5-95EC-9FD4B5FD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94E0-A092-4BCF-BA66-A1BA16BC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E3E0-22D6-4436-8648-094B40FD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3249-6BAD-450D-AF4A-F9A7611B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11AA-A2A2-4EC4-847F-1F165B3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ACAE-F247-408E-9B70-AC13006B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CFAC-773A-4198-8488-9C100792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8EA5-48BA-4E8F-B078-2D590CD1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82F4-732B-4824-8B74-48DBDCB5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586-169B-4467-9FC7-227D47E0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1F79E-6FAD-41CA-9877-2DB04A78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6F358-73EC-4D6E-B939-A5AEC74E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2EDC-9A48-4969-A4B2-D40171A9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593-D8DD-421C-9D86-BB1E25EF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5C46-60A7-4EE5-B721-FB4D02ED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A8489-0C85-4F1A-831E-E60DD82A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85D25-B8EB-420E-A00C-C7CFBC9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0753-3B82-49B1-82BD-1897608C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7A102-95EF-42E5-B329-BE40B0E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EB9B0-DEC5-4676-A016-F1FC1786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2A19-418B-4A33-A595-E3B8E028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AAF14-73B7-4C17-BD42-1897D193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06796-06F5-4FCE-8CD6-A99ED9AB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3E6-E246-41FF-B2F4-39B02DE1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422-BC85-4C38-B33C-E6E6D8C8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1BF-77AE-40BB-8719-01DA8774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390-BB21-4B20-B23D-2655BA48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7A0-785C-4DB2-BCC2-BD049D3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E9DD-1971-465A-AEA5-BFE565E75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180D-6639-498D-98F3-E5AF3D5B3A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CADD-6EFC-4535-9DC1-0A9A7C4970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Come, All Ye Faith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G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atin Hymn ascribed to John Francis Wade (1751)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r. Fredrick Oakeley (18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Francis Wade (175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O Come All Ye Faithful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Come All Ye Faithful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1760" y="6488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Come, All Ye Faith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Come All Ye Faithful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Come All Ye Faithful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Come All Ye Faithful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31760" y="6488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Come, All Ye Faith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O Come All Ye Faithful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Come All Ye Faithful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O Come All Ye Faithful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31760" y="6488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Come, All Ye Faith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O Come All Ye Faithful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9:12:08Z</dcterms:modified>
  <cp:revision>30</cp:revision>
  <dc:subject/>
  <dc:title>Slide 1</dc:title>
</cp:coreProperties>
</file>