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58C-7F34-4A42-95C3-F4E6E106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0FF9-D5BB-4AE1-AE8F-C04235AA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A32-97AC-4EF8-AF9D-FF86ED9C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29A-D319-403A-BEE1-D549D914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499C-8971-4DF8-AF2E-821F0F93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0C38-057F-417C-9D25-34F8562F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230B-562B-442C-990D-D132754A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F637-8E83-471E-ACD6-8AE99022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572A-4CE0-4B26-82FB-FB75D606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FB85-4D1D-470A-AEE0-1546D685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B144-FFAC-42B2-AADD-8477599D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A42-BD86-4FB8-B808-09EB49AB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1F8D-810C-4B60-9190-35FC444D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6763-09C9-4123-8F5C-6F2F49A4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8D16-A4EA-4FE9-8F62-A172040D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547-7169-4196-9FC9-95830D07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2F67-09AB-4013-89F2-73D1D826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ACEA-9C11-4DA0-BD97-D0000175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26DE-773C-46EB-A323-C0CF48CB7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880B-AA49-4A47-869C-F7F54D9F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0CD5E-D10A-47FA-B894-0F9D67D4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8CA-2B28-4F69-B730-C77170C3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D9B4-973A-415A-B5A2-51D9BBAD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C91B-2EB3-4199-9CC0-6B08DFAB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03892-153C-43C0-AE5A-1FF8A248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C3AE-3C14-4DEE-B81A-D0767CAA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F4F1A-CBE5-4F10-8F80-849811A7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CF601-A9F4-43B8-8EBD-836D906D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66AA-8B3B-48DC-9DBE-762D5B92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36E4-D1C5-4360-AE7E-0154F1EC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5B998-88BB-456A-B176-2FE274A0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A0F-5CBF-4434-A093-96131B73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F6E-573E-441D-8CFF-E205A704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3AE-D129-45C6-A1C4-52A2DAF2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F1C-4A18-45AD-B6F2-479649D1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978-89FC-4417-A5C7-B62F569C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E9ED-FB97-4F1E-ACDA-CB7DDFE41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E779-DD0B-4F8C-ABAB-D9878B609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EE94-D172-4F3A-AA38-4EF8CFD79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O Master, Let Me Walk With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RY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8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shington Gladden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Percy Smith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2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 Master Let Me Walk With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9080" y="648828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O Master, Let Me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O Master Let Me Walk With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O Master Let Me Walk With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9080" y="648828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O Master, Let Me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O Master Let Me Walk With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Timelin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9080" y="6488280"/>
            <a:ext cx="44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O Master, Let Me Walk With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O Master Let Me Walk With The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28T18:22:36Z</dcterms:modified>
  <cp:revision>33</cp:revision>
  <dc:subject/>
  <dc:title>Slide 1</dc:title>
</cp:coreProperties>
</file>