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B22-F144-4CDE-BA6F-430B5753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904-FFF7-4EBC-81F2-DC7E882A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2E11-B9B3-4EBC-8E31-EA898ED8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A68F-03B8-4533-AA15-155A2D5F8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2D9-6D41-4933-BBFA-25B38A81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6C6D-EBC1-45AD-B899-835CAE21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C7EE-0A4D-47D7-B50B-A1B7A936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4842-2B5C-4EA3-97C2-7E6550A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5062-6666-4DCB-99C6-1A26B58D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BEDC-2814-46CB-B40E-78632D3E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D5D0-F3C5-4684-B479-81BACEB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1D84-E768-42E5-9D78-3A911CE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D6D-109C-4C33-84D9-08B43325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D85-D4E7-4DBD-B275-0110F901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13BB-6862-44E1-91D0-3904AC1A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C1B-7136-49D3-ABAE-9F512897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E42A-BE2F-49E4-B329-AC6F506B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C4E-7872-48B0-AF0C-188131AF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83026-2E14-4AD4-B06B-81B8853C5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3E94-0A25-465A-8014-55FBF110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2B87A-E583-4AA8-96FF-1F407C4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8D4D-7010-4779-8D83-BC1B127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5AE7-68FD-4853-97AC-14FC9877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7D70-D763-483D-8918-A024A978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12D7-BCF6-4097-AA9D-AA26CBAF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2B7B-3F1C-4A03-BA5B-B1471F7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2386-5E8D-4FAB-AB85-926E3138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2926-8079-46EB-9468-416E4A13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10BE-B9B0-49B2-BD9A-908FEF6F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E6EA0-B366-456E-B3D5-4EAC58B8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7DF73-8224-45F1-A40E-17996F2E2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8D28-C74B-4CBE-A249-550BF385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76A-7F36-4FC7-801F-EF61A843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1F6-F099-4D31-80FD-413E023C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F354-E4A0-4011-AC3E-72ED849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F11D-8DE9-4EF1-A6E5-E1796EFB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47D6-CA19-4411-84B5-AF1A424C8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FAB5-8A9E-4F17-A8D2-313DCE7EDD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C338-94D8-4514-9D3C-DC67D85B9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he Things We May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izzie DeArmond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H. Hagan (19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The Things We May Do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he Things We May Do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he Things We May Do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he Things We May Do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he Things We May Do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5920" y="6488280"/>
            <a:ext cx="38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he Things We May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he Things We May Do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he Things We May Do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he Things We May Do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40:11Z</dcterms:modified>
  <cp:revision>34</cp:revision>
  <dc:subject/>
  <dc:title>Slide 1</dc:title>
</cp:coreProperties>
</file>