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363-B83F-471C-8081-D964C811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D4DE-E889-4041-A6B6-CBA79E5F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45F-6E66-45FC-8ACE-FABC0CCDB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D533-088F-4A7F-B229-0BB20D1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BC7D-755C-45AD-BBF1-6BF764C4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4F1-842B-4B57-BC5D-5AC4A74F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65DD-6EA2-4B73-8B39-ED4F5825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9115-5096-4C65-BE4C-89D01C6D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795F-4D2A-472C-879F-5BAC1D1D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EECB-A313-4348-BCAB-4A5D7D7A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D416-9042-44A6-9E2E-52DCED3C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887-4832-4EE2-A2C0-1C0C6D46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07A5-5B88-498D-8911-25F12B7B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633-1B3A-442B-8CA3-F5461CA9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86F9-C286-458C-BC2E-4FF04EDA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82D8-839E-45B6-A836-6DEF3CE5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3C8-DEA0-4008-ABA2-438AA54A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0B38-810E-4978-9FB0-E950F450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921A-881F-4081-B0E1-B617D361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4C988-4BC0-4245-8931-81E336E9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1289-1E67-4B90-AFDE-662BDDD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517-A0A1-4FF9-8362-AB18918F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9498-E09A-4DD5-9B99-0D798BF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A7134-FF87-497E-A040-22BE1B54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073D-D2D4-4911-8F35-ACE950C8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D24DF-291E-49B9-94ED-E95B08F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CBB81-ECE3-4C11-B179-2FCA1BE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FD51-0A2E-4FFE-AF16-92370A5C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7141B-40B0-42CF-9658-46863BD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2BF8C-8689-4077-B759-39811872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99D88-ADC0-47BB-8E55-A1CF2627B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37ED-3C7B-4FC3-90F3-F1C6A679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5EE0-417A-4574-BF63-37472C06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4237-E3F9-4239-A551-1229F39C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495-8913-49E6-B5B2-76BC111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CF86-1E5B-4572-95DA-A540C1C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3FA2-15EB-443B-8C04-F79349349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D01-1E7B-40B9-BD1D-229FB68D46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6B6D-A6D8-4549-A581-EE0468D48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That Will Be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Glory For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H. Gabriel (19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That Will Be Glor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That Will Be Glor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That Will Be Glor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That Will Be Glor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That Will Be Gl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That Will Be Gl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That Will Be Gl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That Will Be Gl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That Will Be Gl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That Will Be Gl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That Will Be Gl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That Will Be Gl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That Will Be Gl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9:32Z</dcterms:modified>
  <cp:revision>33</cp:revision>
  <dc:subject/>
  <dc:title>Slide 1</dc:title>
</cp:coreProperties>
</file>