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C65B-BDCF-4080-B605-C326FC7B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518-635A-415A-938C-1EACD3E7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CDF-DD39-406D-8E66-585796BC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434-5C20-490D-958E-A8170313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0877-C07B-4595-B8DC-5D29FA72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DE8D-2E1A-4B00-916A-89CE952A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8D51-9C3B-4568-B762-6834FAA5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2208-F039-4288-A270-A2B875C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82E7-A80C-47B8-BB90-7D9DB49F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731D-84F0-40E0-957F-DEBAFFFF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581B7-F0C8-4BBE-8071-E39FA6FE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36BE-0358-4285-8B9D-5A46ED92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2A4-9D3E-4954-BF5D-A8505D1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7BF1-BFD1-4395-BDAA-78BCE30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6077-6E86-4D9C-A906-291A8F75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ACF0-F37E-46D7-84B6-D5A20F71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64BA-D790-4536-B9E7-1953F235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1043-618A-4479-B3AF-84329847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B1D48-0F7B-442D-A066-2ADDD228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1475-D414-40C5-B962-09AC3442E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E276-8870-42A7-8C52-607AE3E4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0B7-6A66-43F4-A035-1C670C57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D399-51C0-41C1-923C-E5AEFE26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D079-AF03-40DA-A631-C19ABDF6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482BA-BACC-4E90-AF0B-A460211D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7777-AE53-45B5-A458-38872E3B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25DD4-CE60-46F1-BA61-9CE54F01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24BE2-F160-4B3A-A568-0D9460E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0398-A987-43EF-B972-8F3C88EE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76AC-0ACC-446E-B799-3092B730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60F04-1DD4-43D3-93A6-235BE09A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749-7CC6-427F-9001-B45BA131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785F-5733-4863-937C-C59E9A37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2720-110D-4762-93D7-A774161B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3D5-67C4-4ED2-B071-E6C75FA7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92F-DAEF-4475-ACF5-22161BB0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2BA-05A0-47ED-A94D-19A09460B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66C1-C7C7-4B78-AD9E-886897224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5DA4-DF69-442E-B7BB-1DF935602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Think Of The Home Over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E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. W. C. Huntington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. C. O’Kan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040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Think Of The Home Over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Think Of The Home Over Ther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Think Of The Home Over Ther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Think Of The Home Over Ther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Think Of The Home Over Ther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040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Think Of The Home Over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Think Of The Home Over Ther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Think Of The Home Over Ther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Think Of The Home Over Ther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Think Of The Home Over Ther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0400" y="6488280"/>
            <a:ext cx="447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Think Of The Home Over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Think Of The Home Over Ther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Think Of The Home Over Ther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Think Of The Home Over Ther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4:52Z</dcterms:modified>
  <cp:revision>37</cp:revision>
  <dc:subject/>
  <dc:title>Slide 1</dc:title>
</cp:coreProperties>
</file>