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6C0-8BA3-4DD4-B0B3-C52D9E33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66D9-AF7B-44C5-969A-EE9B663F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323-69B7-4FEC-B13B-3A88C3C0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FB74-9AF7-4D4F-B582-E02F3B12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3CFC-1262-433D-A96A-E953BA00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37E4-29EC-4F30-B9AC-6C916C60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FA82-683B-4D2D-A573-22A0820F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7315-6C27-4D09-B316-90864FF1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3F70-6FA1-4D0E-8EFF-6F658E86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D978-BC10-4498-9341-E4928D77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C31A-FCA6-478F-ADE8-DBD53D55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427-C5DA-4200-B764-DB7D0E7E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79A0-3793-4444-BB5D-51109981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AB76-9C1F-4063-A444-273E742C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8EFA-6DED-4645-B27A-08713D72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3460-8BEA-4AFF-8B56-D8946DCC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E407-DF28-42A3-B16B-E5B6B682A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7FD-7DE9-46E7-9B23-7D57941D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10037-64DB-4AAE-84F5-C275748B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B2B02-E185-4B65-A635-E6EE72B7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E198-0D7B-4479-9F15-6173F610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4F7D-F0A8-4298-83F5-E7BE4086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02080-95D9-4DFD-874A-48EDA0CA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9E84B-7E1D-4D0E-B843-109CC0B9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7D718-46CE-4575-A586-DD84042A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F2AED-D7A4-4597-BC40-BBAC3D6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9B3A1-11CA-4940-A1B7-17FD3DD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5462-AF19-4B3B-9E62-391FE8E3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6C7CA-5EA5-4A37-934F-40668CBC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AE1D-172F-43AF-87C7-5CEECB1A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FC4B-01EE-4710-B87F-EE6F4806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3E3-974F-4B81-BD66-8678CAA6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1A0-CD33-4FE2-A170-954CE396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297-91DB-4BC2-9D48-9FD7794C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006-4959-4097-908D-91F17363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7A1-E5E0-4293-94C0-BC61BE57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F1D0-10E9-40DA-AA39-E2579C7DF5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2BB1-6142-4DC3-AC8B-7CE65ADA98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1383-5AEA-498C-B7A9-917EAA421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Come, O Come Emman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m(G)/E -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edieval Latin Hymn (c. 11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rench Processional (c. 1450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Helmore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ymnal Noted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85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Come O Come E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O Come O Come Emmanuel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09800" y="648828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O Come, O Come E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O Come O Come Emmanuel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O Come O Come E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Come O Come Emmanue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800" y="648828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O Come, O Come E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Come O Come Emmanue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Come O Come E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Come O Come Emmanue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09800" y="648828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O Come, O Come E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Come O Come Emmanue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Come O Come Emmanuel_vC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Come O Come Emmanue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9800" y="6488280"/>
            <a:ext cx="39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  <a:ea typeface="Arial"/>
              </a:rPr>
              <a:t>O Come, O Come Emma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Come O Come Emmanue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9:24:22Z</dcterms:modified>
  <cp:revision>31</cp:revision>
  <dc:subject/>
  <dc:title>Slide 1</dc:title>
</cp:coreProperties>
</file>