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EFA-3B13-4AFE-958F-79B181D1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7C1-FB33-4B79-A6FE-4B6F5232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2B6C-A421-4663-BBF5-10565BD5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5F7A-30CF-4E09-9B0B-1345A0B7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97EC-164F-45EA-B354-CA954C45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34C9-8EBA-432D-8231-C12A90A2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63B-DAA2-4210-8AA3-337767F87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747F-B21C-46A0-8EE9-B86D6D88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89BE-F43D-44FD-B9F8-55AE9D1E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41B7-6E8E-4024-A76F-28A34B15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B57A-10DC-40BD-885D-A61F48E3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F7F-254A-46BC-AA08-F40A9AF9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311B-5B2B-49DF-8255-49BFD6E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7671-E665-4019-85B5-2808CB5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4D1B-9976-4CF8-80D8-C20B395A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264F-5BC8-40A4-8E60-AE05D956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8634-49BA-4C3A-BF31-E8C94D7A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AC4-F850-4227-8562-16065C3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5B21-8D0B-4CFA-A8FD-922DA44B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E9BEE-9194-4619-9191-E7E561ED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D76A-CA12-4AE1-B49C-A376BA77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961-4FEB-4A41-A714-E5813F6E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28278-6E7B-437C-8B88-E1EBF2FD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2AC84-E9E2-4C7B-8AD6-54FA5763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E591-7914-4A67-AD79-322614164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90698-3DF0-43FD-A83C-BBC43A7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D30D-DD5C-431E-B379-281BA091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B140-F9DE-45FF-BEB0-D55A8745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50CB-3DA5-4F75-8828-0A99096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939C8-A1A2-48FC-B2A3-23498C49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4B9B1-F5D2-4F33-8C13-BFA7B047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A15-9FC2-4EC4-AA98-40D76CB8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132-17EC-4863-BE85-49AEC05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D39-0322-44AF-84CD-E0F5CF4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C351-E103-4655-B267-4F6AD2B9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7C8-F167-4976-8CA6-227E3DC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93E5-969C-48A3-A533-B8E7432E9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737A-4C4C-4F04-9189-53E82F559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83A1-0210-46B6-B4E4-1E9BBDE70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Jesus, My S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 LOVE TH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11.11.11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2840" y="4902120"/>
            <a:ext cx="143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nonym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remiah Ingall’s Christian Harmony (180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Jesus My Savior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5760" y="648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Jesus,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Jesus My Savior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Jesus My Savior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5760" y="648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Jesus,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Jesus My Savior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Jesus My Savior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5760" y="648828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Jesus, My S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Jesus My Savior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8:42Z</dcterms:modified>
  <cp:revision>32</cp:revision>
  <dc:subject/>
  <dc:title>Slide 1</dc:title>
</cp:coreProperties>
</file>