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DD9-04F6-420C-995B-6F6F389B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51B-8115-4086-ADDB-916BC7C4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3867-AB14-4886-9B96-E826C0203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8568-AF65-4334-B8B2-F946AB7D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2987-4C09-4B20-BBB1-F18149F5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B803-05D6-41D4-BC56-3C202490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3DFC-0E02-4186-A66A-30CFE873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80D6-F604-43D9-B80B-8C3D7E74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0D71-ABE7-49A1-B67A-333290F3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3F6F-D2AE-4D63-800E-2CAFEAC3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A161-99E1-49C3-A4AD-ECB1375B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B57F-2B51-4FEF-93A1-45CCC309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68F6-74DB-4077-989E-7C0BFA5E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37B6-B1CB-4EA2-9DF4-B444766C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30BC-B964-47E4-BF00-7C53EE85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4264-EDF5-4E0E-A050-49CB6F46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071C-D924-40BF-B916-01E0BA83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14C0-71E9-43C0-B4E1-A97F9CAC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4B31D-7328-4F42-9683-61B77520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059EC-5987-4ABA-B258-F344DA3F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67D4F-4F3E-457D-A864-65C551FB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88C-6C1D-4ADB-A0AE-EE0B33BB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47B73-ECCD-4E15-A837-68D41C5F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AA730-B054-4B58-8619-BA49FEA2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77D6B-E939-4E14-991D-D3F6ED72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46A8-EABD-4497-8F18-938AB003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A0BC7-9121-4296-B50C-45463739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80B75-7730-4600-B5FB-A416F7AE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1E292-ADEB-45C0-AA51-04EDB055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5E149-8E22-44B8-A8CC-EB9E2FB1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E8098-5027-4975-84FC-BEAFC054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5267-84E9-4856-92B3-93545BA3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AD61-6834-4FDC-AFA3-E01041F2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F09-13DC-4624-B68C-202E2B27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897-5607-4A15-8665-EB4808B3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A38-4337-4C00-9408-A02C6CBA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F145-5D9B-4FEE-9D29-CD5BD6ED5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6F1F-E404-4AA4-865A-75125BECE7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F48E-A2BE-4ECA-9FBD-39292A704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e 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5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Wilbur Chapman (19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March (19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ne D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69120" y="64882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e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ne 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ne D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e D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One Da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69120" y="64882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One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One Da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One Day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One Day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One Day_v5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69120" y="64882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 ~ One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One Day_v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ne 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9120" y="64882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e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One Day_v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One Day_v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ne 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ne D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ne D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e 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69120" y="64882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e 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e 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ne D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ne D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48:20Z</dcterms:modified>
  <cp:revision>33</cp:revision>
  <dc:subject/>
  <dc:title>Slide 1</dc:title>
</cp:coreProperties>
</file>