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BA61-74D9-4F18-8AC4-409A1E38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E8A2-C699-4AEE-B977-7C9B3A3B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F95-C511-4441-AD64-2FCE9C60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367-BCA6-4FC3-B5C3-462B92BA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EAB-069D-4441-A988-4762315C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3502-F65A-4901-9342-C62F289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F680-98F0-4F90-9E98-A95028B3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A959-E7AD-4953-B953-25A2EDC5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0439-2225-4112-980B-875D968E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D479-175A-4520-9DAC-5EAE0EA2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1C8A-AA68-45AE-B8D5-90025C1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1B9-BF8F-4A44-8A99-A8B4C21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90AE-F492-4C40-B707-0C800ABD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2B19-FA68-4D88-9EE0-73600440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3BD-0F54-42A9-AFBD-67389BB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9BA8-007A-4C66-9385-BC2E3269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6F61-C404-4BC2-B34F-F8708498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CBCF-43C0-416B-9F03-8AE6D328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FFEBE-8E7B-45B6-8CF2-2A0FB23E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5B41-4331-48D2-B580-04B432E7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604B-42A8-4C78-BBD1-06236D1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181-157A-4292-860A-60B6F43D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1E17-0B0C-4D32-A040-BA453754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24814-8837-4067-A7F5-EBED2250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8823B-E01A-41BD-90B9-657E64C0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76B2B-A1C5-4F18-93EC-6E2C8945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71EE2-8FB0-4946-9DB1-B3C77A6F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1D4E-759D-4090-9B81-70F546F6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A7B3-FFEE-4A2B-9F34-FCCD64B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A6D69-4DCC-4D15-A506-D9EE03AB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3C55-4FDE-42CF-8F24-F502EF08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0A1-0815-40C8-B4EF-84818CC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9D0-1CF7-4935-BB2D-95B4654B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B3E7-AC4A-46BD-9FCF-0D82479D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114-F5B5-46ED-9555-9700CFB4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CA8-35B5-48DA-8A57-8166DB70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23F1-5060-4618-8FB4-ECB0D2F77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AA41-C5BE-4490-A062-0D461DD52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0D78-C898-4042-8084-2E790EF7B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Worship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LY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5.5.5.5.6.5.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Robert Grant (18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ttr, Joseph Michael Hayd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in William Gardiner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cred Melodie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Wosrhip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Wosrhip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Wosrhip the King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6840" y="64882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Worship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Wosrhip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2:47Z</dcterms:modified>
  <cp:revision>25</cp:revision>
  <dc:subject/>
  <dc:title>Slide 1</dc:title>
</cp:coreProperties>
</file>