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A10-7F0F-4801-ADC1-5ED787E9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92D-96A3-404D-8311-9711B9A3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34BF-09EF-480A-AF6D-E3776350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35FD-658F-4B3B-8867-87B8FAD2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CB9-D977-4074-A2F9-F9B852F5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BD26-8DEC-407B-977E-40B33E57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1193-F416-4A83-815C-E71697C4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FCDD-5A0A-49A9-9C56-928C9E07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69BD-75CC-47C3-8CA2-16E75DC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0FF-16A2-4F81-9033-E4587188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139D-4941-48F0-BCF0-1B54E81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F52-0E97-43FD-A52D-665B7CF0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82F-4BA0-4E16-82DD-F174314E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728-E3D6-48C7-9EB5-09ECB4E3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4821-ABB2-43FB-8A4F-F2FC2837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DA56-2A6E-43C2-BD07-08987FDA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D074-7616-4AD0-BC7A-F80A6391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296-534F-473F-8795-85AAAE89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69000-0496-44A1-95AB-CCBB37F3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9B8DC-FCE4-4903-806F-B2D59F18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4430B-28E1-41A4-9446-4501526D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4CE7-7B9C-44F2-9A83-20C18603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2D1B-DD17-4D41-B48F-2C39F001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D5136-F345-4A50-BC87-F0F5EBFD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DE1E4-FA98-4AE4-908D-047822C1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29372-7BDE-4199-B12A-61818BFE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529D-80A3-490D-8DEF-1AE4A902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DF8B-8719-4099-9915-7EA3738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08A8-199B-4F33-B92F-8DE39E96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2BE46-F475-4B46-B4B2-172DDDB4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4295-DC63-4E55-A375-A6683C51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8B4-FB79-42B2-8D3B-A11883F7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2CD-BB09-4618-98A8-F701880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82E-75DB-40E4-BE99-B87CDB4C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5AE-CE14-48DE-B27B-401A835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E776-BE10-4BDE-8228-2938FAC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A11-AF0B-4C95-B0BE-377DA0F13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122A-0295-446D-AAE0-FFEC820FC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06B8-902F-47F9-BBA4-2C3164457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ow Love I Thy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C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s. Psalm 19:7-13, cho. Psalm 119: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James McGranahan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ow Love I Thy Law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ow Love I Thy Law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ow Love I Thy Law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ow Love I Thy Law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ow Love I Thy Law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7560" y="648828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ow Love I Thy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ow Love I Thy Law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ow Love I Thy Law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ow Love I Thy Law_vC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6:31Z</dcterms:modified>
  <cp:revision>36</cp:revision>
  <dc:subject/>
  <dc:title>Slide 1</dc:title>
</cp:coreProperties>
</file>