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10A-FD34-4F40-868A-CD22F187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ABB-B9A2-4EDF-895F-B81BEE26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A2E-153D-442F-88E2-32562FCE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BC18-5F44-49A6-83A3-F257B217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FBFC-C9B5-46AA-A639-AF2BA65BD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DC8A-97D8-4FAD-A880-41168CC9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C1F9-1B31-419D-BDA2-5A297099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D88D-580E-407A-8B26-5F632ABA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BD66-DB56-4D96-BB36-30006FE2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518E-EE26-40FE-AC58-066E6008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0F39B-302C-48AA-9F2C-C271463B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9A03-6E97-4D35-981B-99F14B56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864E-D88A-42EE-B189-B764FE9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7A69-F3EB-4CA0-A084-40F812F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A93C-CCF1-4B13-9ECB-11A98AC8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89BA-663E-4D0E-9D11-E195D945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7CC9-D64D-4542-BB73-1A7E64FFF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439-88B3-48EB-961E-7B6D06B7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7146-89E7-4F11-9A8F-8D9CBF43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18E74-9FE0-4D80-A0E4-00D2AEE4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3440-481A-4CD0-B9C7-6A923591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30AE-8CE0-48AE-99A4-CD41D0A1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F6CC-951F-4BDA-8E9B-8CC81035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BF128-DFEE-4C17-92F0-82165238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1025-E2F6-40C3-9535-8D4D899B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B4D0-CC73-4E9D-8E8B-E1B5FC89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463AC-868F-4139-AF21-0FD7A852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B9FE8-EAB7-4704-98BD-7A550447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59E8D-FB78-49A3-9319-42AE756C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696E0-099D-44ED-B67D-A174826F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64B34-1AA8-4BA9-9E0F-285901CE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8F5-6F0D-4E6B-97BF-1B468B4C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C7B-285C-40EA-BC6B-2C7CA1BA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0A0-B51E-44A5-936C-66668534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330E-7C2D-4C72-B3F6-3FD68C7B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B3A-A0D0-491B-8537-2DD3F93B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9431-5489-408B-A265-08BB70061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2E4F-FF77-47BA-A4C1-492C417498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762A-28C2-4FC8-82D3-3CEB62F36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ward, Christian Sold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B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bine Baring-Gould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thur Sullivan (187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ward Christian Soldiers_v3o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1960" y="6488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ward, Christian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ward Christian Soldiers_v3o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ward Christian Soldiers_v3o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ward Christian Soldiers_v3o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ward Christian Soldier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1960" y="6488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ward, Christian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ward Christian Soldier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ward Christian Soldier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ward Christian Soldier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ward Christian Soldier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1960" y="6488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ward, Christian Sold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ward Christian Soldier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ward Christian Soldier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ward Christian Soldier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20:22:22Z</dcterms:modified>
  <cp:revision>34</cp:revision>
  <dc:subject/>
  <dc:title>Slide 1</dc:title>
</cp:coreProperties>
</file>