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A291-7671-441B-8390-C017B26B0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9419-F888-4B42-96E3-56B161CB0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F5E5-B98D-4ECC-9CE5-1A9189A11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CF11-F9CC-4332-9C3E-F8789360A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83F6D-28EA-4BE0-8453-B86A17D10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9670E-DB25-4B8A-A57B-29C643D70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DC98A-E321-4B9F-9A2F-5A101736D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41AFB-03EA-4B20-B8FA-E533B6191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94DAC-F01E-4653-A35C-682E14CAE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2D33D-BB27-4DEC-AE7A-A24FDD35D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E432A-D90B-4E6E-BEBA-38B13CCA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2370-6EC0-4462-9F26-66E843EA0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AB31C-83AD-420A-B18E-8F71B4697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F75BF-EDD6-4588-841F-69A1BABF4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E0532-A71F-43B6-B0F8-77D6E5539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6E6E4-ABF7-4449-8AF8-CE762472C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6DE74-A980-46D2-B935-B74046588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70C7-F40E-4B2D-88EA-714137481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69743-40C0-4700-8A05-504A25238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97FE9-3614-4087-A5D0-AF1010EA0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241DB-1831-4063-AAF0-37BA2148E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D945-713F-4261-AA43-C087468AA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E0BF2-F015-4236-AFF5-7AE2CF27C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443DE-D51C-4F61-9CC0-ACEA3E58A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9C45D-7340-4570-BE65-6FF9892CA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1FCB4-09F7-410D-8693-C4DD36BEA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EE8D9-46C7-4625-94DD-2F64ED407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59DD1-1CFC-4EC5-B7FA-347917E0F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D377C-0FCD-48BD-ABF1-D0DC5008D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EAFCF-EB3D-4FB3-829B-AE8742805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546AA-DADA-4ABF-8F94-EACC1A54A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3628-6317-4DC4-B662-ECC2C1C8A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7A90-14BF-4193-9ACB-0DD216848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18AF-1126-49BF-A70C-C8424EDB8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7B1B-6541-4127-955F-C5AFD8B6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8D31-6288-4916-864C-165854CC4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048FD-7B41-41F2-8CFB-72113D8CE9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CB520-AF6A-41BE-A182-B691300DBB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4199B-3F0A-44B6-AA03-83AB9794E2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One Step At A 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. J. Shelton (188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H. Rosecrans (188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1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One Step At A Tim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12320" y="6488280"/>
            <a:ext cx="29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One Step At A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One Step At A Tim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One Step At A Time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One Step At A Time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One Step At A Tim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2320" y="6488280"/>
            <a:ext cx="29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One Step At A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One Step At A Tim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One Step At A Tim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One Step At A Tim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ne Step At A Tim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12320" y="6488280"/>
            <a:ext cx="29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One Step At A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One Step At A Tim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One Step At A Tim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One Step At A Tim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8T18:49:15Z</dcterms:modified>
  <cp:revision>31</cp:revision>
  <dc:subject/>
  <dc:title>Slide 1</dc:title>
</cp:coreProperties>
</file>