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75AD-1FBD-48DE-9B9C-E6EB4C0E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3C34-1EC1-4BFC-BDA1-70AC3DF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7D5-0C37-4A4A-91ED-742B6A788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193-1913-4122-B612-72B6E471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0246-1E9D-49E4-AE46-77C4FBE4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9EBA-9772-4D47-B911-FB669A0A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117E-114F-42BB-9F8D-252DC55E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295-AB0A-47D1-8355-8FD8FA7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83B5-4717-4909-9F6B-4823DFC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3867-2396-4E21-9055-2FBBC61E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ED13-A149-4718-B874-0FCE405C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7D4-F47C-49D3-9EA0-6D28E6FF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E465-771F-4675-96B1-23CC428A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C0E9-0186-49BF-96E4-0C95608F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DA7A-62AA-47DF-BCDE-AE4D4C5C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173E-C3D2-43FE-BF75-5D0FE248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053F-CD1E-4548-A674-E98AA7CE7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2F3-5601-4092-A6DD-E9F19A8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968C-BBE6-468C-9B12-9467B5EF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10E4-DEAE-4A0E-BEB1-65B3BCD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C07D-CAD4-49CC-AB50-D9456B1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F16-F75C-41D9-B70E-6C2E4FD0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8E35-19C4-40F6-92A6-ACBF228D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BA076-4BD8-42A0-BFFA-A60828D6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A0A0E-A3BF-4A14-92CD-D0EEE6F7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8784-48D1-4C81-B43C-91CA84A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53356-75DD-4F2D-BC44-F503EB31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3C57-BBCB-44AD-A694-2E33BBCE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880F9-6BB3-41AB-9A97-0F3A75D7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5A69F-A6B4-4A9A-BC57-F8B8F841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14B10-10C8-453C-8F6F-7627954D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2F9D-8F44-40F9-8E02-66B3D945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E63-ED11-4A11-AEC1-C312D8E1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210-217A-4EEE-85A8-61298021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D28C-B571-4B22-8917-AEFE54D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D392-E131-4C1E-BEA2-2A74EB04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846E-B167-4456-A743-F5E1A7380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58B9-E1F6-4D95-A523-88114DF07E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923-1DA0-42A0-8E63-EB4F9B65F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Jordan's Stormy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Stennett (178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T. C. O’Kan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C. O’Kane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468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Jordan's Storm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 Jordans Stormy Banks_arr2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n Jordans Stormy Banks_arr2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Jordans Stormy Banks_arr2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icture containing text, 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Jordan's Storm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A picture containing tex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 picture containing text, line, fon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A picture containing text, sheet mus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Jordans Stormy Banks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36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Jordan's Storm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Jordans Stormy Banks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n Jordans Stormy Banks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Jordans Stormy Banks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20:05:04Z</dcterms:modified>
  <cp:revision>34</cp:revision>
  <dc:subject/>
  <dc:title>Slide 1</dc:title>
</cp:coreProperties>
</file>