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8DFF-1540-4552-8366-33A20B78D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66E8-C58A-4667-97C8-ECDE3B8B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34B8-9803-47B4-854B-D26ECF5CB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C585-CF3F-42A3-AF39-30CA50A8E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8736-97B8-4732-A566-27D93694B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F889-B28D-403B-BE8D-B699B918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D1F7-6E31-4E8B-A444-37B1EEC6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CF35-96FF-4CF8-B027-D75BFA44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62E42-E01B-434B-B6C8-49D24332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69A2-9C33-42E1-B545-6AD5C15D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1A09-9232-4564-A9A9-7AABBFA0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1297-43F1-4552-B363-BF1D0A15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A7AF-51E1-492C-9A32-535ACF3B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EA0C-3340-4F0C-805D-2A75B49D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C733-DBF1-47A8-9656-D6FF62E0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A6FD-E46C-45F9-9EE7-32E2E7D11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D01F-A677-44E1-A5B8-CD5090CB4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B887-CE03-4DB6-B7F1-EE910D67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FC6C3-D24F-40AB-B5D7-61B538930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B058F-0825-45C7-810F-E03D22D3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87D8D-8587-4BC6-80FD-860A9BD4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49A4-DCA0-4269-94A2-986F5C4E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FF2E4-4F09-422C-AA81-EAAD2D24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FD365-1773-406F-ABB7-6142EBEB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F1528-D673-4895-BDC1-3E73B3D5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C24F4-0931-49A6-BFF6-847142A0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821F3-40D8-4F23-8B49-1DE6CA16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F14FC-40AB-468B-9CDC-E1E2805E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A1354-CCD3-45BE-AD49-45E72E2D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8F344-F76C-44F3-AC84-8800017F3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FA46E-4857-4B0A-B9F8-679E8544D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5541-86CF-485C-B6A2-4321AC69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D0AE-B2C7-4BDC-9060-8DAB0960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8590-8A03-4640-87BB-E1AA7485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346E-8737-4E31-8FB7-183F4B13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B0E3-FF18-4BEE-868F-7F380801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BC01-49E7-4F71-81FC-FA56EF9932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783C-FADB-474E-A9A0-F43419BB8D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9A8D-7EC7-4979-A920-46CC0D14EB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 For A Faith That Will Not Shri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AZ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9760" y="4902120"/>
            <a:ext cx="143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H. Bathurst (183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arl Glaser (1828), Arr. Lowell Mason (183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 For A Faith That Will Not Shrink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48320" y="6488280"/>
            <a:ext cx="447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 For A Faith That Will Not Shr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 For A Faith That Will Not Shrink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 For A Faith That Will Not Shrink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48320" y="6488280"/>
            <a:ext cx="447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 For A Faith That Will Not Shr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 For A Faith That Will Not Shrink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 For A Faith That Will Not Shrink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48320" y="6488280"/>
            <a:ext cx="447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 For A Faith That Will Not Shr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 For A Faith That Will Not Shrink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 For A Faith That Will Not Shrink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48320" y="6488280"/>
            <a:ext cx="447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O For A Faith That Will Not Shr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 For A Faith That Will Not Shrink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3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9:58:35Z</dcterms:modified>
  <cp:revision>33</cp:revision>
  <dc:subject/>
  <dc:title>Slide 1</dc:title>
</cp:coreProperties>
</file>