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D0DC-7670-4C16-B18F-CE5DB5529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6261-5289-4F01-91C0-6A87D3D8F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B9B7-7FEB-4515-9B0A-C4B6900F5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C6C4-7F1A-43B3-90E5-D4DC3DA3D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1077A-B65F-4D83-B264-A207A9EC2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5C30C-51E2-4C6E-8B88-21D23A728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1488B-6D94-47A0-A1A9-BAC05C34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B96C8-676D-437D-8EC1-BA337F555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BB507-81A7-42F4-88FC-C80029C07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3F43B-9AB5-431E-9472-6F6261D23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A7489-03F2-4FE4-B298-BFDFFF40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6D22-8500-44DA-8200-ED93BC08D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51F3F-2E64-42B5-B877-C8BE10C4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4EBC4-A4CD-49B9-BC2A-53DB4AC6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B2A21-6A90-4366-A396-EAB7AC9E4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EA167-65F6-4750-9BCA-ACE5628A7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21106-FBA5-4E05-A0DA-10D9D6688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4F44-17FB-4324-A891-1D67D08F0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888A5-2DC8-42F0-9DAE-D040E1783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E9999-56F6-48F7-8FC9-17B049D34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2ED38-60E9-4759-B096-8E700DF5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F64F-44DB-448F-A657-D66AB18E4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5CB18-CAE7-45EF-ABCA-E9D9A12B3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1471B-7A02-4327-8B11-D96CF8781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EB5DE-F2CD-4453-B6E1-A2483E36F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80614-F804-42E8-AE5D-48566CDE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2ADE5-EF2B-41F8-9CCB-76AC4540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1B7F5-E8B1-44EF-AC3A-7C365E73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7A188-6217-462E-8E56-6A3D91DBA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4CE1D-2E26-4114-8116-931B20ED2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A00ED-9366-4FCA-ACF9-12CB5BA75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7FA1-416B-464D-9086-BE27807DE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3710-BDA0-447E-ADB0-8FF52AC37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07ED-DC03-4D9E-B871-463D3137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0D92-4943-473A-89E6-54FEADD5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26AC-7A43-47D6-B54B-2B913DC8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B53D7-F970-4A85-8829-9D103C511B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02083-835B-4D10-BFC1-5847ED25A3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43F6B-7517-4F5E-B811-97B125409D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O Why Not Tonigh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lizabeth Reed (184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Calvin Bushey (184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0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A picture containing time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87120" y="6488280"/>
            <a:ext cx="30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O Why Not Tonigh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O Why Not Tonight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O Why Not Tonight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O Why Not Tonight_v4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O Why Not Tonight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7120" y="6488280"/>
            <a:ext cx="30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O Why Not Tonigh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O Why Not Tonight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O Why Not Tonight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O Why Not Tonight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 Why Not Tonight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87120" y="6488280"/>
            <a:ext cx="30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O Why Not Tonigh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O Why Not Tonight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O Why Not Tonight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O Why Not Tonight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8T18:37:34Z</dcterms:modified>
  <cp:revision>34</cp:revision>
  <dc:subject/>
  <dc:title>Slide 1</dc:title>
</cp:coreProperties>
</file>