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57B-F7B8-4459-AF20-BEE4AB2C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E22-35D4-416D-B502-C3CC1A47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23A-A273-411D-91C1-9DCB31BF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24B-CE88-4E56-91C0-129337BB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EC9D-E66D-4C2E-9964-00585426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1303-3BB8-4219-BC0C-C38EC9B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394F-CFF0-4128-9944-660FA8DA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AF34-62E2-46AF-8181-19206408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C4ED-7F94-4908-86BE-6F7F84C1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2368-8CD2-4F7A-9055-935C5108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09E7-4C8A-4AEF-91E6-A4BC68C3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423-0DB9-445B-BCE6-EE3818F4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DD58-4600-42E6-8914-FDC2E1E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54FA-A2E5-4DA6-A639-D0886428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4F0E-064C-40A3-8179-B787297F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B757-71E8-4781-934A-C41447C9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D6BE-E539-4B8F-851E-D39A6578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471-4449-4647-88C5-C57DABA8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4490-0B2C-47AD-871B-FA284B02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AC73-2C82-4A97-8388-752239BB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1ECDC-0F07-4F4F-97CA-41980769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CAB-5E91-4B5C-BD6D-B1F41B37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2EA8-A2A1-4947-A633-F321A5D5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4411D-D839-47F4-B5FE-C25DD966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2A88F-10AF-4405-ABF3-69F3564A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4F632-6696-4C97-91F9-20399F19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CC75C-BCFD-4F16-9316-F4EA6DF2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95F4-6840-4925-A6B8-E7FC2960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34DE4-CF65-4735-8E1F-9BC31CBA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EE957-4926-4EF6-AAA6-A068D5D2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C3D9-AE2F-4502-AD2E-266232BA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A035-3F0C-46B6-8AFD-8533F6A0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FD2-CCDE-4D8E-8CBC-949D0A5F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A97-6248-4E55-B3C8-7A89943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07B-3020-4DCC-9930-0BC9CD7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D2A7-EC8B-43B4-B1D3-7319EED8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55D1-25A8-45F2-8B84-65A9F4F57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E3AF-B457-4050-88A9-31E78EE3FB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E7E7-4304-4C3A-9437-870DBEDD5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Praise The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 Hill (c. 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Praise The Lor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9280" y="648828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Praise The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Praise The Lor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Praise The Lor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8:50Z</dcterms:modified>
  <cp:revision>32</cp:revision>
  <dc:subject/>
  <dc:title>Slide 1</dc:title>
</cp:coreProperties>
</file>