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24A-8DCA-48D7-B95C-51D405E0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1E6-8B21-4F6E-98F7-8A38336A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7BC-18E3-4189-B139-05BA6BC4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DC7D-DC38-4EE5-BE91-D1FFE33C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8E9D-D728-4FD3-9E16-D06F4B84D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4FCE-A8C8-455F-8C76-48FBD061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A155-580A-4641-BDC7-E8D7C006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E17A-8E00-44D4-AF17-AB8BE5E1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318A-22A7-4DF7-A8AC-1A540302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12D8-E4F7-4DA1-8CAC-DF3433A8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4B04-5A2A-4C8A-A0C7-8F436137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71A-DCFA-4CD2-8602-0F033D8C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14D5-AF71-422C-85A4-76919704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1776-B6AE-4C2E-8E51-C5AC8E60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0DC1-95DF-4387-82C7-FB70334C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A3E5-E830-40D9-9679-7820CFE1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83A6-5B41-4025-AE9C-749B5C10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C8D0-79F8-4E78-948F-B7329C8F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17A5D-ADF7-4A04-B7AC-2930C7F3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937BB-3B1C-4BDB-A608-14084B63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F3A21-9F8E-4120-8080-324948E8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F44-BA16-463C-A7F5-788B3754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CA105-3EDA-4922-8AA6-8AB35B1B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F438E-81B5-4956-8A6D-43478F50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0B0BC-E313-47B7-978D-99F6904D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CC429-3519-416B-B9A3-09BF808F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C4CD8-B3DF-46F4-9E8A-15D02D9B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55FB1-5712-465B-8667-8F0B4087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99043-B008-46AE-B043-DD8F1EE8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DCBFF-1BA8-435B-AE8A-D58D9330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FEDD4-FFDA-4CD2-B98E-C59062A4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207D-5F9A-48AE-AA3D-7CAE468E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C13-FEB4-4788-8D4A-6E3B0AE0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30F8-BA5B-49FD-9CAB-198ABB75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99C8-DCE9-469B-BA76-3780CE13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FFF-CD33-4B1F-BAA0-D0842C2C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5153-6F12-4C38-A1FE-22426C3E5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B1B4-9FCC-4A1A-B1CC-C4D6AB3AFF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DA00-1D85-465F-9FD8-63C748950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Sacred 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PASSION CHO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6.7.6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ttr. to Bernard of Clairvaux (12th Century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. James W. Alexander (18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ans L. Hassler (1601), Arr. J. S. Bach (17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 Sacred Head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74520" y="648828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Sacred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Sacred Head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Sacred Head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Sacred Head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Sacred Head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4520" y="648828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Sacred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Sacred Head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Sacred Head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Sacred Head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Sacred Head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4520" y="648828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Sacred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Sacred Head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Sacred Head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Sacred Head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3:26Z</dcterms:modified>
  <cp:revision>30</cp:revision>
  <dc:subject/>
  <dc:title>Slide 1</dc:title>
</cp:coreProperties>
</file>