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4F2-24B0-4074-BD1F-517AE3B9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628-B99C-452F-91E5-4634CF69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FFB-370E-428F-911A-57E819E7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9A4-4607-4ED9-BE15-EDC0FA33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EAC2-0EC1-4E0D-A423-BD6D1FF7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0B80-AA81-4C0C-B4EC-71B5C947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0CF-C5C2-4B69-8E7B-45E6A1C1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6B23-1CF2-43B4-977E-E641F715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03FE-3ED3-4895-A7CA-5CC56DF9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E4B8-4975-493F-80B7-526A87E8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3668-7A0B-4829-8327-27041C3E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4E8-E6BD-4B2C-9E24-C3596E8D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9084-59BA-44EA-960A-6005CC0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1DB6-9829-4559-8FD7-A112EAC6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A041-1271-4AE7-A2ED-140B524A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FB06-0F9C-470A-8478-6B719568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EE1-2813-4535-9292-FFC8D719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007-C577-465A-A19B-516B8043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670AD-12AA-4E4A-BC5C-DA663AB6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5A2A4-E1A2-44D5-9261-5E1E02CE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5819-61B8-47E5-A924-1C88426C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7C5-757E-494A-8198-7A6A0818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692B-0561-4760-B61B-D1BBA0C7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D8B0-EC8F-4481-9F7D-1E0E0363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81D0-D1FC-4A82-B618-4F117B2B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8DD1-75AC-4F51-9EEE-66C0FF49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791A-7091-43BC-98B6-FF1F65D9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80F0A-35E5-42BE-83E8-D7BF1B44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169D-A3E7-4665-BD16-68EE14B3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9C8D-D7CF-4D79-B883-0E8AD8A3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9C41-E76A-4317-A8B6-ACBF5CB4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702-1BD9-4861-A980-693154DA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F6CE-8102-4310-ABD6-BF95F04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07FD-7812-458C-9395-2829B8D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B76-6480-4A78-8F83-AC05D79A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D66-0D2D-4880-A920-AD3E7EA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F276-970D-419C-BC5F-FD01D4B59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1ED-F575-4033-967D-20019733AF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DB6-B69F-4DE0-9A53-DD00FCD1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ce For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Free From 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lip P. Bliss (18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ce For Al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ce For Al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ce For Al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ce For Al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ce For Al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480" y="64882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ce Fo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ce For Al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ce For Al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ce For All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3:55Z</dcterms:modified>
  <cp:revision>35</cp:revision>
  <dc:subject/>
  <dc:title>Slide 1</dc:title>
</cp:coreProperties>
</file>