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B16-620B-4FA2-B79E-E940D582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B15-3CE1-49F8-B159-E92A490D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B95B-3977-4160-9EC9-6A6528FF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DF3-3F46-4483-9346-5906F356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E5BE-0C05-46A6-85F6-86D09A2A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47F9-10B9-4722-9286-DE9269C3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E2E1-1734-48AD-A5B0-8E53C9BC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D92D-F27A-4F5F-AD50-7DCA0AA5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E2C4-3A28-4DF1-9492-E1669302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60DB-6A39-41E4-AD7A-03933434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8F05-4310-414F-8829-2069DB5B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9CD-BFCD-4A86-A72B-F5C798D3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8AC4-5A23-46C5-B9B0-2069AEBA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53B8-F2EB-4B54-8B17-CFC1091D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08D6-BDE8-4A41-8189-0F28443B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1E56-FA59-41BF-A803-A57E257E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0AD9-4D1B-46B7-99F0-69D43373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EC9-2A68-40EB-9640-C47CCE4A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93EA5-DA76-464B-84DE-CFAC70C6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5B3A9-A0D3-40CC-854B-2BA758CE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10A7F-2388-49F4-8DEF-00C16C93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38F8-134A-48B0-BA52-0AF1F811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15424-2F33-4421-BAC4-C1A40BB2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F9AAB-E1C3-4962-99DF-69491761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97A87-5027-4115-840E-C84049F7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E9F04-5689-4CD8-A552-C27515A9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C308-104F-4DC1-9CBD-C4FE16C4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62E8A-E857-4A26-B77E-4B235037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957CF-E18E-4CD9-BE65-D4E4615F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7A941-212A-4D6F-9C4D-4F17A9BB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54807-6E14-4E68-BD7F-E8A4B925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41F-B5AE-462F-B70E-582E6A80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724-46EB-4F7B-8189-69AB7270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F80F-A764-41CA-9E89-391CC28A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59C-E12E-4C16-A921-332682CB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5EF-C81F-4FF9-AAA3-C93D2745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1FDD-BF09-4000-988B-6951F517E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E8A9-1509-4E30-88FC-E17F7F7FAD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7108-78DE-4673-A018-D47EF0F76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Happy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Philip Doddridge (175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ard F. Rimbault (185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 Happy D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Happy Day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Happy D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77040" y="64882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Happ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Happy D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O Happy D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O Happy D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O Happy Day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Happy 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77040" y="64882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Happ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Happy 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Happy D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Happy D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Happy Day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Happy 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77040" y="64882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Happy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Happy 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Happy D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25:05Z</dcterms:modified>
  <cp:revision>36</cp:revision>
  <dc:subject/>
  <dc:title>Slide 1</dc:title>
</cp:coreProperties>
</file>