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5B9E-4873-49F3-B14B-94741919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195-D0F4-4001-A3BE-753093F1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2BB-78F9-4304-B62C-92CBD463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0461-5FB2-4F1A-BFC8-A2C9726A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BD39-C24B-4D53-8B5A-51D9B448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82AB-BF83-4789-A077-914E2C1E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6018-8C7B-4ADE-A83A-C258D871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56D3-002C-4FF6-A25B-9DAEDD0B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F768-D7CA-46FE-95F1-0B3F046A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ACE0-D23C-4970-BCAD-48410F12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2E3B-1348-4B78-8882-906019E6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E43-620E-4F28-A182-65E9091A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D21B-13F7-4D82-BD9B-1C9CC6EB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C2F2-8EBC-4584-B4C8-46FF99C5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9194-2C42-43DC-8C1C-8148F5BB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9600-E31E-4505-A635-A5F7A75A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6C24-AEB2-447B-ACB1-7927F24A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8F5-4149-4EB1-BA27-783DF6DC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4AFF2-53E7-44F2-A107-5B350E86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379C7-24B9-44AF-A1EC-007D95F2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D4C8A-560C-4460-8878-7C6044BB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2055-6BB2-4C8F-A571-A48F90F8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9D3F2-0C15-49D0-A21A-58BFDC27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2C92B-75EE-43D7-9ACE-58BDEF07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1E91B-6F6E-40B2-B550-625BC28A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35C1B-A83C-42BA-BBF9-5DFBBEE0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1B4E4-B037-4286-84AA-82107B51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DAA95-3D10-479F-8D65-04195A87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6E8E0-AAE9-43E3-921C-395D39FC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468F7-7029-4E51-8736-E71F172E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2EB46-3278-4D76-B0BA-531BA80E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E6C-6750-4B1D-9B52-5A5659F2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37A6-1241-42A2-B230-920CFC32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2E0B-4C15-4ED4-8F6A-0E00AEC3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69D-133F-4C24-9BE7-15827154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EC4B-AD11-4913-949B-C5C56F0B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030C-9ED2-4B37-9A6B-B28942619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EF66-273A-4A80-9529-7C222DE051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D64E-9B55-4A50-BC63-DF59588FA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h, How I Love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derick Whitfield (1855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o. Bradbury’s </a:t>
                      </a:r>
                      <a:r>
                        <a:rPr b="1" i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evotional Hymn &amp; Tune Book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Bradbury’s Devotional Hymn &amp; Tune Book (18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h How I Love Jesu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7560" y="648828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h, How I Love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h How I Love Jesu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h How I Love Jesu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h How I Love Jesu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h How I Love Jesu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560" y="648828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h, How I Love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h How I Love Jesu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h How I Love Jesu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h How I Love Jesu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h How I Love Jesu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7560" y="6488280"/>
            <a:ext cx="31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h, How I Love Je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h How I Love Jesu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h How I Love Jesu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h How I Love Jesu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8:20Z</dcterms:modified>
  <cp:revision>30</cp:revision>
  <dc:subject/>
  <dc:title>Slide 1</dc:title>
</cp:coreProperties>
</file>