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AA7-EECD-4AF7-8F3A-7E16A58D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C49-62E1-4006-A16E-917EF86F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7F66-D38F-4D3B-BA2E-8185B591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4DD-08FA-4BE6-9CB4-09636F92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4A95-0B78-42A5-99F0-230EFC66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5593-43AF-40E8-A33C-BD65A593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07E5-D294-42F7-92BB-2544AF92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6023-5205-4244-B94E-15B1C387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3E22-2DAD-4DB8-9356-C8E85AF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4991-BBF9-4134-8E43-0E60F05B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E411-089A-4370-8365-9987208A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B17-E1FA-4BEA-AC02-2A216440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1BC5-0EE7-4FC0-907C-56676C08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CCA7-60C2-439F-AE84-819F6A2D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1A2E-50FB-4C8E-B712-AA8B40A0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C514-3FAC-4124-BF01-9C45A129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5E0F-4122-4FD8-8D92-1AE2A854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87AC-8A14-4E64-991E-0D09FD09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1E6E-17AA-4ACE-A7B7-14A877B6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4C05E-2A71-4CC2-B853-1FD4CAB6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A393-3736-4609-9E7B-797E315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838-CAB1-41EB-AE55-7C962043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1CD4-66AB-452E-8F1D-1DBE5E29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0691-F711-40C7-964B-5F0F80DD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CAB8-34B7-4F7C-AE7E-C7DCC551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461AF-8A14-4042-AE4C-E4C73359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7B86-AF8C-492B-8032-BBA21783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2E163-9ABE-4098-9A79-3AFA727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7BF6-DDC2-4944-98C4-C2A3D963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D0EDE-4F1B-4197-BB32-111C9A7C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AFACB-A86E-486D-B4B8-958B481F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F8A-3684-4225-ACA8-B9666FD1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D7E-1035-4A6E-BF07-72F8EC12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02DA-C3D0-4000-AAD9-116A0979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94A-C804-449C-BA18-2718DAD9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26C-E96A-47F5-8E74-E00DC6B2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8F96-AB50-4B63-B60E-F096A471E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2DC1-EBCB-445F-8D00-07EAF88C6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A9D4-6CE1-4D6C-8330-47343C48A6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Love That Wilt Not Let Me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MARGA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9760" y="4902120"/>
            <a:ext cx="143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Matheson (18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lbert L. Peace (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Love That Wilt Not Let Me Go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0960" y="6488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Love That Wilt Not Let M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Love That Wilt Not Let Me Go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Love That Wilt Not Let Me Go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20960" y="6488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Love That Wilt Not Let M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Love That Wilt Not Let Me Go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0960" y="6488280"/>
            <a:ext cx="42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Love That Wilt Not Let Me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Love That Wilt Not Let Me Go_arr1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0:49Z</dcterms:modified>
  <cp:revision>33</cp:revision>
  <dc:subject/>
  <dc:title>Slide 1</dc:title>
</cp:coreProperties>
</file>