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78F8E-C3EF-4FB6-BA08-D5F267AB7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5F0E1-CEDE-4EC3-8E82-55C074948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B1F8F-75A9-45E6-9CD5-2967A83D6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09052-0287-4C2C-94CB-76EFC6D7F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1E26B-374C-4B93-BBE6-4F890AC04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D5551-6591-49BC-9D5C-6C3881BD0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902E1-F616-4867-A5D4-0B8BDA7FC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B83A2-70A2-4E24-8773-1330BB937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5A5D9-4A06-44F6-842B-72BC39053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192B8-4383-4E86-A506-4F9DAA03B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C2F30-94CD-46C5-94C9-CA030BE4C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E06D9-0A28-4CD1-9B20-93BF484AC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27F4C-7917-4708-92C7-9C1A2BA72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67DCD-0C3F-4AFF-8F12-ECB940513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36B00-9957-493C-AD1E-C438E1496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1FBFF-A45B-4763-814F-3749F0283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F0265-6843-4125-A72A-8FA0996C9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33B73-BB3F-448D-9C41-E023EE001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9F6840-B8B3-4FE6-8CD4-DC2CABA1C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9619EC-A7D9-4085-9EFE-DDB9B8DA7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621449-C23F-46A3-B79C-54E4D11D5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0D775-AA94-47A7-A3BF-710E8E3AF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AD9A66-74CF-4497-940F-3BB1C4610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05A54A-DED0-49DD-94FC-148422215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BC9BDB-C94C-44EC-98B4-E58DEAA38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FE993B-720E-4BF1-83E3-7D24D9FBF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356D9B-DB4E-4564-A8FB-4C6A2E5D5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3BDBD6-7F97-4DF3-9295-CFE29DA24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811B4F-B5C4-4BA0-A104-D95E5CF88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148C09-ED7A-4310-9C2B-C82E124BA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C71654-B899-4C3B-88BB-473C377EC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C89F5-E9DB-4657-8F4D-70138618D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B526D-DB8B-4C02-A383-0D7E51BE1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44B7B-4FC2-43FF-85A1-EE5B25B9D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B128B-258C-4B80-8BC2-6E10F7C25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9581A-0822-4338-9722-A58C92917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766C3-386C-47A7-94C5-730DA1EB05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AE2B9-325C-47AD-8F56-A7D03CD1D36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7A995-FDEA-48FE-AA20-F7186E7D3E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3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O Jesus, I Have Promis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ANGEL’S S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7.6.7.6.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40320" y="4902120"/>
            <a:ext cx="1249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G/B - 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John E. Bode (1868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Arthur H. Mann (188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29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4" descr="Chart&#10;&#10;Description automatically generated with low confidenc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100080" y="6488280"/>
            <a:ext cx="35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O Jesus, I Have Promi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O Jesus I Have Promised_arr1_v4o5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O Jesus I Have Promised_arr1_v4o5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O Jesus I Have Promised_arr1_v4o5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2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O Jesus I Have Promised_arr1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00080" y="6488280"/>
            <a:ext cx="35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O Jesus, I Have Promi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O Jesus I Have Promised_arr1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O Jesus I Have Promised_arr1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O Jesus I Have Promised_arr1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O Jesus I Have Promised_arr1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100080" y="6488280"/>
            <a:ext cx="35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O Jesus, I Have Promi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O Jesus I Have Promised_arr1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O Jesus I Have Promised_arr1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O Jesus I Have Promised_arr1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8T18:27:59Z</dcterms:modified>
  <cp:revision>34</cp:revision>
  <dc:subject/>
  <dc:title>Slide 1</dc:title>
</cp:coreProperties>
</file>