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C2E-DE9B-425A-9C11-B75AF126E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D63-D404-4BB5-832E-1B387EAC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CA2-E74F-4026-A784-DC9256C2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995-7D06-4ED1-83B3-F2EC4700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EE84-F3B8-40C1-B02C-185A4662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8647-1288-44A2-8CCF-7FFA28BF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B36F-F4CE-4A4A-9DFF-9601464E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DBEF-9042-48BC-9EF6-804FDB5D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350F-F98A-42BB-AC93-2B0121A7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D198-C9C9-4209-B649-77CAEF9D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F291-B5BE-48F1-B56E-A301AFE2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DC64-8750-4F65-A3D7-2C5192BB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A8D18-5C3B-41B0-A1E8-11C024F9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79DC-8C06-4D6E-B943-7E07A57B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5FCE-5A01-4095-BE60-B457600F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837A-2489-42F7-8D0B-29C3213F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E462-6B45-4C27-9A89-5A4991CF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242-6B27-4786-A390-874ADCE6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61090-216C-4F0A-A3CD-18B3A79B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2E80D-0766-453A-89E9-2AE752FF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7AE2-D357-4633-9528-0E1E1E94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BA8F-89B9-49CF-972A-98C57CB0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E46D7-C004-425D-8E47-BC0A901E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EC61B-1DCA-4C1E-B1A7-EA022A20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F413A-12AB-43C5-AC56-7F9A6CD6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85D23-1A9D-4B4B-A1F9-6A8BDE4B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C7998-16BA-41DB-B1F3-2F817C45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8D074-B4BA-4619-93AA-02D1BAB8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CE78D-D8FF-4CEB-847D-EA1C8D3B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DC69A-0CEE-4431-A05C-B567FAEA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D3499-0246-4404-8F0D-5109449D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A0C4-4D0B-43EA-BA76-78D811DE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2DC-CA8B-48C8-BE71-6F06371C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9A8-FF63-437D-BB52-18CC549A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09D-9399-47D9-8185-934F6A46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5D8-9F4B-45B9-8A73-20897881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CC78-2AF7-4E92-8274-1B366DEDC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0972-4E1E-4C31-AAED-48B7A9F713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947F-8291-4031-AC20-E72FA19C8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Lucida Sans"/>
                <a:ea typeface="Arial"/>
              </a:rPr>
              <a:t>Oft In Sorrow, Oft In W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HAT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hite-Maitland (180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T. Porter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ft In Sorrow Oft In Wo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400" y="648828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</a:t>
            </a:r>
            <a:r>
              <a:rPr b="0" lang="de-DE" sz="1800" spc="-1" strike="noStrike">
                <a:solidFill>
                  <a:srgbClr val="000000"/>
                </a:solidFill>
                <a:latin typeface="Lucida Sans"/>
                <a:ea typeface="Arial"/>
              </a:rPr>
              <a:t>Oft In Sorrow, Oft In W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ft In Sorrow Oft In Wo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ft In Sorrow Oft In Wo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86400" y="648828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</a:t>
            </a:r>
            <a:r>
              <a:rPr b="0" lang="de-DE" sz="1800" spc="-1" strike="noStrike">
                <a:solidFill>
                  <a:srgbClr val="000000"/>
                </a:solidFill>
                <a:latin typeface="Lucida Sans"/>
                <a:ea typeface="Arial"/>
              </a:rPr>
              <a:t>Oft In Sorrow, Oft In W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ft In Sorrow Oft In Wo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ft In Sorrow Oft In Wo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6400" y="648828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</a:t>
            </a:r>
            <a:r>
              <a:rPr b="0" lang="de-DE" sz="1800" spc="-1" strike="noStrike">
                <a:solidFill>
                  <a:srgbClr val="000000"/>
                </a:solidFill>
                <a:latin typeface="Lucida Sans"/>
                <a:ea typeface="Arial"/>
              </a:rPr>
              <a:t>Oft In Sorrow, Oft In W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ft In Sorrow Oft In Wo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ft In Sorrow Oft In Wo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400" y="6488280"/>
            <a:ext cx="36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</a:t>
            </a:r>
            <a:r>
              <a:rPr b="0" lang="de-DE" sz="1800" spc="-1" strike="noStrike">
                <a:solidFill>
                  <a:srgbClr val="000000"/>
                </a:solidFill>
                <a:latin typeface="Lucida Sans"/>
                <a:ea typeface="Arial"/>
              </a:rPr>
              <a:t>Oft In Sorrow, Oft In W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ft In Sorrow Oft In Wo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6:55Z</dcterms:modified>
  <cp:revision>32</cp:revision>
  <dc:subject/>
  <dc:title>Slide 1</dc:title>
</cp:coreProperties>
</file>