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074-DE0A-41E7-B193-EE1BEF27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C0F-F117-4D55-949A-E4BDB8AC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9F4-F424-4422-B17E-E6F95C54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BE2-B711-4C38-B6E0-67A96FD3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7B5-D5C7-4B1C-8CE9-14838342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53CB-31AA-4230-B86C-B4D51AF9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CB37-A826-40EF-81EF-D70C5B3E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B42-3ADD-4D8E-AA38-DAEA0038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22FF-2AEC-4A4B-9DA6-AA147529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7233-6FE0-45C6-9D7B-D2E870F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1111-0665-429E-97B4-258BF29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FC8-0ADF-4460-88A6-FEC19B5D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4320-AE77-40B3-94B3-079105AF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E65-3180-4BEC-98F8-6A50C4C5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57A6-1B92-4E49-B49F-7D0BE81A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24A8-EED6-45EA-AA52-29D1ECFE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96B1-B9E7-4173-9487-0FD9A8E1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54B-C3AF-4FA0-92A8-BC6A7D8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FC93-5ADB-48CE-B3DA-F799EC7C0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F1A63-9857-4527-9FB7-6C42362F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93E7-BD63-4DD0-AA3C-A68EA15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9C1-908E-4F88-A5DC-7D726C7B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C249-2610-4CCC-85C4-C3A318E9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3315-0C31-4D39-AABD-83CF9F63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5183B-FF62-406E-B797-97AB2BA1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E7585-1515-4B9B-AA7B-05E80117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336F6-1E88-48A8-A4F5-B0143916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DADD2-BED8-4BF9-8D82-CC499B1C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2130-E830-4524-ADE7-F6312FEC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8E7D9-D9CC-4F37-B515-5F4A6477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9939-7C70-4338-801B-B472A254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D12A-E1CD-4D0F-BDC1-A8E8F34D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FFD-77A7-49DD-89EF-54AE2B76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CCF7-083B-4687-A9F7-913C4AF8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5A93-F6E9-4A26-9B80-35E9DAD7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2105-9B03-4E69-9B09-10998161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F4EA-F00C-4856-9841-F93E7FF0E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C45-F3A3-4F45-B813-1DC6E342E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F24-979B-4EFD-A23F-7079374C1E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ly In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6.9.9.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omas O. Chisholm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ly In Thee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ly In Thee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ly In Thee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ly In Thee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ly In Thee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nly In Thee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nly In Thee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nly In Thee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ly In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ly In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ly In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ly In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ly In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ly In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ly In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ly In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ly In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18:04Z</dcterms:modified>
  <cp:revision>31</cp:revision>
  <dc:subject/>
  <dc:title>Slide 1</dc:title>
</cp:coreProperties>
</file>