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D0FC-5116-4DD7-9911-1A74D075D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CBC6-41FB-4D8A-82AA-7689CC5D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3834-F2D7-4A02-89BB-4FE826F24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BF78-5463-40C0-9F86-94C727854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2CC2-51EE-49B9-80C6-B2FE38E14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D1BF7-6E72-415C-AB24-BCDD98CF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0DC1-B488-4E1F-BDE5-A6422DEB1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BE2B-ECCD-4121-BC8E-C64FD391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7812B-A1F7-41B2-9C07-A7E8FD2A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5655-830E-4A0F-80F9-478E4172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8F90-9B1F-4FDE-82E9-2AE431CC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F262-A35A-4775-BC22-E0FE3501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D24E-445F-4BEA-AA86-94830FB7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3F3D0-1AD4-4F47-A599-B816A81C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53AD-9EEB-42B3-9738-EE61EFEF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6F66-CE2D-4ED7-A2E5-74DF6E412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E4D7-44FF-46F2-AB76-2DB58D5D2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633F-75AB-40FB-A396-DF86B5BD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46421-BA59-40A4-8D6B-6252FB8E6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654C9-DAFA-4FE6-9D22-8E452063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5ECF6-8514-4894-9FED-744FF14F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F4A0-29C7-44E4-ACF1-9D1EBA63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F4B03-8499-478A-BC58-B64C5D3C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7AB7C-18EC-4E11-94A1-167F5342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EE989-990F-4138-A428-9A2EE423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F6C1A-B2F5-4262-8257-E18B3F8C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4A26C-2848-4190-B2B4-AC31C72E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04C0A-07C1-4C1C-81AB-1D5D119E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C6E1B-8812-413D-A9C0-9EFF6D0C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3D3B1-4AAC-4D64-A551-505E8D327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BBBB0-31DE-4DD6-A0A5-E2E9822A1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E299-D697-4AFA-8ED0-CB9706DE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B087-28B5-418F-B339-98157678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2C67-ED26-4470-A1B0-D0950A96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07DE-2065-41B9-883C-43973980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929F-5C21-4CC6-AD8B-E5056282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0F57-B8A9-4C0C-B013-3F1F2FE80D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6274-E4EF-4977-B3DD-5BBA1F4DF1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74CE-0AD1-4560-88DD-F6A203ECBB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 Holy Nigh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CANTIQUE DE NO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E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lacide Cappaeu (1847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. John S. Dwight (189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dolphe Adam (184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9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O Holy Night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O Holy Night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O Holy Night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85680" y="6488280"/>
            <a:ext cx="23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 Holy Nigh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O Holy Night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O Holy Night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O Holy Night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O Holy Night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 Holy Night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5680" y="6488280"/>
            <a:ext cx="23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 Holy Nigh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 Holy Night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 Holy Night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 Holy Night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 Holy Night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 Holy Night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85680" y="6488280"/>
            <a:ext cx="23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 Holy Nigh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O Holy Night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 Holy Night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9:51:31Z</dcterms:modified>
  <cp:revision>33</cp:revision>
  <dc:subject/>
  <dc:title>Slide 1</dc:title>
</cp:coreProperties>
</file>