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74F-94DA-4B5E-B4C5-899C700A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634-BAC8-4B2D-83AF-A888B134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D89C-AB0D-413F-8EDA-9BC753B1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A78-4C90-44C8-AC24-178EB802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94C4-EDE1-4026-B34E-2E356EB4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9003-4CEF-46E9-A068-2DD25882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B314-3494-453D-81CB-EFE15EC2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10CD-4E92-4C94-82A1-1F94416D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7E72-AD78-44CF-ABC0-BC3F3460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2240-8BB8-4114-A0DB-2523CA51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1A8D-489A-44BE-A961-874B47B2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467-A420-4683-AED0-1866CA5F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4B7B-C885-4693-95AD-A4380BD4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3413-00F6-41F1-B6EB-0F668B3B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B705-9403-4247-B2B5-63E2930B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1E19-8BF8-4B6E-B204-BA1E0B419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7E60-C86A-4EE2-A2C9-4B2D3E58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4AD-0C39-4BB5-A51F-8FFB33D9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4FE2-BDDA-4D0B-9824-27C7128A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9E37D-E3EC-4834-8101-D8643363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63A64-0710-44A6-9981-4349AADD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D75-6FFE-4496-8F43-C60BBFE1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2942E-68B5-4BF1-9E08-0CAE4DCF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F5A5-F39F-4E82-9E44-F6AC1243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E8CB2-8092-4DF1-9341-8EB19B40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454BE-0081-43C6-9341-0CAD990D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35DD1-F5E6-405A-B5CF-8243C313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92572-D0D4-4403-B2DE-4FA25764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C6E29-FB11-477A-B453-4AE57B63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4931-38F9-453B-9AAC-CB9B7617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FC4A0-2FFB-44C3-9685-A9D745BF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B6A-E736-4CFD-B54C-AD8FB8F9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8045-3575-4A7B-A845-2D5B21FB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E3A-435B-4D5A-BD06-A7CD98F9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F81-4D7B-483F-9F0F-144FD880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596-5FC4-4DB1-8066-DB97B59E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4820-3C77-4584-8058-208DCF8E5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7F13-5FE3-48A9-84B4-B39426B371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8168-C0CD-4493-9D78-EF25DA48F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h, To Be Like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9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O. Chisholm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8720" y="64882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h, To Be Lik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h To Be Like Thee_v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h To Be Like Thee_v4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h To Be Like Thee_v4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h To Be Like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8720" y="64882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h, To Be Lik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h To Be Like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h To Be Like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h To Be Like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h To Be Like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8720" y="64882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h, To Be Lik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h To Be Like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h To Be Like The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h To Be Like The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0:54Z</dcterms:modified>
  <cp:revision>22</cp:revision>
  <dc:subject/>
  <dc:title>Slide 1</dc:title>
</cp:coreProperties>
</file>