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12F-6DEA-4270-A71B-26D11404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46B4-3387-4D0E-898C-FE87CA9B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1F55-5FD2-41BD-ABEF-AAFBFCD2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AFC-9523-41B4-A6FC-8EFA452C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4879-7C68-493A-9F2D-4B20AC91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84BC-ACB0-4D4F-B300-2E255BA6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21FA-BCD0-4A78-AD78-0833A06C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162B-3F94-4735-A84D-15964FE4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FBC1-5831-4E22-86D7-AD7F4CF6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4925-A1B4-4007-AE47-C33915EA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5877-5113-4985-9AB2-0B2563D4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16C-B682-4BE3-82D9-22DF95D1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C734-B1F8-4210-B76E-073B59A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694C-CDB8-4CC0-9E03-B6848265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651B-41EC-46EA-BF94-66759874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54A0-2393-469F-92B5-F6B752BE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E48F-5EB8-4F2D-972D-673E46CB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6B8-BD7B-4FFC-B82C-7F57457C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27F88-0C77-46F4-9842-D9E872A9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C7C68-3850-45B9-9E50-12E26148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2FDC-11E5-4DF4-B8AF-0E13CB3C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B3C4-2F6F-40B3-A6F4-42869A80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94D8F-2E88-4E33-A402-9A52080C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2E874-24D1-43A7-8DE7-D9B1642A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F2EF-8DC1-4E10-AA92-D34DB767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6180-965E-4B79-893A-02B24A39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97513-2638-4B86-9848-80ABB3B1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FF24-AE89-4C7F-99BD-DF9DF0F2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DA550-9851-4711-AEDE-47291218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4049-AF0F-49E1-BF42-54D91AF4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1434-DD14-4508-B4FB-4A0BA576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463B-FE97-4786-800B-BFB57F86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341-9E52-4B8B-BE12-2F7E7D19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B9DB-95C6-4A8B-AF9B-A238F281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B5A-AA4A-41FA-BB37-73B5F71C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7AA-6427-4B1E-991D-9508E1BD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255D-EE9B-4446-957F-F31ABB853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92EA-3CAD-44CE-948E-A58CDF4A51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1E2F-035F-4ABF-8693-159A84045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ly A St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ly A Step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1360" y="64882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ly A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ly A Step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ly A Step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ly A Step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ly A Step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1360" y="64882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ly A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ly A Step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ly A Step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ly A Step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ly A Step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1360" y="64882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ly A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ly A Step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ly A Step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ly A Step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9:49Z</dcterms:modified>
  <cp:revision>29</cp:revision>
  <dc:subject/>
  <dc:title>Slide 1</dc:title>
</cp:coreProperties>
</file>