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07D-109E-4093-B0C2-856EFC35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2192-A655-44C2-86C7-7BFD1DB6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4F6-B629-41DE-BBCF-6F162A52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A33-CDA3-479A-9B55-34708EB5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2458-3AFD-457C-BD2E-90A2ED34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E388-C5A8-49A4-A6BF-39E64DA4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435D-86BB-4933-BD95-337E8920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2068-3231-42BD-8810-BC04B235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64F7-A879-48B9-BE9F-8A7E072D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4395-C0D5-485B-8E77-77DB21C6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7008-E5FD-48ED-930B-B5D1B305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E2D-2838-4338-BD36-AB56BB0A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6F63-41BE-41AA-A6C3-40296B28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FE62-2B7B-4F36-93E1-EFD21B56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372B-005C-4F2E-A038-8AC9A275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E2FE-5F16-400B-A519-DEEC1090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2A21-7630-4020-92D3-0E8406442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5A4-F324-45FD-8B83-8555A17F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1EC07-8E08-4B50-B2B2-0F4F88B8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DEA6-8CC0-42F0-822A-F3DC6BB1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E4D41-4DA5-484A-909B-D120D1A8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00F-A362-4C30-BEA9-634173E7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CE8E3-DB71-43D1-A985-966DCCFF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6838-E2AB-46C5-81F6-88867443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DBF0E-C950-437B-AE69-B148E607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80548-5AED-4FD6-BE19-614F160E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29474-0855-4EDA-BC46-81F3F531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853EF-1165-4229-A3D9-97E91F82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0E743-E72D-4C95-B939-0B6DAFA2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66424-2205-4600-9540-2375C08D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2793E-91E7-4468-98DB-E00A3B10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175-06A6-41DE-A331-C9AF7EFF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4E7D-9034-4351-93D3-FBA638F7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731E-BA43-46A6-A088-F4AF2492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64A-E595-4836-B86F-DECDFCCB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0AF-73BD-418C-8CA3-75EB20D1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7E06-0477-4EA1-AB2C-AA393CEACF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A74C-EE07-4661-991C-AC34232DD7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859A-1D0C-4F07-B20E-7203FEEB8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Spread The Tidings '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The Comforter Has Co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ancis Bottoms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J. Kirkpatrick (18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Spread The Tidings Round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Spread The Tidings Round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Spread The Tidings Round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Spread The Tidings Round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 Spread The Tidings Round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O Spread The Tidings Round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O Spread The Tidings Round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128160" y="6488280"/>
            <a:ext cx="40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Spread The Tidings '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O Spread The Tidings Round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O Spread The Tidings Round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O Spread The Tidings Round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Spread The Tidings Round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8160" y="6488280"/>
            <a:ext cx="40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Spread The Tidings '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O Spread The Tidings Round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O Spread The Tidings Round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O Spread The Tidings Round_v3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Spread The Tidings Round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Spread The Tidings Round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Spread The Tidings Round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Spread The Tidings Round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Spread The Tidings Round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Spread The Tidings Round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Spread The Tidings Round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28160" y="6488280"/>
            <a:ext cx="40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Spread The Tidings '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4:16Z</dcterms:modified>
  <cp:revision>30</cp:revision>
  <dc:subject/>
  <dc:title>Slide 1</dc:title>
</cp:coreProperties>
</file>