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58E-E2C5-4BAC-A3A8-737A3CF5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449-107E-4D99-BEFF-F5044B66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526-FF5D-4DD3-9ECF-5A40A67C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727-C05B-42D3-A911-59F83385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6D6B-6DC2-4428-A75E-5D0D5F6A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539D-B60E-4369-B5D7-B6E78DAD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6653-121F-44C6-BDF1-E8EE1E25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1D54-5C2C-4FF0-B542-A8882C6B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B1E1-424D-4519-92D5-9C82637A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8FC1-D1FF-4548-966E-CB40F4DC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4D5E-AE71-4093-A1E0-399A7A2B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26B-EA61-466C-BE1C-CA765EB8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4945-A36D-4E1A-BFC8-B5589B30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30D8-CA77-442C-AF45-AE3E20F9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76C7-E6EC-428E-B455-BB1DA6F2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7AFC-6C7C-4280-B0DD-13918A5E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57B8-BDB7-4CCD-A198-D0DD7CD9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F8E-5290-4BF9-A90F-FCEA8DB1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9186-A11D-4AB7-971D-B8198BB7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3044-E499-4FD5-9002-26613211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4475-69BB-4238-852A-87C145EC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03B-4D07-4281-90D1-D097EAF6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002EB-170E-4AFF-8948-80EBC019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6F73-02EA-45B2-896C-3239EB24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C682-17EF-4300-B7E2-919A152F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86E3-2185-477B-A277-1F357243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461F-C7E3-41C6-800E-C1738384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E1F8F-4E3A-4545-8AC4-2618BABB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2735-6D0D-4E45-B14A-66977085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39F02-6CC8-4D08-BEF4-BA8C4962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6141-CD9F-4B4D-BBED-EA67C469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E2F-2888-4736-B550-F72A9F65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27E-AED6-4038-9114-CCE3CF68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791-021F-4BA6-9611-97388B1E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AEB-9B35-4F3B-A9CE-95059AE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EB2-7ECB-46AD-A2F5-299A41F7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1D94-B93B-4822-ABB9-54FFBA815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6FDC-5D02-49E8-824A-144B75D0A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71BF-F5A9-400C-A3F8-B17B44A17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to God, Immortal Pra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LEYEL’S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a L. Barbauld (17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gnaz J. Pleyel (1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To God Immortal Prais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to God, Immortal Pr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To God Immortal Prais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To God Immortal Prais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9720" y="648828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to God, Immortal Pr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To God Immortal Prais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To God Immortal Prais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720" y="648828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aise to God, Immortal Pr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To God Immortal Prais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3:21Z</dcterms:modified>
  <cp:revision>31</cp:revision>
  <dc:subject/>
  <dc:title>Slide 1</dc:title>
</cp:coreProperties>
</file>