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CAC-2ADE-4483-B843-12F21623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122-5841-40B7-8441-3C838A1A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9BC-91D8-405D-A75C-ECC111AE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F29-40F8-4B45-9BDE-4517404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F3E4-FDB3-433E-BA1F-8B69EAEF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791-B382-480E-B000-59ABA2F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DC76-F1B8-4034-8F36-0A69BD1F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5C44-6FFD-40D4-BD50-362C3837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186-10F4-4213-946D-C241F677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044A-D378-4ECC-A9BB-CE8D210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1A78-B40A-47DF-8D2D-90E6382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8CC-D1BE-487A-B3BF-4F0F2CA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8F6A-B7F2-4329-AB1C-1CE7E59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F582-B108-4783-8E34-6136E0A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4522-6699-48B5-8CA3-0FBF642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6D3B-BB39-42E8-B42E-A0C709E2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79E-8E42-4FEC-A8D1-D2ED4638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D60-9069-4706-9421-DF4E0A4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9CBD-71FC-4626-918C-CDF273AB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12E9-2C6B-42DC-B374-0CCFF1F3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8738-EDA2-40C4-8766-2CA3D15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7A3-7A4B-43B0-9EBC-2A29C15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6406-C209-4060-A5E3-5737CE8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4CD9-71DB-4DC7-BB87-60A4A17C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5E50-A8D5-439E-83BF-604B99B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A4CD-13D3-4C55-ABFC-51FD246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3DF5-8DCA-4CD3-8D6B-BA12545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DB07-3F6B-41D3-9836-8022000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8978-FCBA-45A1-99C5-4CCBFEA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D701-39CD-4CD6-B578-6367B19D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3C69-2D42-45A3-B3B3-692DEB8B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1C8-F832-4244-BDA1-2371FC29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43A-620A-4B7B-A3BC-947C5888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25E-360E-4297-8E97-1EC2D35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FCD-86E2-439E-BB18-A04127A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D3A-AA76-4210-B119-BDD8B7F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813B-74EB-4920-B0D3-6924508A1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A7B-764F-4E29-96AB-FB46EE0F5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C67-9A0D-4EA3-94AB-BC6B4E935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In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R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. L. Daviso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mor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In Heart O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In Heart O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In Heart O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In Heart O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In Heart O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In Heart O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1:18Z</dcterms:modified>
  <cp:revision>30</cp:revision>
  <dc:subject/>
  <dc:title>Slide 1</dc:title>
</cp:coreProperties>
</file>