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E3D-4717-4812-807B-ABF6376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154-E6F4-485F-8B01-3AD7B28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3FE-1EB9-4251-A844-56646139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437-184E-47BA-A142-8369431C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FF39-BD1C-4967-90EE-B15DE49F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709-EFBE-43C2-BFB3-1AD78176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F27-7D86-432C-9BD4-EDB9B1A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60B-666B-4670-8A9C-16FB078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C4A1-91A8-4047-87AF-78805A9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D648-4CF0-46F2-8492-B1A75D2B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599-3AE0-4BBF-8659-73E4A7E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ECF-6648-456B-A344-ADCDEEFD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F009-B5FA-411A-95B9-696F859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F53-2422-4527-AAE8-DD5266F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975-DFF9-46A2-8A3F-1A94EE4A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F80D-0BD6-43C5-8AFA-295E0E53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E900-47F1-4F5A-84A2-30FB7BB9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A43-E431-4232-BFDB-93B0D4D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233C-9903-439F-A1C1-204BF645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9747-0CAD-4DBD-B7AC-608E709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0018-30E3-43A3-867B-D89E5C4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F65-B0EE-475F-B6CD-6BFBBC3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2397-8E19-4946-9840-64B9656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5D64-50EC-4961-9E05-A9FE608C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AB1C-5EC5-4D58-9D6B-A4D9962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AA6C-97D6-4B91-8A2D-6E52CE6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BA6B-8496-4105-9606-10DC4DA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F7C3-ED00-40C6-9EC1-39D0325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294D-0CED-4AB5-8942-590AD5E7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8912-0043-4406-A861-B9003AAB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E3CF-217A-442F-836A-DBE2FBB1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DD5-5D69-4D79-B1B2-C00A95F2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539-1C68-47F2-99D6-FC613FC2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3AC-C367-4B57-B9ED-4DC8EDD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DB4-6E2A-44F1-AA27-6624DD9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619-CAA7-423A-9CF1-CC6970F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26E-0330-437E-A139-922772799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106-6426-4FF8-A66C-5584E33F2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73D-8FF9-4AAF-9461-5F2B46CAE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Yet And P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YNDH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on Goethe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Vail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Yet And Pu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Yet And Pu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Yet And Pu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Yet And Pu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Yet And Pu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Yet And Pu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2:20Z</dcterms:modified>
  <cp:revision>30</cp:revision>
  <dc:subject/>
  <dc:title>Slide 1</dc:title>
</cp:coreProperties>
</file>