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567-6B59-4CA8-BECA-C85F1E98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27D-941A-4D19-B4F6-B69CA12E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D2E-BB65-46FE-BA43-A597A44A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76F-4568-4147-BD4D-30F6299F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90DF-49D6-4CD2-9E70-457C18D1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59A8-E1E7-4280-B8E6-2A815949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BB21-870B-4473-B0C9-33B0D062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8CD5-4486-474D-B1DD-499954E1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25F3-4447-440C-84D9-F25F789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D4EE-CF70-4741-90A0-1BA6B0CF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2FCB-DCD8-4A0D-85DC-1A15D86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748-B3FE-44C0-A055-509BF404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6C2F-BD7D-4B0F-887C-B31EBA9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B6D4-E906-4000-B0DB-EADDE286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0074-2824-4DE3-8E26-88AC16D7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3BDB-E3D0-4E62-87DE-E9F89393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97C8-8C56-4C3D-98A9-F3168B83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FB0-74C0-4CE8-9103-ED0EC169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2430-E9C8-4E18-8816-40A469B1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E39B-F357-4F24-ACEC-E11A6C2D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315E-8071-4905-BC8E-DB3D9FAC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FDE-2ED7-4999-85DA-58D0CA14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8ED8-DE84-4A1B-AB05-C49EF55E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9486-5F7A-4567-B16C-25405C44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3021-E919-4D97-BD2A-1D9D1D4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7B7F-651F-491B-A68A-5E846859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14C1-6304-4DB7-A934-35F62700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37A1-E0FC-4244-80AC-9E7EA0A1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3D45-5B7F-4970-BEB1-F7986E2D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905D-A691-427C-A825-4C14985E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7EF0-CEFA-4427-9C74-B48BCA39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40B-740F-4E71-96EF-EBADE6FA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BD8-729E-4BA7-9638-EE0A0335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289-FE9A-4C26-98E6-EFFCB844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E15-9B6A-4745-9ECB-A67F56C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180-1DA4-4D79-BBEF-6B47644F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764-FC28-43A6-B807-AD65538E9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71B6-B747-4F39-B969-393C00476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1D68-F871-4A04-A5FD-83C443E57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Him! Praise Hi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ester G. Alle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aise Him Praise Hi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8280" y="648828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Him! Praise Hi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aise Him Praise Hi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aise Him Praise Him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aise Him Praise Him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Praise Him Praise Him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Praise Him Praise Him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raise Him Praise Him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Praise Him Praise Him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8280" y="648828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Him! Praise Hi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aise Him Praise Him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Him Praise Hi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Him! Praise Hi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Praise Him Praise Him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Praise Him Praise Him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raise Him Praise Him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Praise Him Praise Him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Praise Him Praise Him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Him Praise Hi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Him Praise Him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Him Praise Him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Him Praise Him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Him Praise Him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Him Praise Him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4:11Z</dcterms:modified>
  <cp:revision>18</cp:revision>
  <dc:subject/>
  <dc:title>Slide 1</dc:title>
</cp:coreProperties>
</file>