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E98-2AA6-4EB3-896E-BC3B0AE7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064-C03C-4DC3-8810-C3910EF6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3EF-619B-420C-8D78-A00ADEEF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BAE-04D6-49F6-BDA7-793407A9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F417-BCE0-4241-B676-2C459B3B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73B0-AFCF-4589-AF2F-942D1C0A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E92F-58A8-46AA-86DB-EC27E549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D29B-54D3-4549-9FB9-E64D7D6C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62C8-B7AB-4337-B52A-853FAB89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0DB1-15A3-4D07-863D-3ACD1B19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D6D3-857C-444E-8137-1D4E2DF7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97A-D720-447B-84B6-D0133C20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C34B-A51C-4029-AB44-9E663A3D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4D63-9EC5-475C-9BFF-A93E691F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2B71-D8B1-486A-9420-A20D1189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108E-DE9D-4121-AEC5-56037502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0DD4-DAED-4B49-B088-E1F5ACEC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280-0450-422C-9CBD-3752C06A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2425F-B524-4202-8C96-CCB1529C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9B5B-60D5-49C6-A54D-7FD6D89B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C23D-AF22-40BE-BB42-5CD84CBC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6AD-E5EA-42B1-9679-FE1C9838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6893-EA3D-4E12-A297-7F117C25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A84A-B54A-4A32-9AEA-3820EA33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16C5-F243-47DB-9909-12B0EE1D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63E63-6244-4197-AB10-7B182490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B8BA-FE51-434A-BB5D-EA8CD589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478E-91DC-4C2B-8D6F-D9B1FBAC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6D854-E7CC-492E-B552-F8158EC2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C29C-5A7B-4C94-B944-CDB49BB2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993C4-EF2D-498E-8B85-6BCDCCEE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BD7-E910-4B87-BC0B-B7ECABE6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D00-32F4-4B3C-BE08-58C4AF66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3DA-4466-44C8-8F5E-0B3960C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96A-3101-46FF-A20B-9B134DEE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49D-9F26-4309-889C-BBF15ED2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1B9B-F6EB-4C8C-B1DF-8D0A64A1C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E65C-CE85-4B43-8A63-D5EBE47DF9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2F9D-0C6F-4C28-BF39-52ED3DC84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the Lord! O Hea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USTRAIN HYM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508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 Foundling Hospital Collection, London (17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z Joseph Haydn (17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The Lord O Heaven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38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the Lord! O Hea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The Lord O Heaven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The Lord O Heaven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The Lord O Heaven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The Lord O Heaven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160" y="6488280"/>
            <a:ext cx="38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the Lord! O Hea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The Lord O Heaven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aise The Lord O Heaven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aise The Lord O Heaven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7:54Z</dcterms:modified>
  <cp:revision>31</cp:revision>
  <dc:subject/>
  <dc:title>Slide 1</dc:title>
</cp:coreProperties>
</file>