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9E5-F811-41AE-99AF-F3266AEC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11A-902D-47D9-A74C-63B780C8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88E-7B3B-4C97-A1A8-CF58602B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0E0-5EB0-477D-8DF7-28965ADD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6465-DCDE-4C2D-8135-EADE685F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7A82-ED22-40D3-9E4B-1B6C7132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6AC2-6559-4C54-8D51-BD0EF88A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DBAA-77A3-4ECB-A819-92FB2EC7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02C1-B09E-4281-8307-9BD1EB79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E75A-353F-48A4-9200-803E0CDF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2A1C-2B7C-4EAF-BCCE-4FC37AC5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538-2563-495C-A606-A130E35C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7F19-7EA5-4578-97E2-131C6341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3706-18EB-4D20-9D1B-C1157DE7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02F7-DCE5-43DC-8D27-ABE47FD2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8EDB-2F70-43C4-B82B-DF62B8D3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B4D6-3E0D-4C3B-8ECD-82E65D1E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585-0BEB-4280-97E3-43F8154C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A306A-91CA-46C9-8DBF-18F8D3B3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5505-2587-44E6-AA81-702CB45C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B0DD8-D45C-4C74-9E03-39EDF636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836-7CF3-40E9-A23E-2C973DCE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BEF3A-D788-420C-9F05-EB90544B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8256-12E7-415F-BFA9-62AAE174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AD5E-9228-4570-86FD-49338B84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B1D7-43FE-4F56-B416-3FDA2DF7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026CA-C07C-4596-8C9E-97DA3181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6D98C-83BD-4193-BC15-208EB046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A9464-83DF-444F-92EC-3B56B261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28F20-4A54-4049-9049-760DDF35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914B-22DC-4317-AC21-B1C5F6CA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0B9-B90F-4785-8489-DBB532E3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C8F-E79A-4BA5-81D4-7FEE6EB5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AC8-5663-4972-A6E5-AF21D9EF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68A-5B77-44D1-86DD-6BB160F7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773-512D-49F6-BC46-FE57D5EA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D237-A270-490E-9123-CF9FBCBF1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640F-11D0-4672-827E-E79ADA3370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A390-6E2B-464B-BEC1-7E9DEB296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epare To Meet Thy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anley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anley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repare To Meet Thy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repare To Meet Thy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repare To Meet Thy Go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repare To Meet Thy Go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Prepare To Meet Thy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9360" y="648828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epare To Meet Thy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Prepare To Meet Thy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Prepare To Meet Thy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Prepare To Meet Thy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Prepare To Meet Thy Go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repare To Meet Thy Go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epare To Meet Thy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360" y="648828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epare To Meet Thy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epare To Meet Thy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epare To Meet Thy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epare To Meet Thy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epare To Meet Thy Go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epare To Meet Thy Go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epare To Meet Thy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9360" y="648828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epare To Meet Thy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epare To Meet Thy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9:42Z</dcterms:modified>
  <cp:revision>29</cp:revision>
  <dc:subject/>
  <dc:title>Slide 1</dc:title>
</cp:coreProperties>
</file>