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AE2-3053-436D-8C69-86AC8AE5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49A0-4B21-4FC4-8755-E3458AA6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7C30-A82C-40EB-86C2-1F312DBD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E03-EADC-4AF7-88B2-04088CB6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A2CF-96C4-47CC-B874-1B90B74E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083A-58D2-478C-B558-16F32AC6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752A-9260-4640-8310-D3DDC5D3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7D69-755D-446E-8928-9EA0AC1C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A016-C152-49B3-9BA8-C4602C6C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402E-756A-4BEC-88FE-BB60BA8C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6125-F32F-4567-BED0-EDC75613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431-B954-4661-B93B-0A32C7D7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D9D4-FF45-48EE-8570-D74854D8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B294-3A2F-4309-90DD-69428992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C292-85B8-40D0-B4E1-7C78377F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2233-5075-4703-8331-C4427DF9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7272-6D04-48E9-97CB-60717E7E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96B-7959-4081-94CF-600597AA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943A1-981A-4136-BD04-B4E58019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CAFA5-779E-4EF6-92B8-F4DA58EB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EF674-FAF4-4AA3-9CC3-491A6E0D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8C9-084B-4309-962E-282B4827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25766-93DD-44B9-A731-4FDAE690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82569-CBCC-4C6A-9829-40FE7BD3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42316-A8C3-46F1-8E61-A6D013FE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D5642-8F8E-4718-86C0-87FD8C90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8ACC5-5329-47F2-B971-A65CFDC3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D4A98-5FAC-4AE8-AFE2-C18A3516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6FF44-A226-49F1-9E74-8F7C0399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61BB-FEBE-414C-AEE7-A49EB906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B3AF5-FE96-4AB0-98F9-54401834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FE1-777B-43D7-A1D8-08E928A6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62E2-48D8-47B8-89CD-6779E5D3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745-1E0D-4FAD-A1C5-49EF3F69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9B0-C828-42D4-97B7-4C1FD41B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E934-0B51-47BA-B124-952919B2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B16D-9A65-4BD2-B413-B00EC7CE6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2043-3C82-47B9-A921-AEFEDDD0BB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4888-615D-4398-AC07-19D6E2883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ecious Words (Precious Forev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Loula K. Rod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. M. McIntosh (18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Precious Words_Precious Forev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8280" y="648828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ecious Words (Precious Fore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recious Words_Precious Forev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Precious Words_Precious Forev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Precious Words_Precious Forev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ecious Words_Precious Forev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8280" y="648828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ecious Words (Precious Fore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ecious Words_Precious Forev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ecious Words_Precious Forev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ecious Words_Precious Forev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ecious Words_Precious Forev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8280" y="648828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ecious Words (Precious Fore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ecious Words_Precious Forev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ecious Words_Precious Forev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ecious Words_Precious Forev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3:07:47Z</dcterms:modified>
  <cp:revision>30</cp:revision>
  <dc:subject/>
  <dc:title>Slide 1</dc:title>
</cp:coreProperties>
</file>