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683-1477-4734-8F98-35180CB3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EAA-90A8-4179-8C93-6AFE6A89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D87-3FBC-47CE-ABE0-0F759BA3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096-3E50-4BDB-BBC6-6092B533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62B-3339-4C0C-A6F7-420C421B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DCE-A3D4-4560-9869-6306F4F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4B28-0EC1-417A-A236-3C876B95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20CF-26D0-4F3B-A4DC-0065AC9B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AA5D-CC88-49D8-A19C-728C8B88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0173-0218-4F65-AA3B-614920E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150-CF31-451C-9E42-7B4245D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DA5-D867-4E0C-8824-C98B232D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2958-8873-4B41-97CA-A2ACE39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5ED6-1456-41DF-9F4A-942D7F76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7BC2-C9F6-4E18-B145-CDD7A1A0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1EFF-A19E-40B0-91D3-87C34444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6F30-EE53-4371-B35F-44DAAEF9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7C9-4675-4FBB-989E-0C1FF8E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FDA5-DED7-447A-A428-3561C527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23E5-4185-4648-8806-19C281F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2BC1-4458-41BA-BBFB-3775A24B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901-8626-4C11-BA40-99E23ED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6E36-A052-4BC8-887E-797C6CA1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1E78-4B46-457E-942E-57F11615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CFE6-4024-49C5-A087-F20D6356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59AE-D38F-4D8A-B875-EAE393B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2893-98CA-47A7-B00F-1CB1DF9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2A5B-3958-450F-B447-B2000A1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DA68-CFF3-4B98-9A75-D4065E9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DCF6-6440-4653-B98B-13224C8C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1DE3-7F8D-4600-AA21-AE242F59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042-A69C-41C6-8E55-5C07C25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C27-0C48-481B-B608-FDB7833F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C7D-5E38-450B-8C3E-B7DECA9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4C4-FFDF-4A9C-B91A-DE82C52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D6D-7C17-4F43-AD97-1750B23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AFF-F1CC-4219-BB4E-B8043A9F0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6DD8-BA40-43FC-AE46-9C6E342A7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02B-0674-4A11-B04F-F11A4F6C2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eace, Perfect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X T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. Bickersteth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T. Caldbeck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eace Perfect Pe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eace Perfect Pe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eace Perfect Peace_v3o4o7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4:56Z</dcterms:modified>
  <cp:revision>37</cp:revision>
  <dc:subject/>
  <dc:title>Slide 1</dc:title>
</cp:coreProperties>
</file>