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3A80-1E1E-4FFD-8135-A6FB0A479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89B8-FD79-45A7-99C9-365EFE189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042B-7831-4B0C-9333-7BCF5B279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6660-0450-4F66-9028-CD464F68E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DE434-3660-4EE9-AC30-65CDBA9BA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02ECC-6A27-4609-9CEA-782C5FF01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7A7E4-A8FD-4F07-A97D-5BF4C96E1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4F6CF-11ED-4291-8CC7-6171FF758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E5C44-F507-4D0A-8AA8-69ECC7DF9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45338-87FA-4569-A1B4-B743064BB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CEB1B-7F82-4B08-8BB2-A8DB12F11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7041-0BD0-46C8-AEA3-3F261C863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31892-E2A9-4F64-A616-B7F7A63E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1400D-A5A4-43FE-91E0-921065C38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A29D5-262D-440E-AED6-351441A5D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614F5-EF75-48EC-8452-D139F9C1A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9DB41-76D1-4AA2-A0A6-0042C3229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2240-830C-4381-B8D3-7604D73B5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48327-310A-44E6-9B34-18EDD9891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84E21-06A7-468A-8715-EE241671B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67244-6C8B-4BF7-8249-441DCE5DA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A873-68F1-4D51-B97D-3A75D93D7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491F8-1AF9-4901-9188-ED582D2BD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1756B-2B2B-4E05-8B9B-6CE8CB1F8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1DBC3-A804-4086-B1B6-D03451581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67700-A92C-44D2-9215-5A3434318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3F77C-4FF1-4097-9DAA-308F36EF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429DE-EBE4-4FC5-A71E-97A62EAE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C8849-2A0B-4594-A555-B0C9F6877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1A1A2-703A-4615-B233-B4F6EFE30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DAB0E-051F-4CEF-BBC6-20917ABCD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9777-1012-45AD-9E84-C3256FD42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6D37-5967-4E21-B43D-35B03E62B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5C98-D0E8-47A7-AD65-E6843906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07FD-FB29-4370-86FF-A3E6E258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DE20-F3A0-4EBB-88CF-CAE5363C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0AF57-656A-4293-9F80-44EA332923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D8306-FDDD-453D-955D-22702B993F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34E25-6697-44A8-B276-FB7D9C2F9B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Pass Me N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C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anny J. Crosby (186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. H. Doane (186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2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Pass Me Not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Pass Me Not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63720" y="6488280"/>
            <a:ext cx="224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Pass Me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Pass Me Not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Pass Me Not_v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Pass Me Not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63720" y="6488280"/>
            <a:ext cx="224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Pass Me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Pass Me Not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Pass Me Not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Pass Me Not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63720" y="6488280"/>
            <a:ext cx="224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Pass Me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Pass Me Not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Pass Me Not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Pass Me Not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63720" y="6488280"/>
            <a:ext cx="224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Pass Me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Pass Me Not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15T20:51:01Z</dcterms:modified>
  <cp:revision>30</cp:revision>
  <dc:subject/>
  <dc:title>Slide 1</dc:title>
</cp:coreProperties>
</file>