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A17-7D42-4B42-9A41-F3D4034F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6D8-F356-4DB4-8A96-E24E8C5B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ED6-3C40-4805-B264-E6AF648E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691-60D0-4496-910A-1ABD89CF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0282-E7D7-4069-98EC-28E921E6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6429-9DEC-4E48-AF7C-C89C93C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21E-E745-4DA1-9E58-699C476E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4CB9-B6BE-455A-987E-78E609C5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C0DD-1B0C-4A54-8880-E69AFBD2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1224-2966-4C42-B057-97702C17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E715-ACC2-4F99-95CB-DC74F383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CD8-E98C-442D-A924-383CA008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BCDC-3439-4DE7-BEBB-507E4C64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7AB0-3E5A-4B26-96DC-26DE681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A0BD-862A-4F2E-8694-A95E9046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476D-C0B1-471A-8341-82AFFDBF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967-9044-4E14-90E9-17D29EFB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34A-1529-48A4-8466-AF5AA5F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C56C-E10C-4809-93DB-2A368119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B7AA-B426-4EC1-AE82-1E8B0560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C00A-F480-4D68-97F4-5C8DAE57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8F9-326A-4818-86AF-12E27E58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2B61-DA36-4C6C-B0E8-728B39C1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61A4B-0B65-492C-B4FC-7F89A6A1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DA6A-76BC-4AC8-B769-335FFF27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3E7F-27A7-4F74-9EE4-791731E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E59A-A06C-4DBD-BF01-9C3CAC9F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E5E3-C380-46BE-BB5A-F4D18077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F3FC-7D4E-4CC9-9553-A5B0D085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94A3-C216-4BB3-83D3-E0651342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927F-1D2E-4F41-828B-855A7AA1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349-158D-4282-8A4A-DB4A9FDC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68B-3147-4E98-B774-315D0624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C42-06A7-408A-B3BB-1655F95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1CF-109B-40BF-B18D-35910420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3A5-4D9D-4410-9F1D-827E5B26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7722-DEB3-4079-8B98-F0674E783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CED3-BF5A-43D9-B983-8FB3C6673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9FAE-C77F-4D62-B91D-F59133C8F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E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Kempthorne (17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aise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aise the Lor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aise the Lor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aise the Lor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aise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7:14Z</dcterms:modified>
  <cp:revision>17</cp:revision>
  <dc:subject/>
  <dc:title>Slide 1</dc:title>
</cp:coreProperties>
</file>