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5282-2587-40D0-9194-745EEE2E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FFE2-7081-41FC-BBA7-EFDEC135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0264-021C-472D-A2FA-E4078FB9A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3B60-FA31-4F24-AB2B-36CF1B2FC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946F-62EF-48E9-9BFD-531AA05C4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AA33-7F91-4064-8B66-C9AAC632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0429-1CC1-4F58-AA86-908C1EBD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F9E2-7153-4651-A703-FA74530B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7264-EF80-4F62-AEB5-E5C344CA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E6AE-4061-4653-BAD4-1843F5A1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EA28-DB44-40AD-BDC0-2BDB4965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96AC-217F-4209-B3F5-2446D4A1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B0A5-CD89-47AE-98F9-842A9940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80BB-2976-455E-8033-B0D192E2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07D4-D7CC-42B3-AF6A-839C02E7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A961-FED1-4725-B86B-656387754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D37E-D902-4CCB-B73F-5B9A7B76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E2D9-875D-4470-91F7-09DA57FB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DCF40-1975-4690-8CBE-992D997A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0BFC2-E85E-4357-9E87-71CB2ECF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98C95-EE0D-45CD-90DF-E6B267B6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AE63-2A72-4209-9A5A-0C272EE7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05993-6DC6-49C4-BD9B-5F042C42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AD91D-AEB4-465A-883E-E9648B93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1D3D6-5B71-424E-B0C0-CA63F7B3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001A5-1F28-4450-A3F2-802F7660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0CA76-5C6C-439A-874D-0A32AD2E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D5137-4640-4119-A104-C5827763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FC594-C03B-4F16-ACF2-CBD66792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434A4-6F7D-473B-A496-4E42E8901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D81D9-2525-4B6E-91D2-D264F3F9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8238-3495-405D-9500-21D26764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6D48-7019-41D2-B7D1-C10121BE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F409-13D2-452C-BD57-358B5C4B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3DAA-50DF-49A0-BCDA-9B465940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45BF-9B0A-4968-833D-3EF51E30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A5A4-AEFA-411F-BC12-2EFCFD87B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6D8E-CDF9-4B2F-ADE2-D0DFE05B80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03CC-2B48-411B-9971-D18838A16B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Prince Of Peace! Control My W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HAT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ary A. S. Barber (183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T. Porter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rince Of Peace Control My Wil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4840" y="6488280"/>
            <a:ext cx="434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Prince Of Peace! Control My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Prince Of Peace Control My Wil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rince Of Peace Control My Wil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14840" y="6488280"/>
            <a:ext cx="434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Prince Of Peace! Control My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Prince Of Peace Control My Wil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Prince Of Peace Control My Will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4840" y="6488280"/>
            <a:ext cx="434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Prince Of Peace! Control My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Prince Of Peace Control My Will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Prince Of Peace Control My Will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14840" y="6488280"/>
            <a:ext cx="434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Prince Of Peace! Control My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Prince Of Peace Control My Will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9T23:00:21Z</dcterms:modified>
  <cp:revision>29</cp:revision>
  <dc:subject/>
  <dc:title>Slide 1</dc:title>
</cp:coreProperties>
</file>