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081-004B-406D-BDA0-274BD72A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A17-93B6-4F0D-BDE0-78B6D76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858-52F3-445C-A642-2AAC894A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376-DE1B-406D-B7B8-4FA152BF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673F-C2CF-4026-9EA8-A34F4B78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4B0-3591-4608-B1E1-4E9B3F07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68C-3321-4086-8E4B-C7E926A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3C8E-B2AF-48A8-8A99-94333A0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63C9-6D96-4BDA-9917-D5C3BB63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6266-8D79-4ECE-9449-AB27EA6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AAE-2394-4FCE-B9B9-1F1EA8E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FC1-B295-4254-B2C4-CFFD4D1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B01-2B0C-4214-A852-E140D73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0830-31F8-4280-8A6F-41A2280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084-44B2-4806-8BAA-7303C29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DB6-F8AF-43DB-A9AA-8B3E8079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E74-CB8B-4479-85D6-D3358CE0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B9-20E7-43E7-804A-51588F05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AA67-AABF-462D-8873-0709D51D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60BD-A54E-4D54-A1FA-24CB520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E182-5951-4740-AC2C-053D9596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803-07DD-4023-B373-B2FACBD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9B78-50C1-4ACB-81FB-8F310A8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98FD-1B33-404D-9DC2-BB06012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5FEF-E585-4600-A7E0-6AAEA64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59E8-D142-4644-AB72-956B9C7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5B51-8668-465F-AF93-CCCF80D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05BD-2FBC-43F5-BA00-62FE6EF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F15D-D457-42BB-B8A5-39FA4B8F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7774-53C9-4CA5-8F1A-0B165BCD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A32F-D78F-4D30-9AC3-89A1F26D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E04-76C6-470E-A389-AA2BE36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F6D-FAFF-4BC9-A4D4-3DEE3BE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658-7CAC-4D59-960D-66AFE36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B38-F22D-49BF-8095-36FC0E1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917-B4D9-4FD0-9937-5AAEE12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064-A833-42A8-9CC0-C6D650EF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73CF-A822-45EB-8508-8C9D95B7B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50E8-C6DC-4417-BD2C-D91CA1A27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G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G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8:51Z</dcterms:modified>
  <cp:revision>31</cp:revision>
  <dc:subject/>
  <dc:title>Slide 1</dc:title>
</cp:coreProperties>
</file>