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0B7E-97EB-45B9-812A-2BE42C52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3240-B675-49BE-95A8-F423757E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48E-0D4D-45FD-B0F1-D58988AC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08E-2F42-495E-9DD0-DF7F8CE3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57E-68D6-4E53-9ABE-66952E64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E8C4-BE5D-440A-AF40-BF53D866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8432-F45B-4818-9400-245BED9B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5964-B46D-41EE-B599-A59CA82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CEC-59E7-40E3-81AF-5E5DC840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13BA-ACB4-4A6F-9856-7D1BF7CB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2E8D-0719-4921-9A8B-B835AA4E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51A-6CAE-4A84-9D8F-3E70AEB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7EB9-BEDE-42AA-9FB6-E696F2A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7754-D282-4244-80C2-FE90417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D6A1-CAEA-48D0-8466-7FB762B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F2A4-5AAF-40D4-978B-535DF687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000A-D748-4442-98BF-70B5F246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96E-D372-4E77-8604-4B4A6133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0571-A3E4-485A-8F40-A02DB75C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7B0E-F95D-4C81-94AD-A59AB790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EDDA-D366-4A1F-94E3-8E9D383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C6C-6DE4-42CC-B964-3D72007A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548C-F76E-4339-80FF-C12B5681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D1B2E-7D02-4C58-B52C-17A2C9C2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8851-24F7-442C-833C-DE8CCBED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28F77-3A04-40CD-ACD1-62ED234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88970-33F6-4904-87B5-07CF0A6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6D8A-EC92-4A10-8585-9C0CF2B9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E0BDE-EE8A-43F1-9562-50748205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448C-A1BF-43B6-B3D9-CC8B51F7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E461B-4D76-4E98-8A98-CA6FF898C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E83-82A6-4907-9E55-32C3D40F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B12-05A8-4A60-8DDB-E3B3961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241-BCA2-4D56-94E0-8A719317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C36-2A24-4D1C-8443-3A80C9C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C32-70F8-4B6D-8F04-27AAA221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524-7C19-42B4-8DE9-DF7A6653D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FD40-548A-4B84-AA2A-B8F2B8D1A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1885-009E-4D73-A95A-2AA4ADBE9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 Ship of Z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YAR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gro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gro Spiri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 Ship Of Zio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 Ship Of Zio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Old Ship Of Zio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Old Ship Of Zion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 Ship Of Zion_vEnd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 Ship Of Z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480" y="64882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Cho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 Ship Of Z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Old Ship Of Zio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Old Ship Of Z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 Ship Of Z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 Ship Of Zio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Old Ship Of Z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Old Ship Of Z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16640" y="64882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 Ship of Z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1:39Z</dcterms:modified>
  <cp:revision>31</cp:revision>
  <dc:subject/>
  <dc:title>Slide 1</dc:title>
</cp:coreProperties>
</file>