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F3D1-2214-46D6-84BB-99FFD0FB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B861-FA2B-4770-8CAA-2A73160C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3120-65A0-4344-8C7E-B52F4C32A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3AAF-6B33-4FFF-906F-DB7D88E6A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0585-6B4E-4ADA-9712-479C3C9C0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F85C-41BA-4D9B-9EEC-19C10688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9547-F401-4E24-BB09-15EC97D4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405B-274D-4D7F-AE53-01D30D6B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98E3-920D-407A-A553-C4446468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C600-4EFC-4914-AAF6-770737BB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0A88-D95A-46DB-B949-4ED71B1F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4DC3-89DE-41AF-BE5C-F8420755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7519-490A-4063-AFB6-9A8625A5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A936-A3B3-46C6-B322-A2724A78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8594-9675-4EAC-9070-F1560363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ACEC-3829-4EDB-B44D-1AC8AE6E5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E4C4-53F1-46E6-BC1A-7E31A427A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F3BB-597A-4F8F-8483-43797C8E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20486-B3F4-475F-BB30-74A9CF41A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3AE24-507D-4300-AAB4-DEA13F56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974D7-D502-4948-8A7A-24985557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4753-20B4-478F-A88F-EFAF08E5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46C14-FD23-47B0-A623-D81FA166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46CC3-350F-40C7-9E26-470AA9F4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189C8-BD1B-4737-AE73-BD4869B1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A9BBC-40E1-4C06-BCF9-A2173B5F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E5D80-5C13-4D51-96F1-E3722894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F13FE-9EA5-4BDE-A982-8F4935B5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6791A-31C4-4FA3-BA70-715EA3AF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E29FF-4357-4657-B97C-50AF3BEC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F323E-D6B1-4592-97D5-61B387543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BC72-5A31-49D3-B2E3-237058F0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4AF1-5282-401A-BB99-4BA11AC5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AB98-7174-4837-8A46-62E5014C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D216-AF29-480E-8836-92F4942B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5ECE-C2F0-4135-8230-252B5B7D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9BB7-86FB-4387-A1F6-9EBE88391E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03E2-DB01-4CAC-A818-FE8B493AE4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B0EA-7457-46AF-BCE4-44F4BFB548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‘</a:t>
            </a: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is Midnight, And On Olive's B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OLIVE’S B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9760" y="4902120"/>
            <a:ext cx="143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B. Tappan (182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B. Bradbury (185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is Midnight And On Olives Brow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55160" y="6488280"/>
            <a:ext cx="458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‘Tis Midnight, And On Olive's B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is Midnight And On Olives Brow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is Midnight And On Olives Brow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55160" y="6488280"/>
            <a:ext cx="458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‘Tis Midnight, And On Olive's B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is Midnight And On Olives Brow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is Midnight And On Olives Brow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55160" y="6488280"/>
            <a:ext cx="458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‘Tis Midnight, And On Olive's B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is Midnight And On Olives Brow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is Midnight And On Olives Brow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55160" y="6488280"/>
            <a:ext cx="458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‘Tis Midnight, And On Olive's B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is Midnight And On Olives Brow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15:28Z</dcterms:modified>
  <cp:revision>19</cp:revision>
  <dc:subject/>
  <dc:title>Slide 1</dc:title>
</cp:coreProperties>
</file>