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62F-9181-41F3-AE8E-6AC6B04F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279B-5380-4FC0-B06C-D250A1E2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AC0-A164-473F-9925-FF9BFB84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515-D54B-4EAE-8557-AB59DF9E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8EC4-1015-4616-8DEF-4E81FF15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C831-99B2-4B5F-B3CB-93641B77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2C5C-125D-4006-86E7-EDC06678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95C5-FDAD-41B1-B429-E0D2EFA9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E801-6354-4C70-9B7B-6342A50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4811-303F-4378-996E-9BAC3FF1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75C2-80C0-4325-BA9C-E8BE24FC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E00-E997-441A-AB33-2A984DA0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FF3C-784E-4FC6-B17D-210BC93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3401-F9EE-466C-9D82-3D7B5984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7670-7D30-4C18-AAE0-553A8CEF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70CF-8ED3-482B-B50A-1B26D9E4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F4D0-02DA-4E59-B7C5-9CE8F376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623-1326-4272-B155-5A4CDFE8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5ABEC-A445-43F5-B622-73C3BC40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FDC00-2E3D-459E-90AF-EB2ABAD4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01E0C-C264-452F-9CAC-4787A0A7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BB05-9A5C-4E87-B27B-705686D5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91AFB-D99B-40BC-867F-0E2D1BD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0232-E28E-48CB-9059-5DEAD00B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7539-7C84-4034-A1DB-7721826F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5FBC-B85B-44F8-AAD1-EA09E25C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54DC2-3649-493B-AB3A-36775AE3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66DB0-2AA4-403B-ADD3-3461C58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94ACE-FBDD-4975-B984-733EADD7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E72DE-7717-44DF-BA79-24BD9482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5C1A7-1D27-48FD-A1B1-707DCB97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3E6-5D7F-46D6-8EF6-42723539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93B-EBA4-46C2-8EB5-FC3EC838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9CA-2626-464C-B140-A69671DD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195-7828-4FB1-A696-FBCF3C0C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2D3-D4A9-40BE-8E46-2F0CDDA6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2761-7331-4C5B-9A3E-1F9413BE9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5D08-FD4A-4113-B6EA-F0DEC41D46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BE4-AC17-4CF2-ADFC-0E621A6D4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ll Me The Story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eney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ell Me the Story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ell Me the Story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ell Me the Story of Jesu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ell Me the Story of Jesu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ell Me the Story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780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ll Me The Story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ell Me the Story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Tell Me the Story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Tell Me the Story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ell Me the Story of Jesus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ell Me the Story of Jesus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ll Me the Story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780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ll Me The Story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ll Me the Story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ll Me the Story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ll Me the Story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ll Me the Story of Jesu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ll Me the Story of Jesu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ll Me the Story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780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ll Me The Story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ll Me the Story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3:41Z</dcterms:modified>
  <cp:revision>27</cp:revision>
  <dc:subject/>
  <dc:title>Slide 1</dc:title>
</cp:coreProperties>
</file>