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0FFC-A7DD-4A61-B0A9-111DB7AD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6B1-3752-4675-8A85-BD4000D2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8AB-B009-49CD-8970-CD1614B2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99B4-A141-41E7-B919-58227500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5C67-2C7E-41F8-837E-CA0494DF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DD58-FF97-49C7-8E22-0757DB82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A58C-407A-45A0-B1D2-22E071B2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387D-F34E-4398-908D-8313EE2B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AD38-5D41-4443-B383-34E13479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A919-0BF9-4E7B-BE7A-771851B4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67D8-B352-457A-808A-02246941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073-2821-46E6-9149-D4A23B99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87ED-DE78-4118-91BB-A522DB8B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AD81-8720-4064-8DEA-2A3FEC1A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A660-3438-4905-A26A-883C7BA1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6E8A-CBCE-4CE0-A63B-765C9701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17A7-356D-4234-BC3C-E8D6D48A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CC11-4CC9-4552-A5FD-1154E255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585E8-E666-4631-9EC5-44682665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511B7-2240-4BDE-94A5-2A6003AF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5F9B4-A8F2-4772-980A-40223FBD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7D8-8EEE-4D30-B511-5A12BEDB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081A3-6A03-443E-9000-A86775D7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65854-BA2B-4A18-B242-01643287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BB9D2-29D4-4D0A-88F9-D75456DA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5F2A4-C5E8-49DE-9F47-8B45E699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655D2-A767-4774-B982-159B1886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844A-7E72-4213-AA3A-10C5CBE7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8978E-D18A-4EC9-B7D8-8EB5298E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0B51E-794C-4A78-B655-3B1EDA44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46F84-0F93-4803-A288-2D91AD10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B307-DD1E-4C92-8B44-C543B158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6A95-302C-46B3-A9E0-E885429D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DDF-74E7-4764-9918-0A4FDB1E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04C-AA33-4238-9DDB-8669F7DE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0B5-BDB9-40E9-89C6-2E3B99F1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8238-A754-4DEE-8490-3EC6DF114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CF6B-56F6-40C5-9EDD-4BCB274C3C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6683-5954-4C0D-88D9-A4BE50EE0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ily Of The Va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Have Found A Friend In Jes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W. Fry (18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S. Hays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Lily Of The Valle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7800" y="64882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ily Of The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Lily Of The Valle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Lily Of The Valle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Lily Of The Valle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ily Of The Valle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7800" y="64882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ily Of The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ily Of The Valle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ily Of The Valle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ily Of The Valle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ily Of The Valle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7800" y="648828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ily Of The Val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ily Of The Valle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Lily Of The Valle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ily Of The Valle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6:38Z</dcterms:modified>
  <cp:revision>32</cp:revision>
  <dc:subject/>
  <dc:title>Slide 1</dc:title>
</cp:coreProperties>
</file>