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1DDF-01B0-431B-8215-70F70457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3D7-A736-4C91-9916-B6EBCB6D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70B-00B7-4AC9-9FBB-FEAA2AA8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A12-82F0-4875-8387-86B568AF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BF43-0D8A-4375-A9F1-5776FAE7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73B-B066-4187-9ED5-25D2C8B8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7FA3-5A0C-452C-AC87-A156604C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4F23-BF4E-4AAA-9423-B64236ED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0FC-97EA-4C8D-86A8-3A54B708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B10A-E444-4825-96B2-94CC3C44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C75E-B696-4EFE-8555-93260B87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708-5F33-4B4A-ABBE-3A3E32D3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6155-C177-4D90-97D3-4E44932C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4F6A-F85D-4AEC-830C-C798F30C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0F3C8-2969-4360-A430-3E28FB7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6194-5BF8-4670-BE45-28F206B9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820A-872F-45D4-B2ED-DC343F07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8A48-5D28-4711-BC0C-41870EC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22404-402E-4395-9E1F-86A02E4A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B6FF8-7087-4E04-B1E0-8CD23B5D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05B7-E52A-47A2-AF27-2EE114EC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D45-DB71-42A0-BB97-432AA9E9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07BF4-1E21-4B80-A9C4-C44A61B3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D86B-BB43-4BF1-810B-0B2CA642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3DF2-3F92-45B2-884B-ABE0390C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28CA-96FE-48A3-974C-6182EEB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9CE6-D951-4044-8644-A59F4865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D5C8B-D3D3-4DFC-8B89-672006D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76A4-D75F-462F-821F-CFE8FA67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F8BE-84B2-4D0D-9405-CB8FB32F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1B1E-387E-47C6-B1B1-087EFE7C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7F34-D9DF-4512-9527-D0BE1A7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DEB3-23B1-4EF6-A070-E4F88EA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BA3-6DF0-4EF6-9BFE-D35E82F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D53C-03F2-4186-AB11-61D715D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A2B-41A2-4675-B796-E6B27D7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611-744D-4FEE-94BD-001711009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DF5F-999F-427A-9704-6D206957D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D525-6B4C-4900-BDE0-93CA2BB7D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he Old-Time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Old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he Old-Time Religio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he Old-Time Religio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The Old-Time Religion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The Old-Time Religion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The Old-Time Religion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The Old-Time Religion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he Old-Time Religio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he Old-Time Religio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he Old-Time Religio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he Old-Time 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he Old-Time Religio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47:42Z</dcterms:modified>
  <cp:revision>36</cp:revision>
  <dc:subject/>
  <dc:title>Slide 1</dc:title>
</cp:coreProperties>
</file>