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344-5847-4EFB-8891-BAE07F13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734-BA18-4AE0-9832-BE3E78C1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2A7-AC24-4861-88D9-3DB6C789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232-DFE7-4274-B8D1-163236E5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C82-626F-4638-BC55-71C5F615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462A-11F0-488C-9738-0C6CBFC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9DA2-2E53-4250-BDE3-E03B11F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289B-D452-49DC-ACB9-EC3AEC68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C800-D104-4FC0-BC3E-D8E1EA91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CB87-7F85-411F-B452-13863660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700-9928-4320-80AC-D03CB7AF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EFE-EDF8-4921-90DA-4600CE02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6E1C-C076-46EE-9039-6B4DAD93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C19E-EB7B-4C5A-8ABF-6450AA4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4FFA-1CA5-4AC5-9CAD-0F6A4FE0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20B-762F-46EF-A97B-F67D4582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42B6-4BC5-45CB-B8D1-11102582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3DC9-2E26-4F16-9F51-D9CD86C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9E586-7BB7-4431-B661-5B25AABE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BD74F-E5CF-4787-8496-E2BF9225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CE42D-9D31-4293-B02F-82376C3F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7EC-7065-403F-A048-98DB276F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5B32-35FB-4ED7-B527-3291C89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8AEA2-C3A0-4ED7-A069-3F6DBD01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E5AA-DC21-41A0-8D60-8ED791FF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0BC9-BA84-4D8E-AC48-35354F9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F9517-6964-4394-9618-98B1DA42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0C567-FB6D-47F2-9760-A17DBA5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80D6-7699-4544-83F5-A1732C6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37C4-F87F-4D20-895A-2A7D58D8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3961-60C8-4717-BAED-FB9EEC03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A00-B38F-4B81-A5AA-DE7270E8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0C2-73D0-4FEB-A46E-7D226DBE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A65-18A4-4AED-9170-B3DD5F2C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032-5E46-4508-A681-0E9FBE84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A4A7-00BE-4A9D-9368-03A0815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B72F-32FA-45EE-B0E1-A82B0E9B4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20CA-D3EA-47FB-9EE0-5CF38116B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9BA-4C00-4118-824F-137B1B49C0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Ninety And 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C. Cleph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a D. Sanke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Ninety And Ni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Ninety And Ni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Ninety And Ni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Ninety And Ni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Ninety And Nin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Ninety And Nin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Ninety And Nin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Ninety And Nin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Ninety And Nine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Ninety And Nine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Ninety And Ni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Ninety And Nine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Ninety And Nine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Ninety And Ni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Ninety And Ni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Ninety And Ni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sheet of music with notes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92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Ninety And 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Ninety And Ni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Ninety And Ni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Ninety And Ni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59:25Z</dcterms:modified>
  <cp:revision>32</cp:revision>
  <dc:subject/>
  <dc:title>Slide 1</dc:title>
</cp:coreProperties>
</file>