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4EFD-0591-4B89-83DB-31450495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C215-2769-4866-B412-A43BD20A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5350-C196-4438-90F4-F1B34FEF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D2B4-E181-4E3C-A8F6-EA9826297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3F1F-9809-43D1-884C-3B15A6F8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02F4-EF32-4F1E-A354-F2D49F48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520F-CD0A-4BC5-AF0D-B17EE7D6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E08A-E638-46D1-83A0-DA20DC0E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4F2C-5D05-4781-937A-7CE3301B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2C46-6B3B-4640-B69B-1C1DB28B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399A-BF13-429E-9CB6-BE538510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E76F-7858-4600-8D96-4B498496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E6D0-6F31-4A7F-B924-5FBC79E5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6DB0-6AC5-4583-9072-5FA63079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D99F-BC3F-4BAE-877F-FC8FC820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A53C-4C63-4DCC-8E54-EC364B71A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5932-6405-48CA-BD23-3FD7B42D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3B37-5C89-4BA0-99C3-49666F68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5898C-C0F3-49FB-A727-610F8106A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7613F-4BC3-4AB0-A119-A9A839FC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AD547-16D9-46DB-AD84-3B8A4A4A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3349-020F-4584-A3D2-65C62406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C22AE-8195-47FC-8B09-31C09CBA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C8A07-5F13-41D2-A556-D7D1F1DA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3564F-E55C-40D6-BB36-86C24B2E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D0FED-C684-4B06-9590-DCB21CF4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26F94-1386-4A2B-90ED-116C2BDC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F88BB-0A01-4F3B-85E9-100DFC70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F4500-8615-434E-98BB-FBF1848E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44E1B-1EDC-4EE9-B0F9-BE307C712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27741-2143-4125-865A-8B6253C6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CF2E-F572-4C37-9653-9ABE4487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B0B7-BF51-42E2-A75D-9359811E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F184-DEB5-47AE-BA26-000281FC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ABB7-80F1-4951-A957-99E30387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D106-2C53-4E6A-8810-7BD78757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77A8-69DF-440A-9E56-3CBE96F7B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800C-A93F-4614-9976-54AB0B5D0B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228E-7D05-4ACF-BF24-0EF91CE5CB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Haven Of R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. L. Gilmour (188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D. Moore (188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Haven Of Rest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4320" y="6488280"/>
            <a:ext cx="28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Haven Of 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Haven Of Rest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Haven Of Rest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Haven Of Rest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he Haven Of Rest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94320" y="6488280"/>
            <a:ext cx="28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he Haven Of 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he Haven Of Rest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he Haven Of Rest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The Haven Of Rest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Haven Of Res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4320" y="6488280"/>
            <a:ext cx="28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Haven Of 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Haven Of Res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Haven Of Rest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Haven Of Rest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Haven Of Res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4320" y="6488280"/>
            <a:ext cx="28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Haven Of 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Haven Of Res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Haven Of Rest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Haven Of Rest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12:32Z</dcterms:modified>
  <cp:revision>29</cp:revision>
  <dc:subject/>
  <dc:title>Slide 1</dc:title>
</cp:coreProperties>
</file>