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BA9-3399-47F2-A748-BEEF7E33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CDBA-0994-4768-BB5B-BB9051AF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712-E6CD-4AA0-8B97-37C020BB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48C-C8E0-47CE-B27C-D92EA651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F6D1-56F6-4D6F-B2D8-D098EB94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E57B-9EF0-4B23-9101-908784B4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26F9-89FC-4C05-B495-DE308D61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7A23-FC84-4A02-BCD2-4C5AD9D0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1BDE-E1FA-4201-A34C-725DE613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371B-6A6C-41AD-AC8E-BA6E3CE1D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4FAE-2F3C-4976-8D23-96878006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683-52B5-41D4-B7BF-42A7DCAF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2CEA-DB2A-4230-8F75-4B77B373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64ED-923C-486D-BCB5-4EE00AC0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C9DD-5B62-49EF-A8B9-8530DD20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39D8-03CD-413F-95A9-088099D3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8071-90B1-4442-9B58-E16B9E0F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0A7-B1A8-4F21-A6D6-F20910D2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5488F-B8DF-401E-9519-9DB075C0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8D0F8-0702-4013-BE50-578342DF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0CC7A-2C5D-4D9C-B8CC-705E8FF2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AAD-0DB3-4611-B350-15955382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619EA-6CC3-49E7-82DA-B262D71F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DD61F-B284-4569-8972-D34B5235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DEE55-E79A-4AF5-8A29-9E987895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A0533-36B1-49BA-A250-E1EBB31D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5FD40-6C2C-4B9F-AED7-7992AC7F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5DCCC-38AC-430F-937E-AD6C21EA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D6FD0-2E5B-415D-BC52-FF6DE392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D2DFD-1E9A-41B2-B0E8-73BB776F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8E44C-2B6D-4046-B365-0BB36A3F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A6DC-465D-4F92-AA89-08B6E989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B6AE-023B-4833-AC4B-FABC42C9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C44-88C2-4B7C-988E-7C5D188E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DC2-26DE-4430-8CD0-DAC04750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0C9-F027-4EB2-B958-910AB287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E3ED-2AAD-4A8A-AC3E-4FC9CEB0F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B860-F4BF-49EB-B381-A24EC45518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40BC-24E6-4605-8E8C-DBA804483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o The Harvest F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n The Service Of My 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llit S. Teddlie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llit S. Teddlie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o The Harvest Field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5920" y="648828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o The Harvest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o The Harvest Field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o The Harvest Field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o The Harvest Field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o The Harvest Field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5920" y="648828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o The Harvest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o The Harvest Field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o The Harvest Field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o The Harvest Field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o The Harvest Field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5920" y="648828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o The Harvest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o The Harvest Field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o The Harvest Field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o The Harvest Field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o The Harvest Field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5920" y="648828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o The Harvest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o The Harvest Field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o The Harvest Field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o The Harvest Field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7:06Z</dcterms:modified>
  <cp:revision>31</cp:revision>
  <dc:subject/>
  <dc:title>Slide 1</dc:title>
</cp:coreProperties>
</file>