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B676-4783-4DDE-801F-DC9A77985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0E75-427D-4806-84D4-DA37C831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B544-E1B2-4CBC-945C-DBB45035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0C63-848A-4E60-9FA7-F777F693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D736-DDC0-43DA-9035-61508F6AB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6497-FE1B-4939-9459-C1C2D3C3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B002-821B-4784-AD45-88EE8E83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F905-F4FA-4033-B43D-51057958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CDE3-5E47-466F-853D-91E5DF2E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41E2-23CE-45D9-AECD-2694C5E1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68A8-76AC-4118-8BE0-A6F65D7C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7597-DDBB-46E5-A624-8AD54806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B63E-D29D-4080-BDCF-DC5CA475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E2D2-41B3-4C4D-9248-01EDE600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C97D-AB3E-481C-AE55-04CE72A1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4CFDD-6D4B-4EF7-A1D6-C0550C44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C8B6-288B-4000-8FAA-1BDC5477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06F2-E77D-4ABF-B3A3-B59371DB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583E2-B3E6-43C5-819A-956A6D06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9D6AF-4E46-418F-A89D-95638BAB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40A17-AF38-4255-8605-8D6DD0C0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7A5C-5070-40BD-831D-C33B3ACD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4035C-1B8B-4D12-90EF-22A77F72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08A4F-410F-440C-9377-A5793409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00B95-1037-4CEC-B0A2-D50E6EBD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B6FB5-02E9-4B37-AC8B-020CAB53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1D0C7-E25A-42B8-890A-C10A4CF4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32098-91D0-471B-8ECC-B8E5B15F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83F11-6065-4E98-A2D1-BB0E8DD2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FA130-363F-44E2-8CBD-8971656D9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8CAF0-5A5B-4061-B48D-3432DD33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C06D-3C1B-4494-B929-55B9E8A1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E7D3-E299-4AC5-9F2D-386FD25F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2523-2ADF-438C-9C9C-B31513B0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C5DE-BD86-47B3-A2F3-8909BC1E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175F-0DF6-4BB2-9FFE-13F1A7CE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0BB6-1158-4FD1-8B46-3B3726D1B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0B34-ADAF-449D-B08B-60D965F86D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7B17-1A89-4BA4-B5CA-8694FED96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Lord Is In His Holy Te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1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D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abakkuk 2: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9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Lord Is In His Holy Templ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1040" y="6488280"/>
            <a:ext cx="41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Lord Is In His Holy T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Lord Is In His Holy Templ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41:03Z</dcterms:modified>
  <cp:revision>16</cp:revision>
  <dc:subject/>
  <dc:title>Slide 1</dc:title>
</cp:coreProperties>
</file>