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D287-ADFF-4259-ABF1-2A7E2788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77FE-3726-4A4C-8A98-8DC01F0A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95B5-3273-4A50-9BAC-F6E751D2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E0F9-AF45-462F-8D91-3A333B11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3D04-11AA-4F32-B16A-0C43152D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0F76-DC2C-4502-98C4-FC3A64FC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9B22-9476-42ED-A1B4-EF9BA2ED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96F5-523A-4D31-8BA7-7F863C66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EAB6-D7F2-4B74-929F-AD7B4588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8352-4780-4041-961B-D7E3E652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6E94-37FF-4FD7-A815-EE8DF1F1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B1F1-1E9A-4FBF-BCB8-CDB94C24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3174-895A-4C52-B63D-0830F1F5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5839-15F2-464F-AFE6-EC3190A4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81AE-DB7D-499D-A42E-622FB9C5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27CC-8FAE-4CFD-85EE-79B021D5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FEAA-9741-44C0-87D9-C3FBE168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AE06-112A-4301-A7C8-2CFCDD4C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488C6-BD2F-4DDC-BC83-E7508347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D7377-C4A9-4458-B070-B04704F1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F21B2-045A-4361-B05E-982FC6E1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73CE-5CEC-4787-B444-F4CE4DFB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9337E-D010-44D1-B01E-59A996C6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70C0C-E383-495E-B84C-23D2ABE9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A961D-EA92-49A0-A9E7-8BF9B50D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E5B80-4533-4AF8-A141-9E29C248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2551E-D195-479A-A73F-070A460A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0A0CF-82C9-4BAA-9FEC-7EA6D3CD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B6D08-939B-4174-BD4D-5DB91106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14140-72DB-41C6-960D-7DCEAB7D8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26EAA-E056-4E2A-A426-BDCF0690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B67-8AF5-481B-81A6-3152AA9F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AA2-2B2B-43C9-946E-E1FF377E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E92-6435-4B4E-9300-01960130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C0DA-FE43-4D3E-9104-9D3A922D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ACAC-4554-4DE3-AE3C-EE408FDA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0A5A-83A7-48DF-BB2C-0305002C3F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04CE-4739-4BFA-8752-F44E6939B4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01DA-8BD7-4158-9052-831D9BA99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Take My Life, And Let It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YARB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ss Frances E. Havergal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cIntosh’s &amp; Cunnyngham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New Life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79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R. M. McIntosh (18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Take My Life And Let It Be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9520" y="648828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Take My Life, And Let It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ake My Life And Let It Be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Take My Life And Let It Be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ake My Life And Let It Be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ake My Life And Let It B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9520" y="648828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Take My Life, And Let It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Take My Life And Let It B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ake My Life And Let It Be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Take My Life And Let It Be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Take My Life And Let It Be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9520" y="6488280"/>
            <a:ext cx="37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Take My Life, And Let It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Take My Life And Let It Be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Take My Life And Let It Be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Take My Life And Let It Be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7-02T19:52:11Z</dcterms:modified>
  <cp:revision>29</cp:revision>
  <dc:subject/>
  <dc:title>Slide 1</dc:title>
</cp:coreProperties>
</file>