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7F9-E33B-4196-9CAA-E9B81D76C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403-F3B6-46A9-A09B-393F11DC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7EE2-28F0-44A7-9F38-E8A5AE51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B22-CF76-4882-97B2-882F82EF4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A239-54B8-4459-853E-1B379DC4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2FBD-C41A-4CA3-A749-1890A34F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7066-F06D-4175-B116-7F104BEC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7F85-5F14-4CBB-A27E-6CE95247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6178-5560-4F00-ACE1-0FA75C55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5A7C-C168-4D3E-AE6C-917045B7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F428-D1DC-4475-895D-796254D8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7EA-E77B-4962-B2E8-9ADA24B2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54E-7401-499F-B1A6-3CC70193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713C-DAE9-4BDD-ABEE-BBDD728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4AE2-A256-4639-A93D-9EB93FE4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41CD-354B-46F0-8BC9-EFCEEFAE0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6302-49D5-4280-B444-F82F86C6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0DC-0313-449F-A4BD-B05B8F21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F0CB-19A4-4890-BD98-ADDED58E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345C-82A8-44E3-9BDA-E2131541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51A3-6023-48FD-BAEA-20D8BE94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0EA-E68A-4D96-BE01-011B949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8932-8E37-41E6-9BEE-F0F5C101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798E-7EFC-4636-B58B-87A5E18F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285EC-987D-4BED-8544-E76DCA16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5F1FC-743B-4C08-8CCE-B45F4A04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EF4F-AD64-4573-9B6A-846708F7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152C-AAB8-4004-B34C-2FCBBDA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B181-EAEE-4230-B669-6C30664D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7A4E-0319-4AA3-BBE0-CCE794D6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7678-FF6E-44E4-9DE8-1F0ADF615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447-3A17-4703-B64A-BCDD1F3D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79C0-AB4F-4D0E-B7A3-84CE2A99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F67-71C2-46E9-9D95-D58DEF76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163-A0B7-45BB-A1DC-FBC29DD7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E1B6-AC4A-40C0-950D-96FDD15B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A230-387B-4FD0-B697-643E27FE4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5A3C-B966-476D-8A1D-10C352545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64E9-DEE6-4CD0-B499-DE30232D5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ou Art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AW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1040" y="4902120"/>
            <a:ext cx="137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W. Doane (18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Walch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ou Art The Way_arr1_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ou Art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ou Art The Way_arr1_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ou Art The Way_arr1_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7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ou Art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ou Art The Way_arr1_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ou Art The Way_arr1_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ou Art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ou Art The Way_arr1_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5:54Z</dcterms:modified>
  <cp:revision>32</cp:revision>
  <dc:subject/>
  <dc:title>Slide 1</dc:title>
</cp:coreProperties>
</file>