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A7C-A53F-4ABE-A8B3-1ED5B867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5A7-57B2-4823-93E4-67423CC9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F18-13E1-4E16-B7DA-B710E50E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1C1-69A1-4144-A0FE-3384FB90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7F09-BE41-4C1D-B629-440D9996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02A8-D571-4E9E-96AC-F6AFFB08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9E3D-B453-4702-9E2D-1CFFD09A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B419-7172-4A6C-A94A-38DE5A2E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72FF-15EC-483D-B684-B483E2B2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7D1-4CDF-4FB5-944D-4DBFCE41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1ADF-A4BA-46B4-B98F-256A444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460-66DE-4062-A93D-E72D8202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FCCF-CB53-48DD-B9BA-30868EB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5A24-5BCB-481D-90F2-0804B08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82E8-2455-4407-86CE-BC3969B2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3B28-52CE-49E0-BD06-6EF6EADD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7033-EE7D-4C1D-A259-707C72DC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A782-8D6F-4A55-928D-B8AF9BE2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0677-79D9-4964-B63B-5A501CE6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E3CD8-A626-4084-90C4-30CBCAC3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A8F29-9932-4533-9F76-135A2C8E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A0F-25E4-47CB-8C07-08D65EA6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66A8D-F8F4-4018-A673-6FFE064E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ADDD-4B6B-43C8-B553-DB777814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2591-0A95-4394-9E9E-6ABBA8EE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CB5E-405A-4004-8F35-35362B0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0E51-4E77-43EC-B7AD-5DFA5F4A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E79B-2403-4A84-B1BF-670C4DC6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E628-94C7-41C7-B936-3903A587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D4F6-E8B7-4126-87A1-87A62CFE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3F88-BEB3-4726-89A0-75774651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B2E0-0E76-4D0C-9F07-7BC3FC80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7EBA-5A49-412A-97EB-8127FF8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5D7-A24D-45D7-96AD-66BC47D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C29-6AC4-4192-9155-7AA5EA06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0C5-0563-4F2A-9571-E07A312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72E7-4449-4BB8-BF72-2AE5CCD26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F161-E2E8-44E7-B56E-1E795B40A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8525-B3FA-4EE5-BE13-3956CEE675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The Blessed Hour Of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Doane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s The Blessed Hour Of Prayer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The Blessed Hour Of Pray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6080" y="6488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The Blessed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The Blessed Hour Of Pray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The Blessed Hour Of Pray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6080" y="6488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The Blessed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The Blessed Hour Of Pray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The Blessed Hour Of Pray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6080" y="6488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The Blessed Hour Of Pr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The Blessed Hour Of Prayer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5:18Z</dcterms:modified>
  <cp:revision>35</cp:revision>
  <dc:subject/>
  <dc:title>Slide 1</dc:title>
</cp:coreProperties>
</file>