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E9F-9E5C-40CD-8BAE-9B324C52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1D3-3BBC-4AF5-B5BB-0C3C3CC3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3AA-FFDF-4612-BDFC-75FAC55A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E97-504A-4334-9D66-61EE987C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4B00-15FC-4D12-9B6A-0660A560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EEF3-90E5-424C-A123-A46A003F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D7C0-B5D8-4F1F-804F-9E1D41AB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48B7-241A-42C2-AD57-CEDDA536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2DBE-E4B6-41F6-A9A4-4E85385D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8BA9-08C8-4013-AFDD-8ADF22D3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E653-9BC3-4384-ACF0-511D24C7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211-5E23-40FD-BD1C-5277A324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9450-4843-4065-95FB-67836478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270F-284D-4AAF-B7C4-8B5417E6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19CA-C873-4CA8-BFA9-E1FA1E0A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C47A-8650-4EEE-A0CF-B10E21AA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9C9A-60C4-4113-A44C-CD194A9C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57DD-4D43-4AD1-B876-C4C44D05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CDE6B-09A6-430B-9DA0-DD7762AC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2D0E-C943-47ED-B179-A3F13DC6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FCBE7-79FB-4790-AE3C-1693BB35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A69-86D5-40A0-9AA0-429A7149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5DE42-DAA2-4B86-BD48-87BEFAA6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AC372-73D1-49FA-874A-3ADE53D9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2B1D4-BF6C-4FE8-966D-58446171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4EA9-EF5F-4A35-916F-FBFB7638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C17FC-291D-4F7A-9155-35A0430F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003AF-33F4-46E8-8AFF-24B6F2E1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D14F-4377-43D2-8CCC-FE6E8512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981BE-3A3A-4D5E-AC66-D5DCC4E3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0A748-0F1E-45E7-94E5-AA1C27E9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B4F-9A25-4053-8E9F-EEF6BF09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CC3-63A4-40D0-AEDB-BB0CAFA6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28C3-E8B7-404C-A42B-FA5B4449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191-EC77-4425-B842-5FC6456B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63A-7316-47D8-8C6A-2DAC249C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0FEC-2C60-4659-BCBF-CA53C1CF3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86D4-B09C-4D73-820B-1E139CFC0F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DF88-A504-4261-B725-29AFD1406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Great Physic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unter (18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ockton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Great Physician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9640" y="64882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Great 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Great Physician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Great Physician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Great Physician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Great Physicia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9640" y="64882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Great 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Great Physicia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Great Physicia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Great Physicia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Great Physician_v2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9640" y="648828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Great Phys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Great Physician_v2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Great Physician_v2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Great Physician_v2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1:52Z</dcterms:modified>
  <cp:revision>22</cp:revision>
  <dc:subject/>
  <dc:title>Slide 1</dc:title>
</cp:coreProperties>
</file>