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37F-75B8-42E0-B2AC-D10BF14C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B06-C3E9-4677-92BB-CDAA0505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DCE-AECC-449D-8738-34FFFD52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1AE-D8D7-42BC-9973-ED4C6214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2B49-527A-48C5-BCDD-79C30EFE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5B6-8FF7-428A-BF02-E08AAD7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60B-E945-43B3-80CD-D37134A1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51E2-D330-456F-845A-73FA184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74AF-CCEF-4926-B5B1-DFB5461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D3E9-41F2-4DBC-83F7-DDE94A5B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0105-A446-4978-9043-9320BFA9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0D50-23B2-4B2F-8134-01581D1F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C22-857F-4195-A8EF-A28823A6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B991-CB95-47A3-9862-A9B7E7F8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5938-8237-446C-843D-F99B613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D7A6-DE1F-409F-AB83-C7876A5E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7EFD-EFDB-477F-A99C-A6D50884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221-8812-4710-8180-436F9FCB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E0B56-252A-4CB6-A24D-F1B0369E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302B1-2E0C-4C66-958A-5B3F6167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937E-29F5-4513-8A4B-B86E5490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CD43-0D14-4F20-9FAE-55560407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16D3-8DDF-47F6-B893-3F9E335E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41731-05B3-4D39-B77C-A9C25F1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3C2E9-589B-4182-8725-CB98E89B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72DE-2596-4031-B7B8-DB4AC2D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01F8-AF5B-4477-9D55-94701150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CF7F9-EF6A-4048-8D08-C049FCF2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1266-5BAA-465D-ADEC-B4292177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4C58-E512-4EA6-A0EF-DDDDBD07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EFB00-2D0E-42AC-AB9A-7212377C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A98-8E5E-455B-A7E5-116B6C0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277-9AB0-4CD6-8A3B-A34C288D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D0D-40BC-4177-9034-928C18A1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E46-5265-4010-96B2-769A7899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0B2-F5E6-482E-AB34-4B7D8305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7317-650A-434D-8985-1CE86C1B1D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6947-E3A5-4615-B8CE-45F76A31C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17DE-19A6-480A-A611-619CB305F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row Out The Life-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Ufford (188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S. Ufford 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George C. Stebbins (1888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44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row Out The Life-Lin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row Out The Life-Lin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row Out The Life-Lin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row Out The Life-L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44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row Out The Life-L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row Out The Life-L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row Out The Life-L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82160" y="6488280"/>
            <a:ext cx="34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row Out The Life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row Out The Life-Lin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row Out The Life-Lin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row Out The Life-Lin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8:20Z</dcterms:modified>
  <cp:revision>35</cp:revision>
  <dc:subject/>
  <dc:title>Slide 1</dc:title>
</cp:coreProperties>
</file>