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E5E-B722-4F71-83BE-E323B36D4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97D-2AA2-4BD7-BB53-F132E8CE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B71-3501-40D8-9F50-DCCF493F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4A2-9D69-43D5-983F-E03F0060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9959-CC60-471D-9E25-F8C226DD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71F4-09C3-44E4-9E62-A0D12B7B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2400-0887-46CC-85E6-4D52F530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4035-7FCA-4C4A-A08B-278974C6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0AD3-7035-43C1-B6E1-85146986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2AD2-6D44-452C-A3E4-364A2922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EA55-5552-47C1-9D93-E88612F6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FDB-8BED-489D-BC7A-52D3849A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2F95-09A4-4112-91F7-1AFA5BCE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C7C5-DD88-414E-83EF-AE77D77C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13BC-29B0-4A65-8208-AA7386C7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7AC7-4A34-4C2E-9B46-941657A3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FF00-630B-4A70-B2E8-D6140DC2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1C0-0A40-49A1-A4B2-5EB01FEB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9FDDE-3B9F-471D-B113-7D1DD236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013A0-4589-4D9A-BC08-1705B68D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CEE3E-FBD9-4851-AFD2-B2B01067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721-D03C-4F0F-9A73-D0A54A71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8FCDE-0160-4C56-BD68-CABD39F3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AE962-1C55-4C3B-AFE9-0B2F29C2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81652-B440-4E08-8DE6-D925CE05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F272C-FA31-4905-BFE8-A6AF0B62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7DF0-68CE-40FC-8330-9F303F6C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A922D-9DEB-4FC9-BB41-00BAD420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38F06-CA7B-4222-81A9-85FB5B8D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30D57-1041-4970-9BAE-2FDA9EB0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55073-4610-46F0-833F-C2C8461C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F02-C7CC-45D1-B2CF-ECEA2256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90F-ACE9-4FB4-8A6A-AD28FB8D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F34-07CB-42A7-9B80-3382B987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474-7FB1-4F51-AAB2-D0791ADB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202-BD37-45EE-84F8-B5C57B11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114F-B9F7-44E4-BAC4-9E7741ECD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32EB-53FB-45A0-B671-5AFBD7D713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D3CC-3DF7-4452-8C9C-65A9A775DB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's A Great Day C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L. Thompson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L. Thompson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res a Great Day Com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0960" y="64882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's A Great Day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s a Great Day Com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res a Great Day Com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res a Great Day Com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s a Great Day Com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0960" y="64882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's A Great Day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s a Great Day Com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s a Great Day Com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s a Great Day Com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s a Great Day Com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0960" y="648828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's A Great Day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s a Great Day Com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s a Great Day Com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s a Great Day Com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4:07Z</dcterms:modified>
  <cp:revision>33</cp:revision>
  <dc:subject/>
  <dc:title>Slide 1</dc:title>
</cp:coreProperties>
</file>