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D0A-FB3C-49FD-A0D7-521C5C39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DAD-B130-41D2-8A2B-D7D05A5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0D1-4DF4-47BC-B158-570D3FB9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3CC-D18B-488F-86B1-1F57C9E5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CFB2-68E4-4D29-92FF-EC53BC54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F9C2-011E-4C01-9543-C228C261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C3B3-1EA5-4D74-A9F9-E7FB094E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566F-80D0-4918-AA39-146E541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A50-66D5-4698-BB0D-3E26F8C5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E855-AE1A-48DE-B119-77CCE384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656-C793-421D-BB80-AA1216B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47F-2C27-4447-8DB4-76BD3498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3487-F9DE-4912-8DA2-9E8630F7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91A1-BDAE-49A1-B6CC-179F6B95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2991-8587-41E2-8FC8-2838821F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138D-10FD-412E-A8E3-55E8451A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30C8-2BB8-40B0-840A-8DE872AF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71F-9FF7-4D8E-93AF-EA526DB1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61E00-B3FA-4E70-8B35-02C95BCA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10BF-EA44-462A-B79B-B7572E1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9AC5F-E3B5-447F-A6D6-A03BAFC4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13A-B78C-4DF7-8699-19489DF7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4DB0-02C1-4870-A348-C7340142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9514B-0C38-4367-99CA-E752C371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0E544-0BDC-4D30-BCBD-ED8C0DDE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81C9-0A0C-406C-B7ED-B77DE32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DA50-9239-4FFC-B0FD-7F0BD889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B977B-E47D-4AED-8E78-98C6F5AB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8C3F0-7096-406E-8882-7CF5ECB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E9A0-43ED-44BA-8B81-299DAD51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BBBB-4204-4E5C-BDA5-83A871ED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08F-FFE0-433F-A359-86CC61EC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3F2-9CB5-439C-BD01-28925CF2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4F38-6CF9-4760-9995-CA1C1D9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123-C769-497D-A1E9-B74638E8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DAE-5667-4B9F-8357-8D3EC2C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F4C5-8258-4DBE-9563-035C974CA7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B073-645C-4DF0-BD0B-EA7DB211C1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5878-2EA3-4D19-9D10-F2066FB05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Lord My Shepherd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GNO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saac Watts (17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dbury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ubilee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Lord My Shepherd I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Lord My Shepherd I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320" y="64882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Lord My Shephe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Lord My Shepherd I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Lord My Shepherd I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Lord My Shepherd I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4320" y="64882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Lord My Shephe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Lord My Shepherd I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Lord My Shepherd I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Lord My Shepherd I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320" y="64882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Lord My Shepher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Lord My Shepherd I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8:06Z</dcterms:modified>
  <cp:revision>31</cp:revision>
  <dc:subject/>
  <dc:title>Slide 1</dc:title>
</cp:coreProperties>
</file>