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ADF-C4FD-44EA-884D-AEB3BD64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2BE-5424-4744-88EE-F9B7921D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339-3A70-4EB0-AE86-54427A34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2A0-9453-49C7-95B7-DE3A54CA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5A03-B197-4143-9A0D-61833C8A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997F-6A37-4C89-B739-8CEE025D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DFDB-44DD-4AB8-A528-237E88CD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7202-5088-457E-AF01-92B5E5B0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1889-145A-46FD-95EA-5F39E871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37C6-CBEA-4AAE-AEC3-4E025D3A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6F1-FD53-4806-8ECA-8AF5BBD5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B0C-DA59-46E2-85D3-90BBACDB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B55A-9633-4B6C-AF01-6B3C2FD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6281-9B06-4214-BE09-31797DA3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2EEC-E8BB-426D-B2B8-EA0B07A9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626-5A50-44B5-B85F-7CC79852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2F91-E064-4D09-8320-9597A61F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8A9-965C-44EC-ACE3-3756402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6163E-8123-4674-AB44-517D33D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B40DD-B9C9-480A-BCBA-4EEDBFC1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16C30-2267-4B5B-82F4-591B309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F0D5-3B42-4683-B554-3F8C1209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73A9-F6FD-4F6D-B251-6EC9A97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8B98-D930-4069-AA73-9690B69B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29C51-EFDD-46A9-A754-7F4E36FE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27E47-8555-422D-B8E4-1F466823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3243-F079-4F78-9016-2948A4C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D8F9B-869F-44FE-8381-F97AC4BC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1BA6-2300-4F35-8475-2D4F3264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24605-7639-4C67-A354-217A9443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FBD7-D84D-4B3A-ADCB-7A58FE2F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667-7901-43DF-88B8-EFAB554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FA0-6205-4EC7-943F-1469583C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E9A0-E02F-4705-9EE8-3D6CEB1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D40-D97F-4030-BD51-1EAD16D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BC8-6A4F-466E-9053-AB1B47A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66D9-7FB4-4EBF-9B6A-E40DC076E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05A0-3771-4601-AB34-8F35402EA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1E47-E622-47EB-B20F-947220A44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rust And Ob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ammis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B. Towner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rust And Obe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rust And Obe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rust And Obe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rust And Obe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rust And Obe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rust And Obe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rust And Obey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rust And Obe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rust And Obe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rust And Obe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rust And Obe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rust And Obe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rust And Obe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rust And Obe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25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rust And Ob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ust And Obe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4:28Z</dcterms:modified>
  <cp:revision>33</cp:revision>
  <dc:subject/>
  <dc:title>Slide 1</dc:title>
</cp:coreProperties>
</file>