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853-FE2A-4A8A-B2A4-3ADE7875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DA2-EC0D-43DE-A6BC-FEE97779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53B-C615-45F7-8C8D-AA9B0E1A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1BC-B055-40AD-89DF-A9E81415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18D8-819E-40E3-A462-A2518ADE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D199-80A5-406B-94FE-0075B7CD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01FF-28F0-47A9-AB1E-7A9D1468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C230-CE49-46C4-AD8E-759398DD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BD20-FFA9-4402-A899-3738F3F0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8BB9-0CD1-4D68-9935-A42C511D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8EFF-99E9-44A7-B088-6AD3FAE0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9857-F3D7-4A68-AD6C-DE58DED2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CD34-3400-417C-A60D-1DFA2F05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3B9E-7D0D-4E08-97B7-6B28D8DF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8C1B-2CD5-4E25-9E3E-F660C3C3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8F26-7F2A-4399-84CE-9A3220BE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BC04-C93E-4AFC-9523-DF052133A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E972-626C-499C-97B9-1F51F48C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7FB79-20E3-4D6E-A420-A0105209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45D0C-2B08-4463-9B4B-30EB4FF9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EA428-4A7F-499A-9751-BB066CD1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7B4F-0972-46B6-BABB-9F535A54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FC7D1-5DA3-48CF-A684-D4343840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8342C-4448-4E40-A594-ECD21D29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62C16-1891-4FD5-8265-53D59F3E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3D8A3-962D-410F-8BE0-B0C15BD6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FB5C2-BE5B-4D72-8F65-443C222C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D98B4-5586-4EF3-98E6-34151948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E7D52-2E0C-4B2C-9512-C8774F5E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0510F-AA6D-4E7A-BB8A-260D0AA9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F8BC1-2650-4E05-B7CA-7ED7D852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EDB-1226-4571-B11F-B0705522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A3C-5841-4A13-BEE3-344BE67D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A90C-7E54-462D-98FA-D8B1646E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2883-D0C6-43F3-B553-779B0C14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E436-65E6-4604-A6A4-8AB6688B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2E75-5BEF-4160-857F-C31D95356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0AEC-B417-47C0-8A77-4DA4F4A48E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73D9-F041-4A78-AA9E-56E28BD1F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Christian's Welcome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ry A. Kidder (1862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. 3 Charles E. Pollock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E. Pollock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Christians Welcome Ho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0160" y="6488280"/>
            <a:ext cx="42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Christian's Welcome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Christians Welcome Ho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he Christians Welcome Ho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e Christians Welcome Ho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Christians Welcome Ho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160" y="6488280"/>
            <a:ext cx="42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Christian's Welcome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Christians Welcome Ho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he Christians Welcome Ho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he Christians Welcome Ho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Christians Welcome Ho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0160" y="6488280"/>
            <a:ext cx="425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Christian's Welcome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Christians Welcome Ho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he Christians Welcome Ho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he Christians Welcome Ho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5:58Z</dcterms:modified>
  <cp:revision>29</cp:revision>
  <dc:subject/>
  <dc:title>Slide 1</dc:title>
</cp:coreProperties>
</file>