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9E67-ECE5-4EAF-98D8-5891ECE7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248-D53B-4DC1-8C24-70F84394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7D1-A8E5-453C-8815-995946F7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3E1-A474-4B8C-ACBA-13B77D57A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436A-721B-481E-9D81-0C9F7E30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B3BD-9D8A-45D0-B727-41C990D4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7232-04AF-48D1-83D9-498290E9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93DD-4342-4570-83C9-E363FBDB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4F72-5E55-4CF2-8161-C2324757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600D-7A78-4DA8-A365-0CE98CF3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5731-F268-412F-87BB-88AD1A88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451A-395B-4F51-9A89-D3B34FDE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B54A-A8C9-4591-8625-61AB1914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FB1E-E534-4EAD-9A3F-BDF465B5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9177-0225-4F1C-8B7C-A1BC86D4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E539-BFF4-41C6-81D7-03F55479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C86E-8079-4B29-B5A4-6A05BFA3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241-A5F7-4C31-A4DB-BCF25FF5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BE848-BD7E-4657-B675-153487FF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6FB60-A8EC-426C-852A-1984988B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F106-0830-464F-99EF-2D1FF991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4EF8-2064-4E0F-8B10-E39B2E7E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8864C-2055-4E99-8A84-E89C654D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C36E5-5770-49C4-AE82-2C3B5EF3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101A2-D08E-4FF5-BCA5-2414B49B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1D0CD-398A-404C-A661-A7F83D56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CF31B-82A4-4691-9FD3-BB68D0C8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DB1A8-04AF-4A75-A864-5E327A41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B2065-9B99-4DA1-876E-20CC3E72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CE48-B919-4793-B008-6EBD40AF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0047C-50E3-483B-8639-B8736EB9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703-F12A-4CBE-9139-1C1D396B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0F3-2E63-4A6D-AC97-04F0C884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909-AF38-4429-BA00-7003F6EE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521-2EA5-42B2-B540-92334F0F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CB6E-0EBD-4333-9431-9C0A0762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FE35-3F74-4BC0-B175-657A67BC9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BBB4-2825-4EED-B9ED-2281A27C51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C0E9-19F9-4832-B944-A70BEE4485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‘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is So Sweet To Trust In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uisa M. R. Stead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is So Sweet To Trust In Jesus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62000" y="6488280"/>
            <a:ext cx="41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‘Tis So Sweet To Trust In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is So Sweet To Trust In Jesus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is So Sweet To Trust In Jesus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is So Sweet To Trust In Jesus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is So Sweet To Trust In Jesus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62000" y="6488280"/>
            <a:ext cx="41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‘Tis So Sweet To Trust In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is So Sweet To Trust In Jesus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is So Sweet To Trust In Jesus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is So Sweet To Trust In Jesus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is So Sweet To Trust In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62000" y="6488280"/>
            <a:ext cx="41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‘Tis So Sweet To Trust In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is So Sweet To Trust In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is So Sweet To Trust In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is So Sweet To Trust In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is So Sweet To Trust In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62000" y="6488280"/>
            <a:ext cx="41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‘Tis So Sweet To Trust In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is So Sweet To Trust In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is So Sweet To Trust In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is So Sweet To Trust In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4:11Z</dcterms:modified>
  <cp:revision>31</cp:revision>
  <dc:subject/>
  <dc:title>Slide 1</dc:title>
</cp:coreProperties>
</file>