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4BFE-A101-4629-9865-F8C2BF3C2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DE4C-40C6-454C-B3BF-F529B3AC1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7299-5411-41F1-A066-18CEAF7DB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5E63-F416-4AAF-9CF2-34CF3CD0E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64356-F7E5-4974-906B-E41978B05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D8B25-D488-48B1-8966-9836583C1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1308B-6242-4E94-954F-C11FF4B6C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BD479-E045-4839-BC02-120D612B1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D01F2-7DC5-44D8-9585-230D6FD72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79E28-511C-4242-9F44-D3142D396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B493E-585E-4F4D-85E4-3CF2F41BC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B1E9-298B-4ABD-88ED-8809DB9BB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39408-3090-4C31-9C7C-838B130D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D4D58-7CF6-4EBE-B1E3-0B1FC149C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6FF9F-3C16-48B9-BC6D-106507212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70012-867E-4030-8361-E5E99C0F1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76AC6-43F1-4308-A181-379FEF193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F4E5-373F-456B-A04E-6D0D6AAA2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D4087-226C-4E25-A6DC-35FE63658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A9424-B491-4334-9437-9B7D146AB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42FFC-182A-4ADF-ABC2-D4058FD29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050B-92A9-4C7E-B868-A1F359ADD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475D4-B5F9-45F3-A3B8-846C74463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9E72D-BE99-41B4-BE4C-1E0C24A1B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DE67C-F704-4D3C-84DC-76AF238EC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F7DF4-94E5-475E-974B-15D7442F6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F0A63-C33A-4961-816A-CAAFF0E5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9D523-7E12-47DC-AE4E-41492208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B0DEC-109F-40D7-B04B-737E1A1BF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5F9CF-250B-4FCB-BE55-82570049E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AFCBE-3978-48A1-8712-3735EC191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34AD-2CC0-4A2A-AD9D-32CA940BC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8A9D-8110-4417-9485-91E5E3EF4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91EF-D09D-4F50-9590-37DCE0918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4355-F139-4BF3-A5D5-EF268B0F6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2EB7-F11E-4E18-8308-3832B7EB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A9D36-783F-458E-B6F4-67F8C5DF2E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E3F10-CE48-493C-A205-DAA370CC1A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4DA94-D1AD-411E-AE37-E9EDB2C19F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o The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A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anny J. Crosby (186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. H. Doane (187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5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To The Work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84600" y="6488280"/>
            <a:ext cx="22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o The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To The Work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To The Work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To The Work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o The Work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4600" y="6488280"/>
            <a:ext cx="22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o The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o The Work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o The Work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o The Work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o The Work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84600" y="6488280"/>
            <a:ext cx="22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o The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o The Work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o The Work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o The Work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1:02:33Z</dcterms:modified>
  <cp:revision>35</cp:revision>
  <dc:subject/>
  <dc:title>Slide 1</dc:title>
</cp:coreProperties>
</file>