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C1B-73D8-406F-8626-2ACE2270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15C-DAA2-4374-AD5D-8D90BEA3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2A9-A5AA-4AA1-9A58-18DC0941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22B-9C19-4818-8EBC-698A8AF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E88-C3E2-4EBC-AC61-A3421A70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F43D-AB9B-4BC1-B91A-AC7CB1F4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EC9B-515C-40E6-90C3-BC8ECCAB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509A-4AD8-4DB5-8733-DE88ED21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0651-0A50-4F53-871C-74B4DC3C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5F47-547F-403B-BCD0-36DE6B1B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1D7D-8587-4527-A8C3-48D61FE2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EAD-57D5-4ED1-98F5-235F7476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CD58-20E5-48F9-B307-2E95CA5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CFEB-C89B-4467-9687-C9E3BE4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1EC-A0B7-4F2E-9DF6-1E8B377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E635-15EE-45DA-A564-1DA3F327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4402-695D-400C-B18D-97E5D1FC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66F-F010-4587-BD16-1F69C740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C212F-3804-4B86-8B1F-85B9967C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08843-CB05-41C8-8EAE-7F70D577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6B50-A8BC-4D70-AC47-B3699F3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9BD-6359-41E0-B806-728E1371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2B107-8C4F-480C-89FB-A8F9A614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B75C9-C439-4BD8-BE19-BBE822C7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7CAD-574E-41CD-B6AB-646B358C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5263-A32C-4D18-A7BF-BF1BDBED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AAE1-A4E0-4967-AF27-0CE5881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8149-1A95-4278-A1AB-D6CA16D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832C1-927E-47AD-8738-8C66EF08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D0A3D-8D53-49F7-9D3F-436E2ECA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904B-C9C4-4747-A3FB-E88DCFCF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71E-9EEE-42E8-97CB-CF731E39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090A-F77C-4CFF-999A-3BECC47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ABA-896F-4D56-B5F1-844EA29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717E-8D93-49F5-A43F-FEAC53F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6A5-951B-42F9-8A7F-8630264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5C53-4C7A-44B5-B20E-A188250D6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41EE-1027-4FB9-A44A-7ADDDF1486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8FE0-F6BE-4DE0-A25F-A589A1607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ast Mile Of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Edie Marks (19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ast Mile Of The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Last Mile Of The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Last Mile Of The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Last Mile Of The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ast Mile Of The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ast Mile Of The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ast Mile Of The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ast Mile Of The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ast Mile Of The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040" y="6488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ast Mile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ast Mile Of The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ast Mile Of The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ast Mile Of The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3:58Z</dcterms:modified>
  <cp:revision>31</cp:revision>
  <dc:subject/>
  <dc:title>Slide 1</dc:title>
</cp:coreProperties>
</file>