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8DF-761F-44AD-B252-AAEAD0BE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10C-E79D-4E25-9E76-26BC252B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A43-8A8B-49CE-AA5F-D2341E1E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901-F612-4CCA-BCF8-AAF763669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DF49-15C8-4EA5-BF9B-45277D6E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EED6-BE6E-48E3-A6DA-E49A0300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5D03-6C65-4C1B-84EB-EAD89A1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33CB-1956-468C-8CDB-8B78946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C48C-16B2-4295-86E0-3BA2D51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DDFB-7AF6-4B51-8DD5-BDD2DF68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035-1F93-4F57-8297-2A999D3E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E5B-FE9E-4D42-B1A5-449C8182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C693-3E85-4E8C-AB84-04099C0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5D4D-3EB9-40F9-891F-31F2CEB6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A385-584A-4D33-997B-C9BACB96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9ECA-9965-46DD-888D-857107B2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B8F9-81FC-40FF-BB42-DD86E73A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FB2-FFA7-4358-9DA6-B3C51C56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E9E43-EED6-4287-BC99-DB3A0B73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945F-E30B-4012-8F4D-9FCCD03F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7822-2675-4AE8-A206-32280EDB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4A9-2930-4C14-862D-2DBC41D1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818F7-7517-41C0-BD84-878BD664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67C05-589E-40E3-A0B9-3BE0EAF9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EDE8-2250-4424-BC61-B1D25A4E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5BB4-058E-4642-81FD-8645DEE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793A-BE7E-48EA-BD44-4A7B2C4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1D52-C69A-42AE-B04A-6FA92CD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480D-0094-42ED-BCCE-3E2A4834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7FCE-E7F6-4512-8366-6F848A90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9ACF-1CB5-453D-B660-D38C1D3E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44B-1000-446F-9AE2-AD29FC4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7FD-505A-4150-A0A9-5194943E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6C5-EE45-418C-9734-2D69BC1C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AD1-DC80-49F7-8466-CCC48876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5292-7FC0-4DC3-8E6E-6BE4C44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D94-AEBA-42B5-ADC6-441363AD3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7771-84D1-4C93-B278-B95793409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D5E-7AEE-4010-A0B8-D8EDD7763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ach Me Thy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CAM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5.6.5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Mansell Ramsey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Mansell Ramsey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ach Me Thy Way O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ach Me Thy Way O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ach Me Thy Way O Lor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ach Me Thy Way O Lor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ach Me Thy Way O Lor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ach Me Thy Way O Lor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ach Me Thy Way O Lord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each Me Th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ach Me Thy Way O Lord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5:18Z</dcterms:modified>
  <cp:revision>32</cp:revision>
  <dc:subject/>
  <dc:title>Slide 1</dc:title>
</cp:coreProperties>
</file>