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EC1-9008-4494-8185-574E3ADB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852-3E4C-45AD-A1F8-0CA7C10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2FF-B2B1-4F0C-BED6-2264D2ED3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83F-CABE-4E62-BDCA-2FB5207D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1A52-F258-4936-87E8-30F0BE62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A407-6EC5-40BE-9A01-BCB0DA3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FDA-E5F1-4692-9E6C-CD3E71BB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C4D-207B-4FF7-893F-1932AE53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4799-ED96-47BA-8297-9B9510B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5D98-129A-497D-8E4A-A65F4DA9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AE08-E9B9-4DCC-B959-379EA30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B83B-A0BF-4B4B-AC69-FCC17EF1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0BF-B1B9-4522-A92A-8320BB3B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1429-F981-47B3-9836-1CAF9537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A52-6689-4841-B2A6-18C06490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9C70-7BE7-4FF5-8370-C4FBA604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6E62-4E99-467D-B597-F4D2AD03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B1B-5AC6-4B45-8809-BCD39AE1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BEA09-C443-4A82-BB60-3A817B0B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206F-6E11-42CB-859C-7786FADC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96874-0A42-4527-927D-216BDAAD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CD59-9A32-4B62-B56E-4FAF4E87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7F175-593D-4AA3-B66E-B86CA647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824A-FAF5-4FED-9F82-6359305C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20E0-11C3-4598-B28C-D8A94C7B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6980-2F60-4D05-B5C4-DC4118B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A78C-F58F-4CC2-8028-469578D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35C4-EA1E-44E2-A8FB-9ADD3375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F5F13-7375-40B3-BD07-6F658797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5A45-9B6E-4CEA-8536-6972A030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B1AD-65C0-452B-ADA9-94841940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34C-98CB-4086-8DA8-CB36FD9C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A0F-D9A0-428C-8B85-D204E941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FAC-2371-4602-9BC6-BA1E3AF6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D7E-5344-42D7-B8DF-5195338A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DF2-78C5-4418-AA88-1599EF6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9C1-7EF9-4CD3-89C7-630AF8458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0ADC-D40B-4552-8D70-655B575A14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9E01-A836-4061-9FAB-BC99774B8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’s My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RIM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360" y="4902120"/>
            <a:ext cx="125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23, Arr. Francis Rous (164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cottish Psal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Seymour Irvin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s My Shepherd_arr2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s My Shepherd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s My Shepherd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s My Shepherd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520" y="6488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Lord’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s My Shepherd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25:54Z</dcterms:modified>
  <cp:revision>30</cp:revision>
  <dc:subject/>
  <dc:title>Slide 1</dc:title>
</cp:coreProperties>
</file>