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2E5-7B6A-4E15-AA18-E97CF930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DD8-796B-46EF-B1CA-4B50EA50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F45-B027-483F-B512-4E2748A4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1D9-7EA4-44D5-BF0B-76530E06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1054-B0CF-4681-9383-2A24E379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4AD3-59E3-4ACB-8E49-4B3617B6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6439-68F6-4B17-B540-FA98F7A4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60FA-495E-447A-9540-C14EED41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7070-99CB-4F12-8A3F-34DB0A32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A2C8-0550-429B-95EA-D83F72C3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C12D-5611-4857-ABA1-C4F1C627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520-1D12-4B0B-A45D-9ACFA089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C0D5-D531-4DAA-9AB8-0E578584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261A-4479-4F62-8EE7-B7FE7AD6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F505-C31C-49E0-8BC1-208512CC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3A8E-D314-4EA1-83F1-E5C88339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9665-C11E-4EB2-9519-9E8ADCE1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089-C6E7-4783-B0CB-44FA6F6A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49DF-B937-445A-ADC4-03758BE7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1AB8-15DB-4F2E-82E0-3D58792D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5A39-F256-4EB7-9A75-55D87381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03EA-C958-4560-9F71-679EC5F9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5E914-F594-47DC-866E-4AD94B4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5ED60-EFF1-43D4-AF7E-67184864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1B686-D972-4AB1-B937-5333830E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556E9-A71C-4829-9CEF-209042C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CD60B-8441-4C8F-ADA9-18DB044C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81D4B-7DE7-4AAD-BE9B-4B0AD356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3C77B-23E4-48BF-AEBC-BEEBE68B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F828E-2A3F-4CC2-92E9-A4DB8D7E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47A5F-6FA6-4608-95D9-0D5E2197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A2C-BFE0-4113-9B67-106A937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0FCB-CAA8-4FCC-BF78-B1A3988D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10A-8EBC-443F-BACB-71397F1F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160-EE6A-4FFF-B567-DDED653F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350E-3715-4390-932E-09C68825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45FF-1797-4030-A541-FBB1B249F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8378-0780-441B-BD18-91C1BC64AA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DF3A-15C5-4ADB-808B-4B84A051E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ough Your Sins Be As Scar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ough Your Sins Be As Scarlet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ough Your Sins Be As Scarlet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ough Your Sins Be As Scarlet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29240" y="6488280"/>
            <a:ext cx="42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ough Your Sins Be As Scar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ough Your Sins Be As Scarlet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ough Your Sins Be As Scarlet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ough Your Sins Be As Scarlet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ough Your Sins Be As Scarlet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ough Your Sins Be As Scarlet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240" y="6488280"/>
            <a:ext cx="42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ough Your Sins Be As Scar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ough Your Sins Be As Scarlet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ough Your Sins Be As Scarlet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ough Your Sins Be As Scarlet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ough Your Sins Be As Scarlet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ough Your Sins Be As Scarlet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29240" y="6488280"/>
            <a:ext cx="42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ough Your Sins Be As Scar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ough Your Sins Be As Scarlet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ough Your Sins Be As Scarlet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7:43Z</dcterms:modified>
  <cp:revision>32</cp:revision>
  <dc:subject/>
  <dc:title>Slide 1</dc:title>
</cp:coreProperties>
</file>