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C50-DA0D-44E6-9E44-F63C4AAC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309-8C4D-46C5-9407-EC7BFFF5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013-82A7-4348-B0B1-B53AFBB9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202-7300-472A-B712-B9E423FF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257E-0128-4C73-BF91-C4AE13C8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7FBD-4E70-4644-9693-DA9A651E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B193-23BB-4968-A5FC-02E3875B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420B-F179-46E8-AD9A-8BD89FA0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FAA3-9DD1-411D-8E7D-58D14FC8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B699-AF59-4BDF-9748-297624F9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9685-4238-4643-8213-118B390F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0296-2F14-4C31-84B6-8AC4742E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9BC1-6A00-47D1-897D-A507F787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8CE5-6887-4C24-BA53-274EBD89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5C8E-65C7-4CCB-8588-EE0BEBAF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427F-EFAB-4703-9945-3E2F202B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6188-7A30-4E27-AE80-0A173365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705-52D6-42A3-945B-895BA432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45BF7-7AB2-484A-B09A-B7C079EB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C483C-228D-4273-A297-B9255C2A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7803-26C5-442C-A64A-E6D980E7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C04-5710-4E41-957C-DE4FCEB9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289A0-BCDD-48B0-B539-ED31E05A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ADA4-A1BE-4F9A-B5D0-0341B5FE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5095-9E7C-4F3E-97B4-3000024C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4E51-8431-4A66-BFAB-0EC46233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412C-D281-4081-A023-1477E65A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0DCB-29FD-4615-8227-9AA63825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EBE5A-D9DF-4104-A912-F52CA249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7E270-88D0-42E6-AAE0-4206D44E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1B180-AE76-4152-87A6-ECEBC2A1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261-3929-43FB-87D7-9820AEE3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0B3-46F8-45BF-B9BE-97ABA6C1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31E2-C91F-42FB-800C-F21F2B77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7F5-605D-4EF5-A070-BC539209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9EE-03F1-4394-94B8-D87DE32C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E240-3C0B-4DE7-9440-651E4B214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5D30-9A30-4305-9612-9274889ED8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CFFD-41C0-4AE3-B4D8-55006490B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Church In The Wild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re’s A Church In The Vall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William S. Pitts (18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William S. Pitts (18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Church In The Wildwoo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Church In The Wildwood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Church In The Wildwoo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3040" y="6488280"/>
            <a:ext cx="40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Church In The Wild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Church In The Wildwoo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Church In The Wildwoo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Church In The Wildwoo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Church In The Wildwood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Church In The Wildwoo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040" y="6488280"/>
            <a:ext cx="40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Church In The Wild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Church In The Wildwoo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Church In The Wildwoo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Church In The Wildwood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Church In The Wildwood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Church In The Wildwoo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3040" y="6488280"/>
            <a:ext cx="40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Church In The Wild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Church In The Wildwoo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Church In The Wildwood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7:15Z</dcterms:modified>
  <cp:revision>35</cp:revision>
  <dc:subject/>
  <dc:title>Slide 1</dc:title>
</cp:coreProperties>
</file>