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121-ECD9-4A3E-A10E-51358E6A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CC0-59BC-4C87-92E7-94ADD14E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77C2-BBAA-4282-8C47-D2DBA9CD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412-6C0C-4B21-9E2B-873BDDF0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DCBE-1CF2-425F-8CE2-9ACAC6A5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D4E4-7F4D-4536-B67D-783C1BD7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B467-5062-4418-8AF9-7E18CFC9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F9D2-AE00-4482-92C8-40D55063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460F-03EC-4509-9838-81D72E84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68E0-5763-48CB-AD03-3B117CE7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B058-F38A-42C6-BD3B-8841A506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83A-2374-498D-8C3E-A0EA6FDC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0453-5228-4B19-AC1D-AE853F3B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791F-E625-4E32-91F7-862BD6BF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5001-FE34-4993-8B5E-2123FFB3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1757-F7C5-41E3-A8E5-3D088965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841A-CAD9-46F8-BF3F-B1BF2B2A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FE6-700A-4DB4-B4D1-1421DD0A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2602-EBA8-4EE8-A6D4-AC42618A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0150F-FB13-4121-89B7-801059FC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16FA-8A28-4D00-BB28-ACD1BC9E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783-B4E4-40C1-B2AF-EB3B0D1B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DDD0B-F86E-4D0F-BDE7-298908D0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E59AD-8278-47D0-9182-A8144E90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C6F16-82FE-4DE6-AE47-650F2C10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6D401-CFC2-46B5-A0BA-7CC39EAD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4D19D-B8C3-42A4-B270-2B99A6C7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80C11-44B3-4C95-8BFF-0F3D5386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3023C-BBD6-4934-83F3-2A5E950B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E3BDC-CBBA-4D64-87AB-7FF785A78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3075-40E2-40A0-A118-40350D33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AEB-95F0-431B-A5E2-0F254111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9CCD-70D7-4C5D-A243-4642C5E7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A95-223A-47EE-9D26-C49CDACB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4EA-1B14-4616-9929-B8D16F7A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7D2-4CF4-4F99-B76A-D7543A41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C601-67F2-49CF-A953-B8F97BD05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A190-FDCE-468F-9196-923864EBD6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A785-3B21-4828-BAFE-637119E623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Old Rugged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Bennard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Bennard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Old Rugged Cros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4120" y="648828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Old Rugged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Old Rugged Cros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Old Rugged Cros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Old Rugged Cros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Old Rugged Cros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4120" y="648828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Old Rugged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Old Rugged Cros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Old Rugged Cros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Old Rugged Cros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Old Rugged Cros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120" y="648828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Old Rugged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Old Rugged Cros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Old Rugged Cros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Old Rugged Cros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Old Rugged Cros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4120" y="6488280"/>
            <a:ext cx="32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Old Rugged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Old Rugged Cros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Old Rugged Cros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Old Rugged Cros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0:54Z</dcterms:modified>
  <cp:revision>31</cp:revision>
  <dc:subject/>
  <dc:title>Slide 1</dc:title>
</cp:coreProperties>
</file>