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153-82F6-4CD5-AA83-A31B3D3F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91F-13E6-4F99-BF0E-A4D5C4AE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9FA0-0FC6-4008-83DB-BB826C4A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550-9419-4CFB-9D70-25BBD776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89B2-69FA-4C9A-86A8-39E46184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C7C1-3FEC-48B1-BF91-5CCF9077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C22-7401-48D4-B1F7-CB77B37A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BA39-F817-4507-A383-27CB8F45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D6A3-56C3-48A2-9522-66119B97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65C6-5CDF-44C8-A665-EEE19EF2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1C8E-57FE-44F6-A2F6-4F3ACD0B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ED9-E1BD-40F1-9110-BF5D0466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7FEB-ADBE-4CB5-A50E-DD3699EB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1086-DF8A-4DCF-BDDF-C2679AF7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996F-9034-4D8E-A866-0F06CD0F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3D19-CA7B-4292-8133-EFE3C9B7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CBC5-7C5C-45A1-980C-4EA3E86C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3B3-8FE5-4407-8309-E8D132C8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6F02A-48D6-4137-B1D7-C97B931D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8F936-607E-459A-BC61-EC3F5A37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0506-EFD6-462F-ACBE-D40A67A82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D12D-4179-4831-AEAF-0B866E25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E8E5-E60E-4391-921A-66C2DE2B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E45B-3B50-49DB-9D90-5DA093E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8FF5-52BA-486F-9A56-6B676CE8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080F-073A-4926-A1C5-FB556DD8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BC753-806D-42C1-9521-9A4644ED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7F14-773C-4B17-8CF4-061D8D2D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D8254-C708-4E28-B36C-E3045A10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A2EF0-9FD6-41DA-A030-EA70E5F6E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3764-ED41-4D5D-A033-203BCDFF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3FA-3DC4-4BF3-8AD6-F21963B2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6CA-AD95-4557-A061-8B432764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8E7-B5E7-45FA-B59F-C09D574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8F37-8F05-44D8-9079-F208A5C6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AD2-F322-4C57-8D60-A3D3F8D5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8A5D-4832-4FA3-A0F0-DF67E00F8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1428-A7DF-49AB-9AF2-8500E2713F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F914-585B-4D2B-ACB4-0AABB439C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Our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O The Rock! ‘Tis A C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incol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ngland Melodie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98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J. P. Lane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P. Lane (189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rd Our Roc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ord Our Rock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ord Our Rock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ord Our Rock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Lord Our Rock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Lord Our Rock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Lord Our Roc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01880" y="6488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 Our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Lord Our Roc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Lord Our Rock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Lord Our Rock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Our Roc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Our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Lord Our Rock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Lord Our Rock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he Lord Our Rock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 Our Roc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 Our Rock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 Our Rock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 Our Rock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 Our Rock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rd Our Rock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 Our Roc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01880" y="6488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 Our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05:38Z</dcterms:modified>
  <cp:revision>33</cp:revision>
  <dc:subject/>
  <dc:title>Slide 1</dc:title>
</cp:coreProperties>
</file>