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916-7EE1-4FC4-BBB0-32A8F4A2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CF1C-D4EC-492A-B407-D69C601B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97E-C196-417F-A306-F22A709A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807-1829-423C-AF7F-CC36954C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9929-3257-4097-B64B-A92A019D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592-4CC5-4328-AD46-0DE667F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A4AC-7B4B-426C-BD35-F8D7645B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BE53-DDC4-42DF-AA17-2191918C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AA07-677E-4511-B8A8-3A286E66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128-1DBB-4831-8EFA-5E7C3DBB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C22A-8B59-4D15-A013-623A1E05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168C-7520-4725-BE95-4EFBE53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4D89-6E9C-4FA7-A878-AF4F30A4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256A-34C4-4196-B340-81FBAEFF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8072-4495-4B01-B7BF-CF703C78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BC5-11F9-4D9C-BA1F-C331373B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7B7B-3D6A-480E-8CF8-0AFD1203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1A1-10B9-45AB-94D3-6584AF45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984BD-EC48-46F7-AB35-CA12DA6C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F759-0A80-4179-9EAF-69AADF51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BAB4F-A078-4CEB-8452-5E00317D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8CF-45BC-42A6-A71F-DE807928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A5E6D-2E37-49B8-8262-A8B535A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250F-A32E-49CF-B05B-58A2BE64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4411-EE05-4181-959C-D4E6141F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F37C-4E4D-42E1-847C-FA8C566A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48E37-4D42-4F8A-8388-5D8A695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7CED-8867-4F02-831F-D2DA5CF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33C18-778D-466E-8A3F-A3094A0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7D5D-EA04-4DCA-B604-093864DF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60630-AD32-4541-B17C-7831E1A2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522-C7B5-4BF0-B0DE-D6F761BB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428-1AB4-4F8E-A580-96588BFB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F0F-0F47-431C-B78A-F71355B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53B-B897-4F9B-9B60-B49430FD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773-BB57-4ECB-8B64-F418B5E2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E7D3-C97E-4BE4-B868-04B33AF43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3D7E-8C85-4409-BDF7-26893134C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A21F-89FD-48D8-B462-94BB69D7D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unset 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fred Barra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B. Mos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unset Gate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unset Gate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unset Gate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unset Gate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Sunset Gate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Sunset Gat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Sunset Gat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Sunset Gat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unset Gate_4v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unset Gate_4v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unset Gate_4v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unset Gate_4v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unset Gate_4v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26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unset 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unset Gate_4v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unset Gate_4v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unset Gate_4v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5:18Z</dcterms:modified>
  <cp:revision>30</cp:revision>
  <dc:subject/>
  <dc:title>Slide 1</dc:title>
</cp:coreProperties>
</file>