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F59-96C3-40D9-8782-6A724697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992E-7726-480D-89C2-BB38FDD1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4F1-E4A7-49DB-B8E7-8CE7FC72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048-B074-42E9-87F5-D679DA1C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C192-D8EC-4628-A68A-5FFE5723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D273-9226-4AB9-8AE8-A0B102CA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A2D4-2755-41FA-A38A-F1702962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1EBB-78BF-4C4A-8821-E111AD5E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DA0C-F83B-441C-B4CD-5A4404EE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5961-C8AE-444E-8DC0-96054FD9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4785-A6A0-487B-8F1B-630D0106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465-2907-449A-878C-46A0DB2C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98FA-2AD6-45F4-BEF0-BBC570A0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6B6C-85C4-4E06-BEAC-290653CC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E4D-F31B-4A8F-AE7B-B736793A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3E12-7CE1-4DC6-8170-85FE9F30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5E4-D41B-4B04-BB70-7585426D3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415-1A2E-4C02-BC17-342376A7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5129-2530-4EF2-8F1A-91A3B0C0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1097-119B-40B8-B358-81A3A1E7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8F78-E1EC-4A1D-B737-7B651CAD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4D4-58FE-4B1C-8F98-F2C5E93B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02B3-AE2A-47F9-A11C-99176536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95A93-E193-44EB-928F-F02E76C2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E398-A7CD-4D41-A815-972EE59E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5A9FE-9031-4A42-B9B9-D9B3C2D1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0F4D-A833-41B7-86FF-9BF134B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937C4-6658-4B03-9784-70569D2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6C81-A4CD-400D-BF44-F794664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EA8D-5AF9-46C7-9716-CBE73CD5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65B99-11C4-46E0-A2D0-5E20D8D6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CCB-0CEB-4011-B2BB-4781683A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FC68-35BD-4BBF-AE5C-476479E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20D-005C-4AB6-B6BB-39A65B61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00B-F178-46D8-8AB6-8CAC0C0A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75C-9680-4995-838E-77B82188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D933-4C4C-4453-8269-E1431ED4A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B46-A3A2-48FE-A01C-56455F9BB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0C41-1EA8-4884-AB66-FEA82EAAC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me Enough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illit S. Teddli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2248200" y="4230720"/>
            <a:ext cx="46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This song is free to all music publis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0" y="1077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</a:rPr>
              <a:t>A false promise - Yesterday is forever gone, - Tomorrow may never come, - Today is the day of all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me Enough Ye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ime Enough Ye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ime Enough Ye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ime Enough Ye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ime Enough Yet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ime Enough Yet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ime Enough Yet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ime Enough Yet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me Enough Ye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me Enough Ye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me Enough Ye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me Enough Ye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me Enough Ye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ime Enough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me Enough Ye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me Enough Ye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ime Enough Ye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53:25Z</dcterms:modified>
  <cp:revision>31</cp:revision>
  <dc:subject/>
  <dc:title>Slide 1</dc:title>
</cp:coreProperties>
</file>