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1DE-EAC3-4024-9616-1CE20CF1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E77-F8B8-42DF-B703-3885230F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F87-F450-4D23-901E-DD23B86F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9CC-6715-4D7B-80F4-0DD6904C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ADCF-7FFF-4C44-8A15-D8A1C388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2C65-7A69-44D4-90E2-D20A5637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706E-E7BF-44C8-ADA2-1E7E51B4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1050-A191-4051-BAE8-44784790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9CBD-B412-41FF-90DD-1C0940BC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5631-5F39-4477-A214-C54AE2DE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9954-8A10-438B-AE11-B58BD98D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F80-ACBF-48B5-9745-E2FC61F4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3B10-E417-499F-89BE-8D76F041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C6A7-7047-47DC-A64E-9665C690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6B58-DAFC-4515-A51E-25E6C69A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06E2-7A33-400B-B936-675AF43B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621F-EFE7-412D-B3CB-64F858AA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DDF-1BF8-402B-AD61-16D8D9E4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E8594-132B-493D-B112-2A93CD76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24016-57CF-4ABA-89B3-3CDB7611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247A0-6901-4699-B7F7-11E63FDF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AD29-69F2-4BBD-99E9-C23C7668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89F9F-A904-47A7-B80B-B4F3F689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4A16-C665-4B99-8E1F-F695BB76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3A786-F184-46FE-99DB-B5AED445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1437-50C9-4674-A3A2-3E5B49A4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294E-DAC9-420F-A043-1C004D9D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4EFDC-FA38-4EEE-B6C7-44710F51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FD324-07ED-4D8A-9051-6ECDB0E0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7F1C2-200A-4FE8-ABFD-905544B3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5255C-BF27-4705-B2F3-166C558F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DBC-0AD8-4CFB-B9EE-62E67018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9CE-AE4A-4591-869E-B58D1568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949-108B-4E36-B6D4-7AC32A90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8ED-A77A-4F7B-8CB6-13EA3244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A03-0C48-4ED1-AAAB-772FEC98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1FD8-5115-481E-AC4E-1B17F15CA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273C-CD5A-42EF-B852-70D59167A8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7C3B-CB29-46C0-99DC-908CFC355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ke Time To Be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O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1.11.1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D. Longstaff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C. Stebbins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ke Time To Be Hol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000" y="6488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ke Time To Be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ke Time To Be Hol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ke Time To Be Hol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7000" y="6488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ke Time To Be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ke Time To Be Hol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ke Time To Be Holy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000" y="6488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ke Time To Be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ke Time To Be Holy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ke Time To Be Holy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7000" y="6488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ake Time To Be H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ke Time To Be Holy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1:47Z</dcterms:modified>
  <cp:revision>31</cp:revision>
  <dc:subject/>
  <dc:title>Slide 1</dc:title>
</cp:coreProperties>
</file>