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43A-9A35-4987-8E1D-3C3C3DA9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3B0-10D7-4AC0-8FC0-5FD7AF24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8E7-E667-472B-8BE0-7752FB8A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845-4536-4D06-BF23-E0552243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5286-7C1A-4359-A177-70DC9830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51D7-F169-4991-956D-76C42327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875-268A-4FD0-8D26-BDA5DCD5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B17F-24DD-47B6-8076-0164C920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DF550-56CB-40FA-88AA-028D5BF7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4B83-95B9-4DA3-9ABA-153B3E89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9BA1-5B9B-481F-844C-CC8C657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BB2-C022-43A0-B137-EA2D637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BF64-40F1-4433-88EC-2874B202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90CC-85B6-4BB1-B461-3ECEE66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C76-B8FF-41DD-946A-3D2205FC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602E-C919-43BF-BFBC-45EF600E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CC6A-8D2A-46C0-BFFD-E00418E3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CAF-BEB4-4347-B0A6-6EF7490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72BDD-BA03-47DA-9CA3-7BF4CF4E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E7779-D0B4-462C-BFB6-5C2D2CF8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4927-6E1F-4694-A0FE-660638E8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F18-4845-45CC-952D-9269C5FC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1F62-03E7-4D40-BBC5-F475EFE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2CFF9-917B-411A-B028-140550D4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5293-F764-4826-A4FE-1AB92787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FA65-3842-4EBB-9053-9D092DE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4A8B-F498-4976-9E37-ED21F562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F040-6462-49AA-A17B-C99B833B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5F2E-DBD8-4E4B-8597-29991067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EC0B1-40BD-4DC7-B141-F19FC3F2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18EB-75A5-42F8-BBE7-7545C0AB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171-DBE6-42F4-B13A-0F1B0BF1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FBA-4193-4206-9402-B3E0A62A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DDE-54D8-42AE-8CF1-8091329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48E-9774-47A7-8DB8-8936D42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09A-4FAD-43AC-89A8-5830523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E21-DA49-4601-954D-072932D01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AC2-942C-4339-8B83-74FA2F8A6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B39-678E-4FC3-8D8E-EB8F0647D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God Be Th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God Be the Glory_arr1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God Be the Glory_arr1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God Be the Glory_arr1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God Be the Glory_arr1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God Be the Glory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God Be the Glory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God Be the Glory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God Be the Glory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God Be the Glory_arr1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520" y="648828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God Be Th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God Be the Glory_arr1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God Be the Glory_arr1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God Be the Glory_arr1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7:43Z</dcterms:modified>
  <cp:revision>20</cp:revision>
  <dc:subject/>
  <dc:title>Slide 1</dc:title>
</cp:coreProperties>
</file>