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97B-22A0-4A6B-856A-29660F77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BC4-5E03-4907-BE0B-378A2FA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3AB-7BAF-472C-9740-4D16888B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DF19-968D-4F42-84E6-4AEABAFE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3FE2-B814-42BC-9004-ED11DACF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ADD3-2D54-472A-BEDD-99FCFC74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211B-4D33-439D-B8CB-75C791A7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B90-A811-4B8B-888E-03EAA191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3F0E-CD40-4D6D-8F96-7023BD8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CC7F-4479-4791-9821-5A8AE298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F95F-8783-46D1-A9A5-5BFBD71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9A8-80FC-4AB0-8E92-795D048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8F3C-98E5-44F3-9665-E9CE0B6B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B7C0-A8AE-45D2-B1CD-3B2DB62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282-A92F-4515-9424-02C494B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E7BB-5A68-44C2-B5F4-F83AEEF8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38F1-5FBF-4069-B125-35937BF3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799-C1AA-48C0-AFE1-EB02CA1F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A263-C94B-4371-A587-525E51EF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CF92-26CA-4731-A589-34FA7BD3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0442-B023-44B8-B626-86325E2D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F238-C3E5-483E-ABC5-0F86E4C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E2A6-2DC8-4440-AD3E-F88DFAE5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C38C-B3CE-44B9-83AA-1B088ADE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C37B-BAB0-4484-9BF0-44BD5F6E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0D3BA-C4A5-47F0-BF4D-8BC811E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BAC63-849E-4C13-8C23-CBAA7463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93AEA-0177-4DC6-84CD-D1448A0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A554B-6A97-42EB-8320-65026212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05471-E248-4F7F-9553-B2DA33AE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4F6B-3AA5-4335-81F4-336BF86C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0BD-C365-40AF-9A6A-DAB999F2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BFC-354B-4EEF-9E6A-ACE8045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568-61EB-4010-8630-F122FCD7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B8D6-4880-4735-A2C2-F96A416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616-D893-4044-82E5-47F8C9D8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2AA-5D7B-43F6-9762-88FE39F4B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BCE-1D44-41DD-A651-6702DC714B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C221-8A53-4B42-B877-3F150D27E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End Of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en I Get To The End Of The W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ie D. Tillman (189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End Of The W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End Of The W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End Of The W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End Of The W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End Of The W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End Of The W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End Of The W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End Of The W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End Of The W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End Of The W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End Of The W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End Of The W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End Of The W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756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End Of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End Of The W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End Of The W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8:50Z</dcterms:modified>
  <cp:revision>33</cp:revision>
  <dc:subject/>
  <dc:title>Slide 1</dc:title>
</cp:coreProperties>
</file>