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B6A9-A637-417D-932C-3BB42B91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073-764A-44D9-87F5-84D96EFB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125-1564-41D2-810C-BFD01816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690D-B68A-4EA1-9C92-3398CF5B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B1C7-9CCD-4D4C-B5ED-6F4BC784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4C66-177D-4A3A-BB36-C58A6987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BCF3-1D87-444F-86E5-21907CCC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671B-8E9D-4840-9601-AEE3AE19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0A29-6E14-4607-8140-04058B45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F9B7-B1EA-4171-8F92-D246BA7A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6239-2997-4707-8AEE-740E31BB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E4F-C156-4BD8-BAD9-4BAD23AD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BBAD-8EFA-4BE8-8736-EE22BBA6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BFAF-02AE-4999-B01C-6185470F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C9D8-F0CC-48F9-A396-AE11AD19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7063-F254-4148-924B-D1C781A1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0B02-BDE2-41F8-92B5-8272BB09E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3D1-C2A1-4B75-8956-07AF6785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6903B-EB8B-4ABF-A574-033F3425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48A99-2E93-48FA-B815-A4622E97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0EBE1-64A0-4497-BDAB-A75014FA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524-CDBA-47A0-9089-30615DEE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F3C6F-DB72-4935-A3A1-6EFAF539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8B90A-F80C-4DA5-98CA-DF3A582D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77F8D-B19E-430E-99B7-DA79B42D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C180B-CEE2-4A0B-BAAC-E71653EB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EE940-282E-477D-9F97-565DE919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575ED-D57A-4B30-8602-F0FAC9D0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FFDF9-3DD9-4319-8DAD-BACC4F6A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D4891-80B5-4A22-9F92-0D9AA6E2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DDD66-C0F5-45C1-9FE6-E2DF2A69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0AC-ED14-42C6-88AF-9D67FD76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28C-5CA8-41F8-BD79-E2EADBCC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E83-D97A-4932-8658-80F7C4EC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1010-F9B2-482B-B554-8275A9C3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C099-E90A-47A6-9119-D3D86656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1FE6-4813-4464-A20F-6A8055CFD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EA5F-0E46-4829-825B-B72ADF13B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D81A-2AB6-4227-9A6E-A19E185A6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ell Me The Old, Old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Kate Hankey (186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Doane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ell Me The Old Old Stor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ell Me The Old Old Stor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ell Me The Old Old Stor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ell Me The Old Old Story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ell Me The Old Old Stor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3560" y="648828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ell Me The Old, Old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ell Me The Old Old Stor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ell Me The Old Old Stor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ell Me The Old Old Stor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ell Me The Old Old Stor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ell Me The Old Old Story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ell Me The Old Old Sto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3560" y="648828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ell Me The Old, Old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ell Me The Old Old Sto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ell Me The Old Old Sto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ell Me The Old Old Sto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ell Me The Old Old Stor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ell Me The Old Old Story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ell Me The Old Old Sto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3560" y="648828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ell Me The Old, Old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ell Me The Old Old Sto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4:39Z</dcterms:modified>
  <cp:revision>36</cp:revision>
  <dc:subject/>
  <dc:title>Slide 1</dc:title>
</cp:coreProperties>
</file>