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31472-B4DE-4A83-9094-C1733E1D7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E6D47-DA5E-445D-9D98-BECB2DB64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1EB2B-6524-4A23-99DF-D8A3C3837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1AC2E-A915-41F0-BE3A-6640F964E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B35A3-4BED-409F-8ACC-C69513633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2B0E5-5EB0-46FF-BDE7-2EC10F8B7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F279C-BFE5-4BFA-87E0-738053FDD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6EB00-B920-4AB5-A20D-C90E0DC43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8DD3B-29B8-4D12-A271-315294FFE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AF84D-823F-4E79-A864-08D13CDE0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0EBE6-6C9A-439B-BBBE-582A33DDF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67955-3337-4933-8A38-5AFF83A73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FDF21-A9FC-4E09-AEC6-EC19BBA31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4069E-0224-454F-9D14-4A71283DB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DB725-DFB6-4BB2-AF03-D94719B36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41AA7-4205-458C-B107-6682F6B2A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76C1C-EE3B-4D3A-B572-E55AE783B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16858-05C3-42C6-94CD-35729E18A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51C9EC-9D00-4593-A060-232CB0455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35614F-2A13-44FF-A943-879EDA8F1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D516EF-5501-48EA-BB7D-0DEE21985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F1B5F-80CC-4104-A98A-197C6CC6A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2CEDFC-D373-4F48-8F13-5BF708A8E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D3ACDF-D108-4A57-B8F1-7169F30E4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14609F-E14D-4F2A-9AD9-FC842F0CA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7B39B3-41F5-4119-89A2-7D6149340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059EF5-86FF-4065-A48B-E91CD4191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968028-77EE-41EF-96C3-4C21DC3CB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A4BABC-C778-4F6A-9B1D-40087E85A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F5B0D9-CC9B-40EB-B18D-2E176714D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E4A50A-3596-4E2C-B711-C792486D8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B63DA-052F-4100-A8A6-B24126E05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D64E1-91DC-46B1-AF11-EDEC9E9E8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5788A-3CC3-4129-9C53-9ED31C6AE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F9AD0-F2C3-489A-B3B6-7429B010F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8742B-4104-4F05-9BD0-7E1F5D5C2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0B468-4987-406D-82E3-AB23942824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9E564-2256-48C0-BC0C-6C31EB157C8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B2BE8-4DBF-44EB-8256-76943A421C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There Is A Habi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E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E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 -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ove H. Jameson (188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James H. Rosecrans (188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43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There Is a Habitation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101880" y="6488280"/>
            <a:ext cx="31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There Is A Habi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There Is a Habitation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4" descr="A picture containing text, sheet music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A picture containing text, sheet music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2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There Is a Habitation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01880" y="6488280"/>
            <a:ext cx="31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There Is A Habi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There Is a Habitation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A picture containing text, sheet music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A picture containing text, sheet music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There Is a Habitation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101880" y="6488280"/>
            <a:ext cx="31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There Is A Habi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There Is a Habitation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A picture containing text, sheet music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A picture containing text, sheet music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7-02T22:13:09Z</dcterms:modified>
  <cp:revision>29</cp:revision>
  <dc:subject/>
  <dc:title>Slide 1</dc:title>
</cp:coreProperties>
</file>