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EF42-AE30-4F6D-A762-445DB94A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9A35-578B-447D-83AB-622C611D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42BE-3F4B-469C-8EC7-9DB8DC49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01A4-7F8B-4ABC-941F-78EA098D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96E7-8DC2-49A7-88EF-3017EB04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EBEA-46E5-47B9-87F8-F3328BEE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9BFC-12DD-4C93-87B9-023472C8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A502-4173-4C9D-9668-2ACB2E92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CA3B-5438-48F3-8FE7-2BD9B04A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96C6-A3CB-4BCB-8687-8D5F999B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B5A2-7C71-46DD-802F-5C9FBE17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513F-5701-4196-BE89-C1507CA2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41F2-4328-4E75-A06B-F1E31699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D512-F3A3-41B3-81D5-6A5663B4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D03C-297B-46B2-8A63-340DE78E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2462-8344-4368-8498-1B996E1F8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3FC7-B972-43EE-83D1-158F4C35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907D-59F2-4D38-81D5-45BBFFE2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0245F-2BAE-47D9-8564-97324753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CF23C-FF5C-4AD9-987D-C3596373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52D50-285E-46DB-89A6-AD031A43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7DB1-3289-454A-86CD-37D9E586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EDE2F-DCE2-4739-BE90-4BCD356A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B7053-C34B-4B83-A32C-B6505616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A48BB-6596-4CA6-A5B1-79DF693D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B0CE4-6319-4EA1-911F-959D71EE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ED4DC-00C9-4B05-B368-601B72C7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12902-ACF1-4BCF-BDEE-5DDCF8DF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87738-8A14-476C-A463-09EF211E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6D330-3F89-4D43-BDD4-56200746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DB622-B530-4C5B-B74C-7631A83D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ECA1-830B-4C59-96AE-017B342C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A1A2-2AA6-4F62-93DD-C84027FF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75A9-463B-423F-837F-79EAEA56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5E42-969B-4697-A99B-49B75C01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6854-B6F7-4C48-9B24-40E5E783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B327-2C22-44E6-89EA-F5A86C1AE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7BE0-C16C-4A60-998E-A5B41C1FA7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8573-F709-4335-BC0F-2D32A74D0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re Is a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ZA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rgenson’s Great Songs of the Church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s. 1, 2 (1921), Lula Klingman Zahn vs. 3 (19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ula Klingman Zahn vs. 3 (19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re Is A Sea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re Is A Sea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re Is A Sea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78120" y="648828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re Is a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re Is A Sea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re Is A Sea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re Is A Sea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re Is A Sea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re Is A Sea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8120" y="648828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re Is a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re Is A Sea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re Is A Sea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re Is A Sea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re Is A Sea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re Is A Sea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78120" y="648828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re Is a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re Is A Sea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re Is A Sea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40:37Z</dcterms:modified>
  <cp:revision>32</cp:revision>
  <dc:subject/>
  <dc:title>Slide 1</dc:title>
</cp:coreProperties>
</file>