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103-73B2-4530-9E3B-8F1FEE90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B55-6431-4A12-951D-4ACE5174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30C-57BA-47E5-91F6-4C59B747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347-474F-4205-97B5-B7E0C1A2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63BA-4A88-451B-B6EB-94DE0079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E6FA-AA38-4582-8C9D-17F739A8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7E93-9044-4435-AD5F-5118840B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EDBE-4645-42F1-AC48-895462F5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8EDF-15D3-4D3F-9CD7-2FE3E838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A664-08E2-4F2F-B223-95277B37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EC07-CEB1-4285-96B6-3316C5E6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D8C-DD8B-4BC8-8F6B-D6A28F34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EBF1-9496-48AF-A0F2-32F56C3D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CDDD-A458-493B-B8CE-FF70614F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D287-F437-47AE-810A-21BBE15D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8095-DAD8-47E9-948F-715E9686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AF36-C2C1-448C-A8F4-DE605B0D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64A7-9E9E-4C2E-9B9B-AF5B3965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460F4-9797-42C4-84CA-AEA8A8E2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736D9-1CC0-497D-B538-4F1B0BB1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5D19-64BF-43AB-BA9E-3E5ADDCD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A1B-74EA-4836-8D67-34C24469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934C6-D4D9-48A3-8218-7B218FC0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5DE1-A082-47EA-B542-83717C3C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FFB2F-8C4E-4AE9-8B25-5D758130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B357-2F20-4342-BE13-62BBD553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3905-E299-45E5-B7B8-79DA8B5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D2073-AD6E-4387-9BB8-9FA8661F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8FC8F-6691-4740-BE75-08075895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B9A33-C48B-4E6D-B71F-42799B03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213DD-DCAA-4C5A-A34A-A09C5D13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11B-B305-4847-A267-C8259C43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9D3B-C716-4544-8F69-1B5F5A1A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B24-89E2-4ACD-9BA1-8256524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D3E-8323-48CA-B935-FF9747D4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14E-2551-481A-9451-DE3EE17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2752-11FD-4B1D-BDFE-3E33C541D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54AE-8EDC-45C2-9186-B9F1DDE476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B512-51F6-4CB8-B8E6-A942537A3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My Life, and Let I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OZ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es R. Haverga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. Wolfgang A. Mozart (18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My Life And Let It Be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40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My Life And Let It Be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My Life And Let It Be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340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My Life And Let It Be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My Life And Let It Be_arr2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40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My Life And Let It Be_arr2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My Life And Let It Be_arr2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3400" y="648828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My Life And Let It Be_arr2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21:46:10Z</dcterms:modified>
  <cp:revision>31</cp:revision>
  <dc:subject/>
  <dc:title>Slide 1</dc:title>
</cp:coreProperties>
</file>