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77A-85E6-4911-90C7-E0C841A7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0266-D7CA-44BC-8168-8DF6FB35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AD76-EEBD-4E9D-9C7A-1FA1F568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ECB-7C99-45A9-AA92-8AACB0B7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5FB2-0C17-41F2-BAA3-33874679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ED71-5C31-4081-A5F6-246114FB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593A-C02C-4334-8B67-F48072C4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96FA-9621-460B-A7DA-3ADF897B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63E0-8DA8-4474-991A-F0C5FAB3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AF87-2007-4D60-AE76-C757AE0A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47DA-13EC-4425-AFBF-9DEE5A43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0D3C-BCF6-4BDC-995F-BE471B61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D4C9-44A7-4043-B73F-CB384B9E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74493-1A3C-41E1-BCD7-5424DD83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E9D9-6644-44C8-97D3-3845F263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D632-C809-46B5-B4A7-EF49E85A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931D-9AAA-439B-9F93-C3EA27B8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C696-A5E7-4975-A018-AAF3037E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F41FC-6B31-490D-8D9A-DE4DB7A2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FFA48-1B8C-4FBB-B45B-F937805D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DC125-761F-445F-9592-884B5C0A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FA4-3C30-498A-9610-BDE0786E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271C9-C828-4C54-BDFC-2AFB1A67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10AC9-7BDA-4123-9D95-4EC58D71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1E6F5-94B6-42E2-87AC-74E8544A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D94CF-8F3C-4D89-98F7-6D25A31F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4FD5E-DF56-4181-AD36-838D1AD5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C81B7-A53F-4F64-8CF7-051E7F01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B1F6D-3C5E-4B69-80FC-AD148DD2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AB240-4688-472B-895B-0287EC407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EF4EA-675E-4CB9-BB8B-BBF56570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A5F-C9D6-490E-9279-EF024AD7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E1E9-DFE4-4FD8-B0BE-4B086FB8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C199-D1E3-4F4F-B29E-FBC239B0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C631-50B1-41B1-9D75-EFF3DB4C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2D8E-D77A-4BDD-9421-0924BD73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F764-D551-42ED-89C0-7607C9C9E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06D8-3664-4818-9FA0-69935B945E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397B-F42C-4630-A703-7CD7E5BAF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re's A Fountain F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Free Wa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M. B. C. Slade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r. A. B. Everett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sheet music,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2960" y="6488280"/>
            <a:ext cx="34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re's A Fountain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res A Fountain Fre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res A Fountain Fre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res A Fountain Fre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res A Fountain Fr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2960" y="6488280"/>
            <a:ext cx="34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re's A Fountain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res A Fountain Fr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res A Fountain Fr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res A Fountain Fr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res A Fountain Fr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2960" y="6488280"/>
            <a:ext cx="34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re's A Fountain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res A Fountain Fr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res A Fountain Fr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res A Fountain Fr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3:30Z</dcterms:modified>
  <cp:revision>36</cp:revision>
  <dc:subject/>
  <dc:title>Slide 1</dc:title>
</cp:coreProperties>
</file>