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15E-4B31-4225-97BE-B4B43DB2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73BA-B498-47AE-95FD-DE4BB26C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77F-4572-4CB4-BCA1-73267BE2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714-9940-49ED-B518-157AB33E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15C9-D5B1-47D5-AE64-DD26AC81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730-509F-4664-AC79-987AD8D0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EE3A-7439-40E9-A658-237977B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A443-195D-4C67-BFFD-1A6F2758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79DD-ACE7-487F-8F6F-979BFD39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1AA-3706-41A8-9A89-D85C1AD0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C9C4-C156-4927-966B-40B01947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D75-4585-47AD-958A-D0E085D5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A05-2884-4CA5-8E85-C8A863CB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0FA3-96E9-4DB0-A1AC-782FB495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A684-B27A-4CF9-B63F-7FB2FCFE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8F5B-311B-4724-B76F-9F02FE94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3BD2-0419-41DD-BF2F-F7088E6E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DFE-3DAF-49BD-A932-6E7ACEA2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CF94E-D76B-43A4-8027-800792B3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37972-8145-4804-A7FD-464B05F7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D046F-3322-4E62-A683-0EF682A6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A72-7AA7-4037-9EA1-396BFBE8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F7C6F-3394-4214-B046-2D60B145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6E9D4-949E-4497-8636-60D81B96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3609-7862-4D1B-94A4-EC34886A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B0AD-A4B3-463C-8102-246D7123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01CB-96CA-4207-B1A7-C27C916A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CD34-650C-48FA-96A9-4CADB4B8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0BFEF-BFD8-4716-89AF-8E80EB2D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EFBD3-F084-4AE2-9FE9-80F6F48B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6BB0B-705B-4850-8BD3-376502CB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D59-6F9B-4FFE-A5BE-26DDD91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EEF-081B-4413-A5B7-2BBFEDC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865-7C27-425C-B5DF-3BD06772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679-2E16-4C30-A70F-1B33662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13F-1941-4DE8-838E-399A966C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B52B-EC76-4B2B-A72F-873B8F2B7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B7B-45BA-4DDE-87D0-1137B44F87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DF59-7298-43A0-8FE5-5D1BFEB0C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rue-Hearted Whole-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n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 (188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rue-Hearted Whole-Heart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8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rue-Hearted Whole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rue-Hearted Whole-Heart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rue-Hearted Whole-Hearte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rue-Hearted Whole-Hearte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rue-Hearted Whole-Heart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8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rue-Hearted Whole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rue-Hearted Whole-Heart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rue-Hearted Whole-Hearte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rue-Hearted Whole-Hearte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rue-Hearted Whole-Heart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880" y="6488280"/>
            <a:ext cx="40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rue-Hearted Whole-He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rue-Hearted Whole-Heart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rue-Hearted Whole-Hearte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rue-Hearted Whole-Hearte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3:50Z</dcterms:modified>
  <cp:revision>31</cp:revision>
  <dc:subject/>
  <dc:title>Slide 1</dc:title>
</cp:coreProperties>
</file>