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CC8-3623-44C8-A32D-44BC4AE1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B40-A2D8-4674-AFB2-622924BE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C81-E0CD-4B3A-B178-C9C7A969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47C-CE68-40FA-B164-DB06B0F9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29DC-07F5-4D39-8E0A-67CC10F5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114-AF19-4F00-83A9-0E6F8C8A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3D4D-721B-4200-856F-D3EEDA2D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EFBD-6103-406A-AAFA-62704633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073F-79B3-4BFA-8B35-4B8BFB0A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30CF-7FD7-4A08-8ADA-C7B55DCF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E816-B995-4F45-8AED-D3697E6E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E50C-2E19-488F-AE67-0F2CDC3A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3E3A-29A9-4167-AE54-BF82A0B4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2592-26FD-4CE2-A663-F8FA6F1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06E0-AA62-4618-835F-D8919049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930D-E643-47F0-9EEB-E7E367D2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6B25-43F7-49A9-B05D-9F595A9C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15DF-5582-4668-BEA4-DBD335E2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0574-2EB3-459D-80AF-BA27F394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A7EC4-A04C-4691-BD87-515CEA8E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7E9C-9F7A-4E28-AD6D-FC7EA2A2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1E7-0C6D-4EDD-8EFF-7BA2E63C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900B-0B71-46DB-AE9D-E994DFB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E5889-A2A5-44D3-80A8-7E0D4298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50F2B-9FFB-4DC9-9F14-FD067921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3C8D-485F-4294-9D86-112A1B2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1CB4-AF22-4CCC-A5F3-F3DE605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8F1D-D132-4CE7-8EEA-28623CD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CA0ED-E10C-4CD4-93AC-5DF27FF3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5C2B-ACED-4090-A28F-A983731D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6461-D4B3-44A3-AC76-EFA871359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547-1D9C-482F-9A67-6F2E601E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53C-FA38-483D-892C-FD3C0BD6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D4BF-9C83-4311-A3B1-2E193E2F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822-F207-43DF-B228-FE33D5E2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E9AB-D378-4C8C-9274-99DF36C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3870-3C89-4BCA-A4A2-B452618F2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89B4-8AD1-467F-990B-A62FC4211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7FC4-3B93-44E9-832F-92CD78B5A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Kingdoms Of Earth Pass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Trickett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Kingdoms Of Earth Pass A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Kingdoms Of Earth Pass Aw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Kingdoms Of Earth Pass A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29600" y="648828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Kingdoms Of Earth Pas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Kingdoms Of Earth Pass A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Kingdoms Of Earth Pass A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Kingdoms Of Earth Pass A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Kingdoms Of Earth Pass Aw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Kingdoms Of Earth Pass A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600" y="648828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Kingdoms Of Earth Pas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Kingdoms Of Earth Pass A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Kingdoms Of Earth Pass A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Kingdoms Of Earth Pass A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Kingdoms Of Earth Pass Aw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Kingdoms Of Earth Pass A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29600" y="6488280"/>
            <a:ext cx="45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Kingdoms Of Earth Pass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Kingdoms Of Earth Pass A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Kingdoms Of Earth Pass A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4:43Z</dcterms:modified>
  <cp:revision>29</cp:revision>
  <dc:subject/>
  <dc:title>Slide 1</dc:title>
</cp:coreProperties>
</file>