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7767-57E6-4822-8032-6E0E3E85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87C-2029-432F-8763-0FD9D2C5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839-748E-4D3F-BFCE-1557B8BE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BFF-C08C-43C1-B87E-D5CA3573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6587-77A7-4087-B575-1A185F55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C688-CC71-48EE-8295-9E326F2F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D2A8-CEDC-48A7-B3B8-9636C53B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DF3E-136F-48B3-B108-D46AA7CE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49F2-E490-4083-952F-2172D0F1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C4E5-2336-4CE3-B64E-BC7D104D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6E62-806F-4F40-A703-AF0FE6EA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0B2-D175-43A8-A9DE-BC4AF650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D517-78A8-4ECB-8F0F-C0732397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00F6-AF54-4AB4-8667-68EF0F51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EF99-F217-4A8B-BCC4-3B8EA4C7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E34B-0224-45FD-BB6E-B0FB2032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E981-F3A6-4060-8114-B9919832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72B-4814-4AC0-B125-F5ED82C0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5396-BB30-4AF1-A67B-6481A6C1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A28B4-B83D-4E14-828A-996A6F9B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9FAB8-F58A-4ACC-9B17-1D6287C5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17A7-A30A-4F76-AC01-0D98A164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4F15-1BA1-43D5-9F29-213CF2BA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C7152-3944-4DE3-80E6-C96881E9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BCA7E-02DF-4AD7-9851-29461D3F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C1371-B322-42AE-B34E-F5F3FC0D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B1225-4D30-4A2E-A832-3B6A06EC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F453-18CE-49C0-A8A3-700B39DF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7F5D-85AF-4ECD-BC1C-C3AE93A4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27FF5-8545-4CFE-84AB-275CFDD0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EDF17-4E38-427A-BD39-B9208E12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732-643F-4F10-9804-F84571A9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D8A-3B8D-4CD0-B3B7-074E2A15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5F9F-4CBA-479B-A8E9-C1F7CAA0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6A4-27E2-4F8F-AAEA-1012A9B3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E39-9997-4C37-A9D2-2C80F1E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CA5C-B264-439C-82D5-367CF403B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A39F-8321-4EAB-971D-CD4B74ABE1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181B-3B03-4DBD-97B3-59646C0D9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Sands Of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7.6.7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ne R. Cousin (1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etien D’Urhan (1834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Edward F. Rimbault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Sands Of Ti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Sands Of Ti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0548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Sands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Sands Of Ti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Sands Of Ti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Sands Of Ti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48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Sands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Sands Of Ti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Sands Of Ti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Sands Of Ti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548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Sands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Sands Of Ti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Sands Of Ti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Sands Of Ti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5480" y="648828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Sands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Sands Of Ti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4:08Z</dcterms:modified>
  <cp:revision>32</cp:revision>
  <dc:subject/>
  <dc:title>Slide 1</dc:title>
</cp:coreProperties>
</file>