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500A-1296-44E4-997E-E07B2CC4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847E-97CE-41BE-AECB-218C822C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120E-762D-4A50-9E2D-89BE28FE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C9DB-4A8A-47EF-8A3C-AC9A7478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E812-2EBD-47DD-BD86-1CED7E9A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48A8-AED9-4E52-9B76-BA1407E7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CECA-282C-45C2-BD2A-B6AD1A86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FC711-F8A9-40AD-9158-A50B3D81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FFE6-BB64-4C28-BA33-1640E227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7E15-0E50-49C0-A5BB-187DDAB1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0AA9-8397-4968-A85D-4D2FAD9F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F8F7-8B50-4BC2-97EA-FF4A93B3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FCE5-8632-4283-8391-7E6A3D43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6F12-30FF-4639-916E-793C8A00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CA1A-70B7-43B3-9379-DD19C31B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CF7B-BE1C-4305-A055-F3CB3A07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A207-B473-4538-996C-2965ED63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2F78-684F-475D-B3D0-BE7EF849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39874-349F-4295-96CE-56DC1CF3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2A3EC-96BA-4FAB-85AF-DEEDB1CB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32B70-8DF4-43A1-9ED3-2988F582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D818-88E8-4B66-9C0E-18E5B754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69FE9-B5CF-444D-A169-C1E61F44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A5B15-A3F5-45C2-A55D-36BB603D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6CE93-927A-4992-B66E-FB0E5C97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8901F-BDC2-4362-8792-B3BEE070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706CF-6EC0-4A62-8196-F1A2D5F9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7E270-AC01-4026-A888-A00D102D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BEDA8-AFB1-42C5-93A8-7B78C51E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C23A7-7381-45D6-8B54-B2AFFFEA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C0C24-66D0-4037-B0DF-09F6A047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E13-EBB2-456A-B312-899E8ED4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CC02-E21B-43AA-A0C0-DB3AA763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6091-873D-4407-8482-5F4D603D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8D0-1DB6-4821-ACFD-69908558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8213-CE1A-4F39-ADD8-4064DFED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4055-C24F-4364-9B2E-17DB34908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CCF7-3056-4039-B28E-4E4D45E361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1419-3171-4A33-B214-2C6A7AD97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ou Thinkest Lord Of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S. Lorenz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S. Lorenz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ou Thinkest Lord Of 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0960" y="6488280"/>
            <a:ext cx="36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ou Thinkest Lord Of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ou Thinkest Lord Of 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ou Thinkest Lord Of 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ou Thinkest Lord Of 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ou Thinkest Lord Of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0960" y="6488280"/>
            <a:ext cx="36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ou Thinkest Lord Of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ou Thinkest Lord Of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ou Thinkest Lord Of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ou Thinkest Lord Of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ou Thinkest Lord Of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0960" y="6488280"/>
            <a:ext cx="36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ou Thinkest Lord Of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ou Thinkest Lord Of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ou Thinkest Lord Of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ou Thinkest Lord Of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7:01Z</dcterms:modified>
  <cp:revision>29</cp:revision>
  <dc:subject/>
  <dc:title>Slide 1</dc:title>
</cp:coreProperties>
</file>