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8DF-9BB0-4279-89F0-FBEAFEEF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454-CB5A-4D6F-A872-175953AD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407-066F-49CF-AE3B-CA9CDCF9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9706-328E-4CF3-AEFB-8A94427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94E3-B272-41EB-A31B-67971563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5F36-CFB7-4A46-9652-4166D6DF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758-A981-4DA0-B5BC-6F9FDF5D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9F5A-1890-404D-A9CB-6287740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DD4-BD43-4C0C-83D4-B4CF0152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6CA-A951-48EC-9442-C070521B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DCC1-27DA-4F9C-BCAF-15840565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55DA-F412-4644-BABC-201C4358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7C9B-AC0E-41E7-B4BA-96CFFB8A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DAFE-9D17-4C3A-ABDA-2DD5395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3FCB-2C3D-4A39-9220-60DE86F7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984D-2EA5-4B54-8DEC-841D40D3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984A-973F-49E7-98DE-C43A621A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D2D-F9DB-4283-A1F7-4F3EC519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B6E71-A914-414D-B6FF-C16C38B4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BA58-ABF0-4AD8-8F75-D29278F8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D207-0C4A-475B-8E25-3472749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A1A-C34D-4AA8-908B-C42FEEB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46B5-F152-4967-9679-D36D1858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DCEC-0794-48B3-B463-F7AFA1AE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449B1-1602-4648-9954-8C810F3A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B00B4-671F-444A-AA84-E145ACB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2D62-1D44-4BB9-927D-AA062EE9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CEE9-9266-4EE1-BD20-7FCA6434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E14F6-9617-4A29-BFB4-25242C25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D95E-A26F-47AC-920E-2A29D1C6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16796-74E9-41A3-B888-B1B8B49A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15B-95B0-4C2C-8B5B-89D9FF1E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362-6FBE-44FD-9F4D-D489F93E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A021-E9B7-4D60-9CB9-84652B3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B775-E046-413E-B50A-CE1DE59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072-A82C-4007-BB4C-3C078912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C9A-FBDF-4825-B651-438B7ACA5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E682-93E6-459E-920A-ABC1954745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8A77-2386-4D62-B99A-9F53DF923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ell It To Jesus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remiah E. Rankin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S. Lorenz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ell It To Jesus Alon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ell It To Jesus Alon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ell It To Jesus Alon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ell It To Jesus Alon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ll It To Jesus Alon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ell It To Jesus Alon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ll It To Jesus Alon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ell It To Jesus Alon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ell It To Jesus Alon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360" y="6488280"/>
            <a:ext cx="31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ell It To Jesus 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ell It To Jesus Alon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ell It To Jesus Alon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ell It To Jesus Alon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3:02Z</dcterms:modified>
  <cp:revision>35</cp:revision>
  <dc:subject/>
  <dc:title>Slide 1</dc:title>
</cp:coreProperties>
</file>