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4E7-13D2-4AAC-A035-979F25AB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1137-F96F-4BA2-859B-C3DC3C14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593-E51E-42A2-BC69-3E9A3044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3FC-4B6B-4094-BB1D-E3D9AB59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E87F-0480-40C2-886F-69A9F8C0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FE27-3BCE-404E-8043-234CF6E0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679F-CC71-4B55-BE52-F5832067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59C5-5464-4B3D-8AAA-BF8EAECD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06FD-6824-4CA5-B659-AB94F966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22E4-27CB-49A0-A187-F549260B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AC597-93B9-4621-870A-5F2631F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304-50ED-4801-AA5B-84212572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4412-137B-4EFD-81B3-FBB86C9F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7EAE-BD9C-4DCD-B509-201CDFF0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563F-C8AC-4CF4-BA09-7E66D2E7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42A0-8D8A-499D-940A-449C7C3D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9F80-05B1-4BC6-8F96-3C78B17D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78B-0470-4396-8030-29D42297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F4820-CA27-4457-9BBB-8A3690F3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BEB49-C239-4C3B-AA01-AEF856D3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71BB-9AFD-464A-A1C8-3A3F558A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E77E-F0C9-4B1A-BEC6-1B4FB777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85EEE-DFC6-49DB-8EF4-763F7A5F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BBE52-78D7-4978-BD41-6727467D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0DBA-BFCF-40DB-9A92-E51DBE8F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670B5-0330-416B-8B41-F78E80CE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25CE4-6779-40C3-BA10-01989BEB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5EBB-D2D7-40ED-8116-AEAC0ADC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88A80-3EA8-4E6C-B5DB-5C0B3B1E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4AE0-B11B-4CEB-8B06-827A10D9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1A2EA-2CC8-4C2C-9FFB-B7DEBA4D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6DB9-918C-4AAD-95EA-5F85067C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AAD-0C8C-488B-95A5-C3524489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DEB2-7EC9-419F-BC8A-5CE1074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2C0-0E0C-4ED2-B9E0-80F94D0E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3F3-E8A2-4D4A-B097-A1F595B3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ECD1-4E52-460C-97CD-69BF8FC89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857D-6F63-40CD-AF49-C5E83BF7A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67E2-7CAA-45DB-A3EE-D77A7C2C4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‘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is The B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om C. Neal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om C. Neal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is The Bibl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is The Bible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is The Bibl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0880" y="64882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‘Tis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is The Bibl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is The Bibl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is The Bibl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is The Bible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is The Bibl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880" y="64882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‘Tis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s The Bibl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s The Bibl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is The Bibl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s The Bible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s The Bibl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0880" y="64882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‘Tis The B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is The Bibl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is The Bibl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4:49Z</dcterms:modified>
  <cp:revision>29</cp:revision>
  <dc:subject/>
  <dc:title>Slide 1</dc:title>
</cp:coreProperties>
</file>