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8BE-8229-4110-8262-6D2D3CD1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C73-BAC4-4F76-9D36-8BF0AFD0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569-1811-4850-B751-7699F14D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204-16C8-455B-97BA-5DF69CC0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F1F5-0F80-45AD-A04F-A037C987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4656-4578-4A6B-B015-6616D5AB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9B0F-D9B4-4E78-8BA4-D99C92BD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F082-4195-4E91-8866-1ADE31BC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5413-14C9-48FA-B7CC-37838AD1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D046-CE58-458F-91D8-B4254E68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867-786C-476B-8F1D-EBE3CFBC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A9AD-2DF2-42BF-8059-F19BA9F2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1FE2-1553-49C6-BC5A-94FBFC5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0553-8707-4634-A132-8C105391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CBA8-7965-4074-9D65-72121F46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E51-17E1-4B6A-92D5-D1DB402B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675-CE83-46FE-A12C-ABEA4770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C32-915A-454C-824C-55E6B607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6D57-9A16-4904-8606-F316EDAB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2C15-FA35-40DD-AD1B-61658F2B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0450-0CF2-424B-8894-62FCCAA9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2D3-B6AF-4D92-9AC2-C9833293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1AF7E-2CDE-47B9-9FB2-82FEA38D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A6351-6BBF-4972-AE9B-7161D7A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5F432-92D3-4964-89EA-A7D5FBF0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B168-4EED-41DB-A7A0-F4E9D633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D529-7236-443F-8C5A-B3B26C15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CF6F8-8F8D-4D69-A931-B026F7EC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56479-946C-41CE-8E07-F7AA99FF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FD13-F23B-4B6A-A31C-D3F42CA0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967F-C48D-4C2A-A1A1-AA92B4A1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7FEC-D728-484F-AA60-507B1E71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E4B3-D652-4FB2-BDA5-D4341781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124-F244-4087-B409-C5421AC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095-0EE7-481E-A705-7B0383F7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1451-F4FA-4F4A-8E75-9CBE56F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F94-D0C6-46BE-93B3-863AB37E2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9A74-CB2E-436A-BE97-06874A275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1CD3-1031-4C0D-82FF-6D5191658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Stands A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unday School Journal (187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f. Tullius C. O’Kane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ullius C. O’Kane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Stands A Roc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Stands A Roc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Stands A Roc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Stands A Roc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Stands A R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Stands A R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Stands A R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Stands A R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Stands A R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80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Stands A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Stands A R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Stands A R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Stands A R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2:56Z</dcterms:modified>
  <cp:revision>31</cp:revision>
  <dc:subject/>
  <dc:title>Slide 1</dc:title>
</cp:coreProperties>
</file>