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EB62-1252-4B7E-AF17-CA1501845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B391-82C2-4FAF-8575-52C599972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362A-02FA-4022-9496-BAA194012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EEBD-2FB8-41F5-8DDE-D550FC74C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8573C-0051-4D3D-ACA2-E0841653A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7E88A-0D5E-4FCD-B56D-E51612C89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EFA95-7C54-4BCB-B42C-37FDF5F9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5FF17-032A-4DD9-A9B6-00E9723C2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DF1C0-01BD-48CE-9E63-EF55EE257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17160-6ABE-4884-A151-7C19484D4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6FC9C-B698-4DA2-9C76-7CCFCB34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1D47-48AC-4CA2-9E57-5D69C6941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55C29-6D1A-4DEF-BED6-FF3DA0C5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D28D1-5C27-43DD-9277-AC4EB2B0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DA7ED-B49A-4067-8FA5-155662EC2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6501E-EC4A-4E4A-A282-EA1AC3462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3005D-829B-45B2-B16C-211D30371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2050-D36F-4D24-BAA2-4B0E8D50B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C1C1A-4162-48F1-BC00-A7A2A0B59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66847-0AD5-48FF-9A09-C4C801561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107C4-146D-4E2A-98E4-7CF0FAEDD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7E6F-D00A-401D-8BD6-D0F80601F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D5C84-73A7-4958-A309-4775B3F84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7E1F5-4BE2-4FA8-855F-B7A34C59C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D17A7-8C9F-4FD3-8836-7779307FC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19897-FE95-4114-BA30-C91CB293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FF79B-8EF5-4A76-81F4-E2B89BFB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3DD1D-E642-441F-AE64-EE29EC40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AA514-B578-4471-8418-6C037C80B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7CB13-C874-4C25-A54E-A8695EEB9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6621E-F6D2-4ADA-BA07-DAFE0362C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D2EC-2E84-4FAD-A8CE-CE2302372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C98A-CB02-4132-9231-41199252B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1B02-D8D9-4324-A012-A059785E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CF62-24A9-4ED7-AA20-FB67AF64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D273-1702-4DDB-8CB5-1E7D7BF3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574FE-EA7E-42FD-A809-468BC675DA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CEFB1-33AE-4834-B225-40325CC173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AD718-9893-4FD3-8496-5785FBFDAF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wo Little H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F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#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radit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radit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4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wo Little Hands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wo Little Hand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5040" y="6488280"/>
            <a:ext cx="26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wo Little H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wo Little Hand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wo Little Hand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wo Little Hand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95040" y="6488280"/>
            <a:ext cx="26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wo Little H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wo Little Hand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wo Little Hand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wo Little Hands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95040" y="6488280"/>
            <a:ext cx="26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wo Little H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wo Little Hands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46:27Z</dcterms:modified>
  <cp:revision>31</cp:revision>
  <dc:subject/>
  <dc:title>Slide 1</dc:title>
</cp:coreProperties>
</file>