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E97-04C0-4DF9-AA77-B017300A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52C-45BD-4E59-AC83-D186AA88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05F-8504-4EAF-86B7-B38D439A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BBB-5C76-45B2-A6E5-A855B5B2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3F8E-1E66-4266-A91C-B6F469B5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86DA-E7D0-44E6-89A0-7FE8AEA3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B0EE-2C26-4CF0-A376-58CA7FAE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6B1D-8AD2-46AA-98CC-6E8AA691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2526-7D0E-4B90-BAE4-E0FF58C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8D1D-3766-4184-92AA-C0C37F0E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4163-5EEA-421F-8C55-821F94B9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815-FCC1-4F08-8A9A-1328A2DB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9620-BBCA-42ED-B433-41104422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E005-15BC-4F96-AA81-78BC944B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3291-5F97-43DB-92F1-DA5FAC41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1444-EC2D-4367-8F99-AF4772AD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8037-5693-4175-8623-0C28351E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6E1-A83D-451F-B0AE-D391CDF2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F6048-3DED-493A-A892-6385AA5B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B706-185A-4462-B49F-D7F3191B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A777-67FB-4E5C-8017-E3D0B274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79E-6A0D-4B68-B108-AA99C2BE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D8505-F1A1-466C-8D6B-869389D5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26238-5058-41D6-97C5-EA721D87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C3B7-6B7C-4597-9DA6-6DFE8063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F323-0347-4A83-B893-8FD7E0E2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E414A-DA0D-4ABB-B367-C9690592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2465-678E-45BB-B123-A3E2D198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F67E-EEC1-4127-AD3C-69DB223A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3A0C-0B99-469B-B5DD-01802915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5FADC-10C3-48BD-802B-C45C42B2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B7B-2E9C-4AE8-80F0-D265B665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9241-1E58-4F96-A5BC-28591A3F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1B8-1EE1-4585-AE4D-86348D37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B2B-EBF0-45B3-9F25-229B7379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67BB-FD3D-407F-8A9A-6957C7A0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AE7C-AB27-4ECD-8B3D-65736E262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E92D-F852-4782-A728-058666D7E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4B04-6992-40B3-86DD-412E32F74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Gospel Is For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M. McCaleb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cIntosh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ood News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76)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R. M. McIntosh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Gospel Is for Al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4480" y="648828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Gospel Is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Gospel Is for Al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Gospel Is for Al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Gospel Is for Al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Gospel Is for A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480" y="648828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Gospel Is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Gospel Is for A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Gospel Is for Al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Gospel Is for Al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Gospel Is for A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4480" y="648828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Gospel Is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Gospel Is for A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Gospel Is for Al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Gospel Is for Al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10:09Z</dcterms:modified>
  <cp:revision>31</cp:revision>
  <dc:subject/>
  <dc:title>Slide 1</dc:title>
</cp:coreProperties>
</file>