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12A-36A9-487B-98AF-35EBC325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5F1-D9E1-421B-A522-A6BEBC46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A15-D9AD-4663-8D4E-558AEC0C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0BD-6636-4605-8974-8019E3EC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5C68-97CD-49EC-A28B-4B1ACBC5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1AD8-A3AF-45B6-A31B-E04B99A0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401A-8D70-4E9E-82E6-E4A56DD5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A8BA-9653-480E-A5DB-B2C408F1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19C8-CA31-4250-BAAC-875E48D6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15DE-4FE3-4767-9215-164DFA26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5181-E05C-47A6-95F0-81EA8CEE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57CC-5084-4A1A-9FA2-0572AEC3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3437-03A0-4BE9-B93E-40992AF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AF0F-B9A7-4B28-99F3-279D9585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335C-8718-441F-873E-F74B818D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29EA-92F7-4D28-B1C8-B35B4121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B287-7F88-405D-B2E9-20500037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38E-B369-4DEB-BB66-A6B9F7BF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DA6D-DD4E-4867-9349-CB4F80DB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96005-9B2D-4938-89E3-A5C72FAE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2C42-B3D3-4CE2-9E77-28B46244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F555-DEE8-47B5-8E30-F1FC9779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DBFD-D8A6-4BE7-8D39-6C34BFEB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B251A-4D55-4F5B-B2A4-9AE6EE4F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837A-A192-42D8-89E5-E5DB0E67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B586-0901-4559-9E3E-E2F2F499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60D5B-3133-43D4-B7B1-81770FAD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DF9A4-7AAA-4A1B-AE69-4B36FED1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128A1-6EAB-43D5-9742-B863BBA7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A3BE-384C-443F-B815-2861AF0E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4740D-F0F9-448B-A98D-1FDC2F88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D9B-124D-4075-BA9E-9A942078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668-DC36-4927-9D00-A645FA02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E41-F50D-449D-82C4-2F3C136A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316-4534-4447-BF4E-48C03386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923-EEE8-4FED-A954-C0AB8D84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B4E6-6173-454B-97A4-047E9070D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247-0EBD-489D-951D-39E22D12A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9181-ACD3-409B-B561-59354853F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Spacious Firmament on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8.8.8.8.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 Addison (17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z Joseph Haydn (17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Spacious Firmament On Hig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480" y="648828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Spacious Firmament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Spacious Firmament On Hig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Spacious Firmament On High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Spacious Firmament On High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Spacious Firmament On Hig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480" y="648828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Spacious Firmament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Spacious Firmament On Hig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Spacious Firmament On High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Spacious Firmament On High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Spacious Firmament On Hig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480" y="6488280"/>
            <a:ext cx="44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Spacious Firmament on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Spacious Firmament On Hig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Spacious Firmament On High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Spacious Firmament On High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4:41Z</dcterms:modified>
  <cp:revision>30</cp:revision>
  <dc:subject/>
  <dc:title>Slide 1</dc:title>
</cp:coreProperties>
</file>