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DC5F-07A4-4F19-B6D2-D685478D7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B8A3-12ED-4E90-8A14-CE533634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D44B-94F3-44A4-84E3-F5FF6875E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B304-8231-4828-91C4-43AF519BA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2FA3-190E-40F1-8646-27FB62B38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E8EE-0B0C-4855-B022-41437FC6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D63D-9771-4EBE-9D21-E8A3C79D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58F2-0751-4EDD-84CE-EB8551FD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7891-AA26-463E-9A86-9C309DF2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DBF51-D3BA-4555-996F-DC0E7792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4FD2-637B-49EE-8173-4C33258D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5E5C-7A15-4AF3-AC80-0DC2DFC0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8694-4443-4B86-BF74-04351021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0CBF-0BA5-4A94-90D4-1AA374B7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C025-3C5F-4B0B-B087-ADF835FA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3A91A-9E74-4142-9598-CDD2C71FE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6626-E409-4B9E-ADF5-056354241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C90B-8DD4-4043-9899-2CA518DA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405B7-63D3-45F8-82F8-5849AF54A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209F6-D7A7-4A82-8CBF-0CB38C81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EDEC8-BEF3-4A6B-B8D2-ABD64429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CFBD-16BA-4458-89A0-718DC016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39A06-5EE4-49F7-ADBE-58A1A7A4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116F4-8379-4BFE-A659-D770C9FB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52360-E14B-409C-A0A8-65B14061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E1104-BF65-45B0-A115-F8CDF768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19905-A459-4FDF-9E65-3E363677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CF62A-59CD-4062-90F8-DD57681D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9A1B9-C111-4342-BE41-416B1FBA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AB082-F49F-42F5-B2B5-5DF5DE7D2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0951E-C233-4FA9-A4AA-7FD807D4D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6FB8-8618-40EA-8623-BCCFC88D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9F99-2A9A-4808-94F3-9FADF918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440D-A464-4BED-9F67-7BC639C0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CD0C-27B2-4813-89E2-BE2C0033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2470-926F-404C-8603-E538AB6E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C34E-C7AC-4716-8E4B-03834D356D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6AA8-A1AF-4B51-B15B-8578F10C0F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0037-A15A-43B5-8E7C-B23C12F867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re Is A Balm In Gil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A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2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k’s </a:t>
                      </a:r>
                      <a:r>
                        <a:rPr b="1" i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olk Song for the American Negro </a:t>
                      </a: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907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Vs. 2 Daniel March (1868), Ref. </a:t>
                      </a:r>
                      <a:r>
                        <a:rPr b="1" i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evivalist</a:t>
                      </a: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(186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k’s </a:t>
                      </a:r>
                      <a:r>
                        <a:rPr b="1" i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olk Song for the American Negro </a:t>
                      </a: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907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3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re Is A Balm In Gilea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5480" y="648828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Cho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re Is A Balm In Gilea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15480" y="648828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Cho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Chart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5480" y="648828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Cho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re Is A Balm In Gilea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15480" y="648828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Cho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re Is A Balm In Gilea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00080" y="6488280"/>
            <a:ext cx="361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re Is A Balm In Gil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re Is A Balm In Gilea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re Is A Balm In Gilea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5480" y="648828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Cho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re Is A Balm In Gilea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15480" y="648828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Cho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re Is A Balm In Gilea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00080" y="6488280"/>
            <a:ext cx="361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re Is A Balm In Gil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re Is A Balm In Gilea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37:14Z</dcterms:modified>
  <cp:revision>32</cp:revision>
  <dc:subject/>
  <dc:title>Slide 1</dc:title>
</cp:coreProperties>
</file>