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30B4-6D14-441F-AB34-3C74584E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F863-5C17-4C93-A5F2-8380CB2E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F569-A91A-41F0-9C81-4728A7F8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076-A57E-46F2-8741-8239448F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D1F4-620A-4C19-9440-35E50C96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04C3-E62B-4294-921A-11834831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86285-31DA-4E6A-A521-42FABDD8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BFE5-EAF8-42A0-ABD7-B1BCB620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10B3-4FF1-4091-8F66-D3507D14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BCAE-FF06-4339-B885-9305CC40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E07D-668D-4761-835A-DEC70CB7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836-D48B-4860-A019-1B7035FA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0BBC-911D-4A0B-88F6-A62331BC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2E15-FA96-441D-906E-33938C92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FFF4-EE4C-465B-AACE-1A90AEB3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39F5-BBD9-4A63-8867-994A8339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D557-DC66-4757-9764-C5E92DE3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7121-4964-465F-854A-A332CD30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67747-2308-403E-A506-05B92311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167EF-9097-4F3B-AF74-7B077E8F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F29FF-4AC0-470E-B689-1ADDA82E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82F-CB92-4784-9725-9C3260D8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06F76-45FD-4292-90FF-7D56AA5A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0C4B2-9764-48A4-9382-2A5A5B25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C7605-0BFE-4559-8F58-1ACE13FC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611F0-6D84-4E10-AEBB-35C3B1F9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4D836-9FCC-4C9C-841C-5A884BF5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500E5-3418-425F-8051-80C29BC0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0C51B-84BC-462F-B9E6-BD454B3A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81A98-BC0F-46F3-8318-4CA2B751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CDF41-3499-414E-8C1E-DB8AC7D1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DD6-AC33-4D4F-A409-36D0296E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9FAE-FDAE-4A7B-AD07-BAA1249B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7A8F-CD7C-432B-BB5F-0ACA6AD0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8386-3C9E-44A5-8CF9-31185F4D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5F6-76C9-4CC2-92FF-4A4B2928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C5A1-4AD5-4B4D-8B1D-1A1D97FC9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2B19-708B-43E1-AE66-A050441F82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00B7-2C10-40CC-A6CA-6B8E67629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Unclouded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O They Tell Me Of A H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siah K. Alwood (189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siah K. Alwood (189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0720" y="648828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Unclouded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Unclouded Day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Unclouded Day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Unclouded Day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Unclouded 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0720" y="648828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Unclouded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Unclouded 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Unclouded Day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Unclouded Day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Unclouded 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0720" y="648828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Unclouded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Unclouded 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Unclouded Day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Unclouded Day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5:57Z</dcterms:modified>
  <cp:revision>38</cp:revision>
  <dc:subject/>
  <dc:title>Slide 1</dc:title>
</cp:coreProperties>
</file>