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FED-3E93-4E50-B3BA-B3B1E5DC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9CD-72AE-4EFF-9648-B46DD4AB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A64-169F-408A-8DF1-5F1F010A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C63-2BD1-4EB4-9C3B-39567FAF6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E0C5-ECA9-43F0-86AF-4D81B6B3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0EE4-C3F4-4ADE-B39A-B5F7DE58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DECD-3849-437C-8D48-56F327E3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A7BB-A22F-4F54-B055-6FF81B29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F066-4C5B-4238-99CA-E707A277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B24C-C5F0-4A96-9867-FE1DF15A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755C-BDB1-4048-827D-527BF4EB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0F3-9135-476D-902D-D20CCCC3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9787-6A91-490D-A50A-2BD12F01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1A07-078C-40C3-AB57-2B882D5F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8826-5A05-4255-BCC5-CD821A24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AC93-0B31-47B1-AF3A-551B8407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B923-03EC-4D6F-9549-B7C9FAC1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A86F-66AC-40E7-BDAF-97E32A38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F3C7E-6694-48ED-8324-3CF5ECBB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2D506-24AC-4E7B-B60F-8A258620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B904-488A-4B69-813C-87D0347B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ED47-B8DA-4272-9231-E53A8DFF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0035E-D6F6-489F-BC9D-6FB046E2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AABFB-2DA8-43E6-873E-BCECD317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8F72-1CFE-4EE5-A90E-331C04BA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F46D0-CC59-4F3C-95C5-17F7D7A4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28AC9-5EE1-45AE-ADDC-BB0BC296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8C5BD-1CE3-40F4-9504-DE23E8E9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EE2F7-78FE-40C3-96CE-A800CD7E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DA46D-67C9-4EF0-A1C6-F1E2DB24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DA960-1F20-4C03-A30F-4DCF2526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7FAC-7F7C-4A31-8018-41F92BB2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A4F3-3C0E-416C-9CBC-1EAEEFCB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E19-61C9-423E-B57E-595CC741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167-636A-4BAF-B563-5A090849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DAA8-F301-428C-80C9-2AC8077D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6681-EAD5-4D9F-A084-4FA9181A0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4E70-332B-437A-AFA2-FB567D4A14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797F-64D7-4271-A894-A9F265EB3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ake the World But Give Me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Sweney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ake The World But Give Me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7720" y="6488280"/>
            <a:ext cx="45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ake the World But Give M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ake The World But Give Me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ake The World But Give Me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ake The World But Give Me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ake The World But Give Me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7720" y="6488280"/>
            <a:ext cx="45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ake the World But Give M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ake The World But Give Me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ake The World But Give Me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ake The World But Give Me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ake The World But Give Me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7720" y="6488280"/>
            <a:ext cx="45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ake the World But Give M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ake The World But Give Me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ake The World But Give Me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ake The World But Give Me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0:01:15Z</dcterms:modified>
  <cp:revision>31</cp:revision>
  <dc:subject/>
  <dc:title>Slide 1</dc:title>
</cp:coreProperties>
</file>