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C327-8A39-4EE4-AC0E-0A8D843AE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7873-EECE-4D78-B3E8-9CB3507E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6037-3D44-4E52-9C6C-93E32E193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7ED8-0650-48BF-AD7E-FD391C7B9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7CD7-621E-4663-BD98-CC32E66F7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68C7-FC81-4DBB-A280-407E8572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9EC2-2298-44C3-8456-FC14A010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0A9D-5DA1-4406-B337-9EF921B6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A60D-A24E-44AB-BBBF-6EE72CDB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E5D3-9E75-4792-B144-9F23FF10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1616D-62EC-46DF-A252-478C05F9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6142-6205-43BB-A19E-2B749802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1516-251E-4555-8699-58A0CAF7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28BB-F1F4-4339-85D8-1C01A179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FDAE-995C-43D6-B660-4F673946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1BF3-900E-4E5C-AF30-EE766E63E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19B5-78E3-4D7D-86A5-5EDC7748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F06E-6981-4910-8D77-62501ACA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70344-CF15-4C35-9240-582A01C62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F463E-15E9-48FF-91F4-A9F95A6F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95DB9-3616-475E-8815-16518476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0523-B302-4A13-9827-7D512F76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3E8D8-86F8-4CD9-A70F-8BB30348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B1E95-1F20-4A10-B123-0EB9B9B7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17C07-A402-4C38-B777-CB6AD158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6931B-515E-48FD-99FC-BE93723D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0CA2C-557B-4094-A769-DEA72BE7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11A73-2752-476C-9D46-D4EF29E0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77D73-26C5-423A-8044-EE7E7593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0DDD3-95EF-41A8-A758-BF16284EF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1A0A0-90D2-496D-AA4A-2B512699F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754A-3EFC-4CBD-990E-DF95C6AB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915B-48A6-4883-A994-967A5BFE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B606-8694-40C1-839B-7ACEB541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361B-DA64-47AF-92AC-BD125C66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14B4-CA7B-487A-A3FA-29704D24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C215-F783-432B-894D-20E25C09D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F793-D71B-475C-B8B3-C9B9A4C6AA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8D7A-BD0B-4A44-8D32-4D731EE441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Love of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09728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ederick Martin Lehman (1917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Vs. 3 Meir ben Isaac Nehorai (105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ederick Martin Lehman (1917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r. Claudia Lehman Mays (191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Love Of God_arr2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Love Of God_arr2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Love Of God_arr2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 Love Of God_arr2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The Love Of God_arr2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93600" y="648828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Love of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The Love Of God_arr2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The Love Of God_arr2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The Love Of God_arr2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The Love Of God_arr2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The Love Of God_arr2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Love Of God_arr2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3600" y="648828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Love of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Love Of God_arr2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Love Of God_arr2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Love Of God_arr2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Love Of God_arr2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Love Of God_arr2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Love Of God_arr2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3600" y="648828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Love of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Love Of God_arr2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23:43Z</dcterms:modified>
  <cp:revision>31</cp:revision>
  <dc:subject/>
  <dc:title>Slide 1</dc:title>
</cp:coreProperties>
</file>