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E521-C45E-40E6-9136-7A8298858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9655-521C-4ECB-8657-96E7C7B1C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27BC-6C09-4021-AA2B-7D619D20E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1F35-DF17-4A38-A0E5-CA3856102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93F36-EB85-4B2E-9A86-327FE672E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F586D-4329-4E77-9653-43D76CDD6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2BBEB-973D-4A5E-8CC9-9E514EA18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AC717-F2E7-4D08-A1D1-2468ECE29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AA81A-D961-4723-B8B6-E27A5B1AD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83D6F-3018-406D-98B9-DAB477BE8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0EDEC-70EF-4E4D-AFF5-ECBA074E1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FF43-0572-4041-87D7-CF1245E89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22094-2DED-4242-AB95-B4F405D67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3A389-7789-4080-B013-8A844A5B3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0D30E-86BC-4763-9EF1-BC0622DF1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9DF59-3451-430C-8803-E8C51D014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7947B-B1A0-43B4-BD92-FFE4D1854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AFED-5050-4AB3-9E46-1EF0B007C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B89AA1-2BD9-4260-8A59-2E43040F8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363CF4-5B53-430D-8BD8-638A548F2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068FDA-5DD6-4395-8483-438933E6A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2BA0-E01C-4911-A30F-831964433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0B37AE-F6F3-41DA-9B18-730F88365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E2A6D0-60FE-4185-B1D2-3153DDE3C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2CCF60-7A69-469B-B0CB-41825D8B5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5C56A5-14AC-43A8-813A-3705481BA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89187F-34B3-45B3-A538-D519F9A5D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E37F38-AA1F-4994-9AC0-BDE5E7D97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8EF504-C91F-404E-A571-7777CA22B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AFD423-65F3-481C-8617-2F7FF9DB5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98CC87-03E9-4336-B332-52C7B8ED0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F59F-3310-4CBC-A286-4AA2C161F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E680-9678-4274-A404-5E4D21EC0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903B-BF3A-483C-84DC-5BB6325C5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98AB-4D5D-41B5-B6AA-16ED23750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2E78-8A6F-4E83-B1FE-2CC1C7765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17A04-4D17-4AEF-A8D0-0E82A90E48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5D046-31F2-4FEA-ABD9-9DE0DDEBE2F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B1B23-58F3-4244-97FE-678AC833CC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The Law Of The Lo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Psalm 19:7-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Tradition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4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The Law of the Lord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08000" y="6488280"/>
            <a:ext cx="312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The Law Of The L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The Law of the Lord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The Law of the Lord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The Law of the Lord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The Law of the Lord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08000" y="6488280"/>
            <a:ext cx="312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The Law Of The L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The Law of the Lord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The Law of the Lord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The Law of the Lord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The Law of the Lord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08000" y="6488280"/>
            <a:ext cx="312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The Law Of The L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The Law of the Lord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The Law of the Lord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The Law of the Lord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2T20:16:04Z</dcterms:modified>
  <cp:revision>29</cp:revision>
  <dc:subject/>
  <dc:title>Slide 1</dc:title>
</cp:coreProperties>
</file>