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C49F-8633-4257-B163-7D8822FA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DB8-B8C5-4063-BCC9-7ABA0769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6AC-856C-4270-AC46-059FC550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2D6-EB65-4691-B011-718D0C19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2B45-7879-4039-B169-9CA60A79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A7C4-F531-4FEE-A854-FDC8A92D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CD81-369B-4CEE-9A2F-FAB8781E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B476-5C69-4BA2-9FF4-6673CE80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3F13-D38B-413B-8B21-7816163A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1ACF-3FCD-4131-819F-7D9F1718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DFEC-3573-4476-BCF9-AF32FA28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4F8-751E-460D-9144-22BCB827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1424-CC72-43C2-8F2A-8ED7209A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7A5A-7828-4DD1-9C34-9DA3EAB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6009-968C-4929-AEF5-24A10316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182B-1E6D-45F7-91D3-62B8BF96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209A-4F11-4547-9A19-DDD93783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D6F7-9835-4EA4-9A58-B39108F4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5B30-7041-493C-9D70-CFC74838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EDFF6-9634-4501-A601-01E8A581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643C-2449-4E8C-B44E-26ADA939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0BA-EE45-47DD-85E9-9B885E8C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B1239-5272-47CD-8C14-0552C5BC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02FC5-6223-4465-BD52-27C043F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92F3-5422-492B-9BAC-85A055C0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698D-7F1C-4FDB-8AB6-C9592DE0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C3FD-9E11-4393-8454-0811A99E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239B-B054-46CA-BAD3-CF9BDBB5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04B9-AA65-4DD3-8B5A-864D1B23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C595-784E-4B1B-8DE4-CCDE2152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681D-D607-46E9-9E4E-B915D92D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9A1-241E-4DD0-AD80-29A0F637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7ED8-9406-486F-92E1-59C87796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926-454C-49AD-9972-F4C34785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42D4-06AA-4F12-B1D4-6B58C8FE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07DF-FC95-45CF-89B2-9A800025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AB54-7B6F-45B4-BD34-415CD6C0C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9BB1-129E-4509-BE04-03C68A0B5A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C8DD-C943-41B3-9031-6BB492C4C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Shall Be Sh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HOWERS OF BL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 W/ 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W. Whittle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4240" y="648828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Shall Be Sh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4240" y="648828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re Shall Be Sh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A picture containing sheet music, text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Shall Be Showers Of Bless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4240" y="648828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Shall Be Sh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Shall Be Showers Of Bless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Shall Be Showers Of Bless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Shall Be Showers Of Bless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Shall Be Showers Of Blessing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4240" y="6488280"/>
            <a:ext cx="34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Shall Be Sh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Shall Be Showers Of Blessing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Shall Be Showers Of Blessing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Shall Be Showers Of Blessing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2:21Z</dcterms:modified>
  <cp:revision>33</cp:revision>
  <dc:subject/>
  <dc:title>Slide 1</dc:title>
</cp:coreProperties>
</file>