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22B5-04E1-4F0A-8F72-3AE13FCB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781-7D7B-42F4-9971-CB25C329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60EC-B646-4909-9C94-20E12F21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BB8-F59C-40F5-9204-270319CA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4DDE-59D3-4E71-9CB9-56F4C550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4964-CF51-415C-B943-651E7A34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8BF9-DAB4-4A81-8743-2888B7D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ABF4-BD58-4EB2-942A-27D6C34E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8C75-F7B8-42E3-8F67-EB00B44A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C0E6-C45F-4229-9670-124F5733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3B36-EC6E-416C-93DC-48CA12B4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B27-4D9D-48C8-A0A6-24F8F188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BFDD-2D4E-48D7-9CDE-2B6FDAB9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0948-7BA1-4854-AC37-D9C9B208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E405-2CC2-4B0F-AA4F-1D8E7E64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CBF3-E117-47C5-A5C1-8DE77622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2452-63C1-41F0-94B0-CB882751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F924-7B1E-450B-AF7F-565FB905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1446-B091-41FD-93BD-EA9E4983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D95A-60BE-4471-A962-9F65A7BF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B3A7-9E8A-4269-9E85-B639F2A2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92AB-879D-4E84-A4F8-AA8EAC66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5A9C7-4150-41EF-8352-374CEA64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F5A4-ED04-40FD-B2F6-2CE88FC1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F7B3-03EB-4CEE-A98C-F0B4873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672B3-B347-4671-9866-90E3D0D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12BC-E08E-4461-913B-F70B8CC4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51C1-9D06-4F41-A5A7-EF67BAE0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3FF5-A604-469F-B58B-5BF62A98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3D492-4D34-4282-9C0D-3E2CECC4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E4A4D-05CD-4CAA-BD05-C569A10F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A28-490A-4DE9-A313-BD05E79D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E6F-EF78-4504-8F2E-78BCBB51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41BF-9EC8-4C47-AC8C-D3173686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407-CC2A-4A84-B8A6-BB03568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FAF-564A-4D48-9D27-4959901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7669-B6BE-4CB7-BCD4-F95375B2C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C647-D139-4726-9CBB-C1B807B03A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8E4C-2DDE-4540-B693-E9DAD19A3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rry With Me, O My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C. S. Smith (18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rry With Me O My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296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rry With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arry With Me O My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rry With Me O My Savior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rry With Me O My Savior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rry With Me O My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296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rry With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rry With Me O My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rry With Me O My Savior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rry With Me O My Savior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rry With Me O My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2960" y="6488280"/>
            <a:ext cx="38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rry With Me, O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rry With Me O My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rry With Me O My Savior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rry With Me O My Savior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2:28Z</dcterms:modified>
  <cp:revision>33</cp:revision>
  <dc:subject/>
  <dc:title>Slide 1</dc:title>
</cp:coreProperties>
</file>