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A98-923D-44C8-A6F8-994868F4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013B-3C63-400A-BEF9-77853C17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DCFD-DA6A-45E2-8BB1-D1F15B3D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8F3-CD7B-4D9D-A886-B6544E95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80EE-E282-409C-953C-DC6C2672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54F6-FAAE-4871-91FB-4FD9BBC3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127C-9C72-4369-B758-33EC57BC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F639-13B8-4EC3-8C37-D7E2132D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8727-EC72-4D1E-9D7A-3522BEFC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88E7-BFE2-42EC-A5B5-94BD460A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10D8-9212-4D94-AA60-4AAF20DD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093-0219-4821-AF26-707411D9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ADB1-A76E-4071-A0E8-DD55CD67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9776-D0E5-4C58-8105-D307DAC1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1CF0-2147-4C3D-8A54-8EBDB5B6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109C-9877-42AE-9CC3-8D988479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0E87-BE02-408C-A38C-E891C089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7BB-2659-471F-BEDD-994FAA6A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99D9D-4724-4070-A7AF-81823FDB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340BB-9F90-4DFC-9FAD-530EA53D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4B069-B782-4651-8383-FCCB227E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DD0-7557-48F4-978B-32F3D14C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AF15C-DD8B-4973-B9B0-15D603D0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94E25-7410-4596-85A5-1A45FD08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B6F43-7458-406A-AF75-BA60D336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26D39-24BE-4230-8305-957E7171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69B1-DE61-4379-9DD1-8365A844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A51F1-2F2F-423E-96C4-E6D66654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3D7F-0960-4D78-9228-356CDF39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445AE-442A-4788-B64C-F458C2EF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A293A-7DD5-4294-AE8A-AF5461E38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7F5-CC03-4820-8B1F-A5A7D532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EED-CDDF-4A6B-A960-617936FE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DEB-3683-41B9-BB2A-CDB42149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80CE-76BA-4EC3-82C4-1823CD54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3E9-5A36-44A1-B9E2-96C429E6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81BA-48D7-4066-B664-0E5EC1185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8750-1BF0-4A3A-875D-A5E344A452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F16A-FA34-4DA0-8412-AC37074FE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ve Of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urene Highfield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ove Of God_arr1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ove Of Go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3600" y="64882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ove Of Go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ove Of God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Love Of God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Love Of God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Love Of God_arr1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Love Of God_arr1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Love Of God_arr1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Love Of God_arr1_v2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ve Of Go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600" y="64882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The Love Of Go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93600" y="648828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ve Of G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he Love Of Go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he Love Of God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The Love Of God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The Love Of God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The Love Of God_arr1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The Love Of God_arr1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The Love Of God_arr1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The Love Of God_arr1_v3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2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ve Of Go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ve Of Go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ve Of Go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ve Of God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ve Of God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ove Of God_arr1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ve Of God_arr1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22:50Z</dcterms:modified>
  <cp:revision>16</cp:revision>
  <dc:subject/>
  <dc:title>Slide 1</dc:title>
</cp:coreProperties>
</file>