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507-41B2-4549-9A8A-E7233170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B30B-8CE9-470F-825F-A15DE48B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191-0D27-4D80-800C-656B5624C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20C2-30F7-4B07-937D-7DC10B9E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918-70FA-49D6-ABE9-62779BA3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930-BFE2-4FF3-AC9B-7792CEFC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FCF9-230F-438C-A4F5-BC9523E4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AA88-58AD-4930-9C7E-915FB65B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ED1A-E2E9-417B-B1F8-7FBFB4C9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130-BE8C-4A4B-BC16-7FD8E719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73F5-C931-40CF-BB08-D44B234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066-9A05-4880-94B7-6584FF26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5EE9-7E4B-4AA5-8C81-F2584184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4275-6341-42D3-9B59-553D392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07B8-C276-45FE-880D-AC4603AA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4A59-E5DA-4A56-9E31-459EAAA8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1AE7-957A-486F-A4C2-B8D4B24B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EB57-810A-4508-A744-B6595ECD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4B54-3CA1-449C-8EE6-08FA92E4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A35C-87DA-4098-AB18-E91681D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01702-8CD2-49FD-B28D-CF80104C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7AA-63AC-4896-8400-521E9480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99437-8BA1-4D88-88FB-3B2DBB0B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3A79-357B-4E07-AFE6-3DD53A38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1A2C-EBD1-491B-93CD-570D595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89F9-F022-40A3-A60B-72EF6F7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FCD05-4BC4-4582-BFA4-495C317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2F9BF-3621-4331-ADEA-B5780A49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8FAE-D904-48F7-BCE2-6647697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FAF48-4656-43D1-901B-4E4D28BD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5690E-5C6D-4B85-A052-91CAADBD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27B-D0AD-4D4E-AA09-AC3B5F3B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B08-8321-4279-9345-939B78AB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AA0-3B6E-48B9-8AEB-F3F3228F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B3CD-72EA-4625-A41D-5FF76EF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11C-FC7F-4EEE-B789-84F6D46E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456B-7BF3-4035-B801-67300F35E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C36A-8F67-4D5E-8E3A-F8E2312382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336-5381-47D7-B4EA-E68A000F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Power In The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Power In The Bl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wis E. Jone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wis E. Jone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Power In The Blood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Power In The Blood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re Is Power In The Blood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re Is Power In The Blood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re Is Power In The Blood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re Is Power In The Blood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re Is Power In The Blood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re Is Power In The Blood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Power In The Bl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Power In The Bl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Power In The Bloo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Power In The Bloo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Power In The Bl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1800" y="64882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Power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Power In The Bl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Power In The Bloo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Power In The Bloo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9:29Z</dcterms:modified>
  <cp:revision>34</cp:revision>
  <dc:subject/>
  <dc:title>Slide 1</dc:title>
</cp:coreProperties>
</file>