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637-0EC8-476D-9A03-B49B65D4F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CAAC-F55E-467B-9C39-F4533A15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A70-3D83-4453-B26F-D4003DB9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B04-549B-4CAF-AAB7-248BC133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52B5-82B8-4724-BE34-2D24598D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6DFA-E13A-4B40-9C7F-FD26F712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A0D0-1184-4C9C-894E-E965C8BF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B325-8053-444C-8E2D-189D7BE5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1CB7-605A-411F-8B00-18A630A1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D7D8-4AA3-4FD4-92A9-4413A7B9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4366-5E11-4CF7-A296-6115D744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A386-848E-4385-8716-DDAC593E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4356-137C-49DD-904D-CBC73EED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3874-929B-4437-A2E5-CDD5D343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8C52-8DBB-4CEE-A264-928DD56A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4B5A-0C3D-4950-84C8-5C81E4AE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A73A-9178-4919-BAE8-9FCF9A08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4FC-EC4A-4C52-B7C4-500EDF51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B46F-080D-4BD1-A985-FD801D11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1E41-D0A3-409E-B706-DCCA3381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8F54-F448-4908-A7C2-93A681F0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DB3-D98D-49CD-955E-6563F8B1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2635F-8763-43C5-853C-D64AEB28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C6CC1-EF7D-4275-A70D-CC465A87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2B0B-585A-45B8-9105-3ED01A6E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8E1E-EA86-4879-BD07-DEE3E2B0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4327-AEAE-4035-AA01-A7B84901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50B4C-A855-4CD1-B062-CC0E06FE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60CA8-6CEF-4FE6-BD68-B1554987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F8C4-E7A6-41FD-ACED-4A04B616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73EA-D228-41EC-9670-894709E4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6671-D0BE-42AD-B0B2-522F384E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8CB-C5BB-4991-AA7C-C5A4382A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829A-0252-4799-903A-26B8A321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C9E-E9E3-4E27-929F-CE08DBE4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5B7-46C1-4800-A7DC-202530C9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59AA-FE33-4ADD-B21F-8C52F1F2F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D707-F6D1-4711-9EF3-E1130CAA19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8712-B500-45DB-A0F5-9040E9169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Rock That Is Higher Tha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Johnson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G. Fischer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Rock That Is Higher Than I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75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Rock That Is Higher Tha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Rock That Is Higher Than I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Rock That Is Higher Than I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Rock That Is Higher Than I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Rock That Is Higher Than I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75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Rock That Is Higher Tha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Rock That Is Higher Than I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Rock That Is Higher Than I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Rock That Is Higher Than I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Rock That Is Higher Than I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7520" y="6488280"/>
            <a:ext cx="41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Rock That Is Higher Than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Rock That Is Higher Than I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Rock That Is Higher Than I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Rock That Is Higher Than I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3:28Z</dcterms:modified>
  <cp:revision>33</cp:revision>
  <dc:subject/>
  <dc:title>Slide 1</dc:title>
</cp:coreProperties>
</file>