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6BD-2892-4E48-8583-19314EE6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B8A-2A74-4D1F-A015-A5F1B53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5F8D-588D-4B48-B6C4-7CADCF33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600-C39D-42F6-82BE-E509E753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3108-B50F-4385-83C1-4916944D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B40-E428-4118-AB73-49DD5B2F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8BF4-13AD-4757-92E8-04200A40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F571-6EA8-4FF5-A876-C44257B3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155A-850A-418B-B679-6EBD25F1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EB57-C54B-479B-A9AA-3B5CA6C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2F69-9EC0-4A17-929D-39F6A471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F554-C6A1-4142-B15D-DF5144C7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52B8-BA12-4ACB-9F64-9BF8939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2ACA-0A9F-44A5-BDAF-1BE277C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6320-D9F3-48E3-A900-D74DAEB9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D66F-3CFD-465D-9E0F-A974D94E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60D6-01CB-4BD3-897D-D1AE6A4D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F25-1E07-405C-AFCE-6B831EF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9264-11C1-4E27-91C1-647F1CB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55585-C8E7-48BE-85FE-4096A40E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20A73-3E92-46D5-BC62-A74BA14A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3C6-B455-4F8D-9B9F-694547B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95FD-9A3D-4870-AF9E-18C0583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C3A93-4A7A-47ED-87C3-BB34ED60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0C48-82F9-43CE-BC29-7E293049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A186-E158-4A9C-A9B9-91BD7B3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3FDB-9D40-4B02-AC7D-49D79E4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2678-B214-48ED-8612-B8AE9018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7F0E-E3F3-4F22-9EB7-2BA789C1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5CD28-3FE6-4929-A816-AA2A7A50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502D-A7A9-4FDA-ACDD-CCE8FC10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7FB-010D-4031-B13D-B9A513B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574-3158-42D9-83E0-7DC562B6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241-9F79-4771-857B-FB15D997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EB-8D64-4C8C-ADF1-783CD90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13A-639C-4D53-A079-536602F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25A0-69E7-457D-A390-7D1E85363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3273-EF3F-4ADE-A0E9-9B88250DD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8C22-2143-48D4-9B52-B2918040B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Canaan's Land I'm on My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re The Soul Never 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M. Golden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Canaans Land Im On My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o Canaans Land Im On My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o Canaans Land Im On My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o Canaans Land Im On My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o Canaans Land Im On My Way_v4of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o Canaans Land Im On My Way_v4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o Canaans Land Im On My Way_v4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o Canaans Land Im On My Way_v4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o Canaans Land Im On My Way_v5of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o Canaans Land Im On My Way_v5of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Canaans Land Im On My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o Canaans Land Im On My Way_v5of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o Canaans Land Im On My Way_v5of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Canaans Land Im On My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Canaans Land Im On My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Canaans Land Im On My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Canaans Land Im On My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4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Canaan's Land I'm on M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Canaans Land Im On My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Canaans Land Im On My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Canaans Land Im On My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5:56Z</dcterms:modified>
  <cp:revision>34</cp:revision>
  <dc:subject/>
  <dc:title>Slide 1</dc:title>
</cp:coreProperties>
</file>