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237-4529-4AE3-A768-62FD9D45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2EA-D2B7-4951-8B76-7F7DC020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2A0-34D6-4461-B3EB-FA7C8E8D4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A8D-B006-464E-9ECC-3D19EC95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591-4144-44A1-A4CD-B370A3A9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2B30-270B-488C-93EF-C355279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A2D0-7DB9-4DD9-B7E9-630D96C3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AB80-48B7-4CC8-BE30-10D7F8F7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F3D0-5032-4071-A676-4774BFB0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A9C2-1C70-4A2F-9C7B-14B4C807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B25D-5AE8-4020-AEA4-6AD86969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0A8-B316-419C-8C0C-1A6DD3B9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8A56-A9F3-48E2-B10D-C34F8A3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1017-2206-4033-9E7A-832480B1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DAF0-DA41-4542-A127-9D1B510D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47A-6600-4A8D-ACAA-DAF95024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09E3-AB58-4D31-AFEB-A52F5AE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A17-57B3-476A-BDDE-C5746863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6BA3-3893-4663-AAD2-E4A73EDB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2DA6-9A97-4E36-9A55-4FB7FCF0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3C73-D464-4FDE-AFEA-55AEF645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94A-FB57-4014-AAAF-4584A91A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5F49-DC71-421F-BAC0-1BFEBD8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E2B8-6037-4055-8014-5306A413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A1C9-48AD-46EC-BFB1-7231A137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9CE5F-DFE5-4E4F-B439-FEB5D0E3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EC02-B070-48F5-A069-9424D989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02526-A497-4A75-9AF4-E222CB6A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DD58D-D2F0-4266-8543-89D2E04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5672-72BE-4088-BD52-D1E52944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2340-25F2-4889-9389-8DE71233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6BD-6312-4000-BC2C-FED416FD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380-F6EE-4AFF-9DFA-E7F0C137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CF5-FC37-4800-9F09-944CA6E3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63-7B10-4D96-8148-67D29419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CBD-E63D-4C81-83AD-30FA6D07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39B0-25C1-488B-BD12-6FC7B0862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88E-6365-4FA1-9587-24B1588C3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587-6A93-442D-A3DE-D5423130F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The Name Of Jesus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Lydia Baxter (187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H. Doane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The Name Of Jesus With You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 sheet of music with notes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The Name Of Jesus With You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The Name Of Jesus With You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The Name Of Jesus With You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The Name Of Jesus With You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The Name Of Jesus With You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The Name Of Jesus With You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The Name Of Jesus With You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38960" y="648828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The Name Of Jesus With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The Name Of Jesus With You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The Name Of Jesus With You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The Name Of Jesus With You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12-19T14:29:53Z</dcterms:modified>
  <cp:revision>37</cp:revision>
  <dc:subject/>
  <dc:title>Slide 1</dc:title>
</cp:coreProperties>
</file>