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E2D-9860-426B-A38E-B98450B3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DCA-737F-4209-97F4-EE49843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3CE-3F38-4660-B012-D10ACD30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19E-EC31-4F70-8F14-0A634578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D8D5-73DD-4971-B366-07A2051C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EBA7-DE74-4D14-B6B4-C393AA22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C284-A76E-4A52-B2EA-04D9339B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E099-C005-4FE5-BD84-0D0080A7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BEF4-4571-4B6B-8DFC-A87A1145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8414-2292-4DDA-8E2D-C2FDF2A1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B1EE-5BAB-4E5A-9FB1-7CC9F0CB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A18-C2D0-4873-9452-FF215246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54FF-D356-4FDA-92A2-9D4FE84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EEE3-1315-46C0-844E-861E7F53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3407-AA7B-4229-87BE-D95A4389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E227-1D92-4A3B-A6BA-A3D3BFC3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648E-3973-41CC-BBD9-C17CAD28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8171-CF5E-4F1D-852B-4C9121E5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E6A88-E9F1-472E-BFAC-81E2E050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D2CD-4487-4954-94A2-2CFD2A3D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3ED0-DE9E-4749-9A5C-1167BC1B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8C0-84CB-4BF0-B5AD-0B663FFE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14AF5-44EC-4FA0-9025-49496373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04BC5-A12E-4A60-80D4-82C12F81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BA809-CAFF-4E14-A697-68CE08E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28710-ABBF-4D26-95DA-B7A6AE0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EFE8B-802B-46C8-A505-4BD2E7C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7D4CC-B481-4FC8-AEE4-E631B373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1D61-AF74-4363-BF82-7517BC93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510C8-B405-4B50-A497-CDBC76E5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55981-82BF-416D-A8BE-996A7E98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3BB-D34A-4701-BB91-AB9D0DD4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6F81-8CC3-4415-B283-48D675C8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BD5-404C-4276-9DC8-87D048FA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368-5C7D-42B4-A905-9233D93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7D92-26CC-4F96-B0DE-4652DECA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EF96-6456-42E2-A3C8-7579C866B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282A-8926-4FEB-B91F-1F0A28785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C865-DA9E-47F7-9396-3DED4C471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Pearly White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A Holy And Beautiful 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 + 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thur F. Ingler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thur F. Ingler (19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Pearly White Cit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Pearly White Cit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Pearly White Cit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Pearly Whit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Pearly White Cit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Pearly White Cit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Pearly White Cit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Pearly White Cit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Pearly Whit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Pearly White Cit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Pearly White Cit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Pearly White Cit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Pearly White Cit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sheet music, music,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Pearly White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Pearly White Cit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2:09:07Z</dcterms:modified>
  <cp:revision>32</cp:revision>
  <dc:subject/>
  <dc:title>Slide 1</dc:title>
</cp:coreProperties>
</file>