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AB2D-9F94-4653-BA5B-93454DEB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B8D-4143-485D-8512-F3A43BA5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16A0-402B-4AC8-AF08-1CE066BE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56CB-6E46-4F7C-9620-6F5D28C5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5F97-83EA-48AA-B0C5-311205E2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BBD-368C-42D4-8871-3F576061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1640-277C-4DB1-B631-FD801E31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8623-F475-455E-98BF-FAE0189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2946-584E-4548-A82E-143B545F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5EEA-0187-4301-B73C-8F97A468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BEE5-D116-4782-91AB-F2EC17A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A1E-7FBC-4F94-BAA6-7386AF75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23C0-3972-43D1-8EE8-56FB38A8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C927-D09F-4B5D-A17B-AFDBCA66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7365-BD65-40C2-9BBE-D3C5CAE2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0147-DF57-408D-AFFC-92ED491D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C57C-45B9-45D7-95E7-8EC98695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CCA-BFBD-449F-975F-0616280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EFE6A-105A-43E8-9A66-5E579CDF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929EB-7A4B-4A92-9A3A-0C2B4732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7CF3-3F31-441F-AAA1-DC808DBE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52C-06C5-4527-9FC6-7ECF701D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36F2-6D8A-4B8D-AC3D-1FFC003B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22E7-A185-440D-9B39-F5169B2E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D2CC3-B2EF-4EAF-AF9B-57CC7246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7FA71-621C-4841-BBF4-14C4CFCA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7DAAD-CADE-4967-84D9-53D91123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D7ED4-57CF-4255-96D1-5D8C3055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1FC6-4CBC-4F3E-B286-C311D3CD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411B-C7A2-4B24-B2EF-92F517BF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F04A-AF9A-4BED-AF30-7DA9F9E8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4F4-BD52-4BB6-8BD9-0EDC54A3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641-BD4B-4E09-A6AB-FE918676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E1E-3A49-446E-A2B4-58957F7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1D0-22FC-4742-813E-CF10DA2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640F-65C0-476D-B4DD-33A4818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1CA2-8335-4E9D-8998-E9E769198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16D5-F5B6-4BC1-9B68-8C4463B1B0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38E-5CCF-456B-8080-7026836E4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F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LEANSING F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Cowper (17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American Melody, Arr. Lowell Mason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A picture containing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sheet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re Is A Founta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Founta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Founta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Founta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F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sheet of music with black and white tex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7:49Z</dcterms:modified>
  <cp:revision>40</cp:revision>
  <dc:subject/>
  <dc:title>Slide 1</dc:title>
</cp:coreProperties>
</file>