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4E5-4F82-47D6-B34A-01E2E0AD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85A9-7E09-4E2B-A470-5BC68463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84F-1074-4DE6-B577-AB856744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905-C075-45ED-83E7-DC70F3B3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A58F-37EB-4125-8C3B-F6D0B290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F95A-1B4E-4F80-AE71-591123AD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251B-5B41-4A55-B0A0-F46FBB4F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291C-F87A-45A8-BD4A-9D81E66A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2A44-0CC4-452D-8BE1-E20A571B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76F4-8262-4FFB-94C6-1AD43BC9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A6C1-5DC9-47F1-BA6A-F62C3EEB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CED-DDE6-4E50-8600-B87C21E2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8968-126F-4750-B0DB-36894AD0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4945-780C-4C23-A7DA-ED755459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ACE9-174E-495B-9487-9645A227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C0631-7278-487F-910A-0FE417A9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6A61-63E4-49A5-ADDB-763F1845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D1F-FE6A-45DB-9C19-A76305F8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5DA59-13E3-489E-9B53-63CC3CD1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574F-25F4-4406-A9F2-E51838FF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9C17-0660-4A0E-B3FC-8A73AB19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171-A4B3-4131-97B1-376EDD07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4934-B7E7-4E50-948E-88AF2990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77CAC-10E2-4794-960A-F27A4D84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8EB7-5F69-45AF-BFBE-A988D77D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0C91-3038-41FB-884C-CE47409B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0478D-3A75-4FB0-9DC1-3C03BE80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470F-849F-472E-87B6-B5CC738E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3782-40C3-44BC-8D29-A8A82BC2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16512-E001-4A4A-8986-D302AB17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3AAF6-7812-40B9-8354-6D1C169B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9BB9-0174-486D-8823-1C7D1F26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4E06-AE6C-4077-9DDE-2BE0E779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35C-7E3E-45D2-AC19-BB2B5020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E43-4F4B-458E-9EAE-C321465E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665-CEBC-46C6-80B7-A5EF6A46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2FDD-C97D-4CB7-BA61-78EE0D2A2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D47-A600-4784-A070-2C58BA9392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0517-7246-4D40-B8DA-30DB923714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Us a Child of Hope Is B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ZE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Morrison (17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l Mason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Us A Child Of Hope Is Bor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888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Us a Child of Hope Is 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Us A Child Of Hope Is Bor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Us A Child Of Hope Is Bor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0196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Us a Child of Hope Is 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Us A Child Of Hope Is Bor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Us A Child Of Hope Is Bor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888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Us a Child of Hope Is 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Us A Child Of Hope Is Bor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Us A Child Of Hope Is Born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8880" y="6488280"/>
            <a:ext cx="40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o Us a Child of Hope Is 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Us A Child Of Hope Is Born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03:10Z</dcterms:modified>
  <cp:revision>32</cp:revision>
  <dc:subject/>
  <dc:title>Slide 1</dc:title>
</cp:coreProperties>
</file>