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A35-28AD-418E-8DC3-471C56A5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6F2-DC74-42E6-953E-BCD0AA82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98F-BB6C-4D17-9579-96C60775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828-B345-4A09-AAE7-3C858685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F477-2EF9-4216-9EE6-90091D5C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EB18-8E1A-4D58-95B9-AFB7CA54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4756-E7C1-4FA9-9640-C394A187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DAD0-6683-4450-AB91-5743F661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FFF3-5394-465D-8676-9DF875AB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92ED-8273-40F1-9A43-962E50A1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D1D3-2191-4B50-8AAC-910A5564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EBD-D925-45F2-8620-CC1CD004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A2DC-5988-4D04-9A14-F273C77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CC63-DC41-44D6-A616-350C1843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D7F4-BBC6-4B4B-91E3-8B59D44E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02BC-43F5-4BFF-B0F5-AAFA0EB4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BA1E-2DBD-4467-81BF-B0052014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83F-4273-499F-AD18-BFDF11EB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DD5E-8FAE-4C10-9B53-DA3AA668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84AF7-7EBE-4864-8844-1FAAC5EB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1994-0B52-47C7-9491-4B6355D8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9BE-BC80-4314-8FA8-B94CCE2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1A65-FB9B-400F-B5DE-819D0646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B44AE-4F1B-4A17-9637-A766678F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C0D5-8DE7-4C92-B94A-58257926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01172-7578-431B-99F9-5BF3DCA7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0F5F-391A-4DC3-A039-65805FDB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45F8E-8C45-4C37-8D0E-EFD4E019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68CB-B425-4D60-B18C-F63D1E73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8C2FD-456B-445F-A616-B00BEEC3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BC20F-A6C8-4452-9876-FF3DC332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6CF-9CAB-4392-A28E-08D52BA1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8F85-B8FC-4B95-9F9F-52372B6C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03D-CE23-4E63-A176-30CD5ECC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E3A-216C-4D37-BFE0-01B2FBCE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ACC-66C1-4B86-A53A-EF9265FF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A760-EBBA-44F8-B44F-2F3165CC4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1F20-4361-4880-9AA6-6631711A1D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2276-30C1-4FDC-A59B-4424A1AE3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 Bless You And Kee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LUTKIN BENEDIC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W/ SEVEN-FOLD 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3200" y="4902120"/>
            <a:ext cx="130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umbers 6:24-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eter C. Lutkin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rd Bless You and Keep You_arr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4000" y="6488280"/>
            <a:ext cx="45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 Bless You And Keep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 picture containing text, sheet music,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rd Bless You and Keep You_arr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iagram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rd Bless You and Keep You_arr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rd Bless You and Keep You_arr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54:13Z</dcterms:modified>
  <cp:revision>29</cp:revision>
  <dc:subject/>
  <dc:title>Slide 1</dc:title>
</cp:coreProperties>
</file>