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870-4A58-4DB7-8181-E8225FB5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BA2-911C-4E14-AA1C-6857F132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A8B4-C461-4E35-A0EF-8F3E9EAC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496-2101-41E0-ABE0-080E5A94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6E9C-FD73-45A3-BBD0-2EFA05E7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A559-9BE3-4DFF-A9AF-193BC3C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7F96-4623-42A0-B5CD-25D2F75A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F25-9405-4509-86C7-BF7DC6E1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8AA6-8F13-4109-977E-5116FE65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F5D1-F015-47E6-88F6-F929911E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054F-7846-49BF-9FA8-FC150088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6483-125C-4A52-B348-1A2B9B10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B95F-7E71-4B24-B402-9CE7EA95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AA44-40F8-4394-BEAB-3D701162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7959-2F7C-4489-9814-A9404AD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7F18-CDD6-4A25-8990-68B03C08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55BC-BB38-4531-98AB-86328D99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13E-C372-4CEB-865A-E5D7FC86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8B62-A233-48AC-A061-1DAFADCA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48C46-7618-4EA1-8C21-ECA33062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586F-256A-482F-9346-F4504301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DBD-5ECD-44C3-B6BF-55B84CEE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631C-2DB6-4E2B-BFC5-FB549625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A1A4E-A5AF-4160-8F3D-24E2D5CE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FBB80-F14D-47C3-998B-76CBBCE4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EF409-D140-4FF1-9A16-1880F10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2944-A2C8-4409-A6A5-A4AEC33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5E65-863A-4EBE-9E3E-E2DE1EE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9BB1-E342-4D10-B54B-6AD05333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5600-D701-44ED-AA16-4BA58B7E2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0DD44-E738-47A6-8A30-9F1A89E1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197-C0EB-4C54-B49B-EBBA5168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2C6-ECA8-4512-9991-B5B80108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648-DE8A-46B2-9719-3994AC6A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E7E-220B-476D-AC16-BCEE2A5A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D81-AAD3-40A9-B406-377A8746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30E0-07CF-4159-AA24-29050710D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42F7-2BC5-4F81-AD29-44710BA063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F54-57B7-4E79-BDE3-AABC908EB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's My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RL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23, Arr. Francis Rous (164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t.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cottish Psalter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6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Campbell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rds My Shepherd_arr1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rds My Shepherd_arr1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s My Shephe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s My Shephe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s My Shepher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s My Shepher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s My Shepher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s My Shepher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rds My Shepherd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396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Lord's My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s My Shepherd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20:36Z</dcterms:modified>
  <cp:revision>20</cp:revision>
  <dc:subject/>
  <dc:title>Slide 1</dc:title>
</cp:coreProperties>
</file>