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BB8-B078-42C6-9302-58D315DB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20F-D61D-4D0B-9B18-693CAEB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6A9-2E42-4EFB-917C-829185C2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529-A9D7-4B7B-8EE1-8B76FC41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0FE5-4D63-4A7A-9D74-A3979F7F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B34-FD5A-4EFC-BE75-8E7061B3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F5B-8850-4436-8C65-FB98D06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A3F1-3181-4C25-91C6-FBFD4E10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6188-906E-4C2A-B008-7001594B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54AE-7DA5-495E-9A97-4782FCE8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687-BEBB-4D24-BAEB-2E7657FE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AC8-49A8-49D0-811D-2851308A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354A-7FDC-4BE4-B64A-E23FBB18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1677-EE56-496A-8BD0-0DEAD183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7D86-16FC-4097-844D-B69D0B02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32AD-01EB-4DE7-B69F-9C69A53B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B7E5-02EA-4E0A-93C3-9B1CD152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12D-BE2C-467B-9071-3E07AC4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90B9B-1B44-419D-988E-A8BCC0EC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648A-9255-4403-BFE1-5577CCB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930E-6146-4767-8F10-45C8BFBC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E0E-6332-41BE-BCDE-E3F27B03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2F312-648B-4C3C-A1A8-0B6694D4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1A76-0775-4D0D-8BFE-2CD8E617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E7FE-F804-42BC-9D59-CBBE8750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96029-B4E1-4A51-92BC-A1317C4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7F09-AD8D-432D-84A1-D57210B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65E0-EAA9-46FC-8084-90DABA98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B54E-97D0-4BF9-AFA5-AAB2A15E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A8C90-21B1-4067-BDA7-8E5A8AAF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B373-B902-4F58-9747-21DCCEBC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BD0-F6C9-4985-BB56-92480DF8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498-66C5-4002-9BB9-77B462E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90D1-BBD4-47E7-A63B-86CE72C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0EA6-CE3C-479F-A1F1-101A084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F13-4057-4422-8263-79EDA06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4CE9-ACF0-462E-9048-AA4F6737D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E8E7-F4B4-445C-8AD2-927EF6AD6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CA71-38D8-4F90-BC14-6374D0EEE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Hollow Of God’s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Hollow Of Gods Ha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Hollow Of Gods Ha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Hollow Of Gods Ha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Hollow Of Gods Ha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Hollow Of Gods H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Hollow Of Gods H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Hollow Of Gods H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Hollow Of Gods H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Hollow Of Gods H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9960" y="648828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Hollow Of God’s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Hollow Of Gods H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Hollow Of Gods H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Hollow Of Gods H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3:16Z</dcterms:modified>
  <cp:revision>30</cp:revision>
  <dc:subject/>
  <dc:title>Slide 1</dc:title>
</cp:coreProperties>
</file>