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DE6-28F0-43E1-85A2-DAC86FD0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ACA-CFBE-461B-9467-5C76121B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6BB-F258-4C71-A69F-33D2CB6C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95A-E873-401E-8F87-32B70CE0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E066-0F41-4AC5-9E8D-59B9DE0D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4B03-32E8-479C-8B47-E82F4532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F994-0947-43B2-B245-555EE7E8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8C85-EC80-4AD1-900D-60768A98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E467-2F1A-4B35-AD96-D2908D45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A6D4-8B97-4763-A633-6FC32F7C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ADF0-A160-4647-841A-6C3B2AF3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9D9-FFC3-4ECA-A1DB-3D9DE41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2105-1C63-4B28-B462-746DE5EF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7B8F-5EDE-46AC-8530-C65CE138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E84A-8465-4E33-A1B1-7E2E6A7D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A640-379D-46C5-A085-911F9807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20EE-C5A8-4FF3-9E82-5B80D59D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913-284C-4DC5-ABA7-35ACE6E5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B9279-1938-4E7C-8744-FDECF09D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4DB9F-1AB5-48A5-AB7D-6FC3BD8E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B948-F8F4-44E9-BCE1-2BEAB65B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E92-D85B-435A-BD51-DCC5A06A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4F45-6B2F-486E-AECE-A2890F09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7BDC8-A78F-45F2-B576-C96B0ACD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E8883-E63A-4149-B2E1-AA0C9C74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629D-C0F0-4D47-B1F4-6972A1C4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3D6B-AB6C-4CEC-8533-D21AC8CA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755D7-26E6-4FF0-9D78-ED896EB8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CD2C-A4C2-4E8C-A6D5-DE061AD7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B430B-8160-4F35-851E-B4EE7AC5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109D2-3007-4C3F-95BD-A0504F6E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C8B-A891-47D4-A7D4-19764871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3C0-7F8F-49B7-AA22-C8E4F086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88B-1E03-4AD9-A360-D57CBA6A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8FC-3BE9-41ED-8F23-51019744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291D-4C2D-407B-A414-C26F8D80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A4F1-0A30-448C-8719-4B7B97DED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7D34-CFB5-43E2-9ED8-F7FB93D6D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639C-A88B-4455-8622-0D3BE1E3B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First No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aditional English Ca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Sandy’s CHRISTMAS CAROLS (1883), Arr. John Stainer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First No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First Noel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88920" y="64882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First N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First Noel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First No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First Noe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920" y="64882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First N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First Noe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First No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First Noe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8920" y="64882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First N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First Noe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First No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First Noe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8920" y="6488280"/>
            <a:ext cx="23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First N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First Noe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18:28Z</dcterms:modified>
  <cp:revision>32</cp:revision>
  <dc:subject/>
  <dc:title>Slide 1</dc:title>
</cp:coreProperties>
</file>