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060-2F57-41F7-B356-4B5CEDAE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67A-127B-478A-BF63-D747DFE8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451-62C9-4BBE-BAA8-0CB46927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B0A-B6B6-45E7-8BB3-80E39910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F0BB-4331-420A-9FA2-35345582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1363-E1C5-4166-AB57-E9EA02C5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5AEE-B7B0-449F-8C64-852256DA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8FC8-3B74-4B65-A893-FC08A798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D3CA-BB54-4FE1-83AB-1A91AF8C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012A-CADB-403D-AF7D-03B6C344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D56A-A5A9-47DF-ADF6-69D02E05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3C3-3997-4F3F-8C94-4FF0AF6F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5940-4E3A-463B-B969-6B6AD7A1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B5BB-D737-422E-8247-B487B599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FE9F-2FB5-4485-B883-FB8E4986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A82D-096B-445B-ACAE-E6104B4B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6106-18C5-434A-8BB4-6BFCE3F3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5E5-A607-4DC8-BE45-5BEF4D4D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48652-D241-4AE9-8DAF-552162FD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0F0F3-89C9-46A7-A8D9-34367FDE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4C054-40AF-4EB3-BC8F-2763C067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581-7932-47ED-9B92-F6BE9F6D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55D38-C8A5-4382-A100-787254CE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D51C2-DFA8-446D-A5F2-FEE4B9E7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02F01-6717-4570-B21F-11D597AF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50CB7-FB0B-4CF6-9794-39941E95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BE371-C946-4913-BE6F-B5B948C2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84C6-9ED6-42BC-BD51-CA6E3A06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FCEE6-34B7-45B8-884F-71DB66F0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A243C-DACD-4477-8AB7-A8AC0464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9FB04-60C0-4EEF-A9F3-5835C2C6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608-B66E-4F77-AAC5-AD3A4517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07E-E863-443F-921C-6DE73D75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27F-5BB3-480C-93D0-56F2D136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8053-D6A9-4959-ACD3-1561B64D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908-D767-43E7-88C9-FC88DF18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D06F-C311-480B-9F09-056E575C9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0FAA-8F1B-4B2F-856D-7D277F7729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A484-1CA5-48EA-BA36-A1EA989F4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Great Redee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is Foster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. Beazley (19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Great Redeemer_v1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Great Redeeme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78840" y="648828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Great Rede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Great Redeeme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Great Redeeme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Great Redeeme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Great Redeemer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Great Redeemer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Great Redeemer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he Great Redeemer_v2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The Great Redeemer_v2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Great Redeeme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8840" y="648828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Great Rede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The Great Redeeme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78840" y="6488280"/>
            <a:ext cx="31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Great Rede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The Great Redeeme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The Great Redeeme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The Great Redeeme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The Great Redeemer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The Great Redeemer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The Great Redeemer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The Great Redeemer_v3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The Great Redeemer_v3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2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Great Redeeme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Great Redeeme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Great Redeeme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Great Redeemer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Great Redeemer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Great Redeemer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Great Redeemer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0:57Z</dcterms:modified>
  <cp:revision>17</cp:revision>
  <dc:subject/>
  <dc:title>Slide 1</dc:title>
</cp:coreProperties>
</file>