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2F1B-8B32-4DE4-BD0B-99BE641D8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3091-6CBE-4A9A-A252-D9DA4BB47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7AE0-C3AF-40F1-9061-D530FA9BF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2F7F-60CC-4543-8F88-2821F957F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0E230-BC32-4C7D-A361-D69679908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E4581-79CD-4F2E-9822-7E35F66E6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64420-4FBB-40DD-9FDB-895B51E11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A124F-542C-4A16-9C4C-FDDF6809D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6DDEA-2F44-478C-8D14-F8ADC9DAC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871C8-D611-4752-8E04-2EAB9CFCC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D737A-96B6-43BA-8AD2-446238A6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45D5-0257-46F6-A096-9BE78502A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93A5E-DD2E-4A94-8627-6C0BC38B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6EDFC-1762-4A05-B9CB-6D26D2BE0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6D4AC-2F4B-437B-8AE7-7CB9EB486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201D3-6DAF-4AFC-B67C-D6F82A48D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C2622-8442-4EF8-B1A6-E76B1EAA8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BDBD-A135-425C-AEBB-2072C94C0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89EA0-1837-464E-B49C-FF0D7E0E1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8BCC2-726F-4354-8F6D-0B998C9EB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CCB33-6F68-4B4D-B630-7A1A750EF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2DBC-79B3-48BA-AF96-F09EC3F05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0018B-616D-4AE1-8814-AD5150D6F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2FB4D-1D89-479E-BBCF-E841F0DB8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F0D7D-970E-4F81-9A54-7195DD992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E6F62-25EE-4549-AD71-5C3B83BC9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678DE-F53D-44D0-B8AB-067151B10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E6759-C41F-4972-9FD5-AF1DA8AEE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BC5CA-4677-4105-AD9E-317257E08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0F451-FAAE-41A9-AA5A-1FAA07E3D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7271C-3833-4710-9BE6-2072C2AC3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4ECC-D97D-4697-8D37-8B2563112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8E41-B702-4CB0-ACA1-09BFD0FFE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40EA-9EFC-4070-8CBD-F8E0AC1B0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FBA4-ABE6-4F79-9E10-630CF09CD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A79A-4ED8-442A-A5CA-ECF2F6C1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1C6C4-1B09-49B4-8889-68531422AA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DAE32-F972-4362-A83D-C1DD6A6B79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1202E-CF63-4B6D-8DE4-09ED5232D2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he Church’s One Found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7.6.7.6.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56160" y="4902120"/>
            <a:ext cx="1344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F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. J. Stone (186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G. J. Webb (183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9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The Churchs One Foundation_arr1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31400" y="6488280"/>
            <a:ext cx="408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he Church’s One Foun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The Churchs One Foundation_arr1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The Churchs One Foundation_arr1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The Churchs One Foundation_arr1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The Churchs One Foundation_arr1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131400" y="6488280"/>
            <a:ext cx="408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The Church’s One Foun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The Churchs One Foundation_arr1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The Churchs One Foundation_arr1_v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The Churchs One Foundation_arr1_v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he Churchs One Foundation_arr1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31400" y="6488280"/>
            <a:ext cx="408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he Church’s One Foun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he Churchs One Foundation_arr1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he Churchs One Foundation_arr1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he Churchs One Foundation_arr1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he Churchs One Foundation_arr1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31400" y="6488280"/>
            <a:ext cx="408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he Church’s One Foun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he Churchs One Foundation_arr1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he Churchs One Foundation_arr1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he Churchs One Foundation_arr1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0:06:36Z</dcterms:modified>
  <cp:revision>31</cp:revision>
  <dc:subject/>
  <dc:title>Slide 1</dc:title>
</cp:coreProperties>
</file>