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45A-F3D7-493F-A332-D5F83422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012-95B7-4930-8394-A99F5A99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5D4-E1C0-404D-9A77-57A0F38D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402-C5F3-4F62-B263-7E031B8B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283C-57CA-4D39-B215-DBC6A099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A01C-0A6E-41B1-8DB6-2CD7DE42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2CDC-5A0E-4AA4-A031-6FEE5B99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1F21-3146-4A5A-9948-D0556C0B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398-ACE7-4A12-B594-523D536F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6AA3-1BB7-418A-AAC6-D19E402A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961A-BBD3-4DDD-8C52-FCE5019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57C-475F-40F0-96E2-B52A3C3F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F557-6D8A-4594-9DC7-E11D3763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0E02-D626-4C83-A706-A18EC182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FD58-FC76-4520-8F61-C25E7902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EA05-3068-41A5-AA07-8EB92362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CE0C-703E-4EF6-8345-D922EDE5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690-723E-4408-AECB-449E5A86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9EE83-7D0D-482D-A0AC-72C024FE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77B1-6DAC-44BA-8768-B1F5B88D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93768-90B2-4E98-92D0-7B102579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086-66AC-403A-89C0-2FCA63A1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A39C-78DB-4632-9CD1-8DC5DB6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86C3-BAE5-46C8-AEF4-BC0347EB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76A17-D106-4BCC-90F4-FAF1028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731B-44BA-4359-8E4E-439C23CF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9226-81F1-48DE-BB0D-8A87D2C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C71A-212E-490D-89B6-93328B8F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24DD-160E-4EDC-BB66-8A8B5544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8C1CF-B1F9-4FE9-82A8-F8B994CB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9B9ED-DE79-4448-BB46-D4E3ADF3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C5B-9CFC-4B35-8B35-3B0C91A9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57F-789E-4352-B5AC-147D7FEF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499-2D6A-4B92-A61F-D0F882E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EAE7-691E-4F87-9B36-4ADF9972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E53-19C2-43C7-B0F3-0AF4FB25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8F3F-3F8F-457B-9EE8-64D712E89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0DE-8754-4CDE-BC3D-795172E431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CBF3-ED72-4574-A021-E0EB1AB4E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Sunshine In My 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E. Hewi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ext, line, fo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000" y="64882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Sunshine In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Sunshine In My Soul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Is Sunshine In My Soul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Is Sunshine In My Soul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Sunshine In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000" y="64882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Sunshine In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Sunshine In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Sunshine In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Sunshine In My So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Sunshine In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000" y="6488280"/>
            <a:ext cx="401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Sunshine In My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Sunshine In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Sunshine In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Sunshine In My So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1:35Z</dcterms:modified>
  <cp:revision>36</cp:revision>
  <dc:subject/>
  <dc:title>Slide 1</dc:title>
</cp:coreProperties>
</file>