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319-1FBF-4DCD-ADF8-51356A76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F75-3936-4112-AFA0-0058600E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233-0D7A-41F4-AFBF-FF1F86F7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BA6-7062-4CEC-A704-72E46E21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EDC7-6B1D-4B71-9B74-4D7F66A9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6F69-64C9-43C6-819B-7BDF10DE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F040-3DB5-4529-8EEA-7CB5ADE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9919-4D0F-4101-8371-0E6DCDC13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1982-751D-49DB-AABD-9F777874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C35F-ED98-4C62-8EC7-E0137C62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0D15-B7CF-44FC-BB23-D8859756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58E-F607-472D-881F-46BF616E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5C97-E126-4964-89E5-41A418BE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C4BB-BBB8-4FD0-9FAD-08B92C4F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DF17-DD84-437E-8DD2-4248713C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A253-9F6F-4E64-8976-56472826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8C13-CC74-4E36-9651-BBB90124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224A-61F3-4206-A1E2-1D2F05D0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DC16-B846-4BF9-AF08-83B85EE9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C7F05-58E0-4C56-BE17-ED364529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71B5-44E5-4A83-B8C1-FB6E63BB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76D-0FF5-46C6-8F42-08E8E84D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2A070-DAED-4802-A73C-87D52713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6C66F-30FA-460C-B6AA-232E9136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A68C-27A3-48D4-A591-97BC8DCA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08C89-DD40-494D-BA56-FE2210D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1B2B-DEAB-4FC8-A953-E808ADC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3F6A-ECA6-4E4F-A4DF-55B33CD1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BF115-F4F5-4D38-92A5-7A1726C4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D236E-101B-4455-8DB9-BE31FA00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4972A-1BDD-41EF-A4CB-1039BB20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1BE-4F88-4DC5-82F2-ADCF4A49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A51-4C29-4627-8F9D-10650402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0A3D-8163-47C4-9DAA-C10CC9D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7C7-3D64-4F75-B5B1-A9101BF4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F2C-3971-4266-88A5-51ADD028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D2B1-6B3E-4DF5-B7A0-BDF102A01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0FA8-DA6A-4160-8023-A94B07C9F2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41CB-F294-40AE-985D-B298B1853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's A Royal Ba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Banner Of The Cro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 Nathan (188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by L. O. Sanderson (194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s A Royal Banner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2160" y="64882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's A Royal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s A Royal Banner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s A Royal Banner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s A Royal Banner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s A Royal Bann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160" y="64882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's A Royal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s A Royal Bann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s A Royal Bann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s A Royal Bann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2160" y="648828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's A Royal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s A Royal Banner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s A Royal Banner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s A Royal Banner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4:38Z</dcterms:modified>
  <cp:revision>38</cp:revision>
  <dc:subject/>
  <dc:title>Slide 1</dc:title>
</cp:coreProperties>
</file>