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15F-2719-4785-B177-D815B6B22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4B1-A7ED-4E62-B5AA-D5FCA01D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22C-2159-4C68-8657-2D7C3B79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B8E0-26B7-4814-8492-99F7963F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42495-31EE-404A-9BEC-4FB141E4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91F-B76C-49A9-9DFA-865F645D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452-C25B-4B27-89CD-0BBF0D27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82F3-627F-4DB9-86F9-D0F140B7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863-432D-439C-A96B-6D52C641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7E76-F832-4273-8502-C58E771F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41F-E95C-4C0A-B77E-43C11093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DD1-B3F9-42CA-AE5C-C7020F0C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0A9D-EEAF-4901-B7EA-BA553BAF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5BFE-A6B2-4E51-916C-637D9D3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F1A5-AA0C-4589-882C-DCFA433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FE75-7845-4FF6-9D99-9CFCD51CE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9A7F-A749-456A-B42E-72E97DD9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8BC-ACFE-4B9B-9EED-77462A03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7D52-838F-4465-8788-1308CD51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AA8F9-AEEF-4F32-984B-41460C22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F31C-B74F-44E9-AE65-D62A43EE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556-D0FB-4F52-83F3-72BC172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180C-E9B9-4ED6-BCDB-426BE9F1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72C0E-4BD9-442D-99A6-B448B24A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3B6F0-F89A-4DA8-B3F8-A60E7509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E3CF4-03EE-4884-951D-253A14F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2DDD0-5961-4BBC-B0B0-E577A80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8BE4-CC80-49BA-8D4B-9CBA932F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77D0E-57EB-4AD2-9A84-9A5844DB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B454-3000-45D0-86D2-646FA248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D96B-5E83-424F-8D4B-8FFF6DE2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08C-AC89-4A6C-974E-FBB0DDDB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99C-744F-45F2-ABA3-4CD38313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824-6804-4FBC-9B2C-2E3B675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E2D3-7FC6-4960-815E-48A7467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C04-89B6-431B-9562-E8BE9CE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C1FF-5F1B-48A8-A3B0-24AB675CA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3025-CC49-40B8-830F-FAA87D911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56B3-FB9A-462D-AB8E-3BE9CB8D8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Way Of The Cross Leads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rown Pounds 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Way Of The Cross Leads H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Way Of The Cross Leads H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Way Of The Cross Leads H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Way Of The Cross Leads H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Way Of The Cross Leads H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Way Of The Cross Leads H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Way Of The Cross Leads H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Way Of The Cross Leads H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Way Of The Cross Leads H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4280" y="6488280"/>
            <a:ext cx="46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Way Of The Cross Leads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Way Of The Cross Leads H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Way Of The Cross Leads H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Way Of The Cross Leads H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6:35Z</dcterms:modified>
  <cp:revision>30</cp:revision>
  <dc:subject/>
  <dc:title>Slide 1</dc:title>
</cp:coreProperties>
</file>