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856-2B01-4444-A85B-97E490E3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26E-D79F-403F-AF3A-97F79124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72D-E95F-4E81-BCF4-FEA42230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DD22-08EA-42EA-A736-26CE8566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1E9A-165F-4B98-A09D-0C0A919E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140C-EF9A-4DC0-B810-D805BB72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F981-D50E-4F64-ACE5-6750801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C4F-B6C2-4C1B-898E-7EEDC237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592E-F47A-4CD1-A47A-83DB810C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E59A-D854-4F30-B502-07A3D71D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95DA-B1F1-4EF9-B308-A44F0CAA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6E2-C002-440B-83CF-C729F6F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1A06-2C5A-4D91-9D2A-374BBE6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B873-0DB6-42E9-B44B-F5B2F445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B3A1-6E50-408E-9E06-35B7B23D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701D-8946-4E87-86D3-B94FF4C3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950A-D94D-4A76-982B-1C7A83F7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7C9-2E6E-466D-B60C-51B38563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A706-1FC6-42C1-B78A-A4124906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F2218-14CE-4A3E-A925-324EE68F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F8093-731C-46C3-AD25-CD4DB7C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BE3-6EB2-40A4-9341-E902FCF6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D56E-433A-4646-A346-77085013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408D7-531E-4F1D-B736-FF32A061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0B114-5638-4783-9A6D-9A282E99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A023A-43B2-4BFB-96F0-C84F5FE7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7E56-7898-428E-852B-D0BDF57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A45E-F6B4-4E9B-A5C4-080DB05D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14543-85B8-429E-9BE9-7539AB09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FCD9-00E9-47E7-B9ED-262C07EA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5F90-3613-4B8B-A27D-C09A588B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1C9-38B0-452D-8B33-DEE3BBD9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EC6-DC83-42C9-8041-7D4AB660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9CD-4C8A-4B2A-9F8B-6396F3FB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87E-D35D-4D8C-82E8-273DD7FB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7DC-CE76-4FF6-BA39-C50F814C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504E-0CE6-477E-A342-7DDAD2D10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47D4-A872-41D7-90F4-7E9F6DFD9B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3764-1507-4A07-B49F-1BDA2E72F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Christ Be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o Christ Be Loyal And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sha A. Hoffman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M. Wilson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Christ Be Tru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Christ B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Christ Be Tru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Christ Be Tru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Christ Be Tru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Christ Be Tru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Christ B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Christ Be Tru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Christ Be Tru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Christ Be Tru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Christ Be Tru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Christ Be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Christ Be Tru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Christ Be Tru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Christ Be Tru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6:31Z</dcterms:modified>
  <cp:revision>32</cp:revision>
  <dc:subject/>
  <dc:title>Slide 1</dc:title>
</cp:coreProperties>
</file>