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EF04-3AA5-4CCA-97D3-614F8ABFD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FA55-B14A-4837-96EA-D514CFF0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5F91-3362-4933-A021-096CB4DDB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6779-3168-4AF8-98A2-852CE7C34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18C9-9078-4F2A-B732-E627FF9A1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10C6-3007-4B67-A1BF-81AC4CCA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EA98-2608-43CA-807E-4E0AFCF0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955FF-5DFC-4137-A612-016C4B35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BA90-63EE-47D0-80BC-9BFED369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0A4E-5227-434C-B841-27CC2114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4F61-32D6-4436-AC43-E66AFF45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9634-4519-4A15-8117-B3805CCB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9C37-0011-4D32-B28B-1A1C7930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7BBD-AE03-4A66-B1AF-FFC06D2E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3946-CE8E-4E74-BA3F-62BEEE0B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3F5E-16FE-4B18-921D-1B07DE0C0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C3E6-8A9B-4888-A807-F9850B927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537E-1CCD-458D-A036-A71EA5F9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F8677-A6D3-42C1-BDB0-16D3F3875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F241F-777B-48D5-A528-5722C33C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4C20C-1BBE-4F64-9706-3060F6EE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9F09-7880-47E3-882B-B668B70B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5687B-88F4-4DB4-BDA0-610F847F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25CCF-5714-4000-B824-1F486363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3531E-097B-439D-80EA-0A24252B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393C6-5291-4C1B-996C-0A7454A7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40B84-1DCD-4F9E-A2F8-B65AE859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C618B-AA48-44E5-8EE6-D88DE5FC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BB67D-B7FF-4990-8138-03460919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E88CA-C7E2-4E6C-B4C8-5C87517F8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27691-5F5F-4999-9898-9FBEEF8C7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1635-BA82-41D5-9A6C-FFBCFF2B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1578-CB6F-4F1B-9500-912E46C9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9AC7-F7A7-463D-BC82-1F00F7DF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4194-D22F-4E46-A3D5-6BED30C1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2DC0-D97B-4D90-88C5-28079D44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888D-AC9D-4A21-B830-D78593A6D9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6627-5B25-4E32-A5F6-841955251D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7272-9BB9-4103-BF56-6FEE1EDA14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o Love Some One More Dear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My Ta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G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aude Louise Ray (1903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vs. 3 F. H. Pickup (19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L. Ashford (190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o Love Some One More Dearly My Task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o Love Some One More Dearly My Task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81800" y="6488280"/>
            <a:ext cx="42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o Love Some One More Dea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o Love Some One More Dearly My Task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o Love Some One More Dearly My Task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o Love Some One More Dearly My Task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81800" y="6488280"/>
            <a:ext cx="42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o Love Some One More Dea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o Love Some One More Dearly My Task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o Love Some One More Dearly My Task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o Love Some One More Dearly My Task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81800" y="6488280"/>
            <a:ext cx="42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o Love Some One More Dea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o Love Some One More Dearly My Task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30:12Z</dcterms:modified>
  <cp:revision>30</cp:revision>
  <dc:subject/>
  <dc:title>Slide 1</dc:title>
</cp:coreProperties>
</file>