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2612-4C69-4017-A9E2-F58C0EC4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1652-6730-42CD-8A97-882C68DF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81C5-5398-42F0-9E36-ECABD23A1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173C-DC51-4C6E-8400-0899188E0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7E68-0433-4A38-A5C9-0FB0941E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BE9E-2B57-4889-BAD8-272F91B0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5FA2-249E-4545-B327-D7D5B635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ABE1-ECEA-47AC-AFA0-6DAD97C0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AE10-A13F-423C-B525-F1C55CFF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32E1-BBD1-4D59-8976-F35326A4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93CE-CF79-4451-97C4-C40DFDFD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063D-D1E3-4B1D-801D-AFB58B40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A736-0C6A-4210-83A2-570E6D48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2827-B1B6-40FB-AE4B-515357E0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A3DD-2AFB-4ABE-9BBB-D7A3665A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1134-6D3D-491E-96A0-A83C550E3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A69A-5608-4486-BCB7-2EF2BFB55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2031-FE00-4D88-BE15-1F549419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76F99-A314-4196-8A9A-DEB558212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7969D-B306-46E8-97A6-A8186C0C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9161E-83C3-4A2D-9648-723DECB5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FE44-CC42-4E7C-81F2-0614440C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E2B9F-232C-4D50-AD78-BD3E2486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AA91C-3C4E-48D4-AE6A-A3238B2F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0A6BC-3E2E-4F59-8C3C-98775993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F1F1E-E39F-464D-895C-E9B0FF86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1C40A-58DC-4F75-AF48-1E5809D6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90DAB-A58F-4CBE-BA53-1659DE7A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28DB2-E3A8-415A-A145-56AF5FC8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4CDCE-6325-40AB-825C-A73AD72B4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35917-87D3-4AB0-9461-FC28C4856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C20E-9209-4725-AA11-773FA547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B034-0267-4E02-8D8C-B6344030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3B74-3174-417D-8F8D-34431C28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67C5-7BED-4AE4-A792-F60E2EFA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9CB8-81F5-4B6D-B11C-7A26F4FC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3D15-486F-4600-B5A7-A15A6171E5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E936-1950-4C1F-9D44-7C3E56BD68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C6E9-9F66-4CF1-A6A0-009A5544A3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is Is My Father's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TERRA BE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S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5160" y="4902120"/>
            <a:ext cx="132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altbie D. Babcock (190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 English Melody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r. by F. L. Sheppard (19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4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is Is My Fathers Worl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9720" y="6488280"/>
            <a:ext cx="359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is Is My Father's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is Is My Fathers Worl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is Is My Fathers Worl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is Is My Fathers Worl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is Is My Fathers Worl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9720" y="6488280"/>
            <a:ext cx="359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is Is My Father's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is Is My Fathers Worl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is Is My Fathers Worl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is Is My Fathers Worl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is Is My Fathers Worl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9720" y="6488280"/>
            <a:ext cx="359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is Is My Father's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is Is My Fathers Worl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is Is My Fathers Worl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is Is My Fathers Worl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45:24Z</dcterms:modified>
  <cp:revision>15</cp:revision>
  <dc:subject/>
  <dc:title>Slide 1</dc:title>
</cp:coreProperties>
</file>