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7CC-C1E5-4B6E-A742-ADD5C0F7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5B5-B611-4A45-9FC2-546B7879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F3C-84E2-4077-B51C-D35CC55B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F28-40D7-4B8A-9212-98C59902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3AC4-4567-480F-AA11-36AAFA4D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A210-6197-4D2C-BC49-E253C242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2C21-37EB-4BBD-BFED-47E64527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50F6-E48B-4154-8C7A-CBD9B966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DFCB-564A-4446-A6A9-2D5AEF7D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67F9-AD6B-43E5-BBA4-BD1072EC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444D-F9D9-464C-BDC6-AD90BBFC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227-4C10-4A7B-BB27-4933AAB6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BD07-E3E8-484B-AB7F-36E08D3C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3048-D366-488A-954E-092018E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35BC-A22E-4E75-B401-A02F65CF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BA57-79D8-4220-99FD-847B6D4B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6795-55FE-420F-8757-AF6F346C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14A6-6C04-4A60-AEB4-01B4EF5C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C5D1-BB76-44B4-A75C-F55D6CC1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0A95-9749-48B1-9F35-209C1DEA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90156-C516-467E-97F5-58E9B653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164-0A21-407C-80B6-BCD67462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6B8B-C0A2-4F40-8AE1-A35E43A8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F60B-5FC1-4D9E-A188-9EC7B6EC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10A0-8727-419A-B4B6-5716CCDE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25F7-FA46-46B5-B46C-6DF99AFD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BB44-BBF3-4C06-9671-6C913F7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D6E0F-64E0-4FC4-AEE7-08AA627A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E450D-F2CC-401D-82FA-B9EB436D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F1FBE-3DE1-410D-97E5-6CE1EAB2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1E07-3C3A-4773-B43B-0A300C9D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8CF4-C6DA-4C3D-BF60-62C88FB0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D5D-92E0-4444-9615-BFD952C5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C886-70BB-46DA-82DD-39BF47CB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8799-7946-4D42-AC0E-B98E618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455-C05D-461E-9BDD-0182798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3AE9-0D29-4788-BDC4-5736237E3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4C1C-6244-44C6-A8E5-A6433E336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2EDE-8EA4-44ED-9265-2406D46AA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Gate Aj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 Is A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Lydia Baxter (187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ilas J. Vail (187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Gate Aja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20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Gate 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Gate Aja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Gate Aja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Gate Aja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20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Gate 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Gate Aja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Gate Aja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Gate Aja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200" y="648828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Gate 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Gate Aja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Gate Ajar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9:32Z</dcterms:modified>
  <cp:revision>36</cp:revision>
  <dc:subject/>
  <dc:title>Slide 1</dc:title>
</cp:coreProperties>
</file>