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1EB-E1BD-4699-8E31-493F740B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FD3-B037-4711-BEB8-2A67D011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FB3F-9013-4A68-9E1C-722C19F5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80D5-7D24-429F-A0F8-E334D348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27E7-3D91-451F-91CA-2BCAFBB1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1F59-781F-44D4-A131-7276184F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F21E-502D-4A82-9446-5F014565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0428-EC8E-4A99-9068-5E700D47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1CAF-CC20-4517-B48E-91BDDFAA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8038-5E2B-4000-A64A-702294CB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239A-2868-4261-9B30-27FA7985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B60B-3684-4E4E-83B7-1360717A6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2AB2-D034-4F8C-8233-F082AF13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BC91-CB39-4C58-9181-81B0A0B6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6474-58AD-4D9E-9793-1F5E6BEB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6E80-C307-41ED-BE69-4AF4AE8F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5751-B4F1-4ED6-B68D-43B204E4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E1DA-E2C1-455F-83AC-AB5C3E1B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84A34-9A5A-4464-BD34-3D216DE8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363AF-BC2D-4FE9-95C1-F22D1D7F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5A370-0D63-453E-B635-D4D1B62E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D8B0-A763-4293-A9F6-6BDD155D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506E3-986E-46BA-AF96-4C90795C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3A3E9-2F27-471E-8497-4A740D17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C04F3-2BAE-4CEE-AC77-9E6CAA7C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9989-8B83-4484-8F9F-E392A556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235A1-F926-4AD8-ACD1-BB7DE00E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75DE0-155F-41CD-AF59-71D31954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7B49-DF6D-4F63-9C7E-B5A13B42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BAF65-7A71-4543-9151-0F663EA6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87AEF-34C1-4ABB-83D9-DA10C2DD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8E7-0BDC-49D1-926D-3147EDEF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290-D23B-44A2-AF0D-74A563D2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C90A-E951-448C-AE89-6C8B733A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9989-C872-4989-B06D-09C49DE0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D59-82DB-4187-9921-11940DE8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E6E6-F9D0-4DAD-A132-96BC4C771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301E-BFEB-4940-A2E3-0C7B591AB6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1D48-C211-4831-94C9-648CC7E99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is Little Light of 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3200" y="490212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ld 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ld 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is Little Light of Mine_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3840" y="648828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is Little Light of 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is Little Light of Mine_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is Little Light of Mine_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23840" y="648828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is Little Light of 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is Little Light of Mine_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is Little Light of Mine_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3840" y="648828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is Little Light of 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is Little Light of Mine_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is Little Light of Mine_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3840" y="6488280"/>
            <a:ext cx="34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is Little Light of 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is Little Light of Mine_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58:36Z</dcterms:modified>
  <cp:revision>31</cp:revision>
  <dc:subject/>
  <dc:title>Slide 1</dc:title>
</cp:coreProperties>
</file>