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13CB-2130-41A2-AF7D-7E1FC810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56A-2C40-42D1-8F12-1D5EE299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3C02-4871-4DDD-A238-D8368855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B060-8F62-4833-902C-28A3C541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D759-1EA3-4B1D-A367-1ADB30D1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4707-E76D-41A1-BC8F-7FB885BB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967A-2736-40CF-893C-8E62A1CF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CF6B-DC95-41FC-91B3-572C87DE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1BF8-D120-48DF-82C1-6F5D35BA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CCD6-AC15-40E5-9B34-DA173050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4226-7E8C-475B-87C3-7D02A97E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726-DEC4-4315-808A-28EF9F28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4378-65B2-4F60-8D8E-FE388A40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B989-0F0C-4F09-9B90-E147AF9C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0CEA-7612-4EE2-86DD-CA2BDBD1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F92C-9110-4FEF-BD6D-CA598242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3D39-9E75-4854-9D9E-25785D38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76C-A920-469A-8110-B6049C3D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713E6-D4FF-4B7C-A3F1-C4356C23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FAA3A-C493-47CE-A011-F1A32D5F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AF2C7-BF91-410B-99C1-5477ECF2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031B-D896-4833-9D6A-66513B13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85385-3C9B-42A3-8559-35ED207B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E06D2-E257-4FAB-AE9E-C55006F0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C2370-30EE-49D2-BC0C-2C634740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38646-4832-4880-80B4-638007D9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FEA71-11C5-4EAB-B5FB-EA2EFEE8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887D3-4BC1-44C7-B748-A7709ED6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46830-C1D3-4C92-8C0F-EC695F91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9BBFA-AED8-41AB-B75E-92505D9C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AD628-5A26-4921-A520-763AA999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C39-BB93-47E4-94FB-6B58F7AE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595-E83E-45F8-94F5-28948E9F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D11B-D616-456E-A50E-79556AA0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FFF9-FFDD-446A-A722-EF50F891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908A-EB6C-4517-BD04-845E01D7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81E7-1783-4A7A-9161-E4C758C9A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F318-A63E-47B9-BD05-6F2F94D59D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2D74-B8FA-4878-8248-CB03AFF86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onderful Words Of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onderful Words Of Lif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onderful Words Of Lif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onderful Words Of Lif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85680" y="6488280"/>
            <a:ext cx="35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onderful Words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onderful Words Of Lif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onderful Words Of Lif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onderful Words Of Lif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onderful Words Of Lif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onderful Words Of Lif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5680" y="6488280"/>
            <a:ext cx="35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onderful Words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onderful Words Of Lif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onderful Words Of Lif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onderful Words Of Lif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onderful Words Of Lif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onderful Words Of Lif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85680" y="6488280"/>
            <a:ext cx="35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onderful Words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onderful Words Of Lif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onderful Words Of Lif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41:15Z</dcterms:modified>
  <cp:revision>31</cp:revision>
  <dc:subject/>
  <dc:title>Slide 1</dc:title>
</cp:coreProperties>
</file>