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3E9-CCF9-4884-B1B5-36554E9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4AD-2CB6-4790-BB69-7DBEDB47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BD0-083A-405E-B2FF-87DCC876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A92-FD3D-49C1-91FA-4F44CA2F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D700-31B8-47CF-9075-C6C288E5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FE01-A950-428E-8F41-7F23984A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BCE6-F898-4505-AF60-EC72F084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523C-03A5-411B-8164-3E1F856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9087-39D5-4740-A437-834F684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99FA-8B95-4DAD-AF2E-E3542263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DDB9-CA6C-4A41-AAED-3A5827F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455-0B2C-41B7-A8A4-C4B6FDCF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34EF-18A1-4964-82B2-C9B12E1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0357-7DA2-4FBA-BF3E-24183F6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81D0-EC88-4153-B962-4E6D582E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E5A3-6FC7-4979-85B8-31204867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8B66-899B-4384-AE7D-DA0F18D5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8C9-7F0B-4128-9690-A0168249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C973-D51A-4211-AD8D-9A73E9E8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626A-8BF5-47F7-8632-CE13958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72F4-B81C-462B-80BD-21D0D41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ECD-BED1-46C1-86DE-D0238D66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A840-ECE7-4E1B-A515-E5AFAE4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3619-A0F9-4A7B-85C7-18B248A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AF70-E068-497C-8A77-954920B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B8949-3C23-4F7E-B264-41E17621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1567-229B-4F3D-A72D-5F987E9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5D31-7F28-4D07-A825-347FC5A3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3C84-13B9-40FF-97B3-0381B8EA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2453-FFD7-4506-8D45-00A530D3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5BA6-2FFC-4048-8284-EA045DF9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13F-59D9-41DE-B8C8-464886F2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ADE-52B4-4C92-9EA3-1D52E853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89D-84AB-48FA-AE15-B214499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0DD-77A8-4D2E-9956-BBF5B1B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211-36E4-47D4-A903-3C8B0814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13A-951B-4056-BDCD-7312C5088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0F0B-F9CC-4E3F-88EB-B7D615840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5728-3F91-44F8-8BAA-8966A72E6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Days Of Toil Have All Gone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eaven For 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ivilla D. Martin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tillman Martin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Days Of Toil Have All Gone B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Days Of Toil Have All Gone B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Days Of Toil Have All Gone B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Days Of Toil Have All Gone B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Days Of Toil Have All Gone B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56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Days Of Toil Have All Gon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Days Of Toil Have All Gone B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Days Of Toil Have All Gone B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en Days Of Toil Have All Gone B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hen Days Of Toil Have All Gone B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hen Days Of Toil Have All Gone B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Days Of Toil Have All Gone B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356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Days Of Toil Have All Gon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Days Of Toil Have All Gone B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Days Of Toil Have All Gone B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Days Of Toil Have All Gone B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Days Of Toil Have All Gone B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Days Of Toil Have All Gone B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Days Of Toil Have All Gone B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356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Days Of Toil Have All Gon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Days Of Toil Have All Gone B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2:21Z</dcterms:modified>
  <cp:revision>32</cp:revision>
  <dc:subject/>
  <dc:title>Slide 1</dc:title>
</cp:coreProperties>
</file>