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B272-2FEB-438A-B632-4E18F123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C3D2-6093-4622-B31E-B4E5345A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C9CB-B169-4E15-A1A8-051D7605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6433-B66B-4CD9-91E2-B3AED8EE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5A44-7806-4893-A4F8-315E08CE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0EB2-C974-4AE7-A7F1-8DAD5890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FC33-AD3F-42A9-AF08-4A655936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31A3-F6B3-4C82-B74A-D4B635BD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2AAA-626C-446C-9CCA-20F7D7E9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A554-9F61-4DAE-8B2F-793ACEEF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0FEA-7494-4B9B-9124-025FD25F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3A0A-10FD-409D-B405-123DBBFA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1A98-AD70-4401-B38A-94EA9BFE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EDDB-4E1E-4789-ACAA-6AB16E0C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E86B-7B49-42A5-BBBF-325D8E23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18ED-37BC-44B2-814E-21E22B62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1050-A209-49F8-813E-CCD69A81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CB1D-A7B3-4DF0-B950-7957E4E0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07554-2992-444B-B506-6381AF91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61B0A-8A85-440F-8DF4-FE9BB636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3F9DB-E935-4265-922E-C875A65C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DB6C-77F3-4010-9D94-7EE8C270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FE4F6-6BE7-447B-A371-7C0F0772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FEF20-EA20-4910-842C-5594761C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7153A-98F8-44E0-A7F1-2841B354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8CB4C-48AF-4628-AF1C-C56419AF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02A00-BE06-4C75-B8A6-D4DE8693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22C58-DAA2-4260-8486-D9B330ED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8CF20-30D2-4B7F-9CD9-EFFF409C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8AEAF-4CF0-4889-8FA4-28662748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7B85D-0E63-4F78-A6E4-042E57D6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BAEF-8AB6-4771-827D-C298B321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2456-8B0B-4068-9771-DDA49FEF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8A02-E564-4A50-BA71-09776E4F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8F9E-05DE-451D-B711-27D6C623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E164-E40D-4735-BD80-E5BED7C3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65E1-9A4B-4142-BA0B-B8093A153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FE33-6BB1-4B8B-9D0E-FCFDC46092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C47B-0FFF-4461-8D5A-C582888F2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y Do You Wa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E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F. Root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F. Root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y Do You Wait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y Do You Wait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76320" y="648828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Why Do You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y Do You Wait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y Do You Wait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y Do You Wai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6320" y="648828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y Do You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y Do You Wai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y Do You Wai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y Do You Wai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76320" y="648828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y Do You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y Do You Wai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y Do You Wai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y Do You Wait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76320" y="648828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y Do You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y Do You Wait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32:34Z</dcterms:modified>
  <cp:revision>31</cp:revision>
  <dc:subject/>
  <dc:title>Slide 1</dc:title>
</cp:coreProperties>
</file>