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2AE-0F6D-4041-93C1-4E3E6FA9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2CB-79F0-4DA1-8897-9194B87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104-C050-4FB1-AEE3-27E32849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3A9-87D2-4446-BB0F-F01DCC5F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6A64-D0A8-4D97-8D1D-044192C1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5B7D-9C0C-4199-9A39-B99CC485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72E4-32CE-4A32-B52B-9E62E4F6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F1BB-F366-47D7-8969-D24B9051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2D8-C411-4B6E-9BF2-7ECD07A7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3DD-422D-4EBA-B389-6071FA7A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0EF-57A0-4041-9FBA-CBCFFC2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07B-518D-4694-A8C9-E0A2143C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8E41-2B54-427C-8149-8222504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EF3A-70F6-400B-A43C-ACB9EACE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3268-C645-4DD2-989C-1C19C4A5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3DD-82E7-4BAA-BDCB-35064F64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C666-219D-4BB0-A48C-059A5C8E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E84-2530-4E3F-8EB7-CB997ED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69B5-57AD-480D-9424-9FA6ABDC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17AE-AC40-43E1-BB4D-79473B43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22A6-31BB-4292-BC48-85B49770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866-A51F-4BC8-AC68-B1271C0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1368-9C48-4307-A73C-B5C9D164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4CAA-4F8E-47BE-B9E3-80A7BBD0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09FB-7457-4191-8A37-4E99B30F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94B0-F6BB-4232-8EB8-B8A4935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D130-F7EC-40FB-9AB9-ED687E6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0958-31C4-4CEF-8391-83968B6F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F162-0170-48CE-9CC0-384CC34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8193-361A-4756-8336-22BAD232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E18B-1F88-4738-802E-D8F3C6F9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A13-70CB-48F6-9E9F-929E7592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FD5-E96E-4BFC-B8BE-81BE9940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CD4-E64B-406C-954D-844B9FC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354-EAC0-4D10-AA5F-525E78F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229-FAE9-427A-B4E2-F01A98E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4BAE-0F96-403F-B487-4E9908BAE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83FA-AD76-492E-A494-3CC080F70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D42-5AB6-42F8-B60A-EF8CF5BDC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I Survey The Wondrous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egorian Chant, Arr. Lowell Mason (18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I Survey The Wondrous Cros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I Survey The Wondrous Cros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I Survey The Wondrous Cros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I Survey The Wondrous Cros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I Survey The Wondrous Cros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I Survey The Wondrous Cros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I Survey The Wondrous Cros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I Survey The Wondrous Cros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2:57Z</dcterms:modified>
  <cp:revision>30</cp:revision>
  <dc:subject/>
  <dc:title>Slide 1</dc:title>
</cp:coreProperties>
</file>