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C8B7-5B77-42F3-AE55-03526EBA9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15D6-809B-4BE7-9C9E-FCD318E87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3DBE-47E2-4708-B528-4834C0F31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3897-7009-48DF-AF74-54B1950CB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8107B-798F-4381-B238-8371CF947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E8E79-E7EE-4D56-9D08-D21BF24D9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883CA-A7F7-46A8-9E89-95C16DF23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477EA-A360-4C62-8AC6-0F54136C4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13FB3-D4C6-4447-995C-7B18AC6A6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E6F95-552E-4F3C-9E6B-74B3A5237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88A66-BA50-405D-9549-59EBE488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FB73-3779-48E2-876E-38881A9BE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D7910-726C-4B84-9AA3-F77A409C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355FD-24DF-4278-AC79-E9A59146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32219-4F4A-41EA-822D-024C67AD5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AD01F-F528-4EBC-95EC-17CD49FE8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BB711-5AE3-4FE5-8265-B6D290AA3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F472-8EEE-40E7-9E5E-A5C1BAF0A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353B9-A15D-4A43-BD2A-4B209A969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090B3-F838-44AD-B092-EB281E5D5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62EDE-B001-477A-966D-E9A9D5AE2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9BEA-8C13-466E-8C37-06C654592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0D994-886A-4DB9-A170-E08884D33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9AD67-7948-426B-97A0-856263ACF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C4BDC-0012-4B17-BC60-CB23F98F2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89475-CDBB-4416-BAB2-A186B2E6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0AED6-D96F-44A5-B0D7-DB6B5F51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2A312-B8E7-4342-A768-54DCAE9F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25AEF-9404-47F8-A4E1-6AFE860C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76134-74A5-436D-B0BE-BC98C78CD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0D340-2626-4B69-A66E-D49C7B7F7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BA4F-F5C1-4DDC-9959-8B5EE3258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B44E-18AD-45A9-956F-68BEF81E5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3E21-8701-46D3-AF75-B524275E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153A-003E-4CDD-9E37-A3C59E8C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378B-ED1D-4125-AEF2-7D1A6076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78DED-C40D-4E3D-B16C-6F88BA8348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3547C-7B1B-444D-8E5D-B211E5B2CB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5C702-AD60-4B2D-B39A-DF96998A42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We'll Never Say Good-By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rs. E. W. Chapman (188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 .H. Tenney (188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7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Well Never Say Good-By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70920" y="6488280"/>
            <a:ext cx="36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We'll Never Say Good-B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Well Never Say Good-By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Well Never Say Good-By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Well Never Say Good-By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Well Never Say Good-By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0920" y="6488280"/>
            <a:ext cx="36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We'll Never Say Good-B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Well Never Say Good-By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Well Never Say Good-By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Well Never Say Good-By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Well Never Say Good-By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70920" y="6488280"/>
            <a:ext cx="36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We'll Never Say Good-B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Well Never Say Good-By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Well Never Say Good-By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Well Never Say Good-By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4T16:57:45Z</dcterms:modified>
  <cp:revision>29</cp:revision>
  <dc:subject/>
  <dc:title>Slide 1</dc:title>
</cp:coreProperties>
</file>