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BBE-BCAD-4F96-B510-58003460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FE6-C359-446D-AE2F-C29CAC9A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146-27B5-4956-95C9-65827921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496E-2A96-47EE-B013-B4353D85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C94D-6D17-4633-B0F7-A2E30CBC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591E-B52D-46DA-9FC5-AF45E858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DF42-39CD-41ED-9C3B-4A13E3A3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0A3D-DEC7-4C6B-AEC3-7AC0879A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3009-C95D-46EB-8CE6-C896BC24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F40C-A6E6-4605-9B10-4051DD34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DB6C-4312-4183-A030-1FB5E229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887A-12FF-4E5A-A410-C57D5242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15D5-2E98-47A6-BC62-CDAEFC16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F9CB-DC83-4987-9D02-8415C288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40DD-082C-430D-BC04-88409E1F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DDBF-592F-4683-BFDE-6957C5F9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3EA6-03BE-41F4-B569-530BCD4E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29A6-F747-4A5C-A9B7-0A029859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45862-BAB7-4D68-B6BC-5DC5EACB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F52C4-A544-4278-9855-D1AC5316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857E6-E84E-43AC-9FA4-6B8DB7AF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B9B-3DCA-4D76-8786-94B95564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74034-BC4D-4E41-8AB0-8CFB61C8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48C3F-CCA6-487B-8218-005594FD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925A7-84D1-4DD5-957F-A64822FE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326C1-EA56-4143-B288-35C19B9C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D4468-9514-49DF-84E2-C58DE7C8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2A70E-63B1-45EB-B7E8-FA53AF4E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7A9E7-1AD8-4CAB-A0F5-6A91CE16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210F0-F76E-4B78-99CC-A12202FB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81524-CFF2-4541-BEAC-42F9DF6B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7FF-1832-4CA5-8D30-54845789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494C-A26B-432E-839A-9D2AD38A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26A2-8790-4DB6-AAD7-44DCEEC6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AED5-AEBE-4C8D-90E7-F8AC047C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9C2-164B-4E3E-B214-58CB2A64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EF36-885E-413E-941A-539F78F5C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3FCC-5F96-4217-A979-D6EA86D065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C959-1510-404D-8247-A1A1FE5A2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y Did My Savior Come To Ear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He Loved Me 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G. Dailey (18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G. Dailey (18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y Did My Savior Come To Earth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2400" y="6488280"/>
            <a:ext cx="46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y Did My Savior Come To Ear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y Did My Savior Come To Earth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 picture containing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y Did My Savior Come To Earth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2400" y="6488280"/>
            <a:ext cx="46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y Did My Savior Come To Ear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y Did My Savior Come To Earth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 picture containing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y Did My Savior Come To Earth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2400" y="6488280"/>
            <a:ext cx="46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y Did My Savior Come To Ear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y Did My Savior Come To Earth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 picture containing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8:20:23Z</dcterms:modified>
  <cp:revision>35</cp:revision>
  <dc:subject/>
  <dc:title>Slide 1</dc:title>
</cp:coreProperties>
</file>