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A93-FA4C-4357-8396-1C4E3CEE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233B-7097-4FD1-B31A-4C9C3DFF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6C2E-87F8-4397-82E4-44AC21BE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D9D-4148-4DAA-84BF-4F26423E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F682-0074-4715-AC9B-09CBD3EF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FBAF-585E-4802-945E-D18CED9E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3DA6-9140-470A-9F99-923852DD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CAC1-E6CD-408A-8278-D632EDDF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ED66-EC87-4C58-A63A-D5B831DA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54E6-E6A3-42F0-ADD2-FD2D6C01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AD3C-DAE2-4B7E-A27C-277EFF9C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6665-8F54-4014-B0E3-15050F1B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3740-AFBE-4EA8-A0AC-E17A1245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072E-1F20-42C0-8CE5-9D5304A6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A21D-C1B8-4A77-A97B-E9930AC9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DD65-2631-49AB-BAD5-D3D435AC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98D6-0D31-4420-8006-439CCDBC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B44-6C3C-403A-8B56-A6A9A832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03543-DD86-44BA-9C78-E35F817C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672BB-D7BB-4F39-8FFD-4B189A17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C4836-B09C-415A-805A-B1C066A3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01D-4537-4095-83F5-854244C7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3519A-BA52-4D65-8C02-4D8A7645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C2A31-52DE-4F89-96D2-66B68135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872CF-6BC9-4704-8A65-AB4BB4A8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6893D-6FB3-4539-8A6F-B75CF0D2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4532D-0480-40FE-B0FB-FFEFE682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80C9F-BFCB-4056-8DE5-1208AF1C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BC6B4-E3F4-4597-AF49-2CE47A42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99ADB-887E-486C-B063-D1F7F8E7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79F6E-E2E2-44A3-9746-239A2DE0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7B8-72BB-4275-9B7D-F1F1D1A9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AE1-BA5E-4457-A8CF-9D3343D2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B6BA-E7A7-45DE-A26D-CDFBC705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4E1-390E-438A-A9CC-B3BAB931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B85-487B-4F7C-B30D-D4EF3F41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6C7F-2858-4E1C-A742-CD65B79D9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7A10-C850-4C30-8CA9-7517345684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C9EA-23A5-45C6-82F6-BE72844D7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e Lift Our 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1280" y="4902120"/>
            <a:ext cx="230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C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Des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N. B. Chumbley (20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N. B. Chumbley (20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e Lift Our Lives_arr1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e Lift Our Lives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5320" y="648828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e Lift Our 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e Lift Our Lives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e Lift Our Lives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e Lift Our Lives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86400" y="648828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(repeat w/ Desc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e Lift Our Lives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e Lift Our Lives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e Lift Our Lives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e Lift Our Lives_arr1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8:03:31Z</dcterms:modified>
  <cp:revision>30</cp:revision>
  <dc:subject/>
  <dc:title>Slide 1</dc:title>
</cp:coreProperties>
</file>