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38F-11D4-4FC1-B8AF-852C9DC9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83F-3223-460F-B3F2-2EDAF40B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BC0-3D23-485D-96AB-1D1347CA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2FF-34E2-4BFD-90F2-F4FE67A8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F67B-B18A-4909-97F7-EBF56431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D2D2-D1CC-482D-A014-45C530F5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131F-8AEC-4EE9-9A82-4F67B36A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72DA-B071-4D18-AF98-4CF2820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87AC-2081-4218-8CB9-52493A1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885-3484-4503-96A6-1B6B98D3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E87-C63B-46EC-8A87-B83495A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66A-F3AE-49FA-841E-35A164E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5382-515C-4066-9BCD-42A21DC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E659-A117-4B4F-B9E7-37D34C5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4D02-B5C4-40CD-9201-8E8BC42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5EC2-80DD-4AED-B03C-2FF1F226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F18-6EC4-4D06-9ECB-E71D10CC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AC1-CA7B-4395-8465-36E89ED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A9E3-6AAC-461F-94F2-30687280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1F9D-F74B-48B0-8CD9-20475FB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8611-0F2A-4AED-9394-8EBAB7F5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C29-B37A-49C4-B469-D95C82A0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D44F-197F-4ABF-A2DD-D9C3EE0B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7E9C-93F8-4B54-B30D-6F7577EF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147D-C0D1-4F30-83B8-E772D22C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9A1D-8AAD-4743-B5C9-DC36395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8FBC-A877-4B00-B235-B79C30A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C4A1-7D93-4B61-9425-1CAAC71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C568-3E12-4128-B742-25386CA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5D7A-6E91-4950-8567-BF2CA8E5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A9FA-3813-4797-AAB4-FB77699D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3BA-EFA7-423F-9486-4A48893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7BB-BEA6-4F55-9F1D-9038B2A0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46C-0EC7-4893-94E2-8AE0485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AD4-6A04-43F9-ABC6-C03AFEE2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83C-C932-4F94-B249-F53C8E5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A7F-A492-4C8A-9C45-AEF991BB4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F92D-90A9-4D5C-9549-3822D5D03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C6E-4B19-4969-942D-AB3EEEBFF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soever”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“Whosoever” Heare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osoever Will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16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“Whosoever”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soever Will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soever Will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soever Will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soever Wil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16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“Whosoever”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soever Wil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soever Wil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soever Wil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soever Wil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16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“Whosoever”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soever Wil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soever Wil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soever Wil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1:06Z</dcterms:modified>
  <cp:revision>33</cp:revision>
  <dc:subject/>
  <dc:title>Slide 1</dc:title>
</cp:coreProperties>
</file>