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200-3AAB-4E38-851F-F61318EA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749-7D46-4BCD-A5B0-EF9FB656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A02-DB01-429F-B31F-51EEDCF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282-0BCC-43E0-AD47-2D22EFCF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EA44-9544-4658-87E5-B806EF98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0B57-27D3-408C-9C48-07E393E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F03-0AEF-46DF-B332-B3A4B7D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A686-C028-41AD-9D42-581F0734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C216-B272-4496-8F2B-3A711F16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599-02CC-4D8A-91BE-7AA8C09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B43-9C34-4F11-AD57-2AF6DA2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05D-E026-4AC7-8D18-BF34B0B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292-9C4C-4380-B66F-FA11991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EB4-C5BA-44FF-9E34-7A0389A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CEBB-0548-417B-97DD-C7EE1DC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3CD-44C8-4F86-94BB-8AE477D2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BFAA-2027-4EB1-B3AE-81A74DE4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033-BF3E-469C-B154-152AAAB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8B88-7178-437C-A542-512D7792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EBF3-A698-4800-995B-7ADACD7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758F-9E6B-438B-A055-EABC41D1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E1D-9C55-41CE-AE56-FC9092E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907C-CA24-4F30-83B6-FA35C66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B409-BCA0-4DF3-99E0-4A82EA8E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6C10-63E1-497D-B23F-C28E737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CD08-1EF4-41EB-9DD5-3863963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B2E0-A372-47D0-A98E-3D1381F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A392-0ADB-4B9B-BA18-2678A00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DFB8-1D52-4EE2-AD96-AC110857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6333-0DD2-426C-88BE-9A7CD20B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1B3E-9A1E-4D55-85BB-479445EF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B92-5CFB-45CC-B391-4B5B3CF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3D4-C713-4293-ACE0-ED3B823A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CF0-734D-4275-97AB-42D93CF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5F5-103E-479A-9DA9-020A356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123-E6DC-47BA-8B8A-65A9776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C36D-E84D-4B9B-A972-E1108762F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4E3A-D357-45B1-9EBB-C3AD52B7F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AF0-B4AC-4881-A4E4-9E597A86A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ter Than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Nicholson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ter Than Snow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ter Than S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ter Than S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ter Than Sn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ter Than S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ter Than S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ter Than Sn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ter Than Snow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4:46Z</dcterms:modified>
  <cp:revision>33</cp:revision>
  <dc:subject/>
  <dc:title>Slide 1</dc:title>
</cp:coreProperties>
</file>