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E9F-D4CB-4EC3-8033-7E862FA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0FD-3B63-461B-AB2F-EAF6405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3F5-7D41-4E38-AF36-45C5446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1C0-1F04-41D4-B6F8-25AAA6B1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52F2-8EA6-4F2E-9491-AA2B5303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D71-FAE1-4FD2-B16C-319BB733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0195-CF1D-4BBF-A9E5-DCCE578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C584-AE96-48BA-A243-5600F8A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603-D205-425B-B39A-B13E036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D5D-0872-4006-ADF5-5018DB3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7B8F-F9AE-47FC-B8BE-80F86A0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62F-9F9C-4BAE-B637-96CFA5E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0C1-8316-4390-819E-5E43FAA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F188-A8C1-4515-A9AF-6387F34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FB38-E3B8-4124-8D41-49C694C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71C-1754-4CC9-A3CE-348EEE5D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090B-903A-4E6D-8ED2-159EC35E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3AB-397A-4CA3-A1C2-637BF8D8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8F44-0F56-4858-A6B1-45DC7C1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4EA8-A8B7-4275-9DD7-3652796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673E-7143-477B-B123-0672EF5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123-B988-48D8-B82C-A5D96B74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2543-7E2F-4730-82AE-13E5E2E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3B52-F3E3-4C81-8C99-B7A044A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2AA6-8EE2-4837-9388-61DE56E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7936-F356-4CCC-82C0-CAF6E5D1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6491-0035-42DF-9C20-2A645A67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7852-2BFB-457D-848D-1EB6210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567B-B2E8-485D-9221-E9892AC1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18F0-945B-4370-92FA-7B3934DA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E0E4-7EBC-43C5-AB78-99BAA765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D8F-2F8E-40B0-891B-DA2A2EF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B5B-EB32-4BAA-B625-D24A074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809-D29B-46CC-BD29-A5C68A1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98F-C9E5-4CEB-9CC0-19995984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077-6570-435E-8E44-BDAFB98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66D-9BB6-4DBB-9224-31F6AD6EB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309D-09E3-4B7F-A1FE-AF6BF22D7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ADAA-512C-4415-B644-F58CF3576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spering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ptimus Winn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ptimus Winn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spering Hope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ispering Hope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spering Hop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ispering Hop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ispering Hope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ispering Hope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spering Hop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spering Hop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spering Hope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spering Hope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ispering Hop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spering Hop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8:27Z</dcterms:modified>
  <cp:revision>36</cp:revision>
  <dc:subject/>
  <dc:title>Slide 1</dc:title>
</cp:coreProperties>
</file>