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DCC-2A37-49DA-AC02-345A2ABE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D5E-5E02-4718-9BAF-F484E1E4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A9F-1AEC-46DF-BCE5-61092C3A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909-40EA-40B2-B7D0-23A698EB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9F9B-0271-4D9F-B953-C5255963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D519-C24C-4963-8B41-903917CB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E4AC-D0CB-40C0-AF3B-8AC3DB1B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1682-C8AE-4E7A-A0A8-9CABDC5C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EA23-BFB4-4426-BFFC-318C997A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7F14-681C-4809-927B-E7E9FA54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CE22-0F99-4FD1-83E3-4BDA3941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83F-35A0-4DDE-AAD0-72E0619C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BD5D-A104-43B7-9182-BEE6951D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D8D0-DAAE-497E-8F30-3DB6213F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1739-139A-4A82-A8F0-49D3E93D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4256-4977-4BAF-8780-8E382F2A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E9EB-BA79-4F50-A41C-BF8A6B80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CC7-E7AC-4227-A9CB-A7C0A377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33672-B25B-4C95-9EB9-53A27DEC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49AC9-028C-4C92-A912-0E998369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010D-D0FE-4456-AD2C-631EBBAF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E24-F088-4C2B-88BA-EE538FAC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F203-2D14-4BD8-8928-0976BEEC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CF43-CBE9-4D9D-B442-BC518B24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7C4D-9CAD-4D83-9C0F-FCFA8CCF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D64FA-61C2-4C5F-B3F5-44D691BC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0205-1CDA-48DA-BF8B-9F426DD5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3A38-0702-4D5B-81EE-51819E0F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2D52-E47A-4802-8AE4-67C81792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B7E5-51EA-4332-B318-1C216636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9DC5D-0931-4DCE-B3B7-5C3E7EBA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34B-68CB-4E28-987C-BB8378BA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8D5-80B8-4C19-9CA0-FBE3B85C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E1C-075D-44E0-A8E7-C6941F29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9D4-121F-41DD-A7A3-B086E919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B10-8075-416F-8883-E0B22342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0E32-9934-45D3-8902-E9B604CE0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0E91-18BA-4429-8277-AFB5E9BECD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80E7-105A-435D-B82F-5FD4236B0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'll Work Till Jesus 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Elizabeth Mills (183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Miller (18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4560" y="648828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'll Work Till Jesus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ell Work Till Jesus Come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ell Work Till Jesus Come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ell Work Till Jesus Comes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ll Work Till Jesus Com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560" y="648828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'll Work Till Jesus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ll Work Till Jesus Com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ll Work Till Jesus Com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ll Work Till Jesus Come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4560" y="648828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'll Work Till Jesus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ll Work Till Jesus Comes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ll Work Till Jesus Comes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ell Work Till Jesus Comes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00:01Z</dcterms:modified>
  <cp:revision>35</cp:revision>
  <dc:subject/>
  <dc:title>Slide 1</dc:title>
</cp:coreProperties>
</file>