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329-9107-4FDA-BAE5-90F3705C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B31-D153-488B-972A-356B8627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203-D450-4142-9968-EC9EB879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BA4-B895-4B0C-9DC4-E09A3307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5EB3-223A-4617-91F6-860D0A2E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C825-B58A-4A08-82CA-8033A594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A9EE-3E42-4C4E-BBE7-E268FF8C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7E55-24B8-4C7B-A2BD-F45D56E8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C33A-6C1F-4FA8-B948-5A41B6A2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C7AA-AE42-49C4-9E64-5B991559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2EDA-FEEC-4CAF-B804-D9F58EA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D11-1631-4672-827F-EFDE216B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A1FC-98A5-46E0-9161-D417333F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F201-83DF-42F7-8436-1980B626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8638-4656-428C-BF57-09F0FBAD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923E-FC2A-4459-AD41-6CC9A464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F23E-3CB8-47F5-B3FC-9F8C0ED7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35C-6686-4863-8C27-60954F3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C93A-4808-4445-8D1D-7565D600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DFF62-61F1-456F-87D4-9D529FFB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927B-3D4E-4E57-8D7A-6826C1BB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27E-8B0A-4958-AD10-7E3593D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F6E1A-4687-43CA-8392-C173D04A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9F7F-7C02-42C2-A52C-CC60124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8241-084A-43E1-B3CB-822EFBEC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5351-299B-4606-9B3F-AE217508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ADEE-20D9-49F5-9246-F01AAADF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14BA-4CB4-45DF-AB3B-70AC8ACE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8E02-3272-4A5E-BF1E-5CA6EE36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6CDF-3D28-4D2D-A606-C1B4ABEF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5853-F05E-439A-98E7-3C1FB171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2A2-6AD4-46CA-87FC-8BD2CE90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45A-A0D2-4B5B-99FC-F32EAA27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E65-D115-4F33-A52B-CF3763E8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23C-3826-4E67-BF52-5E6BD5CF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BC1-2A70-4B57-89E2-B23F3917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82C2-7DEC-46B6-B8F0-B74F4EC70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B4F5-A805-415F-9721-298A7BE5764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EECD-E963-4506-A442-79D6047FC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ile We Pray And While We P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y Not Now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W. Whittle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C. Case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ile We Pray And While We Plea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00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ile We Pray And While We Pl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ile We Pray And While We Plea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ile We Pray And While We Plea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ile We Pray And While We Plea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ile We Pray And While We Plea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00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hile We Pray And While We Pl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ile We Pray And While We Plea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ile We Pray And While We Plea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hile We Pray And While We Plea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ile We Pray And While We Plea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ile We Pray And While We Pl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ile We Pray And While We Plea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ile We Pray And While We Plea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ile We Pray And While We Plea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ile We Pray And While We Plea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00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ile We Pray And While We Pl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ile We Pray And While We Plea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ile We Pray And While We Plea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ile We Pray And While We Plea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4:13Z</dcterms:modified>
  <cp:revision>34</cp:revision>
  <dc:subject/>
  <dc:title>Slide 1</dc:title>
</cp:coreProperties>
</file>