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987-4C65-443C-8CC4-37ECA12C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09E-3C29-4B03-BBAB-D7220CD5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BEF-E81F-4A35-AF3B-7A07A9C6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92F-ED1C-4403-9DEE-33FD0F40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73BD-934F-46B5-B3A9-B863EE5E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3071-ADEE-45CA-9C6F-D6387625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0F7A-AC4F-4D70-819C-052E756C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E3FE-747F-4EC3-968E-61B21FDE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C8A6-B26F-41AB-90DE-D2EA2ED8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5633-B7A0-488E-B464-E6892292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1B55-3A39-4791-892A-D84426B4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332-62EB-4698-A4A3-49D229C1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C606-36CD-4452-8848-FD62E6A5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FF44-7123-4885-B180-8C725B75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0D8C-D588-4734-A59B-E9999737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F479-84BD-4B93-A90C-7B367010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C2D9-A424-463B-91D4-77A2CC74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505-EFF6-47B0-B95F-9CEB8506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E5EE2-E27E-46B3-AA88-77743344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8E359-9574-4ADD-BBC1-12704E85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91B1D-7808-406D-8519-240055E5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763-9BE1-406F-8852-37F33670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3B290-5C6A-4A70-B4EC-CAE3E2C0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C1861-999A-43E6-81D4-4225AD06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91CDA-213C-4D88-AE67-D76923A0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3EFD4-4338-4459-AE44-A3E3630A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BD031-5266-487C-92BC-9423CD4D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C54B5-598E-420A-8783-85D47273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C510-1B06-4F7F-98F9-9BA0A29E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31E8-7BD7-4843-A846-C5D60F8C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961E-618E-40A1-9D2B-C1551640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7BA-C531-41C8-AECC-A8523A09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BA0-E645-4EBF-BE71-51376A76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27B-297D-4E27-A84F-E6C236D1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7E0-A2CC-426C-BC65-D96C6DCD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9D6-3940-40DE-A5E8-C56F5A27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1AA6-8A1E-4C04-9E15-93A4B2E28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D16A-DAD0-49FC-ACB7-80E150A025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9FD2-854C-4E91-B15A-0690E3295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rk, for the Night Is C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ORK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7.5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ie L. Walker 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8800" y="6488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rk, for the Night Is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rk For The Night Is Coming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ork For The Night Is Coming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rk For The Night Is Coming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rk For The Night Is Com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8800" y="6488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rk, for the Night Is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rk For The Night Is Com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ork For The Night Is Com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rk For The Night Is Com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rk For The Night Is Com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8800" y="6488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rk, for the Night Is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rk For The Night Is Com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ork For The Night Is Com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rk For The Night Is Com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6:13Z</dcterms:modified>
  <cp:revision>36</cp:revision>
  <dc:subject/>
  <dc:title>Slide 1</dc:title>
</cp:coreProperties>
</file>