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3F7-BCAD-478D-A902-D43C135F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693-F0C0-45E5-8D0E-C1876BD6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5E0-E591-4E51-B67B-01A41212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FF8-4FC5-4594-B494-DF757F8B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3E1E-9A1D-4B71-8CB1-F9537C65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EA16-74D5-4578-9AFB-123E62F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EFDB-73AD-4DE0-B083-3FAA7B24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8BCA-C80D-4F35-876F-A087515C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43B2-99FD-4780-AFF6-00473125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134E-DC19-4D1A-8EB1-01EA3138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3259-F66D-4CB4-AEE3-142EA579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500-1DF3-46BD-AEAA-0FBC99E2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D306-0D93-4647-9869-B174F20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52B5-5547-47BE-BFFF-0B85CB6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9FB4-40CE-45A2-9520-1B70556D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0FB5-B1CD-4A48-9D7A-32B867C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FF9E-13F4-4BA6-AD1C-3AC28613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1E8-E6CB-4A9F-A2E3-28BA22C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C707-DA2F-498A-9505-058A6DFF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3670-B9F5-46E9-A31E-69A22C1C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A2F9-CF83-4F12-986D-04B8431A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2AB-D3BF-4A2A-9E8E-5EE649AD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EEC9-F628-4F4F-9A32-7969B09E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7F66-9EC0-414E-8E53-5827FBB4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5D80-2C01-4D77-BD96-5F8BAE9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DDF2-3979-4425-B34F-B10CA091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26D5-DF42-48E9-9FDA-E8D39D9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1BED-6096-4D4C-986F-80204858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09ED-0D80-4949-BA12-5623CEFE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C974-0DF9-4E2F-9BBB-8DCF1203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D8A9-2CB8-4BE3-9C6B-0843A248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233-A036-4A87-BE7C-6BF8C074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868-1A74-4269-AD04-1CC2AA1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964-451F-47C1-A925-41ED95AB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0DE-ACC6-4EC9-8B36-5A50DD00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954-7B98-4834-83C5-1399E41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BCA1-B14B-4D0F-87A5-113880A27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EFD1-6D6A-4B32-AB38-359E9D171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24BF-9067-452A-8DBE-B7F0757BD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y Keep Jesus Wai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C. Cline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C. Cline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y Keep Jesus Wait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y Keep Jesus Wait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y Keep Jesus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y Keep Jesus Wait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y Keep Jesus Wait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y Keep Jesus Wait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7480" y="64882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y Keep Jesus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y Keep Jesus Wait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y Keep Jesus Wait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y Keep Jesus Wait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7480" y="64882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y Keep Jesus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y Keep Jesus Wait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5:27Z</dcterms:modified>
  <cp:revision>31</cp:revision>
  <dc:subject/>
  <dc:title>Slide 1</dc:title>
</cp:coreProperties>
</file>