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B47-EC07-4F97-8894-986FAFD4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A85C-1513-42BF-BF88-7159F9A2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6F8-9761-4CA1-8BF5-E8B1923F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2760-6239-467E-983F-FAA02256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1E21-AA56-43A8-AC9E-7BC23F8E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B7A1-A7B5-4F6A-8E31-A1AEDDA5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F011-9E7E-4B6F-B11C-DB554F16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DEF8-8E93-4250-BB20-A427F0AA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112E-CB3A-4670-8C6A-4B720058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2E81-C91B-45AE-863A-C3D3B2B2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1BC2-8D21-4DFA-A4D0-4DDF1AC8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A2DA-3B8F-40ED-94E2-DEC74947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C2F3-69E7-4E27-AECB-2FDB3B5A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FB3E-2697-46AB-B88D-4757F90F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F3B3-BD12-47B4-9B4B-D7E09565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873A-ECDC-4900-A0EB-AC6757A9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4F5A-4B25-4035-8097-4E7A245C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9CC2-DBA7-428C-914F-10FD3FF1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D404A-D309-4B5A-BCA8-300F9D30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D3F97-72DB-472F-A1A6-8B9E8500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E7EB2-A6F5-45B1-B185-6A792428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E86F-794F-4099-9022-0DDD7E49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40AC1-39F9-4F7C-A990-41494D4B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EF771-B2D1-4B30-BD2F-F0D13426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4ED09-071D-4555-BAFE-B1759A83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826C8-0C76-4D46-9DA1-CC629D4C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E1A28-34E8-49C4-90FA-4DD58619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9DA69-19A0-47A3-AB74-9FFE9223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9F9A2-E918-438C-82BC-69806080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1472E-D30D-4A3E-AA83-1A749EF5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05376-E61D-45E2-B63E-98D2EA16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DA8B-AC48-45D8-A1C9-CBF60CF9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78F9-B9E2-47DD-A5B8-42D5F283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4EE6-7083-4C94-85C9-899C854B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E63A-4399-4AF3-A804-7E9B7C2B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DD42-99D9-4F6D-BD8E-7EE4C91D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9B9F-BE40-4714-A318-161C6F279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61BD-EE4E-4130-B5AF-897DE31A76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0C78-D30D-4A03-8C5C-D6E51BF20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en He Comes In Glory By An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A. Westbrook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A. Westbrook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en He Comes In Glory By And B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2240" y="6488280"/>
            <a:ext cx="47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en He Comes In Glory By An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en He Comes In Glory By And B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en He Comes In Glory By And B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en He Comes In Glory By And B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en He Comes In Glory By And B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2240" y="6488280"/>
            <a:ext cx="47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en He Comes In Glory By An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en He Comes In Glory By And B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en He Comes In Glory By And B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en He Comes In Glory By And B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11:45Z</dcterms:modified>
  <cp:revision>31</cp:revision>
  <dc:subject/>
  <dc:title>Slide 1</dc:title>
</cp:coreProperties>
</file>