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E28-1B1D-46D1-B938-EA5F6501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B76-CBA9-44A5-95E3-AF8467D5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B49-B1D0-4147-8F00-5FC3782F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6C4-CDC1-4C66-9CF2-F473236F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75EB-212D-40A6-924A-0DDEC637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AEB0-8813-4866-B021-880B7871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1091-5D50-4728-8484-F3131381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90FD-E32C-4A54-8A72-61F62DAA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4AF1-A997-4011-9E2D-A38DA9D4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9B56-0786-4B13-8366-BE407117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C5A0-1502-4A7B-AC57-E8624ED6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B8B-939C-4D19-830C-0B90CF51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0CE9-B26A-49F0-9688-BE3949E4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7D6A-25F9-43E3-88DB-53AA6E4E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12C8-B4CC-4F28-963C-45484551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6C6E-9870-42B4-BEB8-F47EDB4E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9D7E-155D-4952-968B-6B8E934C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E50-C96D-491C-872B-AAD7378D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BCC4A-8425-4552-BE12-8FBCB42E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A1406-BEB1-44DF-9AE9-4B2EC485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EB60E-ABEC-4B94-8BDF-89410EDA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EC3-3985-43AF-B386-B0BC59B9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8E7B5-C22E-4685-946A-68D02E4E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BC9A9-1A94-4C26-BD62-F812F646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3288C-C00B-4402-BF88-4CFC8125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1E10-6643-40AF-AB51-025FE590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30785-621A-4B7F-A80F-7EB43B4C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AE9A-7F81-493D-8133-0046926D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8536F-F8E8-4459-8133-D283F387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81D5A-9866-4D99-86A9-7565E18D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C2464-AA21-4659-A381-CF36A626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9D1-F8E3-4191-8AD8-188E85DC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906-8BAF-4849-9791-0E8DF974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95E-FC59-4753-A7FC-2540A752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6E0-74D3-447F-B16A-E01C7BF4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5BD-1B10-4726-85B5-94D5B278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648F-8302-448B-B29D-66898D96C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8ED5-3D55-4785-856C-CA74D0B717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DADF-69B7-4F50-B432-9B7384F64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 Gather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KREM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2.11.12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000" y="4902120"/>
            <a:ext cx="13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684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alerius’ Collectio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62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by Theodore Baker (18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alerius’ Collection (162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Edward Kremser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 Gather Togeth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2720" y="64882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 Gather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 Gather Togeth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 Gather Togeth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2720" y="64882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 Gather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e Gather Togeth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e Gather Togeth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2720" y="64882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 Gather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 Gather Togeth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2:23Z</dcterms:modified>
  <cp:revision>30</cp:revision>
  <dc:subject/>
  <dc:title>Slide 1</dc:title>
</cp:coreProperties>
</file>