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DE8-E346-416C-A384-C32F1A4A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BC1-E051-4914-9751-82CF263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88E-D70D-4A44-A024-9BB093C3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C80-DEBB-44CC-BE77-FFA069CA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B2A2-1E68-4D6A-BC43-F2E42D60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5BF7-B40D-450E-B18E-12ABC340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C81F-9E08-4416-8D98-1B5A7DFB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4B89-0A6C-4886-BE41-138D0DA5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B109-FB20-4521-8F06-6544E77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43DF-27CD-4161-B692-7F5112FC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9FE2-8A0E-4891-8C73-7AF1E848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C1E-BA7A-4F93-A5F2-06B0C254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92F7-41FC-4FB7-AD4C-F9878CE8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18BA-D9A1-459C-A8FD-4533DEB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A465-9F62-4EAE-8300-2D52873B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7E37-5282-48B1-A7BF-9D112F7B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8D18-6AB1-47ED-88CE-2845F5CF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B3E-0A46-4E4D-9712-133A40DA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0B11-64FB-43AE-808F-D8006B84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A289-63BE-4671-B1C3-688BC402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41BF-018A-400D-8D58-2FC71813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7A7-C875-43F4-BEE2-1C198DE5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7799-C594-496B-B247-A7EAFFA6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3353-8995-4C7C-8293-8A1D7558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D7E2-59D3-49BD-BD01-418232E5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ABC9-4049-41EE-ACBB-A5FF06EE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0203-97A3-4397-BF78-CCC02D2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2AD2-D8D4-4BBC-B44E-DAD0E939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F55E-1F5A-481D-836D-FC27FED2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6FC7-CA74-4DF0-AB7C-BB9F372F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C798-7263-4CC7-9148-3E26DD9E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CCE-CE89-4FE6-86EB-C0C50282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7A1-0571-4D77-8BB5-60C0259D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3B3-7BED-4E02-8214-0A1AD174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68F-A11E-4ABE-B673-7BAAF4A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909-E8F6-4CE4-8149-F69B6EE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566E-B02B-40C2-8E8F-421896976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2562-B247-41E1-8A30-6C26BBA0D8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B410-CBCE-421B-911F-DE64D6B12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at Shall It Pro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Herbert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at Shall It Profi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600" y="64882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at Shall It Pro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at Shall It Profi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at Shall It Profit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at Shall It Profit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at Shall It Profi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600" y="64882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at Shall It Pro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at Shall It Profi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at Shall It Profit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at Shall It Profit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at Shall It Profi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600" y="64882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at Shall It Pro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at Shall It Profi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at Shall It Profit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at Shall It Profit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1:14Z</dcterms:modified>
  <cp:revision>35</cp:revision>
  <dc:subject/>
  <dc:title>Slide 1</dc:title>
</cp:coreProperties>
</file>