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888-462A-48A8-A650-6B0DDB36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B8B-EFB0-4F1D-9B88-3201BFD0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E21-6413-49FD-B0C4-2AC9EBF2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7AB-0D07-4869-B7EF-76F20097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3255-072E-4C15-BF88-2FB8E04E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9975-3FA4-483B-9293-36EB1C13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4771-CFD7-40BE-8A89-9350C42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58C6-167B-452C-9A29-48291B4B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32F0-B488-44B4-A32F-9EDF578D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E4C2-E074-487A-AB47-440AA722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FD37-F216-4FA3-A9AE-0E8F1B93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B80-D93A-401D-A2CE-657172DA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3695-B652-45D6-9597-F0E60684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A251-6F3F-4EAF-850E-C878EEF4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B766-057F-4E73-8DB6-A6907885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D357-BFA2-4A3B-8B6B-8C79C870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75B0-CC76-4EB1-BD27-8207F080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8E9-4E7C-474F-B9B4-D37129F0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BED9-A0F8-4414-9FD8-2C6E09C4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E87B-34B9-470A-9F56-FBD9CD02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7A0F-F048-4734-9127-FDE92C9F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D18-9828-47E8-9509-38C6FA60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BF51-A4BC-4C61-975E-0D1718B3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348C-0423-4219-911A-5AF56A88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5455C-1D7E-4705-833C-A766E98F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CDB7-0A0E-41A5-B1A0-45D835B1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5CE4-D7E9-4E89-A5AC-235AC292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8094-333A-4962-A0F4-FAF72809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417E-5FC0-41BD-AF4B-9B2CB50C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4DF9-751F-46C6-AC0A-E5545ABF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5EBC-0BCF-4807-992B-CC43307B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E25-787A-4705-AC84-8BA27148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9CC-EB39-488B-BEEC-3DFD3AF8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A7E-1EDC-49A2-87E9-33E32685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1A3-2E34-45AE-833C-7DDDC618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151-1C87-475E-ADCC-2219B075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563A-412C-4263-ADA2-0D600980C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455D-939A-47CD-92CE-4597BE6863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D903-B573-42E8-B870-D37FB95C7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re The Gates Swing Outward N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Just A Few More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re The Gates Swing Outward Nev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2240" y="6488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re The Gates Swing Outward N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re The Gates Swing Outward Nev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re The Gates Swing Outward Nev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re The Gates Swing Outward Nev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re The Gates Swing Outward Nev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240" y="6488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re The Gates Swing Outward N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re The Gates Swing Outward Nev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re The Gates Swing Outward Nev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re The Gates Swing Outward Nev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re The Gates Swing Outward Nev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240" y="6488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re The Gates Swing Outward N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re The Gates Swing Outward Nev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re The Gates Swing Outward Nev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re The Gates Swing Outward Nev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3:39Z</dcterms:modified>
  <cp:revision>30</cp:revision>
  <dc:subject/>
  <dc:title>Slide 1</dc:title>
</cp:coreProperties>
</file>