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CBD-2AE8-4EE6-B6F9-AE7A4473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1A45-5094-4B8A-B16D-897D6E8E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FAE-4B82-4FC8-A0DD-BFAB2CB9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4E8-1CC8-4614-9861-B3C520CF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D14D-97C8-497B-9DC2-5FD0D96E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F5E4-D1BE-49E9-9D99-FB08D831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C87F-33E4-4C39-A6C7-6D05E96A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12E8-66D6-4ADD-A579-6107B6A8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BCA8-2248-44E2-AE38-6E0DB6F5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1003-F3FF-49AD-A4CF-FDE0FE2D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B5B0-EF63-4822-9312-CD5C31F0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204-D597-49DB-98F7-8969566A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991A-0E20-49CF-ADB1-2023C547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AA66-1571-4B87-A608-C1BC2BBF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4D4C-4D26-4CB7-ABAB-B98BA9A7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D455-6056-46E8-B25B-5B2C27BA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DC52-D6BC-4564-87B5-49929E60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29DE-E8C0-4F74-B3F2-C1DECBA0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FBEE3-D325-4FB7-9B68-DBA57F0C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1BD9A-9A55-405A-AAA3-9B992554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DFB4B-9AEA-46BA-84EF-051088A9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F89-5745-447D-B015-E948445B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026DF-2773-4611-9C18-E1A6CC65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5D72-FF7C-488F-AE8F-4793A6C2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315D3-B588-433D-8C13-0288B78F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9C861-211C-40AB-A650-5E919C4C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CAE92-307E-4BB9-A16D-36D65183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ECBE2-7A42-4FF5-BFA1-BB15A9BF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9E4DB-0161-4D13-A1D3-A3E2ACF6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0E472-61C6-401F-9DC8-6BB55A3A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F507D-D878-4299-AA22-72C9DA7C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372-0091-4064-A4DD-9027275D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960-F73E-4FEE-AAC9-2D98A235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111B-D089-4773-B8CA-1579309D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0FA-7BE0-416E-B345-5AA19FB4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6E68-7833-4005-AF3D-A4F13E43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C2BC-F46B-4122-8E5B-3B5149FC7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1E81-4E76-4A72-92C7-CBF151C4E4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E251-59CF-417C-9C5B-54946CB22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o At The Door Is 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Knocking At The Do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. B. C. Slade (18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yrus S. Nusbaum (18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2320" y="6488280"/>
            <a:ext cx="40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o At The Door Is 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o At The Door Is Standing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o At The Door Is Standing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o At The Door Is Standing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o At The Door Is Stand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2320" y="6488280"/>
            <a:ext cx="40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o At The Door Is 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o At The Door Is Stand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o At The Door Is Stand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o At The Door Is Stand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o At The Door Is Stand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2320" y="6488280"/>
            <a:ext cx="40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o At The Door Is 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o At The Door Is Stand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o At The Door Is Stand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o At The Door Is Stand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25:22Z</dcterms:modified>
  <cp:revision>37</cp:revision>
  <dc:subject/>
  <dc:title>Slide 1</dc:title>
</cp:coreProperties>
</file>