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EADA-07DB-4879-A4B6-CFF51D2FF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E906-BFA6-48B9-B50D-7AAD6926E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55D9-4B3C-4928-B41D-C30AAC99B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14BF-3120-4A34-A75E-8A0DBD5D0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44330-B078-4ADF-81DF-8422C7971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2649B-7D3B-455B-88BF-560B4027E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E1DA3-DE83-4423-93CA-3075BD6BA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42852-430A-4955-848D-47B3D4E1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200D0-80E8-41DE-9723-141566BD6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52462-DA38-4863-9B1D-3E2A984C6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92DB3-8103-4FA5-B29C-E629D198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7819-84A7-40B3-A938-79954D4B8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CF1DC-42C1-40E5-A5EB-12E25CD3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E943B-5902-4D47-9CBE-3C92362A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C05A3-CE35-4F5C-BF54-0CC2FDA91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89B57-8ECD-4912-913E-B178602C2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51253-443B-47DD-BC84-1986A485D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F593-9ED0-460F-AEB0-9280EE9D7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4C761-CED5-4E93-A6EB-3ED8B3E4A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96781-DF04-428E-804C-BFE7D4E8C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6E1A9-2072-4729-8E1E-97E87D3DD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48DE-1000-4C94-BBF8-5D8797382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A764C-8D9A-4739-BB45-F9B793248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BA3C5-FBBA-4A36-ACD1-870782C77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160B0-C336-45EE-B5FD-64700DFDD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EDB6F-8B3F-447F-BFA9-1EAB524A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EAFD0-D8F9-45EC-9924-7512D52D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5A408-4394-4B82-95F4-710214DC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34C46-1A01-41A5-B7C6-13D7A5596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D7D51-0D85-4D60-91C4-1C2B0158C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3B824-3009-4156-96E6-E06F0E9FC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0C57-5EFD-467C-9F18-216377023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FD3D-F457-4A0C-9D6E-B72421196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90EF-ADE0-43B7-9389-0ED5B0E3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31A6-F19B-4EDC-B1CD-B22103D5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4941-E08F-4F22-B907-3FE69DD0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B9653-0297-4577-80CE-9971066641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8D4C2-C17F-4747-BF80-1A8708B8AC13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63F56-2647-4C53-876B-35B07F6D11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Wonderful Story Of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C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M. Driver (188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M. Driver (188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5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Wonderful Story Of Lov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Wonderful Story Of Lov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Wonderful Story Of Love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Wonderful Story Of Love_v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Wonderful Story Of Lov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87480" y="6488280"/>
            <a:ext cx="35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Wonderful Story Of L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Wonderful Story Of Lov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Wonderful Story Of Lov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Wonderful Story Of Lov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Wonderful Story Of Love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Wonderful Story Of Love_v3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Wonderful Story Of Lov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7480" y="6488280"/>
            <a:ext cx="35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Wonderful Story Of L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Wonderful Story Of Lov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Wonderful Story Of Lov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Wonderful Story Of Lov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Wonderful Story Of Love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Wonderful Story Of Love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Wonderful Story Of Lov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87480" y="6488280"/>
            <a:ext cx="35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Wonderful Story Of L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Wonderful Story Of Lov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4T17:40:45Z</dcterms:modified>
  <cp:revision>19</cp:revision>
  <dc:subject/>
  <dc:title>Slide 1</dc:title>
</cp:coreProperties>
</file>