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6F48-1305-4635-96E7-29B688C1B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98FB-EBD5-48A8-8D1F-2C0F9F2E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E12F-A4BA-42D0-813B-3FA15F5E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E47A-ECAB-4BCC-AE11-912797749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E6C9-C342-4F96-ACA3-C639FDB96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7A2D-F304-4EAA-95A1-A660CE11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6800-7137-4EFB-AF2F-14C3D8D6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0EB5-603D-4A72-9501-84840623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2257-1927-42FE-A0A5-02394FE6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2FB4-1F4E-40F3-B08C-A15B0060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EF04-B476-493C-B078-1F7F6580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FA4E-53A1-437A-B959-E966A913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7239-263E-46B7-B0BF-FDC62021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9172-50C7-4045-AD41-AFFDC049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EFD7-95C3-4CF6-BB0C-3DCC31ED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32C2-7271-4751-8A61-2B5C0B2DC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D882-8B3B-48E2-95D6-E43F68701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EAD8-BE5C-4B36-87C8-AA0E80B3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4DEDA-E71A-4CF0-AB21-9E27FE3C7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A3A33-A25F-43CD-86F1-B05B74C8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FD7FB-73EC-4492-BC41-35606BCB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044C-0BBD-4E06-96A9-3717E84C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8F121-8CFC-457F-A9BE-DB437451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940AB-C81A-4035-8FB6-874553BD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DB705-DE78-4C1E-9102-E0033D89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C8B2F-0DF9-41F1-B4A7-DC8CCE30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CA7A2-F937-4DDE-8328-51144D40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AD882-E110-4AA8-AEA9-2DE78B42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2D887-26AB-4052-A07F-7F9BC5B6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B2835-689F-4B06-9E93-8CBBF2FF8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BDB7A-480A-4D62-ACBF-0748B03E5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BFD2-51E0-4112-ADDC-7C943B17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84E3-89C8-4158-B86D-640ED05F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250F-C444-498F-A570-43FCB63B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E81B-4A3A-46A0-9999-A470928D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0600-D1A3-4C79-BCEE-4D7FDB59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6238-3853-4A3A-9D0F-8A434B81A9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647B-CE08-49C2-B35A-F83653E17A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1F1B-3795-4BF8-84FE-4C7D5740E2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e Saw Thee 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H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8.8.8.8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nne Richter (1834), Arr. John H. Gurney (185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Knowles Shaw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6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e Saw Thee Not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2360" y="6488280"/>
            <a:ext cx="27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e Saw Thee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e Saw Thee Not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e Saw Thee Not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e Saw Thee Not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We Saw Thee Not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72360" y="6488280"/>
            <a:ext cx="27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We Saw Thee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We Saw Thee Not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We Saw Thee Not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We Saw Thee Not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e Saw Thee Not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2360" y="6488280"/>
            <a:ext cx="27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e Saw Thee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e Saw Thee Not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e Saw Thee Not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e Saw Thee Not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e Saw Thee Not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2360" y="6488280"/>
            <a:ext cx="27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e Saw Thee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e Saw Thee Not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e Saw Thee Not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e Saw Thee Not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6:53:31Z</dcterms:modified>
  <cp:revision>30</cp:revision>
  <dc:subject/>
  <dc:title>Slide 1</dc:title>
</cp:coreProperties>
</file>