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517-94F4-49FF-82CD-D4108249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458-6BC2-4AA7-942D-A076D45F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F5F-45A7-40B4-B867-0D30803B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B47-C0D4-4E7B-BB84-B0D4FD47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EE3D-1AFC-4935-96E4-B713AC07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92C9-EA3E-4F07-8D16-C37D790F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EF5F-3C1B-4E39-9EDB-EBB78885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CF32-4E0A-480E-86DA-A95F7246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9E2B-5693-4EB6-8332-B974F5C1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E15F-7E45-4A46-9654-68E5A3DF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666-ED03-40D6-B946-2F894D2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F93-6DE1-40FB-B4E3-EB9C4B91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2946-73F7-473F-9018-49DB288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2141-51BD-4666-8BC8-60110D3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9A20-11B2-4029-B1C9-F122E482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C9E2-5AE9-4803-8816-F1C59FD1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21BD-9192-48AE-BAB9-AA6199DC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325-C538-4D14-B225-2A65EBCD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7538-9264-4EC0-94D9-730BF927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6E59-4207-49FE-B653-6E2B00D4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1C7D-D8D6-4037-9696-CAC07758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C8D-74B9-4762-B9E4-E1A647E5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B41E4-28D7-43EB-BAC9-14CF2DEA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C37F-22A4-4295-9FC6-2A8503BF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1202-494D-451D-8988-DC3487B5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CD57-F371-45A1-85CC-957F5D13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A3D2-1125-45E1-9212-A78670C1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F375-DB06-4488-BC6B-BA580533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E171-AF68-4225-B710-2F9F1E87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8899-D4FC-475A-B93E-A6F24993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C736-DBBB-4CB2-BD8A-98ABB6CC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ED7-0025-4199-8597-AD4348D1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E73-1B1B-4551-967D-6A58F0C7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DE7-77C2-4DE4-8583-47BEF4CA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AD7-55CD-4875-83CF-B4CD6C8B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745-92B0-4124-8476-FF3A368A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72DD-FA29-46FC-8AF5-80E64810D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C7F7-2127-47F2-8A0B-424562AB84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D354-1888-4F81-8BC9-2E8A1CCEA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The Morning 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rials Dark On Every H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A. Tindley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A. Tindley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Morning Come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Morning Come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n Morning Come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9640" y="6488280"/>
            <a:ext cx="37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The Morning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n Morning Come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en Morning Come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en Morning Come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en Morning Come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Morning Com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9640" y="6488280"/>
            <a:ext cx="37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The Morning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Morning Com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Morning Com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Morning Com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Morning Come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Morning Com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9640" y="6488280"/>
            <a:ext cx="37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The Morning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Morning Com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Morning Com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3:42Z</dcterms:modified>
  <cp:revision>32</cp:revision>
  <dc:subject/>
  <dc:title>Slide 1</dc:title>
</cp:coreProperties>
</file>