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5C3-9D42-4131-B062-F4E3A019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67D-291A-4152-AF60-3A3E091F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661-BFCC-4711-A249-6216711A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F48-4E92-47A8-8F28-C4816406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36D-A22E-422A-BA06-8DA3EFE1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997D-AF5A-43C5-A71E-6EB4E4E4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5623-E573-45F2-BA02-728F1B6C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102-F741-49D2-935B-A8DF0728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36CC-B4BF-49EC-8410-032BD85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03F-3F51-4445-8B53-CB898D0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9A7-1E86-4CF8-8924-54892F6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2381-F3A0-42CD-9D68-07BFE36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949-DF06-4E8E-A5CE-8438E51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BC8-997E-4939-82B5-00A9EF9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195B-E473-440C-B8F5-04700BC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2E53-7C25-48A6-BFC1-82DA1E3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71AA-DC99-4FF7-A0A9-ED91579D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82F6-86A5-4E75-93AA-6F4AD955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45E-2A11-43BF-9370-A7C40F3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786-B5AD-466D-96AA-CDEB0E8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B8E-48E7-489F-9724-EF1DD5ED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E53-FF02-4539-B07A-701441E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E0C-8E50-4268-819E-C01CD45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D4-F473-4B54-B306-E6E8DAE7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610-D6A2-4FCA-9625-1C73DCCD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17D-9D6D-4425-B866-22C9EA579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Have An Anc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ill Your Anchor Hol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2:55Z</dcterms:modified>
  <cp:revision>30</cp:revision>
  <dc:subject/>
  <dc:title>Slide 1</dc:title>
</cp:coreProperties>
</file>