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949-BED2-484E-9338-68626C5A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93B-6EA7-4307-B070-0DA5DC72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9E6-87F9-4F7E-B9FB-FF8925C0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8B3-1DC1-490F-9FC8-C8B35FA8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3914-6FA7-4E93-9704-0244CF87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051B-0903-4DF5-BA09-6577B310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5558-5F50-4AAA-8EF6-A6444A82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59D5-9567-4B05-9C73-F7384876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4F2F-DB1B-47E0-8C98-AC76FA28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CF99-0F72-43E7-8370-8141B1CA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2169-FDD7-4A50-9BD7-63F561FC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855-7451-46D0-8AC4-9EF0BE40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35AB-7B00-4FC4-B1F0-E1E59681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3B80-3A9D-4071-9387-B949909B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8578-13CB-480E-BA78-4D987FF7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2BA5-F5D5-4780-82FD-3C612F3E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9D6B-D092-4F85-92CE-783746C9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75A-2737-4AE2-B918-70632ADD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E4F0-8A4E-411E-9FB8-5F0A76D1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471B-39E4-404E-B0DD-060654A7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EA5B6-B0EC-4524-A42B-2AE2C8F7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9D5-FE3C-4D06-857D-711026C8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32EB4-5C6D-4894-B418-315A430E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72EAF-272C-4204-AACA-E15F67FD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C637E-73EB-4554-BB50-86F5ADC8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52EF5-04DE-4036-AD86-CA97C295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22E83-8C1E-497A-AE65-D774C91E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BA92C-A0C0-4917-B6EF-D52B6470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F4D61-D119-46AA-BE29-DC079864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8BA04-27A8-4164-9975-8482A9CC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383A-713C-4559-BB50-F15C7375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3F6-D6ED-4729-9904-A8297C09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F1B-8ECB-46FC-A34A-05C85058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407-7A2C-416F-823E-49E60332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DC5-E41F-4022-8424-61DC6111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C857-0511-4EB2-8B81-12EA0BC6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80C5-9D87-459F-956E-8F5CFE71F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97B0-C3E1-46E9-98B4-C388B9B197ED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EA64-4E69-447B-A2AA-BE7760E3E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nderful Grace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ldor Lillenas (19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ldor Lillenas (19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onderful Grace Of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4680" y="6488280"/>
            <a:ext cx="36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nderful Grac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nderful Grace Of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onderful Grace Of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nderful Grace Of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onderful Grace Of Jesus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onderful Grace Of Jesu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onderful Grace Of Jesus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onderful Grace Of Jesus_vC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onderful Grace Of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4680" y="6488280"/>
            <a:ext cx="36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nderful Grac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Wonderful Grace Of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nderful Grace Of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680" y="6488280"/>
            <a:ext cx="36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nderful Grac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Wonderful Grace Of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Wonderful Grace Of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Wonderful Grace Of Jesus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Wonderful Grace Of Jesu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Wonderful Grace Of Jesus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Wonderful Grace Of Jesus_vC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nderful Grace Of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onderful Grace Of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nderful Grace Of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nderful Grace Of Jesus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nderful Grace Of Jesu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onderful Grace Of Jesus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nderful Grace Of Jesus_vC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6:26Z</dcterms:modified>
  <cp:revision>20</cp:revision>
  <dc:subject/>
  <dc:title>Slide 1</dc:title>
</cp:coreProperties>
</file>