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9BFE-6F9B-46EC-B94D-9992FA7E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4D5-3F7B-4D17-BAFC-FAE9C915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13E-ED05-477D-BAD9-FF3637B3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AFB-A41A-447F-9C20-A1232782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F1C8-36FD-4B81-9BE8-AC2630A8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7146-79D6-440D-AD24-2D87E1C7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2C62-FF14-478D-BC36-E73F3B18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80BD-A63C-4FC1-B668-6DC5D967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546E-7826-4871-BCBE-229FC6E5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69DD-E021-4D79-B2B9-8B43A911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92B0-1CD0-41A0-8B5D-2C9AD377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F983-9653-4405-9719-5FA8E0A5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634C-E2B6-4A9B-8ADD-88B09995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C400-16FA-477D-8DA0-0C9E9428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BCD1-3172-4D95-A443-A0D664FA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7195-838B-43AC-95EA-69C824D5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5F30-CA21-493B-8A0A-CA82AF35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1E0-A81A-4342-9DF7-101635F4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146E4-F9E0-407F-AAE4-7B10C32E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2DF67-3D41-46F0-8AA4-BDE3AD69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4C61E-560F-4BA4-98F2-C595F191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6BB-7B55-413A-8E05-75AE4C42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DC8BC-06E7-4945-8576-427A3B28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59668-05F8-4131-BF84-4A7F79FB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C4B65-806E-4B43-A12D-64A4C76B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E90AE-2BB2-45B2-89A9-165B8EB9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FFB5C-BEB6-4D6E-A5A8-7ADD294F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25BD7-C6BE-4B6C-98BC-8C324558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C73CD-5CEF-4249-8053-9026DB44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13C0F-1030-4A4A-9CA5-68138A5C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CD880-5EBC-4804-99B8-DF747444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E70-5E8B-430A-BDE1-AB8B9F1F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175-4F8E-43A4-B99A-746FFE66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5C2-4722-4449-8515-7BA82B3C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CFE3-8646-4FDB-B91E-C023D1CC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B5F-2578-4D22-AAFD-AB1FCC55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F978-8429-4F80-8540-0B2D38824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2635-DA10-47EB-86C2-C0CEEF4E71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A5A8-3C9A-4234-A0B0-DA04DE0C7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onderful City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W. Ferrill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W. Ferrill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onderful City of G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8280" y="6488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onderful City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onderful City of G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onderful City of G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onderful City of G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onderful City of Go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onderful City of God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onderful City of God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onderful City of God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Wonderful City of G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98280" y="6488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onderful City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Wonderful City of G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onderful City of G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8280" y="6488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onderful City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Wonderful City of Go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Wonderful City of Go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Wonderful City of God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Wonderful City of God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Wonderful City of God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Wonderful City of God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onderful City of G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onderful City of G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onderful City of G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onderful City of Go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onderful City of God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onderful City of God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onderful City of God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35:41Z</dcterms:modified>
  <cp:revision>25</cp:revision>
  <dc:subject/>
  <dc:title>Slide 1</dc:title>
</cp:coreProperties>
</file>