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139-6382-4BEC-A649-623E8690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056-52AD-4186-9A15-CC906B3B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4DA-FFCD-49FB-9C27-1E3C4C1A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729-BAA7-4E23-A7EC-293EBA94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79E9-7B05-4B82-866D-C31A58AF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FF69-E3DE-4CFC-96D2-727F7D47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9CA9-A80F-4321-AFE1-FD15E67D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7D46-F8ED-4C33-9D16-B212D02A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4348-63A6-4DA6-99AA-331FFACF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4176-B3F0-41EC-8506-CFE4899B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38C1-1AC9-4471-A1C9-C304AB8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508-FE1D-4BC8-88F8-5F290EEF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D1EA-CEA4-4749-9286-5EDC6D5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7F1F-BCCD-4732-A985-27F2FF57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B6C3-6447-420B-867C-00B45BB1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F2AC-1537-4816-BBFA-E997E197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43DB-6262-48D3-A8E7-AF4AA9E2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0CE-89E5-4CDF-9710-39F780FF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1E37-BCFF-46EB-9120-2E0B731A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C025-473E-48E2-A903-12B97597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7E88-F055-4129-AF7D-C48F7C5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D9B-969B-43E7-9651-382AE0E4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8A12-497B-4A50-8666-165BCFD1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579E-B256-40B8-B7B5-3940C828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C4216-D16C-47F1-A975-A555B392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088C-1B22-4D6E-8974-CA953FD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CB99-E1D6-4BF4-A6C2-B628381C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B065-4B53-44F3-A646-2A71F1F4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75CF-1F9B-4BF8-A7E4-A3B7E6C6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EFCC-6ECA-42F8-B9A6-22AB38DF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0E10-2B71-4399-B55F-5B1A5CC8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2F0-E34A-4069-93E6-B889B621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07D-44C8-4077-A534-DAD0D492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769-63EF-461B-8E5A-DF485BA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74B-55C4-42BE-9650-8D48B2BC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70E-4C2B-4ABB-ADBA-8363D96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FA5F-D777-4B86-8C9F-4CBE97CCB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0F72-4A5C-4FFA-B8A4-8B65AF420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56B-05C7-4545-A346-C4DD1A355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’ll Be Like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L. Powell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L. Powell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ll Be Like Him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400" y="64882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’ll Be Lik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ll Be Like Him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ll Be Like Him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ll Be Like Him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ell Be Like Him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5400" y="64882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e’ll Be Lik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ell Be Like Him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ell Be Like Him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ell Be Like Him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ll Be Like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400" y="64882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’ll Be Lik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ll Be Like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ll Be Like Him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ll Be Like Him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ll Be Like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400" y="64882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’ll Be Lik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ll Be Like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ll Be Like Him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ll Be Like Him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8:43Z</dcterms:modified>
  <cp:revision>30</cp:revision>
  <dc:subject/>
  <dc:title>Slide 1</dc:title>
</cp:coreProperties>
</file>