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F5C-112C-4EA1-BCC4-3494A145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546-EC0F-4DBF-AFFE-4E381E32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7EF-92F0-47CB-A7D2-243830D9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94E-B980-4CB5-989E-B8BB3C38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1661-ED43-4B69-A85B-5534D74D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3916-7FD7-4E98-B9DB-79C38C3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0F1B-2F41-4264-A6C2-72B33B10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6BB3-32D1-4F16-B0B9-EC039C14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B279-8B82-4C58-9254-3B8B6341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F0C6-93B2-46B3-A68B-F7274E7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7DDF-020F-4BA2-A114-D7696B5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272-DA10-4A2D-86AA-0D0EDDE7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8E77-67A0-44F7-AD66-B77E37B7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AD25-0D00-4AC1-88CC-50C6C05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03D7-37E4-4DB3-8E76-4EBCE5DB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55C5-93A8-4B24-8610-93AB1D32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8B94-C526-441A-AAA2-09D9FA9F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680-F945-4BE6-80DF-23163032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5E51-B375-4149-9E22-543F6BBB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232F-0A5B-4146-B00D-90E2B6C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02EC-6CE3-4F59-9DFE-4ADBBDF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878-3300-4DA2-B02C-A5D3839F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2D01-BFFB-49D5-9C82-8D1A9836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E171-047D-4B3B-92EF-B1E5507C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2D10-30FB-4B23-94A6-54159C12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7CD9-C005-4310-BB3F-3B81DA0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0DE8-C09A-4D4D-B1F5-8A57AF8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54F1-9AB8-4D5A-BAB6-795B3082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CD4F-1B93-4CA0-BBC7-1FB63D39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5034-8D3C-4590-A71C-41CE66C7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31DF-A7CD-4E7E-BC87-0D247638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AA2-B256-464F-B8AC-64D76381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84C-49AE-4170-B1BF-61D5506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31B-76C8-4B19-B265-AA3B6D6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8C1-FC8E-4DE0-99F9-907F5020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820-2F3C-4C13-BDB7-2B04385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305-C820-48B0-AA37-761943683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5680-D481-41C3-B178-16A5CDFCCCF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64FD-3D28-4F84-BEAB-304FADE2E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Far Away In The Dep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D. Cornell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G. Cooper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9040" y="64882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Peace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Peace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Peace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Pe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9040" y="64882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Pea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Peac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Peac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Pe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9040" y="64882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Pea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Peac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Peac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8:44Z</dcterms:modified>
  <cp:revision>33</cp:revision>
  <dc:subject/>
  <dc:title>Slide 1</dc:title>
</cp:coreProperties>
</file>