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CCC-FE30-4E59-9E20-FD524CA5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F9E-40FE-4EE5-8ADE-47B0E4D5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4CF-1840-4980-9D50-F84647E0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7671-4C70-4C0B-AFD3-826E3088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C1F6-64C5-494C-B2E7-8E93D60D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D765-B749-4071-A2FC-8FBB70BD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81E4-A9C7-4EF2-9254-2E18DB5F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5B55-C397-49D9-8EB8-AD869BB5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BF66-5889-4A9C-A615-31E667B2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4FB7-2657-4AE4-9C82-FAB9C132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661A-AA70-4014-9CB6-42A2FD89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2288-6295-4E22-B055-C202A9EF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4B44-D4BA-400B-ABE5-B0C04741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CC40-5C34-44B3-A9C6-BB830734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8586-7CD6-4C5A-AA3C-4FAB2DD4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7CEB-86FC-45E2-BA3E-9BB22425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3B0E-9097-4DBA-A6CB-3D2432A0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FCE-84B0-47E8-AB4F-5CD5434D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15D85-0C95-46BC-B9CE-DD561FF1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8D3CE-17C8-4655-AB60-3A0DEE0C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62819-6412-49A9-A9FE-AFACD242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683-A47A-43A2-A1E9-613D2F50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7F916-1D26-4FBF-9B7C-156759FF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E3CF0-C373-440E-93E1-B4FECAB9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EED6-50AA-488F-9718-9423A022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96B1A-89D0-4D12-95B8-F5F37CE7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122DE-D8EE-4729-AF66-204FE378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F3ED4-40F9-40D1-B30D-8950F050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234D-03EA-4DC8-BBFE-A0CD32AA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0DBF4-6E43-4E66-AE7D-0BAFFECF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FCEF7-9607-4391-97C3-5947C343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A63-C945-47B2-93EA-DC3F2AFE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772-6FEA-4560-B342-A3CBF323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926-2BA5-4605-9F80-0EFE9C5D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FE34-F1FA-434A-9531-8DB78FD7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D63-A754-416B-BC29-EDFD9C6F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0D26-395C-43D9-ABCC-164ACAB84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35AB-42E0-46D8-9090-26F452E4B5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6159-63A4-4936-B247-220B96FD3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're Marching To Z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Come, We That Love The L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005360" y="2595600"/>
            <a:ext cx="14382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Were Marching To Zio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Were Marching To Zion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A picture containing sheet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90720" y="6488280"/>
            <a:ext cx="34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're Marching To Z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A picture containing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Were Marching To Zion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90720" y="6488280"/>
            <a:ext cx="34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We're Marching To Z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Were Marching To Zion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Were Marching To Zion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Were Marching To Zio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90720" y="6488280"/>
            <a:ext cx="34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're Marching To Z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Were Marching To Zion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Were Marching To Zion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Were Marching To Zio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Were Marching To Zio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Were Marching To Zio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Were Marching To Zion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Were Marching To Zio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90720" y="6488280"/>
            <a:ext cx="34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're Marching To Z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Were Marching To Zio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Were Marching To Zio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8:09:15Z</dcterms:modified>
  <cp:revision>40</cp:revision>
  <dc:subject/>
  <dc:title>Slide 1</dc:title>
</cp:coreProperties>
</file>