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D6C-935A-4177-B10C-66E3345D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9BC-3C8C-445F-848E-E5ACA86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DEF-96B1-4439-8FF8-09633165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C75-2E8F-4B1E-AD90-437F5356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35BE-A5D5-4D27-B693-5AC83DA6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30F-083C-4849-94C4-21EE93B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077-8626-4F02-8605-62360C7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790-2CC7-4CFF-B64B-CF18629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4BA-B5C8-40EF-A2AB-3D3FF82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60AE-F6C0-4BCE-8F95-4E96EA5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AB16-087D-491D-9242-5D6FAAAC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EB2-560F-4EBE-BBD7-BF1A0F3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2C5A-D341-474E-A2AD-A8C9002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191F-9124-44D2-BAF0-CBEF650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51A-BF15-4B34-BA73-3B94B51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92D-4A31-45D6-9D82-EEE9440F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39CA-655C-46F1-8D8A-4B37BB4E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0EA-3CF7-411F-AD20-68A0558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CBD2-6FBA-4465-AB7A-DF3EC7BD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3386-9C4D-4783-8597-287395B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0863-D9BA-4604-9E51-A2BFFECB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B26-D78B-4675-BA85-F4C53321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2325-DE2F-4A0B-B070-58F393C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3757-5C41-4BC5-AD72-4AC4C1B9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7B9E-D5A6-4E97-8A48-83ABA83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1D26-FA84-4EF5-836C-B5E83DB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15F7-95DE-49C8-B711-E343E2F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8256-D362-47C0-82AC-2FE91728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FE72-716F-46BF-949F-CA1D552B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0055-612F-4AEF-9CED-D6E8DBB7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FB0E-721B-47DA-B916-261E1FB3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779-3A60-4FE7-B9D8-6BE5C774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516-8349-4E45-A7BC-DF8ABAF5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D3A-E939-44CC-8894-4DA7E35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8B8-E755-4B8A-AB3E-A8C481E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09B-DB62-4D60-B2BB-732F162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0E5A-B597-4458-843D-08EC8AB85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7CB2-9EE7-41F2-9BD4-84623A7C6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68A7-60AC-44C7-955D-779A65683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lcome, Delightful M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IS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yward (18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Schneider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come Delightful Mor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come Delightful Mor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come Delightful Mor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come Delightful Mor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come Delightful Mor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come Delightful Mor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come Delightful Mor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come Delightful Mor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come Delightful Mor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12:28Z</dcterms:modified>
  <cp:revision>35</cp:revision>
  <dc:subject/>
  <dc:title>Slide 1</dc:title>
</cp:coreProperties>
</file>