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192-2C1A-4963-BFCA-4268CE67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076-0FAD-4C26-973C-E9A50DD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879-1FE0-41C0-BE8B-26CA29C0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F32-8EDB-44DC-9123-CB157EFC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92C0-13A4-4CD1-B5D1-6302D776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2574-276C-4E3D-82FE-27BC8C0C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E5F-8834-472D-8702-30ECA7A0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1CFD-2C30-4CFA-BC7B-72F32900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D60D-87D1-4A7F-BDD5-89B2397A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5D71-D930-4F54-8B6E-303F5B9A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7F1F-46FA-44B7-AF56-B95ADF4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103-CF7D-4373-8E28-CCABB522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3E62-90EF-4969-97F9-EFB16FC7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B4A8-EFE6-48CE-BE86-4F64DE37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6D06-F488-40F5-8A3D-316C1C9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0BF1-7653-4D6E-AE0E-A886AB83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C573-300E-4540-A01F-3713C8BB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B43-383B-4F67-B528-B4AE4E20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3922-B4A7-4EC8-AF6A-CC8945C0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C9E7-994D-4D9C-A457-5641C141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7E52-0118-451C-83D7-9D1838A6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307-49AB-4504-B1E3-84164008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E4D8-6947-4A2B-A895-01937944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3C0D-BA50-42E7-A106-0BB9E346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6386-646B-402F-BDFD-3DD7ADC6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A886-68B4-40C5-8033-6ACFCDA6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8BE4-6418-4B87-8588-018675F0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8423-FFEC-4418-B51D-E9C4F9C5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499A-812F-4AD9-AFB4-C696FD84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43E8-F801-4706-B30D-5242A9D1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2132-04D6-4336-86C8-0FA5F4BB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F01-03D9-41C6-AC6E-B1265454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2E8-A492-4350-A99D-0B3A2F9D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76F-F621-4DAC-9C89-F8838FE1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B6C-489D-447C-99FF-BC4AAE4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956-4D08-4702-A919-3DDA574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1DE9-C66A-48D1-B203-4A07E928D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4E78-E6DD-457D-BEF6-C67828CFD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DB8-92B2-4D81-977B-D2162FE23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atching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Henson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Henson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atching You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360" y="648828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atch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atching You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atching You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atching You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atching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atch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atching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atching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atching You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atching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atch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atching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atching You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atching You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1:16Z</dcterms:modified>
  <cp:revision>29</cp:revision>
  <dc:subject/>
  <dc:title>Slide 1</dc:title>
</cp:coreProperties>
</file>