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FAC-A13D-4016-954E-4A2CBFEB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0C7-B01E-4459-ADD7-0121FD9E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29E-D597-482E-9FDD-3498EC00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117-4E16-42A7-8A34-AA38750D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EC34-3A4F-4ABD-AEBF-B87BDA21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E3D4-A08A-4B2D-8E4D-8D6FC77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427B-F61E-43A2-9EB9-61B89C69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1886-6201-43E5-B227-23E791E5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7BBC-416F-4F8A-98F8-A797C565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ECB1-79C9-421A-A428-D0B09BB1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7707-65FB-4D9E-B988-CF2F4549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E35-5EFB-4A07-9301-30896E66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31A-2D7A-4B0E-B34A-17CD5956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C526-4EC9-42AD-8AB9-E0ECF977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6034-4B6D-4A55-9903-BC4771B6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40C0-60BC-4869-B48D-CE2F8FF0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F25D-C682-4B99-B610-1C7D565F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679-5478-4BBF-B810-54CBE9FD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8C23-54DF-4BCC-B69A-D680D6FD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5549-C620-4238-BF46-4E559B22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FA3E9-780E-45EC-A855-F910BFEC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BCE-09F8-45F3-8187-924F0F1C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755A-36BE-4B8C-9C14-B348BA55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E535-108B-4BAD-A43A-9EE484E0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86DF-1185-4E3D-8D23-FC00ACE4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BD0D-8D55-4999-A01E-FBFF201A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6B81-FC4F-45C3-BA83-EBCC26C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3433-1550-4003-A56F-B35D2366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2A75-8115-4A95-8AF5-AA01A19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788A-508A-4E3C-B9FB-C5E29820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4B02-DDAD-4D64-AB08-0862F604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80F-2A94-4CC1-A0AD-B9CB6B1E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233-6478-4B57-AE2E-B8679D05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A06-1E19-4A80-A723-D2D2160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F83-14A2-4391-A989-C42686EF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75C-F7BE-43C9-91BA-778ED5E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4C50-1560-4F83-BDB5-F6DCCF446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A995-F43B-4F79-84DC-16DD0E896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18F4-60A1-4B4B-BC91-3BD9D570C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ill You Not Tell It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ell It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ill You Not Tell It To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7800" y="648828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ill You Not Tell It To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ill You Not Tell It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ill You Not Tell It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800" y="648828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ill You Not Tell It To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ill You Not Tell It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ill You Not Tell It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7800" y="648828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ill You Not Tell It To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ill You Not Tell It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26:20Z</dcterms:modified>
  <cp:revision>33</cp:revision>
  <dc:subject/>
  <dc:title>Slide 1</dc:title>
</cp:coreProperties>
</file>