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18DB5-3238-4CEF-B0C8-AFB3815DF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C27FB-DEB0-430C-9A0F-0E011D957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BE8E0-CAA8-495A-ABB8-BE4145750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DDCFA-7BB8-4FE7-AA65-AE3C175A2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72930-074E-4490-B7DC-DA8726868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A87AA-42D1-42B1-902F-BA23DE2A3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7FB05-6BED-4757-8C83-1E5528CEE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5DDE2-D3D8-44EA-9E75-FEDC37D18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8A9E9-D612-46E7-BE16-36D021E8E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007E9-B1B5-42D7-988B-1FBDE1B2D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285D3-D121-4375-BD28-17AEEC1DA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F4A06-B84E-4E7E-9235-859CB4102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3EBC0-82D4-4681-B1CD-C6A41D81B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97C07-7359-4AA2-93D0-E209784B5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4C093-F62F-4C72-878C-E9DD59EC8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F707D-E6B1-4F5E-A63B-7150D72AF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97A64-9FA0-4C58-9A85-A8E9E0AF3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81E6F-C7C2-4557-9204-40641AE40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7B31D1-B337-4C7F-90AB-90F83E69F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AEBB8B-1FBE-4BF2-A859-E62F8EAF5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1A4584-953F-4E2B-AC68-0A5F39AD1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95ED3-416C-4A45-B3B5-D406917FB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93390B-332C-4757-A591-7CB9288DD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F9CC81-7EA5-4CD1-9399-2EAFF470D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F89700-4176-416A-9580-2B7124D87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CC6770-5120-4804-8CCF-2790AE6FC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91BFAF-C304-468F-B2CF-A977E0B25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F3842E-54C3-45B0-879D-ABD681FB6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559C0A-9ED1-4FAE-89EB-4EEE1E3D3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E28DE3-6F38-4390-8ACA-AB155A36B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385387-9F5D-41B4-91B2-9D595A4EC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BF5EE-6068-4428-B13F-F35B66E36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A20F1-2E0D-49BD-8A7D-D24C56A60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EF2AD-AD21-40C0-BFF9-FA9F35707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0712F-38DD-4B7F-A195-EA3B06E68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E805F-8219-42B2-84A3-59450916F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532E2-6FE7-4497-AFE5-5A9CAADC8C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5F60A-281D-4515-94BC-60618C69977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D41D3-59D7-4388-986F-EA29F2B6C3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“</a:t>
            </a: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Whosoever” Meaneth 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D - 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J. Edwin McConnell (191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J. Edwin McConnell (191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49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Whosoever Meaneth Me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60480" y="6488280"/>
            <a:ext cx="369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“Whosoever” Meaneth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Whosoever Meaneth Me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Whosoever Meaneth Me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Whosoever Meaneth Me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2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Whosoever Meaneth Me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60480" y="6488280"/>
            <a:ext cx="369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“Whosoever” Meaneth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Whosoever Meaneth Me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Whosoever Meaneth Me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Whosoever Meaneth Me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Whosoever Meaneth Me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60480" y="6488280"/>
            <a:ext cx="369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“Whosoever” Meaneth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Whosoever Meaneth Me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Whosoever Meaneth Me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Whosoever Meaneth Me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7-04T17:30:32Z</dcterms:modified>
  <cp:revision>31</cp:revision>
  <dc:subject/>
  <dc:title>Slide 1</dc:title>
</cp:coreProperties>
</file>