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296-2677-479F-A3D9-B9B792BB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2FB-4CA4-44CC-AF16-687144F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09F-8053-40C3-8224-ABC390FD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B68-2243-429E-8BF9-987EEA14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6B7-8C22-48D2-B796-47252E5B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E106-D322-40E8-9968-9800C32C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E9DC-AC25-4B4B-93EC-7DAEA3BC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D991-C0B5-41D7-9AC2-426528CC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D019-2320-4BDC-BF99-16252743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D16A-A03C-462F-BFB7-848F3CE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9D13-93A3-47CF-BE13-34A4D5E8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AFF-80CE-4260-8BFF-7FBE57F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637D-C7B6-42EF-BC10-F0A960D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DD75-2EDE-470A-BEAC-56030AB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B51F-ECBF-481D-AA8F-82AF703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93B0-32BF-42CB-93EB-A93991B2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A46A-BF39-4327-B3A6-ACB86BC1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69E-8285-4958-BFFB-6236F0E9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0FD4-3905-4486-8169-E7BC205A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57BD-111F-4EF2-8024-25DD80F4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63E7-968F-49A7-B822-BA3E618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7C0-8B4B-41FB-B3D0-CE11933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3B7F-64CC-413F-A18A-E2128A3D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C6ED-E771-4B01-B60C-254B25FB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D9E5-AFD0-4277-9B0C-0F61E216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C150-F164-4FAB-9B18-8F3460C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DD82-DF94-4AC6-B910-9B1CCB6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BB79-6BCE-4B17-9120-D49AA93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3A4C-CF7E-4432-90F5-37788555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C74E-3EC4-4CC8-91D2-B25A8424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62E7-96B6-4675-ABCA-2A4D3693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E15-0D03-4ABA-89BF-3F7BB1FD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772-22C2-4776-B9DC-4B403AAA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84D-CD12-417D-8CE3-6AC8A1BA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12F-2450-4B22-8445-3A858EE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CE0-38C1-4449-A48C-125B3C0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8C1-560F-4534-8004-14BBD35F3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280-BA52-4361-B083-78B2F7834BE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B46-E884-4197-9A64-06A071CDD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P. Dento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6:57Z</dcterms:modified>
  <cp:revision>18</cp:revision>
  <dc:subject/>
  <dc:title>Slide 1</dc:title>
</cp:coreProperties>
</file>