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CF66-C46D-4295-B6D3-A35BF8B7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D0CC-CCF8-4EA6-8192-871D3BE9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E092-06EA-409A-BE9F-FE411176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FEBE-F3BB-4C0D-97B5-2B066506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7FC4-896E-4104-BE9A-5BB4D1F8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7B40-26A7-4D2B-9A40-5258DDFA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4803-563E-4067-8621-953A2E90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91A9-36A8-4B31-8968-B0061EB1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CED0-784B-46C1-86FF-512A39F0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FE53-4DF1-43A7-857B-DAC1C936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7409-F975-4E9B-B966-DA4B6849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CD5A-5FD4-493C-B021-3B41948F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6D00-B704-4E3E-99CD-5181D068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056E-3F26-48D6-8EE6-5872DEBD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B453-1399-47FA-AEDC-AC10360D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4593-92EF-42B1-9B9F-132F14A6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CE55-73AA-44A3-9577-0781F884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F3A9-2E79-4810-AAB5-F8249410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118D0-2C06-483E-9CF7-54E24643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ADB54-EB02-4813-A2AF-1698D8F6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F4435-1A60-4DD2-944A-6A77ECAA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329B-7A84-4312-82FF-7D686099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F27F2-F262-4597-AA23-F4E652F3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83915-0A06-4D48-946F-4948B4EA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601AB-E5BA-483C-BBF6-280FA90F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6EE45-FBAC-40CF-A911-21E2DA1E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D9931-3288-4827-8291-DED0701F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43CFD-586C-41FA-8638-5919708C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F2502-CADE-4EE0-8DFB-F33EF65B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DEB9F-96EF-4A37-ACEB-6403535D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E27FF-2F60-4F8F-8F71-D67A7601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15AC-6B11-42BD-9171-BEAD6089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DDD7-E700-4755-8A68-BC17C92F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357D-2AB5-4559-9E9A-73CCCF0D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438E-7AAE-431A-A977-092EA754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80BD-FBD5-468F-9AE5-AE9C231D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18CD-C2EF-4D58-95B3-10E258E99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A971-A3E2-43C2-9C80-AC276BA552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ECE8-44A0-4181-A360-E618F7DAC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alking Alone At E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Alone At E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2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E. Sweat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 W. Slater (191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alking Alone At Ev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1160" y="648828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alking Alone At 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alking Alone At Ev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alking Alone At Ev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alking Alone At Ev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Walking Alone At Eve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Walking Alone At Eve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Walking Alone At Eve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Walking Alone At Eve_v2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Walking Alone At Ev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101160" y="648828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alking Alone At 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Walking Alone At Ev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alking Alone At Ev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1160" y="648828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alking Alone At 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Walking Alone At Ev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Walking Alone At Ev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Walking Alone At Eve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Walking Alone At Eve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Walking Alone At Eve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Walking Alone At Eve_v3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alking Alone At Ev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alking Alone At Ev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alking Alone At Ev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alking Alone At Ev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alking Alone At Eve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alking Alone At Eve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alking Alone At Eve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6:38:56Z</dcterms:modified>
  <cp:revision>29</cp:revision>
  <dc:subject/>
  <dc:title>Slide 1</dc:title>
</cp:coreProperties>
</file>