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9AB-A457-4641-970E-8E51EB6F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695-7FEB-483E-8A41-7E4B22CE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DE0-2E25-413D-BEAB-BDB0702E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9DB-AEB3-4D77-98F7-CC2FD13E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A159-A29A-4DA7-84BD-8E8162AB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CD9F-8EE4-49E4-A2F5-1BDF6733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063A-0566-4134-84C1-EBCA7033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337B-2821-483E-BB05-BAD7CBA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E2CC-E375-4CB4-BDBE-A2D942B5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E647-5508-4338-95AE-638C5485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5E48-CB12-4700-BF92-37705D5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AB0-F702-458D-91EA-7EBA0964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2A38-03C4-4D42-B6FA-2657953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E9D7-780C-40F9-8196-6ED2F43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A4BB-4772-4836-931A-C42B3E35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1F9A-CC44-427E-88A9-4EC58121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4EE1-A48C-41EC-B540-D14A6CF4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287-9844-40BD-9087-E62DAE0C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CAE6-321B-4782-9789-83A9713A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E4D8-F21E-481A-B26D-DB55617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F229-0CE0-4F99-933A-75F52C2C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71C-6FFE-4071-9A9D-77FA0072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FC2D3-FC3E-46D9-B288-E179A8E8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0016-CA68-4788-915D-4EA6C2FC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5773-AE7D-492B-9E41-9E17414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1E02-D7F9-4346-BDA1-3202B4D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59F9-05D5-440E-8265-94C9B95F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192A-91EB-4990-A061-B64B2C8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192D-7FF6-42D9-AD6E-FDFD9D7A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3D7A-BCA4-435E-831B-885BB53F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0286-D132-408D-AB3E-C3204813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67A-DF3E-4D47-BBAD-52A82E87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598-EAF0-433C-A045-E5DA6349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6BA-7854-4CEF-B43F-7C94455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19F-C874-48A2-BABF-8A51DD2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90C-6BB3-4967-8AE7-08383B0E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DD6-830A-424C-86B2-9F0678530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2B7F-B55A-4011-A43A-B31BE9983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76C2-544A-44AA-AC4B-C1F538E5C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Shall See The King Som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E. Jones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E. Jones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 Shall See The King Some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Shall See The King Som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 Shall See The King Some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 Shall See The King Some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 Shall See The King Some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Shall See The King Some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Shall See The King Som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Shall See The King Some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Shall See The King Some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Shall See The King Some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Shall See The King Some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Shall See The King Som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Shall See The King Some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 Shall See The King Some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 Shall See The King Some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4:01Z</dcterms:modified>
  <cp:revision>33</cp:revision>
  <dc:subject/>
  <dc:title>Slide 1</dc:title>
</cp:coreProperties>
</file>