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D82-D0FA-42A5-B4CC-4E9A3F45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667C-67E5-4BC0-B83D-019ED00C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B67D-27BC-4CD8-9918-367949B1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B7C3-9931-4E3A-A699-0BCDAC68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47E0-BE0D-4D1A-9CB0-CE480E45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861F-E75A-433D-9B16-746AFE9A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B75C-9966-41DF-A3DF-8D491964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C32E-5F09-4167-8BFC-08091B1B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97B3-389F-4558-A744-35484197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23CD-C91B-4C9F-AA35-8221E434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FEAB-7178-49F5-B47D-2F6AE551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23E-97E2-44E1-B846-935E10AC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40F7-FD5A-4025-8CB8-8BE077EC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9000-541D-45E9-AA6B-473ADF49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0AC5-685D-4FDC-ABC4-FC4B86DB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4214-CFEF-4B4A-B43C-63DB4456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2E3F-E18D-4195-9B70-DADABF4C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E5E-FC03-4A93-BA88-45FAE175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0C00A-DBDC-45A7-9E82-DAF842DA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CD63A-9417-42CE-BB82-C7A426D8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7B555-218B-4C21-B4CF-1ECFE52A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C993-4346-484A-A319-48ED24CF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0EA30-9D28-4CCC-AD4B-7BFB9ED4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510B3-7746-4924-93C6-B6A2E480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F0FEE-597D-4A89-A214-826B5DE4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FECC6-6BCB-44A2-9996-0CA90016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A23F5-82FE-478F-AF82-AA2C2E4B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BC6D3-42C7-4EC9-BF58-5501E827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7D942-EAD3-428B-88B8-6FCB2996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CD6B-E2E2-4AD6-9131-4BE45277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3B70E-C349-4F33-84EA-435835B8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CB3-B43A-4275-99CD-023247AA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58C-3B66-4028-8585-D4B249C1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50F-C697-412C-A7E0-92DE0E33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43E-AB9E-415E-ADCF-5843D1EF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CEE-611D-4128-814C-9BDE84A4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D7CB-C63B-4E20-8DCD-F0ACE8AD1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2F44-7F85-4B0B-89D3-A293DAD469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654A-7540-4B9D-8A8D-BAD398C88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atchman, Tell Us Of The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ATCH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1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Bowring (18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son (18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atchman Tell Us Of The Nigh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9240" y="648828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atchman, Tell Us Of The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atchman Tell Us Of The Nigh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atchman Tell Us Of The Nigh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atchman Tell Us Of The Nigh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atchman Tell Us Of The Nigh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9240" y="648828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atchman, Tell Us Of The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atchman Tell Us Of The Nigh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atchman Tell Us Of The Nigh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atchman Tell Us Of The Nigh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atchman Tell Us Of The Nigh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9240" y="648828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atchman, Tell Us Of The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atchman Tell Us Of The Nigh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atchman Tell Us Of The Nigh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atchman Tell Us Of The Nigh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1:55Z</dcterms:modified>
  <cp:revision>31</cp:revision>
  <dc:subject/>
  <dc:title>Slide 1</dc:title>
</cp:coreProperties>
</file>