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164-E078-4B5E-A5D6-444DA947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E81-B063-431F-8C54-8A2EC958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F53-0582-455E-BE00-08A713CB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8EB-D02E-4245-A1E2-2C844C0D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E7C6-5144-4CEF-A2DA-8B937C40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B898-933E-4116-B3C8-55CA99C5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EBEF-273D-48AF-9570-3F2AA39E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958F-D891-425E-9C6F-7AF838F5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80C4-CF01-4BF2-8CFC-41DA5563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F0E0-AB7E-4E93-BE43-E7D4738E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0ED1-33DD-4308-86A1-D79323D0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380-6104-4957-A1CB-230C23C1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64B8-A62A-47A7-931B-CEE8DFE1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6DF2-E183-42B3-826E-B937A7B7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A8DC-DCEF-482A-AC51-AB549FA8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C977-EFFD-44B0-8FF3-97C83077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9CDA-AFCC-4E69-8935-2E8F160C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2B6-E66E-4FD6-AB1B-B6A4F556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B822-0229-4DAE-AD0B-87E8A459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324B-DECF-48A6-A866-2073AFD7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1598A-F0BB-4054-8151-3196B687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1EB-13AC-4C0E-8073-5D5AE764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80DE-6BB4-4154-8D48-E2060C9E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FC42-6BC9-4377-9B99-647B3987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7062-BF20-4A58-8ED6-DE6C0BCD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3C92-CE8A-44DE-9FAF-5F363254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32A78-B744-4F60-AF2D-BCF7CD3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A268-F656-4872-AED4-9B8B367B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CAEB-5184-4649-B1EC-00F68F82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C769E-4569-47CA-BB8F-DFAC3CB4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C15E1-E676-40F9-8CAD-DA4C5EFA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A87-4B49-4216-BA99-616A44C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5AC-56AC-499A-BB37-2CE2A7B5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403D-270C-4254-9EB8-E197D538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003-C9FA-40D9-9AB2-A68ACD5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9F2-3CE6-44A5-A365-B66D890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BF25-FB8D-4714-B0CD-5A2288448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2123-6F7D-4985-A220-9913B3A8AF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41CC-ACC4-48D9-95D4-F3FFAE86D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My Love To Christ Grows W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LBERT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R. Wreford (18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oebe Palmer Kna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My Love To Christ Grows Weak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360" y="648828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When My Love To Christ Grow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My Love To Christ Grows Weak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My Love To Christ Grows Wea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360" y="648828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My Love To Christ Grow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My Love To Christ Grows Wea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My Love To Christ Grows Wea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7360" y="648828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My Love To Christ Grow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My Love To Christ Grows Wea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My Love To Christ Grows Wea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360" y="648828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My Love To Christ Grow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My Love To Christ Grows Wea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My Love To Christ Grows Weak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7360" y="648828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hen My Love To Christ Grow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My Love To Christ Grows Weak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3:09Z</dcterms:modified>
  <cp:revision>30</cp:revision>
  <dc:subject/>
  <dc:title>Slide 1</dc:title>
</cp:coreProperties>
</file>