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4E6-E1A1-43F5-9E0F-D85CD633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0394-6268-4E0A-9928-8340941B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BF2E-5591-4691-B61E-AD407594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40D-B50F-4CA3-A4AB-5D36D7AE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788E-4E94-4D6B-A382-5C4F1DAE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6AEF-D2B5-4223-A30C-5D277FBB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27FA-3321-432A-BEE4-97BB1928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FF04-A33C-4A2C-A005-EC8DB329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90ED-7C4B-4378-A962-12D7BFF4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BA2D-5B6A-47BA-A9DB-AD70D9FE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E94B-4372-4D0F-83F7-06D86666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8AF-D877-4C68-BEB3-644EC525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2517-BFEA-4E2E-A58E-0DE9387D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9CE4-B48C-48DE-97F7-15253C8E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D8B0-2076-4054-B9F7-55DECB61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F04B-E567-40E0-8D25-1F5F3431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1333-4E74-4040-8D2E-ADEAD225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54A-C74F-42BA-90A0-5F08CDEC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796CC-332B-4C82-A91E-5E40A0B6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81532-18F4-44E1-805D-80F03C47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B7ED2-310F-4D3E-B379-B6AC3024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F2A-C703-40D4-A8E1-931A43AD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853E3-8B01-491B-95F7-58E315D1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C26D2-644F-498E-84E8-D0B26044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A3717-70F7-4BFC-8851-8E3629B8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9B292-6F45-43B0-B501-17CCA28D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95A5F-CF82-454A-B57A-BCB65CFE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3732C-BABF-4E7C-B9EE-5AFE33DA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F5C3C-8573-4908-AFAE-6308BBDA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F4B06-069C-4073-B233-D9D16298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7F548-2501-45C5-A75E-BC13F81A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B5F-D2B8-4F28-BCA2-BE8F8045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526-4EF1-4AC7-BC16-25D06614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ADD-0ECC-47F6-92DE-FA01917E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6FD1-A34C-4C24-8C77-F4BA96AC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271B-ECAD-46FC-A6F8-D4C42E37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31DF-4145-48CD-97FC-CF2C1E0C2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3FB3-8E1E-4CB0-A55F-6C44CE273F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880F-7479-4FBF-929A-20D38B830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re You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arton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ld Plantation Hymns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arton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ld Plantation Hymns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99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Work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olk Songs of the American Negr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ere You There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ere You There_arr1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ere You Ther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73080" y="648828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re You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ere You There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ere You There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ere You There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ere You There_arr1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ere You There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73080" y="648828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Were You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Were You There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Were You There_arr1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re You Ther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3080" y="648828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re You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Were You There_arr1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Were You There_arr1_v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Were You There_arr1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73080" y="648828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Were You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Were You There_arr1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Were You There_arr1_v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Were You There_arr1_v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Were You There_arr1_v5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re You Ther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re You Ther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ere You There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ere You There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ere You Ther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73080" y="648828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re You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ere You There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ere You There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07:52Z</dcterms:modified>
  <cp:revision>31</cp:revision>
  <dc:subject/>
  <dc:title>Slide 1</dc:title>
</cp:coreProperties>
</file>