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062C-1354-42E0-AE2B-DA56E07E4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62F8-7937-4BED-99A1-D3732E97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8283-962B-46EB-B160-66C7B6F88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F4C9-5406-47C2-8C73-1B6D5BBC3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80C34-005C-408D-8C56-C9B09B74E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098D-7431-4140-8E98-20C7548E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9E5F-448C-44D9-8BEF-643AA3C2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AAC7-F378-4583-834D-07AC7C27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46A0-763E-43BF-8811-87F6BEE2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FFB09-466A-4221-A72B-58BCAB96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F90B-1A17-4B35-85A0-BFB8CD27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DADC-EA9A-4FCF-889D-43151365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6FFB-5DE5-4C46-875D-F2AB028E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98FC-BA89-484D-97E6-D87833BB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0DC3-2648-4DFC-8079-7CA28F87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5A04-DC34-45C9-854E-BDE9A7AC6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0FE0-8241-4716-80C9-6E394F288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47F6-9FE2-402E-9D21-5C0DC9FC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FF3C7-EBB9-44B1-A9BA-3C4EA434A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08923-7952-4324-8C89-71ABB6FE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C3D94-5EAE-4DC0-A437-A91DE14E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8AAA-BC08-473C-A1DD-D727AEE0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EF7CF-3E94-4703-942D-54C41714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12405-DDD3-4A25-9527-2878F80E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8AB3D-43EC-43FF-AFE1-2114B483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BECA8-8281-42ED-B795-88917462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D24D6-60DA-40E3-84AE-5A0C08F8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89A9D-D325-4CEB-B8C3-32D4003F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5A6CB-24E6-4382-998F-FEB5609E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E1994-8B93-4DCA-823B-57B0DBCD1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A8AFB-FA65-4516-A0DF-28B964B41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C545-2808-48A9-95BF-4FA04E1B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9781-D8BF-4C94-ABC2-A3503230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006E-F6AD-4924-A2BC-D706C70D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C149-112D-4416-B9F1-AAEB4127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7FCE-8422-4F43-A61B-87F35D46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7E84-E905-4212-8C45-4C2C001AC3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9B44-8628-433B-BBC3-86A29BFEC3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3F00-78BC-4713-B90B-C5FE428F37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here He Leads Me, I Will Fol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C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W. Blandly (189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S. Norris (189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here He Leads Me I Will Follow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2960" y="6488280"/>
            <a:ext cx="446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here He Leads Me, I Will Fo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here He Leads Me I Will Follow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here He Leads Me I Will Follow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here He Leads Me I Will Follow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here He Leads Me I Will Follow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2960" y="6488280"/>
            <a:ext cx="446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here He Leads Me, I Will Fo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here He Leads Me I Will Follow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here He Leads Me I Will Follow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here He Leads Me I Will Follow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here He Leads Me I Will Follow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2960" y="6488280"/>
            <a:ext cx="446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here He Leads Me, I Will Fo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here He Leads Me I Will Follow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here He Leads Me I Will Follow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here He Leads Me I Will Follow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7:29:13Z</dcterms:modified>
  <cp:revision>37</cp:revision>
  <dc:subject/>
  <dc:title>Slide 1</dc:title>
</cp:coreProperties>
</file>