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8A53-F933-42B2-9962-C4F420A3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3922-2685-45C9-A0FF-C94AF4F2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142-4F50-4771-B1BA-817CB559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29D-2E3C-4EDE-8ADB-E79BC343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2F35-90A7-4692-972E-FEA38804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EC92-BB86-4165-8302-964A78D8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A1BD-7792-4C82-98AB-3BFBD54A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C0CB-0421-4769-83EE-6A13E5F6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855B-7DA1-43A4-9B9D-5622DBD9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02B4-94B7-4B7C-A486-D4DB4D7D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2B9D-0ACB-4A18-A156-D7F04F08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1DA8-A649-4F7E-B89F-82894990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EABE-2CA4-4368-9EF8-7CE71A9C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7504-1A83-4943-9D1B-9936D5CF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675C-109E-4A9E-B9B4-232B2F93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58C3-C2AB-4831-A481-72B29EC3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5C8A-85E1-45DA-A70B-0FD0577F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3842-A6E2-4153-9FA6-86B9B6D3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69373-96A6-4481-8F12-B670385A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F9B40-3379-41DB-A7DC-EB802E8B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C9236-FFC6-4C62-A55D-82789B90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F1B5-D618-41CC-A6B2-1BA16EA7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55E36-6170-4F48-B82F-A50B4C08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EF8B4-4DD1-44B1-ADD0-E64E383C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3EFB8-E2E3-4983-BF0F-20C51FF6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376F8-C62C-4BB6-91CD-919AD3D2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75363-3773-40ED-9901-342430B7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91E95-C887-4080-8588-10E4E779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5474C-C1CE-4956-96A5-849B4A51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02888-30D3-4542-8190-9FD8C914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89780-9869-46D4-9F8C-1A0EAE88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ED4-DD1D-4B8F-A8B1-C3C6F48D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6F9-5EBA-422E-A4B9-5DD0A688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A9A-6F5F-4827-955B-751FEF24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5D6-F696-4A28-BBA5-63D79341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BA8F-2955-44E2-98C2-A9A1C2F6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6625-C734-431D-8B54-700B0656A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7345-A25E-4ED9-B204-3171587947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7B82-50FB-41C3-A9CD-0189131E8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en We All Get To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E. Hewitt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J. G. Wilson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en We All Get to Heave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7920" y="6488280"/>
            <a:ext cx="38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en We All Get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en We All Get to Heave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en We All Get to Heaven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en We All Get to Heaven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en We All Get to Heave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920" y="6488280"/>
            <a:ext cx="38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en We All Get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en We All Get to Heave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en We All Get to Heaven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en We All Get to Heaven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en We All Get to Heave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7920" y="6488280"/>
            <a:ext cx="38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en We All Get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en We All Get to Heave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en We All Get to Heaven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en We All Get to Heaven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8:15:33Z</dcterms:modified>
  <cp:revision>32</cp:revision>
  <dc:subject/>
  <dc:title>Slide 1</dc:title>
</cp:coreProperties>
</file>