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73D0-B021-4984-80DC-681FFBBF7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B7BD-4E14-4C6C-BE02-31C1240A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B08D-80A0-4686-B6C1-6C6EF29BB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3989-D942-4593-AB97-17E8948FD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944C-ADDF-4CDD-90B5-975C71AB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049D-B830-49C9-9522-B8DE2D23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EE5B6-1B5A-4042-B0C9-C1D11BDC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F6D0-2BCB-4D89-945B-A68DBF90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E7C3-BE1C-4571-9E82-9193A7E0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0689-DE5F-422D-831D-38842600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34A9-A14A-4368-BDFB-21BF09A0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38FB-F395-4A39-870D-5D051ED5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4D2B-8547-4D49-B5F9-A3F357B2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6523-3AA5-4A7F-9540-9C2B6C7D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F7FE-B3DA-46BC-9C84-26604695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BD9C-F177-4270-8031-F8D5DD708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ACE4-8F10-4F78-A517-309F6AD00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47ED-C840-4E0C-BE74-0957D7A1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4EC84-0862-4BC8-AFC3-08A6039F8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CD491-695C-4F63-A06D-446DDE62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E57BD-E325-4215-B069-E69BAA31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ADFA-4641-496E-9977-AAD75584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C1900-C18B-4094-877E-FD020786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E67E4-01EF-4A41-B213-C6102189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A50FF-CD50-440E-837A-BB73EE67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1F39D-3EAB-4A45-ADFF-D54A932A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D777B-D7FF-4CA0-AE76-08B7F902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D6C70-D941-4BC7-AFCD-1D1E8B56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1B9D4-7CBD-48A2-A13E-6B77BCDD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2CB55-33B0-4A0C-8BD9-FA06B88BA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E4D25-52F5-4D30-B03F-06A85B768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F141-67A0-4473-99B5-DFD0AFDA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9AC3-C2A6-42F2-836B-619AEE6A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1E4B-3AFF-4CA4-A28F-95E35CD8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8FA9-9F3C-459C-870D-0BB417A5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EAE1-7002-407A-A579-8E076CBB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BC7F-CC20-4DF6-BF0F-DB34A18761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6373-685F-4540-B833-B55C9660591A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74CC-6BFB-4688-83A9-77CDAFEF8F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D. Mund (188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S. Lorenz (188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onderful Love Of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IN VAIN IN HIGH AND HOLY 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8.8.9 w/ 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onderful Love Of Jesu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4680" y="6488280"/>
            <a:ext cx="35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onderful Love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onderful Love Of Jesu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onderful Love Of Jesu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onderful Love Of Jesu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onderful Love Of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4680" y="6488280"/>
            <a:ext cx="35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onderful Love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onderful Love Of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onderful Love Of Jesu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onderful Love Of Jesu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onderful Love Of Jesu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4680" y="6488280"/>
            <a:ext cx="35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onderful Love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onderful Love Of Jesu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onderful Love Of Jesu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onderful Love Of Jesu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8:33:50Z</dcterms:modified>
  <cp:revision>21</cp:revision>
  <dc:subject/>
  <dc:title>Slide 1</dc:title>
</cp:coreProperties>
</file>