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4FF-0507-4D08-8FF5-CA8FAF65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F3F-E296-4DD0-955F-62717B9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124-91B6-483E-87F3-001950CE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9D0-8150-4A00-BA32-5287AA65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4EA2-CCF2-4412-B040-3BFBCA82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1D41-C005-42F4-ACEC-EB2DF5D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DD59-63B8-4D2D-94EE-6379C637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7B5F-DF40-4D02-BFB5-17AECCD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B70-4478-4FD3-A12E-9FDB601D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5A7-BAB0-4968-9E90-55DD81E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14E-D17E-44C7-B787-FEB6D61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AF7-DDE3-45B8-88DB-88BF51F5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F092-7647-462F-8138-2F60190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04AE-E0D2-4A34-B3E7-F6431E8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DE6-D812-404B-A37B-661416B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7F6-F0C7-42F7-AA9D-3A669846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A112-955E-4EB3-9872-7AE13A59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CBF-7D63-4D86-84E9-C766EB49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BE71-D580-4873-AC4A-CE24DAB1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9C27-FB1D-47BC-9DCF-08BADC3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DDB8-BED9-4976-A2A6-D8E691F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871-62C2-453F-8ECB-FB782D27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4FEB-4708-4E8C-B4D0-E4EDFD0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B218-1986-4511-97AB-C2D36263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C7C4-D9C9-4E6C-A2AF-175D884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7D3E-1127-407F-BA6E-0117205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4587-BF12-495D-A031-4FB5AF8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4635-83A8-431D-9CCC-75BB7F8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9525-0820-45CA-83D6-0869E60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748A-DBBA-4006-9CDB-1BF10E0E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CB05-7145-40FC-89B1-790D971E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DF8-17D8-4F7B-B38D-BFA76B96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716-53A2-451D-9F90-EFAE89B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2A9-9780-4E5F-B461-10DDB66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4C9-4241-4062-B55F-142A648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B40-8EAB-4A5F-96B5-DD4FD4D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435C-1E7D-41AC-B075-EE447E7E4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CD1-1213-4122-ABEE-08ECB859A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7624-FA24-4398-89BC-327DC0340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He Leads, I'll F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He Leads Ill Fol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He Leads Ill Fol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He Leads Ill Foll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He Leads Ill Follow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He Leads Ill Fol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He Leads Ill Fol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He Leads Ill Foll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He Leads Ill Foll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He Leads Ill Fol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He Leads Ill Fol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He Leads Ill Foll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He Leads Ill Foll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1:34Z</dcterms:modified>
  <cp:revision>32</cp:revision>
  <dc:subject/>
  <dc:title>Slide 1</dc:title>
</cp:coreProperties>
</file>