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EFE-5A19-4688-9880-D238B724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46E-AD7F-4664-993E-E9F2480D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F83-038E-42D3-ACDF-C84C1EA0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B17-AC51-4F27-B1E3-F8C67AA4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C9AC-47C4-4DCB-B564-E917FBF1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8784-3C8A-44D7-A09D-2A1F3C62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01EB-15BD-4B0A-85BC-177DAACA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DFD8-5A4C-4584-A8FD-7F9B43BA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BEF5-A9E6-4199-9CC2-128FD76C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A24E-3959-4C22-83E7-058EA019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F6CF-3EB2-4024-9565-0B52F0D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998-1E90-4B50-8189-ED3EFBEF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028D-27DC-444C-8497-AA88CA5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E16B-51D4-4AED-8D05-BF02CA9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835D-2C65-43D3-B60E-DF3E4899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4C9F-F844-4A7F-8F7F-C6DD2B54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4F80-F7B0-4B14-AC70-61FD9760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66E-398D-45E0-A24D-53A35D59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7A4F-0B5A-4791-84F7-FDCB87FC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A98C-672C-475D-839F-5547EFED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4CFE-667A-4435-91BA-4B4C3A8F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3D2-D819-4BE6-9BC4-3B24AC0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CC48-9FE6-45F3-8E12-40CB974A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C88E-BBFA-4BA2-BE13-FB5A3E02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67D1B-B011-4982-9C44-0F396496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E6B5-13B1-4F5F-9648-90E5C620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9534-2A2C-4B5A-97A3-9CAB6C9D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957B-B417-4928-9AC3-E6B13A73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6DFF-15F4-43C5-8DFF-D00B04B5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3AED-DA67-4142-8A70-F0E95A3A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E1B9D-5471-4A3F-83A2-9C08494A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3D7-2104-484A-BBF5-CBBE1233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3B0-40D4-4384-95BB-8EF9C4AB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DD0-994C-47E5-A335-BE892290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A74-D1C9-4388-B25F-E586E36C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D5D-60B6-4D4B-AE91-50289545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D280-3A80-4B4A-A92A-CD3E99046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E180-1E44-4EA4-9F9C-6C3B34AB30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1A46-ED87-43D4-9FFA-361BE327C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They Ring Those Golden B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A Land Beyond The Ri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ion De Marbell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ion De Marbell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They Ring Those Golden Bell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They Ring Those Golden Bell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They Ring Those Golden Bell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They Ring Those Golden Bell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en They Ring Those Golden Bell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312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They Ring Those Golden B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en They Ring Those Golden Bell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en They Ring Those Golden Bell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hen They Ring Those Golden Bell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hen They Ring Those Golden Bell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hen They Ring Those Golden Bell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They Ring Those Golden Bell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12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They Ring Those Golden B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They Ring Those Golden Bell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They Ring Those Golden Bell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They Ring Those Golden Bell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They Ring Those Golden Bell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They Ring Those Golden Bell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They Ring Those Golden Bell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312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They Ring Those Golden B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They Ring Those Golden Bell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2:22Z</dcterms:modified>
  <cp:revision>34</cp:revision>
  <dc:subject/>
  <dc:title>Slide 1</dc:title>
</cp:coreProperties>
</file>