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64E-0AFB-4E55-86D1-29E8FE93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81D-DBE9-4CF9-85F0-9704CB9B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0CD-EF1D-4B65-AD00-49EA942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9DD-1A34-4D8D-845A-3E85A175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16A0-D7E6-4B54-B59B-98EB0918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765D-D240-4CDF-833B-EB2C072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5AC0-0073-4364-BE44-A1F33A0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9358-CA67-472C-B3FB-CD20602B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444-3BD3-4C2E-908A-C992507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678-C8A0-4864-A943-0634C50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3A5-6911-4955-BDD6-F2CF612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E29-6FFC-4454-9A0D-851AEFD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BC8F-2206-45E0-97F7-220F787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D5A-BB01-488F-8DD5-C20A835A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4347-44D5-492A-A3EA-41B958B7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5FC9-F6B6-4FA5-8CB7-DD62CB06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F291-A92F-4A09-B279-1BE0F747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6B0-93D7-4E8B-BD31-0FB0C92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31C9-D87E-4ABB-85A5-64F0F2C2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38A4-7047-45B0-A551-844A593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1F79-357A-4BF6-9B80-509F4EA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34D-9A4E-4B41-AD53-99EF49E5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CF80-54D6-41A1-97CE-EAC4FBF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DF4D-0BED-4E7C-BD45-F39B16A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3934-58F8-476C-9037-4A6208DE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D244-032E-4F0E-ADFB-000400B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C7D2-24CA-4332-AB6A-C4A028B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5D22-8B03-4AA9-9971-89ABEB6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FDC6-8DD1-4A7E-8E4D-6CFF496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8717-6876-4E8C-8616-5891C3FE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34DC-A8B1-4BD2-8418-723BAC29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9BB-A189-4692-9663-4AC1A56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EF3-53E2-45BC-A7D0-5716570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77B-6E89-4A27-B346-E1E100E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248-CFB1-4409-BE84-7C8E3FC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26A-ECA7-4B0B-9471-9B97B16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D5AB-C2A1-48DF-A980-8D73662E9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550-AD5D-4D93-8CAA-E543BFB14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D79-E748-4291-91AA-43E3EBA87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D. Williams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D. Williams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Cit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C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C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Cit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Cit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C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C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Cit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Cit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C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C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Cit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4:57Z</dcterms:modified>
  <cp:revision>29</cp:revision>
  <dc:subject/>
  <dc:title>Slide 1</dc:title>
</cp:coreProperties>
</file>