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AC9-9C0D-43D2-9055-44533DAE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099-51E8-4E94-BAD3-D695E43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2A0-22C4-4EC8-8E43-09BA9DEF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6DA-B2F9-4067-923B-CCC05626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9E5C-9DB3-49B3-8FEF-38165E36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8A5E-911A-416F-991A-AC0F598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44AD-4FF9-4731-9596-3BA59E2F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8411-344E-4181-8A79-8F722A9C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F913-5355-45C4-B8D2-9897B953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7BE-0EA6-4F39-9131-9CA14055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F4E5-A119-4472-A624-D2310A5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37D-1347-404F-B2C3-44F99236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2220-D908-493F-8CA2-E2326559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3F1-EB28-4F87-A733-FC14C81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C95-69CF-462E-A8F6-E6F1F3C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04DB-D2FE-46A6-B575-F229D1DF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2F58-A206-4D21-8942-7F95C7AE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146-F85B-40A0-9678-B133959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63BC-4B0D-4B23-8A34-F6D23923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23F9-2B2C-4EEC-B363-733EE508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1E47-3391-476C-9528-82762FEB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7B5-EB0B-4E78-800F-6520ABA5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40E5-FDE3-46BC-B18C-5006BEB7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9148-6FA7-42FA-A119-4EDC8DA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0DAB-5D97-433F-AB87-069D486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2A39-EE18-4DB3-8425-F245E85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8BC3-1CD5-4D67-BFD7-BD3C13A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87BE-D2FB-4153-B6A3-37ED391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F3A1-5C51-4A4F-8340-6D87E9E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6CE3-27F9-4586-BEA8-E36A5E77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A553-C99D-46A9-8EC0-AEB32BCB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A0F-75C4-4ECB-ACB5-75DCC043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213-504E-469B-8087-339298AE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D86-9084-4FF5-8C40-1BC92F5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D92-B453-4D8B-910C-6A415FF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C80-A706-4396-AB21-1706A21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47DF-BD00-4098-96D5-EDD5B4198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D3F2-A0F6-4583-93BD-E9DB11E6F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B4D-9F4F-4C49-8DFD-B960BFAFD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ill Jesus Find Us 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Jesus C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800" y="6488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ill Jesus Find Us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ill Jesus Find Us Watch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ill Jesus Find Us Watch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ill Jesus Find Us Watching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ill Jesus Find Us Watch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ill Jesus Find Us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ill Jesus Find Us Watch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ill Jesus Find Us Watch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ill Jesus Find Us Watch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ill Jesus Find Us Watch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ill Jesus Find Us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ill Jesus Find Us Watch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ill Jesus Find Us Watch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ill Jesus Find Us Watch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3:06Z</dcterms:modified>
  <cp:revision>38</cp:revision>
  <dc:subject/>
  <dc:title>Slide 1</dc:title>
</cp:coreProperties>
</file>