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7FB-825F-4A08-B7F6-51DFF24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B53-1D18-47E5-9044-52A196D2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196-D649-4353-8CF5-B8ADA381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322-4E96-4E2D-921D-79E88746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03AF-8D6C-4ABE-B5A8-C5F2006A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3FA-6B43-4D6E-831D-D6C606A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4346-AEFD-4181-A4F0-CFF212E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5B2-D245-4AC3-9FC6-68272E9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AC9-ED2B-4431-BD81-1760D6C1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D47D-49C5-492E-B380-87024D21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FA7-E6B3-4041-935F-BD0A746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93E-5E7B-4D55-B602-9E1E453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3DB-96A1-4AEF-9BFD-2859D2C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16B3-9F84-4342-9F47-F0BF554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EAC4-5A59-4D42-BF05-D23F48D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6F30-0E56-4B9C-98EA-CB1AE2B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DF05-74DF-420A-9FF7-4BD21BB5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9FE-0630-47D9-AB27-F24BA5A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A072-F071-4474-A7EE-B20E806C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EE05-A8E0-4CCD-9016-62130098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017D-5650-45BF-B99F-47F47BA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4B9-58D8-4CB3-B70D-02D5102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15D9-4D2F-41EF-B52B-A7F978E6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80E9-55A5-4D22-A618-E64DAC85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CBC4-A4F0-4DDE-89D9-74E2E063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56A7-8A88-4223-A66E-54534E1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435F-7D86-4171-A1D8-EE146DC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39C0-05E7-4EF3-868B-3F2E89D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326C-203A-495F-ABFC-B3B8A7E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498E-8A31-4032-A31A-4BCA5DD7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1CC8-A0DB-44DB-8377-2C24AE2F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6FE-AD38-4F91-8FD4-58911F1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AAE-4E5D-49E0-85D4-54FD5E6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E0A-63CB-42B7-A2B3-00F2C16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244-CA8D-477A-8619-3514E70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ECB-D139-483A-B01E-19C2AA5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810A-E595-40B0-AD3A-EB97D4317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4A6-50C7-42CF-A6BB-E6B3CD6DE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5AF-CA23-4377-8515-6A89DB44C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 Will Follow Jes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 Will Follow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 Will Follow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 Will Follow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 Will Follow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 Will Follow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 Will Follow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 Will Follow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 Will Follow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 Will Follow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 Will Follow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 Will Follow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 Will Follow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9:53Z</dcterms:modified>
  <cp:revision>27</cp:revision>
  <dc:subject/>
  <dc:title>Slide 1</dc:title>
</cp:coreProperties>
</file>