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4A5-ED8D-410D-BA02-2EBBCD04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4D8-96FB-4191-8222-4BEF594F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743-63B2-44F2-A706-6810E924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57E-275A-4F78-995A-C60F7515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0796-31EC-451F-98F2-2FB62A97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BA03-DF34-4BA0-98C4-CFD92044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7D94-E708-40FA-BCAF-BECE62B9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3574-320E-41C7-9D87-0EE52C8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E80A-6689-4C0B-B528-D870184D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1634-92A9-4190-BF80-B93398D3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27BD-3FB4-47A0-804E-3F73188E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5C4-45F7-4BAB-B68B-7B9E2A60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2437-E380-4F5C-8C2F-F8D5EEDB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F862-98FB-4284-91C7-551E7383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80A5-6F51-4522-AA55-976167F9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370E-7C52-4C3C-B823-D33B645A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B477-02F3-4F00-985C-58E7E0C1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87F-6635-4BF1-93E6-97563729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2D53-90C9-4329-9CED-EC151A82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66B4-81C5-481F-9C1B-D826B437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5673-DFAD-4418-8A11-9AFED5C2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DBD-8E7B-4C44-8A40-9748CCBC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C79E-585E-49A3-AD6F-FD4AD1EC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7ED8-51A1-4411-9F64-B99F4C4D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0C2F-B782-4E22-A924-B570EB38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4362-C992-487B-BFF2-F8D0979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F94F0-0B5F-46CB-ABB4-9947D7A9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9C8F-94B0-4500-8CEE-86005D6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27C1-AFB5-4AC5-A39A-4BA154EF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84FE-82EA-446F-AE51-6788DF28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698C-9111-496C-B95A-ABDF3C0F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8EA-CCC8-4EE1-95C1-945E395C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F64-000C-4A26-A588-E70263D7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D3F-B2ED-4CAC-8EAE-2E992D6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0C3-8E10-41F6-B694-DC04453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664-3F3D-4600-8FC3-16B48D1A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627-CCED-4F16-85A2-AE53DAB49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C38C-5F6C-4477-9020-9E17AF847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4B0D-4A41-4C79-A1E6-46DB12A70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at A Mighty God We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1 Traditional , vs. 2 N. B. Chumb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at A Mighty God We Ser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2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at A Mighty God We 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at A Mighty God We Ser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at A Mighty God We Ser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at A Mighty God We Ser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92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at A Mighty God We 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at A Mighty God We Ser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at A Mighty God We Ser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9:26Z</dcterms:modified>
  <cp:revision>32</cp:revision>
  <dc:subject/>
  <dc:title>Slide 1</dc:title>
</cp:coreProperties>
</file>