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8FE1-9BAF-4F8C-95D1-425832AB2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B8E3-D821-4A91-8E7B-E141C8F34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E6C0-5939-425C-8313-3B1FE5445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D99E-7BBB-460A-BBCE-632E80EE0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D8D51-9E71-47B6-8F74-1D90DE4CA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B6E65-D3E8-40B3-9418-471292AAB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87610-CB95-409E-BB71-DF0700A45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B7576-EA48-4395-BAC4-23FC6263A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25BA1-2440-4B1D-B0B4-D7CD02803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C137F-1752-4A17-AB5B-7DA9D96B5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743C0-630D-4BE0-A9E2-32A00769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8404-EE80-441A-A7E6-94DF63EFF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EE447-68AC-47AD-82F7-5046B974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35FFD-A92B-4B19-AE01-1B00BDEF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B583F-CD31-44BE-B645-3F6B90B34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E6C0C-AEC8-4B05-AF3E-9C776EDD3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3CD01-145F-4DF3-8739-64108CE26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8D1C-C972-4B4B-8050-F6747F9C8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1F66C-7916-43FA-A55E-03676A86B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24C5C-3BD3-49AB-9F66-346DB640B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265C1-8644-4174-A8E4-5C5611BEF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74B7-BE00-4B69-99EF-92437D6FF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749BE-EDA2-4FA7-B14C-B85BEC9A1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B43B0-E831-400B-ADE7-88D57ED27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67BCE-F55F-40AF-9BAB-35BBEFFFB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BF989-4C95-470B-B37A-27E4FE6D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AAB9F-3E9F-4788-A24E-CC5C84F8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9B72E-9961-40FE-B9E6-4CA70DB2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7769C-C69B-4E59-B42A-6C237E5A8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0FEC9-B811-424B-BA88-029D5F156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F40A9-71C3-46D4-9587-78D80A0C9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5E77-6F51-4D10-B5E0-A51678C04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032C-CE27-4EF7-89A4-3872AC3F5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8210-A52A-459D-B841-1A3D053A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A594-F354-424C-9F3B-6EF75EC8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4F67-6639-4C1F-9927-8AD50C3B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70B9D-A315-4FA1-B2F2-42782A4161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C6E60-7A03-4569-99CC-FD75512D9E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A79BF-D2D1-4137-B7A1-96A9098F74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What A Friend We Have In Jes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CONVE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8.7.8.7.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5360" y="4902120"/>
            <a:ext cx="1255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C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eorge Scriven (185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. C. Converse (186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8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What A Friend We Have In Jesus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02960" y="6488280"/>
            <a:ext cx="431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What A Friend We Have In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What A Friend We Have In Jesus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What A Friend We Have In Jesus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What A Friend We Have In Jesus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What A Friend We Have In Jesu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2960" y="6488280"/>
            <a:ext cx="431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What A Friend We Have In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What A Friend We Have In Jesu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What A Friend We Have In Jesu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What A Friend We Have In Jesus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What A Friend We Have In Jesu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2960" y="6488280"/>
            <a:ext cx="431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What A Friend We Have In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What A Friend We Have In Jesu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What A Friend We Have In Jesu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What A Friend We Have In Jesus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4T17:10:39Z</dcterms:modified>
  <cp:revision>32</cp:revision>
  <dc:subject/>
  <dc:title>Slide 1</dc:title>
</cp:coreProperties>
</file>