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B0FB-21AA-467D-B9A6-B258482B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DE2A-A02F-47DA-812A-661306D0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4BA4-2A65-4CF6-83FB-A95926ED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4CBF-8379-4FB5-A1A5-8E65AE4C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8613-A13B-4265-9232-BAE1180E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63BF-3A5A-40C8-847F-2B805157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8CF8-3465-4D56-A3EC-9211E634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8D26-11AA-4E03-A3D1-575F761A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5F05-6B4F-4D4B-9A5C-853FA910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6A70-7F2E-466D-98B0-6ACD5643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3EF0-85AF-4632-9F1A-C0A96E98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E833-C768-461F-B497-C2344FB2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D870-4DE3-437A-A92C-49C13752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7EB5-4C21-406A-9EF3-6B49D96D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30EA-35A3-450D-9577-AD69D0FC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7F61-A5CB-4C31-9ED6-227B7523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2C01-0C2D-4C9E-B661-02303142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6222-B64C-4D8B-B1D6-EB273FBB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98CE2-67E3-4DB7-99F2-7270CB59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DC368-F842-4F7B-BC16-9FAC4118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0E469-9357-4CDC-B3D8-7684F157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DBCC-D154-4571-8BDB-9686F7D7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1F8E9-3B76-4DF9-8232-BF12CCEE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6DA71-146F-44E2-B137-E647B248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160FA-1EEE-404E-9B77-755CAD94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659F0-434A-42A8-A14E-03C55247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BB500-3B14-4816-875F-2A33692A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FE4CA-EA77-40E2-995B-D6B99A3E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529AC-300B-4482-AEA9-7A7D0EE6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2D5DC-CDC8-4B5F-8E72-3D182978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5DC8F-D91F-4DDE-AA3A-7CF64889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BA76-5E9B-4A42-859D-5B288B58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1C2E-3953-423D-A4CD-FA9ADD17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A010-A98B-4C0F-AF8F-D428FC86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B4EA-28D1-40BE-887F-FE2696DF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D529-51FA-4251-A482-3849FE2A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B2C0-BFAD-4639-8B7F-41C373D04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558E-D01D-4BE4-814D-65FF86EA4E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8A5C-C1D2-44A8-BDC7-119F35B61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en The Roll Is Called Up Yo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. Black (18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. Black (18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en The Roll Is Called Up Yonde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en The Roll Is Called Up Yonder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en The Roll Is Called Up Yonde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32120" y="6488280"/>
            <a:ext cx="461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en The Roll Is Called Up Yo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en The Roll Is Called Up Yonde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When The Roll Is Called Up Yonder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When The Roll Is Called Up Yonder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When The Roll Is Called Up Yonder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en The Roll Is Called Up Yond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2120" y="6488280"/>
            <a:ext cx="461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en The Roll Is Called Up Yo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en The Roll Is Called Up Yond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en The Roll Is Called Up Yond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en The Roll Is Called Up Yonde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en The Roll Is Called Up Yonder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en The Roll Is Called Up Yond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32120" y="6488280"/>
            <a:ext cx="461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en The Roll Is Called Up Yo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en The Roll Is Called Up Yond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en The Roll Is Called Up Yonde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14:22Z</dcterms:modified>
  <cp:revision>31</cp:revision>
  <dc:subject/>
  <dc:title>Slide 1</dc:title>
</cp:coreProperties>
</file>