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76E6-DB95-4243-A120-955FAFC5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3250-EA6A-470B-80DB-576B1FA3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9F1-ECDB-421E-8A44-7D491E87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008-BBCE-40F7-BA12-E7AE2F58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F4D3-D15C-4340-82D0-F86A90CB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7F04-D9E8-47F6-9EFA-14B2B3D4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1B32-8AC3-490C-8971-37C21B99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DCE5-89B3-465C-A05B-A18CEBCF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9478-0CBB-44DB-8729-EF30C2F9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85B3-E528-4C96-97D9-A8BD25CC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1F04-F290-4639-94FB-07E9DB92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E3C-B56E-42FC-9E0D-93A8AC28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604A-646C-46F7-A078-52FC648C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BDBC-83A2-430E-84D8-698D74DE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283C-71CD-4AD9-9E55-FD510D79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C1FA-C4BD-4BC3-ADBF-5165DFA9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A92C-1C5F-4906-84B7-AA8453B1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0866-AB14-40F4-BB75-F65ED370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3B28F-2533-4DBC-972C-CCDFBAD2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3261E-CFF5-4A13-BBE2-61CF0967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24B00-D0FE-4F59-86ED-C450321D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742-198D-4D8E-B11A-F1419330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0D55A-0C82-4D21-BF42-342D7ED0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F86E1-8025-46E3-A9A1-72BBC555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A6509-ACDF-40B7-B3D9-117BE0AB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8B546-CA89-49DF-AC4B-893E678A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98784-9BA3-47A4-A3B7-B7478DEE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DFA48-0EF9-4202-8E3D-E265FE04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05CAD-7593-4E1F-B4D4-DF203584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F0484-1048-4DA4-B6BB-5EB09210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9436C-1999-4623-B1EF-3D741077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6953-9605-436D-96D5-53CC9ACA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EDCB-0FCC-474F-B3BD-4441F980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13F-E9A0-446B-9F56-8C0E82CA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528-1FB3-47C5-B487-DF1BFC7D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C15-2BF7-4003-B6E7-CA476B23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CC9F-A165-4BB3-98E3-B355303F6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B103-DE5F-4F56-9328-7033DFF759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BDB2-3A63-4BA1-AD60-2009AFB1B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e Worship And Ador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WORSHIP AND AD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6.6.6.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onym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onym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e Worship and Adore You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2600" y="64882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e Worship And Adore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e Worship and Adore You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e Worship and Adore You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54:38Z</dcterms:modified>
  <cp:revision>18</cp:revision>
  <dc:subject/>
  <dc:title>Slide 1</dc:title>
</cp:coreProperties>
</file>