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476-572C-4CF1-9033-48ED07E9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02A-CA51-4B12-9305-3AE5BD2F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41B-7BDA-4A2D-A406-DADD459B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AD4-254B-4D7F-817B-E61BDB56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8E6B-9030-4031-9BA8-E93A42C9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8545-D097-4681-9843-EF2D28D8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6DB-B82C-4175-A1F3-A345A62E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AE2F-5190-49F3-933A-100C0A5C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D01D-95D5-40F1-8C00-5FE33115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F40B-3E97-4B31-8069-E6AD42A7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53E1-4D87-4BDF-9A5E-1B509783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BD2-9F08-4077-B99E-94465616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C624-294D-4D09-A0A7-BFF39931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39C4-E2F2-41DB-B694-15C8E61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C383-ACF0-4490-AF90-B8CF493F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5EC4-C265-428B-898B-214A6B4A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11E7-8475-446B-9F82-201BE244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BE3-5C9B-40F3-B604-77B52B88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B548-9138-4868-8E33-BAA0B693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BF62-B598-47C9-94DA-6AF3D99F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1F95-C439-4B9C-BAAA-E378CB57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D78-23CA-4200-A52F-4987A0C9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3F9EA-DDF0-4891-9B12-7C20CAF1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4EE8C-11E2-412B-9F52-CC7BF401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085AE-80DE-4130-BF79-45B6EFD8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F51B-6427-4514-9468-1EEE0D6E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72AF-64B8-440D-8C48-12770C93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3E0CE-AACB-4325-8C62-8F1B7D80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F988-B5D2-4034-AD0A-BEA56506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6646-9AA8-4A5C-8EC0-6FE4CF17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F421-35B9-4E81-AF86-90E41609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5ED-0005-4438-8CF9-691428F2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7E6-C543-47F4-B49D-9562D999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161-D1F0-4ECE-9DD6-608A9509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DDE-FD5D-4292-8A59-83FEDCC2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0D2-EF9A-46D6-B972-6AB7A747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AB8-0E97-46CA-9D77-17D5D1F3D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FF34-6934-409F-BE96-07479A7DB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04AD-2A4B-407D-A8A4-DFAA212A5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Ye Are the Light of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 Pearl H. F. Thomas (1898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Emmett S. Dean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mmett S. Dean (1898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Ye Are The Light Of The Worl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480" y="648828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Ye Are the Light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Ye Are The Light Of The Worl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Ye Are The Light Of The Worl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Ye Are The Light Of The Worl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Ye Are The Light Of The Worl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480" y="648828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Ye Are the Light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Ye Are The Light Of The Worl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Ye Are The Light Of The Worl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Ye Are The Light Of The Worl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Ye Are The Light Of The Worl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480" y="648828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Ye Are the Light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Ye Are The Light Of The Worl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Ye Are The Light Of The Worl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Ye Are The Light Of The Worl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6T14:15:37Z</dcterms:modified>
  <cp:revision>35</cp:revision>
  <dc:subject/>
  <dc:title>Slide 1</dc:title>
</cp:coreProperties>
</file>