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E41-9B06-41DB-B691-695F5752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16B-2679-47C0-8EFD-3F5EB1C9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49D-AEBC-4DE3-920F-57CDA29E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B8E-99F6-45AE-9E13-28E1B3BA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F275-F9EA-4B65-8ADB-7839E392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06F4-4A45-4F78-9750-AC927006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074E-EB6F-4670-B498-7A0D053A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47C-5C81-4216-B59E-561FDE2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8685-ACD2-4505-94B0-BD0C1909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AF3-C0F2-43C2-A24E-6118103B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2645-BDED-439D-89BA-B59D2C1D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30F-7E36-40AC-8D86-9D501183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0781-E0DF-48FF-B6A3-F6E16A68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0199-3D36-4157-B7FA-53E6AE2D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9FB2-184B-4C81-A589-DB6FFBAB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E36E-DE6B-41E6-9359-871B2BFA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1761-DE7F-4AD8-82FB-BDAB6AAC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497-C680-45F3-842C-7E78B51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B9DD-3C55-4F0C-A23E-32C4A676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AE20-D0B9-47A8-84C2-29042248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DE4DF-3E03-424F-A806-E7CA96C1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353-ABAB-4F35-811D-02ACE460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7E8A-3AB0-4109-A798-EFC1F0E5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0F0B-9763-4BFE-9D20-44F614E8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9585-EE29-4E2D-A4D1-862CBA1B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74B0-E333-4892-9846-F2CADE3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7DD0-1F37-44D4-AABC-64F176E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DCD8-66F9-41DF-9667-A3CC10EB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FA842-5A34-4E70-9786-A13EB0A4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22F0-268B-4FF8-8014-52EADF17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2ED9-9620-4CAF-B3FB-E17DC0D0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E1B-0235-4948-B7DC-4A1A8E55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1CC-AF16-439F-8AD0-6879FEFC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E3E-FE78-4548-AEEC-4D0A5317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17E-8770-4DF1-909F-C9F53C15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372-04F7-4D37-A91A-FDA5800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50B6-771A-4142-A19D-1286358BF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9359-1C70-4D96-85B3-6FE8FD397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C625-29A8-4F6F-996A-D57075C1C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Yield Not To Tem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tatior R. Palmer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otatior R. Palmer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Yield Not To Temptati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Yield Not To Temptat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20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Yield Not To Tem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Yield Not To Temptat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Yield Not To Temptat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Yield Not To Temptat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2420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Yield Not To Tem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Yield Not To Temptat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Yield Not To Temptati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Yield Not To Temptat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420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Yield Not To Tem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Yield Not To Temptat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6T14:17:13Z</dcterms:modified>
  <cp:revision>28</cp:revision>
  <dc:subject/>
  <dc:title>Slide 1</dc:title>
</cp:coreProperties>
</file>