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032-ADD5-4087-B8FB-3C1CEAA2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E2A-80BE-4D82-9B5C-81A5A8A6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83F-FE25-47A7-8F3C-0D61B8AA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41E-934D-450F-8DAF-7EE4C82E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6EFB-5BF2-411A-A159-52DCCC3C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EF66-046B-4978-9235-4E1D13DD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E055-0AC7-4368-B37E-CD37D5BE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C5C9-290F-4BD4-AB91-288B030E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5FD7-F0D6-4ED5-8FFA-24BB0061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AAB3-1048-4236-BAA0-1617B761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3A32-E2E4-4989-A603-00798FB2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C26-3D36-4C33-8B63-381A91BB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20E6-1CCE-4EB8-8465-538CAC19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A538-84B9-43B3-8162-6A6945DE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320-B673-4D83-910C-ADC49698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12FE-E1D2-4AE8-9551-8FF2AAD6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B874-4AC5-4764-9B65-F1D77B0A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1B8-BAEB-4BE0-9260-A9A8CAD7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3770-7D4E-4EBB-B8E3-2565A31C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1D7A-5EDC-42FE-AE9D-B0A812B9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13E3E-EE03-4488-9748-085D6816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A40-DFB1-47A1-B9FF-4E3C166A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FFDF-C508-4519-979C-E7759837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8BE1-902F-458A-97A9-DF02FA86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352A-75E6-4794-94D5-558DA5BA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EA0F4-3997-4979-B2A1-EA01087E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7EF02-1016-40C7-9DB1-AD504B2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09B71-DB27-4873-8C9B-2FF5111A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FC2A-37E1-461A-A84D-4F25B0A6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75147-C9E2-40B2-81A8-AFB14C33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6A84-790E-4DB3-B28F-8CE07061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7D2-9213-4E03-A138-D15B872E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543-8500-4207-BE92-52FD85CE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3D3-D8D1-4B4E-851C-0C5BA485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468-AE05-4B2D-B2C0-E2BD7BC9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547-6BB5-421A-A2CC-50C6E7CE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592E-1E83-4C2C-BEB9-9D697794A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4ADF-198A-4FD1-9C21-136C79874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EC69-14B8-491D-A738-BC0C3AD26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Years I Spent In Va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t Calv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R. Newell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. B. Toner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Years I Spent In Vanit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Years I Spent In Vanit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79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Years I Spent In Va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Years I Spent In Vanit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Years I Spent In Vanit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Years I Spent In Vanit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9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Years I Spent In Va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Years I Spent In Vanit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Years I Spent In Vanit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Years I Spent In Vanit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79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Years I Spent In Va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Years I Spent In Vanit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Years I Spent In Vanit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Years I Spent In Vanit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7920" y="648828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Years I Spent In Va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Years I Spent In Vanit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6T14:16:34Z</dcterms:modified>
  <cp:revision>18</cp:revision>
  <dc:subject/>
  <dc:title>Slide 1</dc:title>
</cp:coreProperties>
</file>